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A74-0A79-4CE2-9F76-448653AC4E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708B-A712-4C55-9D35-9AA13DE9A7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F79-BBA8-4192-A546-7FCA54FF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888-F468-4768-89A5-8A4A5AD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507-9A72-4B0C-A912-46C2F823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49E-6E09-45C2-945D-27EE4C01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CB2-BD25-4CBC-AE3C-1DDA0B0B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E00-F2C1-4746-B3B5-29D115C0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97F-4977-4232-9832-4FCB9C0A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82D-C947-4156-84DC-E8DA022E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489-33CF-42D7-B214-9058D04D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F2D-64F0-405A-A69A-E76CA0F7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FA5-6C9B-4047-947A-C9382CAA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E5F-B6A0-483B-8C86-E6DB27F8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9E4A-16D3-4CFD-8284-86FF6C450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Сухопутные войска России</a:t>
            </a:r>
            <a:br>
              <a:rPr sz="40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едназначены для ведения военных действий на суше</a:t>
            </a: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87640" y="1052640"/>
            <a:ext cx="4043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Войска П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404280"/>
            <a:ext cx="44020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назначены для прикрытия бое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ков сухопутных войск от воздушного против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DOM\Desktop\бук-3.jpg"/>
          <p:cNvPicPr/>
          <p:nvPr/>
        </p:nvPicPr>
        <p:blipFill>
          <a:blip r:embed="rId1"/>
          <a:stretch/>
        </p:blipFill>
        <p:spPr>
          <a:xfrm>
            <a:off x="2709720" y="2708280"/>
            <a:ext cx="6427800" cy="3780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79160" y="515304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РК – БУК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DOM\Desktop\искандер.jpg"/>
          <p:cNvPicPr/>
          <p:nvPr/>
        </p:nvPicPr>
        <p:blipFill>
          <a:blip r:embed="rId1"/>
          <a:stretch/>
        </p:blipFill>
        <p:spPr>
          <a:xfrm>
            <a:off x="90360" y="20520"/>
            <a:ext cx="4737240" cy="362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3406680" y="3645000"/>
            <a:ext cx="5658120" cy="29494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5148360" y="1125360"/>
            <a:ext cx="40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РК «Исканде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90360" y="4797360"/>
            <a:ext cx="40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ЗО «Торнадо-г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DOM\Desktop\верба.jpg"/>
          <p:cNvPicPr/>
          <p:nvPr/>
        </p:nvPicPr>
        <p:blipFill>
          <a:blip r:embed="rId1"/>
          <a:stretch/>
        </p:blipFill>
        <p:spPr>
          <a:xfrm>
            <a:off x="655560" y="333360"/>
            <a:ext cx="7156440" cy="3403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324000" y="4005360"/>
            <a:ext cx="74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ЗРК «Верб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предназначен для уничто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душных целей на дальности от 500 до 6400 мет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та поражения – 10 -4500  ме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цели –до 500 метров в секун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DOM\Desktop\S-300V_MVSV-2008_04.JPG"/>
          <p:cNvPicPr/>
          <p:nvPr/>
        </p:nvPicPr>
        <p:blipFill>
          <a:blip r:embed="rId1"/>
          <a:stretch/>
        </p:blipFill>
        <p:spPr>
          <a:xfrm>
            <a:off x="971640" y="692280"/>
            <a:ext cx="7056360" cy="51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TextBox 1"/>
          <p:cNvSpPr/>
          <p:nvPr/>
        </p:nvSpPr>
        <p:spPr>
          <a:xfrm>
            <a:off x="3228840" y="59119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РК С-300в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45352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Армейская ави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268280"/>
            <a:ext cx="518472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назначена для поддержки сухопутных подразделений, ведения разведки, высадки тактических десант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DOM\Desktop\ми 28н.jpg"/>
          <p:cNvPicPr/>
          <p:nvPr/>
        </p:nvPicPr>
        <p:blipFill>
          <a:blip r:embed="rId1"/>
          <a:stretch/>
        </p:blipFill>
        <p:spPr>
          <a:xfrm>
            <a:off x="5292720" y="115920"/>
            <a:ext cx="3816360" cy="273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DOM\Desktop\Ka-50_.jpg"/>
          <p:cNvPicPr/>
          <p:nvPr/>
        </p:nvPicPr>
        <p:blipFill>
          <a:blip r:embed="rId2"/>
          <a:stretch/>
        </p:blipFill>
        <p:spPr>
          <a:xfrm>
            <a:off x="25560" y="2637000"/>
            <a:ext cx="4743360" cy="31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DOM\Desktop\ка-52.jpg"/>
          <p:cNvPicPr/>
          <p:nvPr/>
        </p:nvPicPr>
        <p:blipFill>
          <a:blip r:embed="rId3"/>
          <a:stretch/>
        </p:blipFill>
        <p:spPr>
          <a:xfrm>
            <a:off x="4821120" y="3500280"/>
            <a:ext cx="4308480" cy="2870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5806080" y="28684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-28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17400" y="595008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 -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284800" y="6242040"/>
            <a:ext cx="10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-5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Эмблема  Сухопутных вой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DOM\Desktop\эмлема св.gif"/>
          <p:cNvPicPr/>
          <p:nvPr/>
        </p:nvPicPr>
        <p:blipFill>
          <a:blip r:embed="rId1"/>
          <a:stretch/>
        </p:blipFill>
        <p:spPr>
          <a:xfrm>
            <a:off x="1116000" y="1341360"/>
            <a:ext cx="720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" name="Прямая со стрелкой 17"/>
          <p:cNvCxnSpPr>
            <a:stCxn id="53" idx="2"/>
            <a:endCxn id="54" idx="0"/>
          </p:cNvCxnSpPr>
          <p:nvPr/>
        </p:nvCxnSpPr>
        <p:spPr>
          <a:xfrm flipH="1">
            <a:off x="2288520" y="2108160"/>
            <a:ext cx="2578680" cy="24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руктура Сухопутных вой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071520" y="1523880"/>
            <a:ext cx="35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хопутн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619560" y="2637000"/>
            <a:ext cx="29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тострелков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й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660120" y="2637000"/>
            <a:ext cx="169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нк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й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508720" y="2671920"/>
            <a:ext cx="324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кетные войск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ртилле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343160" y="4581360"/>
            <a:ext cx="189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рмей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и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3721320" y="479592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йска П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243840" y="4581360"/>
            <a:ext cx="22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й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10"/>
          <p:cNvCxnSpPr>
            <a:stCxn id="53" idx="2"/>
            <a:endCxn id="56" idx="0"/>
          </p:cNvCxnSpPr>
          <p:nvPr/>
        </p:nvCxnSpPr>
        <p:spPr>
          <a:xfrm flipH="1">
            <a:off x="2074680" y="2107800"/>
            <a:ext cx="2792880" cy="529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12"/>
          <p:cNvCxnSpPr>
            <a:stCxn id="53" idx="2"/>
          </p:cNvCxnSpPr>
          <p:nvPr/>
        </p:nvCxnSpPr>
        <p:spPr>
          <a:xfrm flipH="1">
            <a:off x="4728600" y="2108160"/>
            <a:ext cx="138600" cy="6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14"/>
          <p:cNvCxnSpPr>
            <a:stCxn id="53" idx="2"/>
          </p:cNvCxnSpPr>
          <p:nvPr/>
        </p:nvCxnSpPr>
        <p:spPr>
          <a:xfrm>
            <a:off x="4866840" y="2108160"/>
            <a:ext cx="2081880" cy="564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Прямая со стрелкой 19"/>
          <p:cNvCxnSpPr>
            <a:stCxn id="53" idx="2"/>
          </p:cNvCxnSpPr>
          <p:nvPr/>
        </p:nvCxnSpPr>
        <p:spPr>
          <a:xfrm>
            <a:off x="4866840" y="2108160"/>
            <a:ext cx="2081880" cy="24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21"/>
          <p:cNvCxnSpPr/>
          <p:nvPr/>
        </p:nvCxnSpPr>
        <p:spPr>
          <a:xfrm flipH="1">
            <a:off x="4728600" y="2107800"/>
            <a:ext cx="138600" cy="261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тострелковые вой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145880" y="1628640"/>
            <a:ext cx="682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мый многочисленный род войс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ащены вооружением д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ажения наземных и воздушных ц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читывают около 395 ты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DOM\Desktop\AK-12_Engineering_technologies_international_forum_-_2012_01.jpg"/>
          <p:cNvPicPr/>
          <p:nvPr/>
        </p:nvPicPr>
        <p:blipFill>
          <a:blip r:embed="rId1"/>
          <a:stretch/>
        </p:blipFill>
        <p:spPr>
          <a:xfrm>
            <a:off x="1116000" y="3490920"/>
            <a:ext cx="65595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</a:t>
            </a:r>
            <a:r>
              <a:rPr b="1" lang="ru-RU" sz="4900" spc="-1" strike="noStrike">
                <a:solidFill>
                  <a:srgbClr val="c00000"/>
                </a:solidFill>
                <a:latin typeface="Calibri"/>
              </a:rPr>
              <a:t>Ратник»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DOM\Desktop\ратник.jpg"/>
          <p:cNvPicPr/>
          <p:nvPr/>
        </p:nvPicPr>
        <p:blipFill>
          <a:blip r:embed="rId1"/>
          <a:stretch/>
        </p:blipFill>
        <p:spPr>
          <a:xfrm>
            <a:off x="1265400" y="765000"/>
            <a:ext cx="5960880" cy="388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75400" y="4869000"/>
            <a:ext cx="805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ключает:-арамидный комбинезон,  бронежил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огослойный шлем, коммуникатор, систему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трелец», АК-12, нож «шмель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с комплекта  - 20  кг. Вес шлема – 1,056 к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ерывное ношение – 48 ча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DOM\Desktop\бтр-90.jpg"/>
          <p:cNvPicPr/>
          <p:nvPr/>
        </p:nvPicPr>
        <p:blipFill>
          <a:blip r:embed="rId1"/>
          <a:stretch/>
        </p:blipFill>
        <p:spPr>
          <a:xfrm>
            <a:off x="3995640" y="260280"/>
            <a:ext cx="4954680" cy="3127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480680" y="1341360"/>
            <a:ext cx="21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ТР-9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DOM\Desktop\_бмп-4.jpg"/>
          <p:cNvPicPr/>
          <p:nvPr/>
        </p:nvPicPr>
        <p:blipFill>
          <a:blip r:embed="rId2"/>
          <a:stretch/>
        </p:blipFill>
        <p:spPr>
          <a:xfrm>
            <a:off x="573120" y="3387600"/>
            <a:ext cx="4575240" cy="3430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382440" y="5102280"/>
            <a:ext cx="21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МП-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анковые войс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0920" y="1095480"/>
            <a:ext cx="742788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ая ударная сила Сухопутных войск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щное средство вооруженной борьб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назначенные для решения задач в различных видах боевых дейст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DOM\Desktop\T-90AM_2012_01.jpg"/>
          <p:cNvPicPr/>
          <p:nvPr/>
        </p:nvPicPr>
        <p:blipFill>
          <a:blip r:embed="rId1"/>
          <a:stretch/>
        </p:blipFill>
        <p:spPr>
          <a:xfrm>
            <a:off x="2195640" y="3438360"/>
            <a:ext cx="6257880" cy="31086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24000" y="5157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-9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Ракетные войска и артилле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97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ая ударная сила Сухопутных войск. Включает:- пушки, гаубицы, минометы, реактивную артиллер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DOM\Desktop\мста-с.jpg"/>
          <p:cNvPicPr/>
          <p:nvPr/>
        </p:nvPicPr>
        <p:blipFill>
          <a:blip r:embed="rId1"/>
          <a:stretch/>
        </p:blipFill>
        <p:spPr>
          <a:xfrm>
            <a:off x="2484360" y="2608200"/>
            <a:ext cx="6373800" cy="4249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250920" y="414972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Мста-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60" y="0"/>
            <a:ext cx="9144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ходная артиллерийская установка «коалиция», предназначена для кратковременного интенсивного огня Калибр – 152 мм, дальность стрельбы – 40 к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DOM\Desktop\коалиция.jpg"/>
          <p:cNvPicPr/>
          <p:nvPr/>
        </p:nvPicPr>
        <p:blipFill>
          <a:blip r:embed="rId1"/>
          <a:stretch/>
        </p:blipFill>
        <p:spPr>
          <a:xfrm>
            <a:off x="468360" y="1773360"/>
            <a:ext cx="74167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7:45:33Z</dcterms:created>
  <dc:creator>RePack by Diakov</dc:creator>
  <dc:description/>
  <dc:language>en-US</dc:language>
  <cp:lastModifiedBy>RePack by Diakov</cp:lastModifiedBy>
  <dcterms:modified xsi:type="dcterms:W3CDTF">2015-02-06T19:28:13Z</dcterms:modified>
  <cp:revision>11</cp:revision>
  <dc:subject/>
  <dc:title>Сухопутные войска России</dc:title>
</cp:coreProperties>
</file>