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3C2-823C-41E3-9A34-D750B986A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01B-D419-4900-A7F8-94A8F0DA58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4C4-7602-429E-AE35-48C499A7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9C2-0EF1-427A-B827-BD4AD2B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E11-EF93-4199-B87A-129E036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FA3-13A8-471F-97A7-1A480876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A6C-EF1D-40B5-8D84-984E2EEA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9EC-5862-49E9-847A-A660E0E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478-49A0-4F9D-9A37-1DD8B3B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D1B-C9F4-4DE3-AF9F-3B8292AE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757-C8DF-4540-8927-15A4AC04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32D-A2AA-4913-B9FE-48339C6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46F-C729-46BA-9A19-3CCB557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ABF-382C-4C5C-9C73-A1CAC52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268-7A2C-4873-A810-FB8A13D1D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Сухопутные войска России</a:t>
            </a:r>
            <a:br>
              <a:rPr sz="40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назначены для ведения военных действий на суше</a:t>
            </a: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87640" y="1052640"/>
            <a:ext cx="404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Войска П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404280"/>
            <a:ext cx="4402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азначены для прикрытия бое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в сухопутных войск от воздушного против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DOM\Desktop\бук-3.jpg"/>
          <p:cNvPicPr/>
          <p:nvPr/>
        </p:nvPicPr>
        <p:blipFill>
          <a:blip r:embed="rId1"/>
          <a:stretch/>
        </p:blipFill>
        <p:spPr>
          <a:xfrm>
            <a:off x="2709720" y="2708280"/>
            <a:ext cx="6427800" cy="3780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79160" y="51530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РК – БУК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DOM\Desktop\искандер.jpg"/>
          <p:cNvPicPr/>
          <p:nvPr/>
        </p:nvPicPr>
        <p:blipFill>
          <a:blip r:embed="rId1"/>
          <a:stretch/>
        </p:blipFill>
        <p:spPr>
          <a:xfrm>
            <a:off x="90360" y="20520"/>
            <a:ext cx="4737240" cy="362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3406680" y="3645000"/>
            <a:ext cx="565812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5148360" y="1125360"/>
            <a:ext cx="40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РК «Исканд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90360" y="4797360"/>
            <a:ext cx="40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ЗО «Торнадо-г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DOM\Desktop\верба.jpg"/>
          <p:cNvPicPr/>
          <p:nvPr/>
        </p:nvPicPr>
        <p:blipFill>
          <a:blip r:embed="rId1"/>
          <a:stretch/>
        </p:blipFill>
        <p:spPr>
          <a:xfrm>
            <a:off x="655560" y="333360"/>
            <a:ext cx="7156440" cy="3403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324000" y="4005360"/>
            <a:ext cx="74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ЗРК «Верб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предназначен для уничто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ушных целей на дальности от 500 до 6400 ме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поражения – 10 -4500 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цели –до 500 метров в секун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DOM\Desktop\S-300V_MVSV-2008_04.JPG"/>
          <p:cNvPicPr/>
          <p:nvPr/>
        </p:nvPicPr>
        <p:blipFill>
          <a:blip r:embed="rId1"/>
          <a:stretch/>
        </p:blipFill>
        <p:spPr>
          <a:xfrm>
            <a:off x="971640" y="692280"/>
            <a:ext cx="7056360" cy="51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Box 1"/>
          <p:cNvSpPr/>
          <p:nvPr/>
        </p:nvSpPr>
        <p:spPr>
          <a:xfrm>
            <a:off x="3228840" y="59119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РК С-300в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45352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рмейская ави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268280"/>
            <a:ext cx="518472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назначена для поддержки сухопутных подразделений, ведения разведки, высадки тактических десан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DOM\Desktop\ми 28н.jpg"/>
          <p:cNvPicPr/>
          <p:nvPr/>
        </p:nvPicPr>
        <p:blipFill>
          <a:blip r:embed="rId1"/>
          <a:stretch/>
        </p:blipFill>
        <p:spPr>
          <a:xfrm>
            <a:off x="5292720" y="115920"/>
            <a:ext cx="3816360" cy="273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DOM\Desktop\Ka-50_.jpg"/>
          <p:cNvPicPr/>
          <p:nvPr/>
        </p:nvPicPr>
        <p:blipFill>
          <a:blip r:embed="rId2"/>
          <a:stretch/>
        </p:blipFill>
        <p:spPr>
          <a:xfrm>
            <a:off x="25560" y="2637000"/>
            <a:ext cx="4743360" cy="31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DOM\Desktop\ка-52.jpg"/>
          <p:cNvPicPr/>
          <p:nvPr/>
        </p:nvPicPr>
        <p:blipFill>
          <a:blip r:embed="rId3"/>
          <a:stretch/>
        </p:blipFill>
        <p:spPr>
          <a:xfrm>
            <a:off x="4821120" y="3500280"/>
            <a:ext cx="4308480" cy="2870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806080" y="28684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-28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17400" y="595008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 -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284800" y="6242040"/>
            <a:ext cx="10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-5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Эмблема  Сухопутных вой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DOM\Desktop\эмлема св.gif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Прямая со стрелкой 17"/>
          <p:cNvCxnSpPr>
            <a:stCxn id="53" idx="2"/>
            <a:endCxn id="54" idx="0"/>
          </p:cNvCxnSpPr>
          <p:nvPr/>
        </p:nvCxnSpPr>
        <p:spPr>
          <a:xfrm flipH="1">
            <a:off x="2288520" y="2108160"/>
            <a:ext cx="2578680" cy="24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уктура Сухопутных вой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071520" y="152388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хопут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19560" y="2637000"/>
            <a:ext cx="29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тострелков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660120" y="263700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н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508720" y="2671920"/>
            <a:ext cx="324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кетные войс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343160" y="458136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рмей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721320" y="47959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 П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243840" y="4581360"/>
            <a:ext cx="22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й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0"/>
          <p:cNvCxnSpPr>
            <a:stCxn id="53" idx="2"/>
            <a:endCxn id="56" idx="0"/>
          </p:cNvCxnSpPr>
          <p:nvPr/>
        </p:nvCxnSpPr>
        <p:spPr>
          <a:xfrm flipH="1">
            <a:off x="2074680" y="2107800"/>
            <a:ext cx="2792880" cy="52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12"/>
          <p:cNvCxnSpPr>
            <a:stCxn id="53" idx="2"/>
          </p:cNvCxnSpPr>
          <p:nvPr/>
        </p:nvCxnSpPr>
        <p:spPr>
          <a:xfrm flipH="1">
            <a:off x="4728600" y="2108160"/>
            <a:ext cx="13860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4"/>
          <p:cNvCxnSpPr>
            <a:stCxn id="53" idx="2"/>
          </p:cNvCxnSpPr>
          <p:nvPr/>
        </p:nvCxnSpPr>
        <p:spPr>
          <a:xfrm>
            <a:off x="4866840" y="2108160"/>
            <a:ext cx="2081880" cy="564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19"/>
          <p:cNvCxnSpPr>
            <a:stCxn id="53" idx="2"/>
          </p:cNvCxnSpPr>
          <p:nvPr/>
        </p:nvCxnSpPr>
        <p:spPr>
          <a:xfrm>
            <a:off x="4866840" y="2108160"/>
            <a:ext cx="2081880" cy="24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21"/>
          <p:cNvCxnSpPr/>
          <p:nvPr/>
        </p:nvCxnSpPr>
        <p:spPr>
          <a:xfrm flipH="1">
            <a:off x="4728600" y="2107800"/>
            <a:ext cx="138600" cy="261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тострелков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45880" y="1628640"/>
            <a:ext cx="682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ый многочисленный род войс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ащены вооружением д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ажения наземных и воздушны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читывают около 395 ты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DOM\Desktop\AK-12_Engineering_technologies_international_forum_-_2012_01.jpg"/>
          <p:cNvPicPr/>
          <p:nvPr/>
        </p:nvPicPr>
        <p:blipFill>
          <a:blip r:embed="rId1"/>
          <a:stretch/>
        </p:blipFill>
        <p:spPr>
          <a:xfrm>
            <a:off x="1116000" y="3490920"/>
            <a:ext cx="65595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lang="ru-RU" sz="4900" spc="-1" strike="noStrike">
                <a:solidFill>
                  <a:srgbClr val="c00000"/>
                </a:solidFill>
                <a:latin typeface="Calibri"/>
              </a:rPr>
              <a:t>Ратник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DOM\Desktop\ратник.jpg"/>
          <p:cNvPicPr/>
          <p:nvPr/>
        </p:nvPicPr>
        <p:blipFill>
          <a:blip r:embed="rId1"/>
          <a:stretch/>
        </p:blipFill>
        <p:spPr>
          <a:xfrm>
            <a:off x="1265400" y="765000"/>
            <a:ext cx="5960880" cy="388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75400" y="4869000"/>
            <a:ext cx="805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ключает:-арамидный комбинезон,  бронежил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огослойный шлем, коммуникатор, систему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трелец», АК-12, нож «шмель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 комплекта  - 20  кг. Вес шлема – 1,056 к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ерывное ношение – 48 ча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DOM\Desktop\бтр-90.jpg"/>
          <p:cNvPicPr/>
          <p:nvPr/>
        </p:nvPicPr>
        <p:blipFill>
          <a:blip r:embed="rId1"/>
          <a:stretch/>
        </p:blipFill>
        <p:spPr>
          <a:xfrm>
            <a:off x="3995640" y="260280"/>
            <a:ext cx="4954680" cy="3127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480680" y="1341360"/>
            <a:ext cx="21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ТР-9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DOM\Desktop\_бмп-4.jpg"/>
          <p:cNvPicPr/>
          <p:nvPr/>
        </p:nvPicPr>
        <p:blipFill>
          <a:blip r:embed="rId2"/>
          <a:stretch/>
        </p:blipFill>
        <p:spPr>
          <a:xfrm>
            <a:off x="573120" y="3387600"/>
            <a:ext cx="4575240" cy="3430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382440" y="510228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МП-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анковые войс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095480"/>
            <a:ext cx="74278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ударная сила Сухопутных войск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щное средство вооруженной борьб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азначенные для решения задач в различных видах боевых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DOM\Desktop\T-90AM_2012_01.jpg"/>
          <p:cNvPicPr/>
          <p:nvPr/>
        </p:nvPicPr>
        <p:blipFill>
          <a:blip r:embed="rId1"/>
          <a:stretch/>
        </p:blipFill>
        <p:spPr>
          <a:xfrm>
            <a:off x="2195640" y="3438360"/>
            <a:ext cx="6257880" cy="3108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24000" y="51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-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Ракетные войска и артилле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97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ударная сила Сухопутных войск. Включает:- пушки, гаубицы, минометы, реактивную артиллер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DOM\Desktop\мста-с.jpg"/>
          <p:cNvPicPr/>
          <p:nvPr/>
        </p:nvPicPr>
        <p:blipFill>
          <a:blip r:embed="rId1"/>
          <a:stretch/>
        </p:blipFill>
        <p:spPr>
          <a:xfrm>
            <a:off x="2484360" y="2608200"/>
            <a:ext cx="6373800" cy="4249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50920" y="414972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Мста-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" y="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ходная артиллерийская установка «коалиция», предназначена для кратковременного интенсивного огня Калибр – 152 мм, дальность стрельбы – 40 к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DOM\Desktop\коалиция.jpg"/>
          <p:cNvPicPr/>
          <p:nvPr/>
        </p:nvPicPr>
        <p:blipFill>
          <a:blip r:embed="rId1"/>
          <a:stretch/>
        </p:blipFill>
        <p:spPr>
          <a:xfrm>
            <a:off x="468360" y="1773360"/>
            <a:ext cx="7416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7:45:33Z</dcterms:created>
  <dc:creator>RePack by Diakov</dc:creator>
  <dc:description/>
  <dc:language>en-US</dc:language>
  <cp:lastModifiedBy>RePack by Diakov</cp:lastModifiedBy>
  <dcterms:modified xsi:type="dcterms:W3CDTF">2015-02-06T19:28:13Z</dcterms:modified>
  <cp:revision>11</cp:revision>
  <dc:subject/>
  <dc:title>Сухопутные войска России</dc:title>
</cp:coreProperties>
</file>