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623-4435-42F3-8F75-62AE73C4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CE0-F65C-4FF9-BC06-F563711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B96-C39E-43D0-B55D-7EAE622F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C65-D112-4864-B20C-3F7E6E06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D197-F901-439A-BA82-FF11BCAD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7931-AB87-48DD-B829-E1D3D55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060-D06B-40D9-876B-BB89FD82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82A1-FEC1-4C61-9079-0752EEF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051-050E-49EC-A238-5490586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782-74CD-4DE5-B940-30CC8BB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E96C-11C3-4BC6-B9D8-C491398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5AE-440D-41EA-B7A5-5F222D50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90CD-BB30-4595-9127-52EA626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D422-2139-49D5-BE92-E287B21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B9FB-D2B0-4045-8E33-668E53E1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19A-25E9-4DD2-9F39-7B3B3938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6400-9B73-4A2D-8146-BAF46E5B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7DA-D5D7-4AC2-8D3E-3F5CCD8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94F-6B0F-4F90-B9F8-356425A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218-C3BD-4F0F-91FD-6829B30E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91D-FD9A-48CD-8868-E033506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C16-68A2-447D-84A1-792D336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07D-E57C-44AE-BBD3-A3C6FCB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6F4-9069-4DFE-AE06-FE27438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EA6B-3D5F-4EFA-9B1F-8EC7C23209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A8EC-712A-4954-B3E1-74160AE528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o.spbland.ru/data/media/1/lrg_44929_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b-guide.ru/page_483_10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foto.spbland.ru/data/media/1/59744_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rial"/>
              </a:rPr>
              <a:t>Цветочные часы</a:t>
            </a: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Цветочные часы"/>
          <p:cNvPicPr/>
          <p:nvPr/>
        </p:nvPicPr>
        <p:blipFill>
          <a:blip r:embed="rId1"/>
          <a:stretch/>
        </p:blipFill>
        <p:spPr>
          <a:xfrm>
            <a:off x="685800" y="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Цветочные часы"/>
          <p:cNvPicPr/>
          <p:nvPr/>
        </p:nvPicPr>
        <p:blipFill>
          <a:blip r:embed="rId2"/>
          <a:stretch/>
        </p:blipFill>
        <p:spPr>
          <a:xfrm>
            <a:off x="6934320" y="4800600"/>
            <a:ext cx="18572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ЖЕНЬШЕН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называют «корень жизни». Растёт он очень медленно, его корень ежегодно прибавляет в весе лишь немногим более 1 грамма. 10-15-летнее растение весит всего 25 грамм. Целебные свойства и сходства с фигуркой человека породили немало легенд о нём. В старинной китайской книге можно найти изречение: »Царь лесных зверей – тигр, царь морских зверей – дракон, царь лесных растений – женьшень» Изобразить его мы можем в виде человеческих фиг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028_319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28_318"/>
          <p:cNvPicPr/>
          <p:nvPr/>
        </p:nvPicPr>
        <p:blipFill>
          <a:blip r:embed="rId2"/>
          <a:stretch/>
        </p:blipFill>
        <p:spPr>
          <a:xfrm>
            <a:off x="556272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028_323"/>
          <p:cNvPicPr/>
          <p:nvPr/>
        </p:nvPicPr>
        <p:blipFill>
          <a:blip r:embed="rId3"/>
          <a:stretch/>
        </p:blipFill>
        <p:spPr>
          <a:xfrm>
            <a:off x="1905120" y="2971800"/>
            <a:ext cx="3733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гра «Переводчик»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бялюбе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бе на ум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ходить из себ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ладеть соб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оэ( столетник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бразим  растение, которое обязано своим названием поверью, что оно цветёт 1 раз в 100 лет, потом погибает  (алоэ, или столетник). В комнатах цветущий столетник действительно редкость. Но на своей родине в Африке это растение ежегодно даёт крупные оранжевые цветки. Удивительно, что в естественных условиях вечнозелёное алоэ достигает 5 мет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На яхте»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жды куда-то на ях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уда-то кто-то поплы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али какие-то чай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чём-то кричали 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-то дельфин остронос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зелёные волны ныря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етер, почти, незамет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ь-чуть паруса надув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рфемная игра «Собери слово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усадеб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ив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иц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яв из 1-го слова приставку, из 2-го – корень, из 3-го – суффикс, из 4-го – суффикс, из 5-го – окончание, вы получите название 5-го разря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Трав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дно тысячелетие травы служат человеку. Врачевание с давних времён было таинством, и лекари очень придирчиво выбирали себе учеников. Выдающийся древнегреческий врач и мыслитель  Гиппократ описал  236 лекарственных трав, которые применяли в медицине того времени. Среди них белена, горчица, ирис, миндаль, мята и другие. Такие сборники люди называли травниками. Мы не только изобразим страничку травника, но и укажем название на ней лекарственных растений, известные вам( валериана, зверобой, ромашка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Шуточные вопросы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местоимений в слове семь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ва местоимения мешают движению на дорог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гда руки оказываются 3-мя местоимениям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ема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ывается, в Древней Персии существовал особый язык – язык цветов – семам, с помощью которого женщина могла рассказать о своих чувствах, потому что  каждый цветок имел свой скрытый смысл: вишня означала любовь, азалия – печаль. Зарисуйте в одном из секторов символ любви или печа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кеба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едины 15 столет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Японии стал очень популярен  особый вид искусства  - икебана. На русский язык слово «икебана» переводится по-разному: «жизнь цветов, аранжировка цветов, помощь цветам выразить себя». В отличие от обычного букета икебана – не только украшение, её задача – отразить Вселенную в цветочной компози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album_pic"/>
          <p:cNvPicPr/>
          <p:nvPr/>
        </p:nvPicPr>
        <p:blipFill>
          <a:blip r:embed="rId1"/>
          <a:stretch/>
        </p:blipFill>
        <p:spPr>
          <a:xfrm>
            <a:off x="533520" y="0"/>
            <a:ext cx="7972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Цветы. Икебана2 (Природа) 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слушайте внимательно текст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т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е изображены часы. В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екторе обозначено название разряда местоимений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ом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разрядов соответствует цветочный символ.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бые и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имволы на этих часах неуместны, так как часы цветоч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ербар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 – живые существа, которым присуще существование после смерти. С давних времён путешественники стремились привезти из дальних стран неизвестные на их родине растения. Тогда и стали высушивать найденные образцы флоры, чтобы сохранить их надолго. Коллекция засушенных растений стали называть гербарием (от латинско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b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рава, растение). Самый старинный гербарий был собран в начале 16 столетия и поныне хранится в Риме. В России первый научный гербарий появился в начале 18 столетия, в период царствования Петра Перв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ий естеств..испытатель Карл Линней известен не только созданием основ совреме(н,нн)ой сист..матики(4). Именно он уст..новил что вен..чики некоторых цв..тков ра..крывают..ся только в определённое время дня (1). Использовав это свойство, Линней сделал в шведском городе (у,У)псале уд..вительные цв..точные часы(6). Их ц..ферблат состоял из с..кторов (3). В каждом из которых были посажены р..стения, ра..пускавшиеся в строго определённый час (2). Правда, как и солнечные, цв..точные часы «шли» лишь в ясную погоду (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4" descr="Карл Линней"/>
          <p:cNvPicPr/>
          <p:nvPr/>
        </p:nvPicPr>
        <p:blipFill>
          <a:blip r:embed="rId1"/>
          <a:stretch/>
        </p:blipFill>
        <p:spPr>
          <a:xfrm>
            <a:off x="3429000" y="609480"/>
            <a:ext cx="3733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разрядов есть у местоимения? Перечислим их ещё раз. Какой разряд мы не указали?  Его название поместим на стрелках часов. Какие же часы без стрел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Фото: Цветочные час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04920"/>
            <a:ext cx="7867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information_items_1189434635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2b2b2"/>
                </a:solidFill>
                <a:uFillTx/>
                <a:latin typeface="Arial"/>
              </a:rPr>
              <a:t>ЗАДАНИЕ 1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розам хочу, в тот единственный са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лучшая в мире стоит из ог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статуи помня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д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 и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д невскою помню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ушистой тиши между царственных л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ачт корабельных мерещится скрип.   (А.Ахмато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Санкт-Петербург, Петербург ночью, Решетка Летнего сада и Набережная Кутузо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Фото: Решётка Летнего сад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74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Красная роза - Картинки-обои на рабочий стол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оза –  царица цве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ней много стихотворений, а первые строки на русском языке строки, воспевающие царицу цветов, принадлежат поэту 18 века Василию Кирилловичу Тредиаковского, у которого есть «Ода в похвалу цвету роз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Четвёртое лишнее»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..кто, н..где, н..что, н..ка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(у ) кого, (ни)что, (ни)где, (ни)ка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0-03-20T16:37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