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A6FE-1A3A-4A76-AAAC-56647298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0D05-C8C0-4579-9F77-DB398C95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DD1-737B-4A95-A051-A9561F8B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FB5-A00A-40BC-A218-35FCDAB5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C00-CA6A-4EAC-BD1E-188FA774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52A-5A99-48E7-8D73-6BBC3B96C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71E1-A292-4C1F-81C1-EB41FF36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71C-6C97-4372-AB94-61563C0F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3B79-55D2-4A7B-BE63-C723AD69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2F19-22CA-4AC4-AFF0-DC69196E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990-7C90-4887-8E24-8363D13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6089-39CE-48B9-8369-B19FE7C2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9723-4BAB-4EB5-890B-FE4942FFB8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Recip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/’resəpi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empl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’tem,pleɪt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uisin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kwɪ’zi:n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xt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[‘mɪkstʃə(r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oug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dəʊ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ump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’dʌmplɪŋ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lou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flaʊə(r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our cream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’saʊə(r)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a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 /əʊt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uckwhea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’bʌk,wi:t/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ille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/’mɪlɪ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emolin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/,semə’li:nə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ea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/ji:s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Pospelova.SCHOOL230.000\Рабочий стол\Урок\home_made_cooking.jpg"/>
          <p:cNvPicPr/>
          <p:nvPr/>
        </p:nvPicPr>
        <p:blipFill>
          <a:blip r:embed="rId1"/>
          <a:stretch/>
        </p:blipFill>
        <p:spPr>
          <a:xfrm>
            <a:off x="1852560" y="-190440"/>
            <a:ext cx="543888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11:57:17Z</dcterms:created>
  <dc:creator>Pospelova</dc:creator>
  <dc:description/>
  <dc:language>en-US</dc:language>
  <cp:lastModifiedBy>Pospelova</cp:lastModifiedBy>
  <dcterms:modified xsi:type="dcterms:W3CDTF">2012-03-07T08:25:46Z</dcterms:modified>
  <cp:revision>3</cp:revision>
  <dc:subject/>
  <dc:title>Слайд 1</dc:title>
</cp:coreProperties>
</file>