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59C-8C8D-4821-B747-FDC5B1C3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3FE-A52D-4C34-81B4-D0B37C3F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976-1EEA-464D-8C08-9A049122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9EA-333E-4CCB-8FC9-44071290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697-D3C6-4ACC-A024-984157FF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496-B59D-427B-8397-63EFFBD6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C27-E837-4D73-BE22-B4A7FBA8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8EB-AC2E-421A-B2C8-636372DB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178-AFD0-4B14-B3DC-319313BB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1C9-5F96-4137-84D5-D8223CCF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869-983E-41D1-AAEC-7831FA3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903-0BC6-4CB7-BAD7-1EBDBDB3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A809-60E3-49BF-810B-C9FDE73E6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cip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/’resəp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’tem,pleɪt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uis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kwɪ’zi: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[‘mɪkstʃə(r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dəʊ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u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’dʌmplɪŋ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flaʊə(r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 cre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’saʊə(r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a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 /əʊt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ckwhe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’bʌk,wi:t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ll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/’mɪlɪ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oli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,semə’li:nə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e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/ji: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Pospelova.SCHOOL230.000\Рабочий стол\Урок\home_made_cooking.jpg"/>
          <p:cNvPicPr/>
          <p:nvPr/>
        </p:nvPicPr>
        <p:blipFill>
          <a:blip r:embed="rId1"/>
          <a:stretch/>
        </p:blipFill>
        <p:spPr>
          <a:xfrm>
            <a:off x="1852560" y="-190440"/>
            <a:ext cx="54388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57:17Z</dcterms:created>
  <dc:creator>Pospelova</dc:creator>
  <dc:description/>
  <dc:language>en-US</dc:language>
  <cp:lastModifiedBy>Pospelova</cp:lastModifiedBy>
  <dcterms:modified xsi:type="dcterms:W3CDTF">2012-03-07T08:25:46Z</dcterms:modified>
  <cp:revision>3</cp:revision>
  <dc:subject/>
  <dc:title>Слайд 1</dc:title>
</cp:coreProperties>
</file>