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BD0-CD3A-443E-B7CA-E22D090E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DB9-D91D-4900-A3B7-CAA6901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4DD-1E72-4A79-824B-DC63A3A8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1D0-B58C-4D93-A711-3F834171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6E02-F8C1-49BB-954C-85AF3BFD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D4F-E3F3-4517-AC0D-0F3D5ECC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08EF-02E7-4337-A311-956179D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C774-862A-47C0-AA76-FCBB58F6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A110-1EB6-4E3A-B55E-2F95111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8C9-720C-41D1-8578-42218DA8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F46-990F-4933-9437-492BA173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913-C4DA-465A-B88D-07B2803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66EE-6BF0-49CA-9D00-C833CB57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40B-DF97-44EE-A36E-4C8B63D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1C2-45A5-426D-9173-97283B8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3E4A-2D3A-4330-A9FD-131230A4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701-A270-45BC-B791-1A6F444F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304A-5B1D-4FA0-B8CB-B3192608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0460-40FD-4D10-A1DF-E17929E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FF05-8C1E-428D-80E8-4D87AC6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B214-722C-4D33-81E6-FCAE696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5A84-421B-4A37-9609-7C9523BB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307-D00F-4456-8865-038FDFCA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BBA9-F5E7-4174-8F78-B49AA1D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C972-81C7-451D-B591-F8CBD6B0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1067-15AC-4486-AB67-8C76C60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4DCA-649E-4B20-9ACE-61BB626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275A-EDCC-4895-B323-4CC4423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90B9-5B01-40CB-AD6E-58B567AE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0783-5578-44B1-BA6E-DED35DA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1BE3-A7B5-4A9A-A749-5258FEBC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AD43-E17C-428C-AE24-6EB0DBD5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822D-B505-4842-9075-CFC74A4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894-2993-40FF-B2D6-CF7F8808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188B-44AA-4B34-801F-4A62F93C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4571-5C64-4AFD-B511-5993036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01D0-CAFA-4EC2-9073-3289307B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3219-08FB-4F1B-9CB9-67D7A1D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D56E-B21D-4047-985B-6FC2D5E9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E2C2-349B-4126-8510-81D6D4B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2D00-A72D-409A-8D03-024247B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7204-2250-49CA-816D-F35DD718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2F47-DE90-4BCB-B078-DD1EC428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EF88-A785-4E49-BEF0-D2321C5C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A82-88B6-4841-B188-5A65FB8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C7DB-F9CA-4184-AFE5-4AAE94B6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FDC8-30DD-4F99-9E15-94A5421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31D3-183B-4FD2-BA22-5A29A96D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75A9-0CC5-47A7-A130-5B74863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4ABC-2C79-4983-86D6-32EF0F04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2605-745B-4A5E-AD0D-43E6A12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CBDA-609C-453C-AEAD-666848B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3A3E-F4F3-4E6B-B914-8E093BF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F16C-8F06-4448-BBF5-6E48775C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B045-7F32-4647-A266-5E6CB6E3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64B-6A46-4243-8A2E-01CCF74D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DA3A-9AF8-46A9-9F17-03904E1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72737-C787-4C69-A08F-32C842C0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D86C3-0693-4B75-BF7F-95F71BB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3DB2-EAC8-4FAB-95F5-2D96EFB7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3765-42EC-4E5E-B997-2CACE64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8106-8332-4007-93B2-CBB60F3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68EE5-1830-42E4-AF7F-C8F5090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1407-5461-4A33-9D59-2B80BBE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E4D1-DFE7-431B-833C-8FC9E7B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F96EF-B978-4094-97E9-E229B36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FCA-6E96-4CAF-B6AA-E4223CC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B302-99B3-48B8-9E5C-C4D35416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600EF-2571-4D60-88D2-7A81F32C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1FAE-E59B-4557-B002-4FD280FD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A12D-1CC7-4E82-B8D8-6B53FA23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0DF8-7802-4C76-A7F4-23C48D7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4EBF-806B-4B5D-A46B-1EB9EABE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BE39-D9D5-44AF-A4EE-3E798E2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9A078-2EC8-4BC0-877D-7A304C41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319B-4299-4B15-B47E-59F9489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F90A1-6315-425B-BDD3-3B90352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C3A-EF59-469F-B438-103EF01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00E46-BD91-4CA6-BAFC-DBAC6E1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E669-FE73-4BFA-889F-5802685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3C7B-B22C-44D9-8EC0-B31DAF1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4339-188D-4F1D-955B-BCE9BB52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9635-C856-452E-995F-5784421D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7CB-168D-4983-B3F6-5FE848E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BFEF-D907-4E56-A6A7-F75DD84A77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E912-C48B-4A02-989A-8AA7FFFAE7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E12-2F3F-4B98-949F-F803E65ADD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9B1-D562-4FD6-8FF6-10F99E36DB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B652-ADFF-4E04-90BB-33FDC4F57D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82F-B7EA-4530-B5B2-18DA080FE7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ACBD-D51B-4842-B1C7-8B8BC8E017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600" y="2571840"/>
            <a:ext cx="7986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ЛОВОЕ ВОСПИТАНИЕ.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ИНФЕКЦИИ, ПЕРЕДАВАЕМЫЕ ПОЛОВЫМ ПУТЁМ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20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9</a:t>
            </a: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 КЛАСС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5071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ОБЖ Т.Л. Лоскутов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519"/>
                </a:solidFill>
                <a:latin typeface="Times New Roman"/>
              </a:rPr>
              <a:t>Муниципальное бюджетное общеобразовательное учреждение городского округа Балаши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5519"/>
                </a:solidFill>
                <a:latin typeface="Times New Roman"/>
              </a:rPr>
              <a:t>«Средняя общеобразовательная школа № 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Line 6"/>
          <p:cNvSpPr/>
          <p:nvPr/>
        </p:nvSpPr>
        <p:spPr>
          <a:xfrm flipH="1">
            <a:off x="250920" y="476280"/>
            <a:ext cx="244944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250920" y="476280"/>
            <a:ext cx="0" cy="43210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50920" y="4797360"/>
            <a:ext cx="360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250920" y="4797360"/>
            <a:ext cx="0" cy="647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250920" y="5445000"/>
            <a:ext cx="360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32360" y="1700280"/>
            <a:ext cx="201600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4643280" y="184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643280" y="220500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4643280" y="263700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>
            <a:lum contrast="6000"/>
          </a:blip>
          <a:srcRect l="13527" t="12736" r="13387" b="13100"/>
          <a:stretch/>
        </p:blipFill>
        <p:spPr>
          <a:xfrm>
            <a:off x="0" y="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362" name="Line 5"/>
          <p:cNvSpPr/>
          <p:nvPr/>
        </p:nvSpPr>
        <p:spPr>
          <a:xfrm>
            <a:off x="826920" y="1773360"/>
            <a:ext cx="266544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826920" y="2205000"/>
            <a:ext cx="360072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900000" y="3357720"/>
            <a:ext cx="201636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826920" y="4221000"/>
            <a:ext cx="201636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3995640" y="4941720"/>
            <a:ext cx="208908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826920" y="6308640"/>
            <a:ext cx="2089440" cy="0"/>
          </a:xfrm>
          <a:prstGeom prst="line">
            <a:avLst/>
          </a:prstGeom>
          <a:ln w="1908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Line 5"/>
          <p:cNvSpPr/>
          <p:nvPr/>
        </p:nvSpPr>
        <p:spPr>
          <a:xfrm>
            <a:off x="2268360" y="765000"/>
            <a:ext cx="0" cy="1079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2268360" y="1844640"/>
            <a:ext cx="28764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4716360" y="981000"/>
            <a:ext cx="0" cy="935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H="1">
            <a:off x="4500360" y="1916280"/>
            <a:ext cx="215640" cy="21744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6443640" y="981000"/>
            <a:ext cx="0" cy="719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6443640" y="1700280"/>
            <a:ext cx="360360" cy="14436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"/>
          <p:cNvSpPr/>
          <p:nvPr/>
        </p:nvSpPr>
        <p:spPr>
          <a:xfrm flipH="1">
            <a:off x="178920" y="765000"/>
            <a:ext cx="208908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79280" y="765000"/>
            <a:ext cx="0" cy="388800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79280" y="4653000"/>
            <a:ext cx="14472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79280" y="4724280"/>
            <a:ext cx="0" cy="4334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79280" y="5157720"/>
            <a:ext cx="14472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79280" y="3933720"/>
            <a:ext cx="424836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4427640" y="3933720"/>
            <a:ext cx="0" cy="93528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4427640" y="486900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4427640" y="4869000"/>
            <a:ext cx="0" cy="64764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4427640" y="551664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4427640" y="5516640"/>
            <a:ext cx="0" cy="50472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4427640" y="6021360"/>
            <a:ext cx="144360" cy="0"/>
          </a:xfrm>
          <a:prstGeom prst="line">
            <a:avLst/>
          </a:prstGeom>
          <a:ln w="57240">
            <a:solidFill>
              <a:srgbClr val="c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23"/>
          <p:cNvSpPr/>
          <p:nvPr/>
        </p:nvSpPr>
        <p:spPr>
          <a:xfrm>
            <a:off x="6948360" y="2565360"/>
            <a:ext cx="1511280" cy="0"/>
          </a:xfrm>
          <a:prstGeom prst="line">
            <a:avLst/>
          </a:prstGeom>
          <a:ln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588000" y="263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588000" y="2997360"/>
            <a:ext cx="2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4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14320" y="304560"/>
            <a:ext cx="7143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Что делать, если выявили ИППП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71760" y="1981080"/>
            <a:ext cx="46432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Как можно раньше начать лечение, назначенное врачо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Обязательно  соблюдать режим и дозировку приема лекарств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Позаботиться о том, чтобы защитить себя от ИППП в будущем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D:\школьные работы\классный час\здоровое питание\люди\17496.jpg"/>
          <p:cNvPicPr/>
          <p:nvPr/>
        </p:nvPicPr>
        <p:blipFill>
          <a:blip r:embed="rId1"/>
          <a:stretch/>
        </p:blipFill>
        <p:spPr>
          <a:xfrm>
            <a:off x="6226200" y="2286000"/>
            <a:ext cx="266076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14680" y="304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Если ИППП не лечить или заниматься самолечением, то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643040" y="2143080"/>
            <a:ext cx="45007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они могут вызывать тяжелые осложнения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поздно начатое лечение может оказаться неэффективны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Picture 2" descr="D:\школьные работы\классный час\здоровое питание\люди\17601.jpg"/>
          <p:cNvPicPr/>
          <p:nvPr/>
        </p:nvPicPr>
        <p:blipFill>
          <a:blip r:embed="rId1"/>
          <a:stretch/>
        </p:blipFill>
        <p:spPr>
          <a:xfrm>
            <a:off x="6357960" y="2143080"/>
            <a:ext cx="250020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>
            <a:lum contrast="6000"/>
          </a:blip>
          <a:srcRect l="4687" t="6988" r="5905" b="8373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>
            <a:lum contrast="6000"/>
          </a:blip>
          <a:srcRect l="5520" t="6711" r="5104" b="9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42680" y="3045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Как можно избежать заражения ИППП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28480" y="1714680"/>
            <a:ext cx="7429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оздерживаться от внебрачных сексуальных контакто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Отказаться от контактов со случайными сексуальными партнерам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охранять взаимную верность с единственным сексуальным партнером (обязательно здоровым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равильно использовать качественный презерватив при каждом сексуальном контакт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Не использовать в медицинских целях нестерильные иглы, шприцы,  чужие инструмент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облюдать правила личной гигиен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Не брать чужие и не давать другим людям свои вещи (белье, одежду, полотенца и прочее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lnSpc>
                <a:spcPct val="100000"/>
              </a:lnSpc>
              <a:buClr>
                <a:srgbClr val="572314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оздержаться от употребления алкоголя и наркотических веществ. Под их воздействием часто совершаются необдуманные поступки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Профилактика ЗППП и ВИЧ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AutoShape 4"/>
          <p:cNvSpPr/>
          <p:nvPr/>
        </p:nvSpPr>
        <p:spPr>
          <a:xfrm rot="10800000">
            <a:off x="250920" y="1267920"/>
            <a:ext cx="2448000" cy="1152720"/>
          </a:xfrm>
          <a:prstGeom prst="wedgeRectCallout">
            <a:avLst>
              <a:gd name="adj1" fmla="val -92611"/>
              <a:gd name="adj2" fmla="val 53990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личие постоянного полового парт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"/>
          <p:cNvSpPr/>
          <p:nvPr/>
        </p:nvSpPr>
        <p:spPr>
          <a:xfrm rot="10800000">
            <a:off x="6286680" y="1413000"/>
            <a:ext cx="2604960" cy="1658880"/>
          </a:xfrm>
          <a:prstGeom prst="wedgeRectCallout">
            <a:avLst>
              <a:gd name="adj1" fmla="val 105064"/>
              <a:gd name="adj2" fmla="val 64583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ьзование презервативами при половом контакте со случайными партнер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6"/>
          <p:cNvSpPr/>
          <p:nvPr/>
        </p:nvSpPr>
        <p:spPr>
          <a:xfrm rot="10800000">
            <a:off x="5508720" y="3429000"/>
            <a:ext cx="2520720" cy="1295280"/>
          </a:xfrm>
          <a:prstGeom prst="wedgeRectCallout">
            <a:avLst>
              <a:gd name="adj1" fmla="val 83120"/>
              <a:gd name="adj2" fmla="val 187500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гое выполнение правил личной гиги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 rot="10800000">
            <a:off x="285480" y="2997000"/>
            <a:ext cx="3214440" cy="1657080"/>
          </a:xfrm>
          <a:prstGeom prst="wedgeRectCallout">
            <a:avLst>
              <a:gd name="adj1" fmla="val -70824"/>
              <a:gd name="adj2" fmla="val 149439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гигиеническое просвещение и нравственное воспитание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8"/>
          <p:cNvSpPr/>
          <p:nvPr/>
        </p:nvSpPr>
        <p:spPr>
          <a:xfrm rot="10800000">
            <a:off x="3058920" y="4941720"/>
            <a:ext cx="5257800" cy="1702080"/>
          </a:xfrm>
          <a:prstGeom prst="wedgeRectCallout">
            <a:avLst>
              <a:gd name="adj1" fmla="val 23879"/>
              <a:gd name="adj2" fmla="val 245689"/>
            </a:avLst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медицинских учреждениях: неукоснительное соблюдение правил использования шприцев, игл, других инструментов и систем переливания крови одноразового исполь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10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3095640" cy="424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2214720"/>
            <a:ext cx="3071880" cy="4457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школьные работы\классный час\здоровое питание\люди\tn_gallery_1_43_173020.png"/>
          <p:cNvPicPr/>
          <p:nvPr/>
        </p:nvPicPr>
        <p:blipFill>
          <a:blip r:embed="rId3"/>
          <a:stretch/>
        </p:blipFill>
        <p:spPr>
          <a:xfrm>
            <a:off x="5000760" y="382284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D:\школьные работы\классный час\добавка\m_2125.jpg"/>
          <p:cNvPicPr/>
          <p:nvPr/>
        </p:nvPicPr>
        <p:blipFill>
          <a:blip r:embed="rId4"/>
          <a:stretch/>
        </p:blipFill>
        <p:spPr>
          <a:xfrm>
            <a:off x="5572080" y="1714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0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168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25519"/>
                </a:solidFill>
                <a:latin typeface="Corbel"/>
              </a:rPr>
              <a:t>Цели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714320" y="1571760"/>
            <a:ext cx="7072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Сформировать ценностное отношение к своему здоровью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Познакомить учащихся с признаками основных инфекций, передаваемых половым путем (ИППП), и причинами их распростран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Corbel"/>
              </a:rPr>
              <a:t>Обсудить основные меры профилактики ИППП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500200" y="21286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2518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нфекции, передаваемые половым путе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86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ЧТО ТАКОЕ ИППП?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7429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Существуют  около тридцати заболеваний, которые объединили в одну группу, потому что все они передаются человеку при сексуальных контактах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Их сокращенно называют ИППП – инфекции, передаваемые половым путе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Причинами ИППП могут быть различные возбудит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17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вирусы, бактерии, дрожжевые грибы, простейшие и даже  членистоногие насекомы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ППП имеют общие признак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85920" y="1785960"/>
            <a:ext cx="757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ередаются при сексуальных контакт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Имеют скрытый период. От момента проникновения в организм до появления каких – либо признаков заболевания может пройти от 3 дней до 6 месяцев, иногда даже до нескольких лет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Часто протекают скрыто (без каких – либо  проявлений) и случайно выявляются при обследовани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Повреждают многие органы и ткани организма (мочеполовую систему, нервную систему, печень, сердце, кожные покровы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Более раннее начало лечения чаще  приводит к выздоровлени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Самопроизвольно не излечиваютс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5519"/>
                </a:solidFill>
                <a:latin typeface="Corbel"/>
              </a:rPr>
              <a:t>ИППП имеют общие признаки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840" y="1785960"/>
            <a:ext cx="7500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Приводят к большому количеству осложнений (бесплодие,  импотенция,  параличи,  рак,  поражение кожи и суставов,  потеря зрения и прочее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Некоторые из этих заболеваний передаются через кровь (нестерильные иглы, шприцы, инструменты для татуировок, прокалывание уш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400" spc="-1" strike="noStrike">
                <a:solidFill>
                  <a:srgbClr val="572314"/>
                </a:solidFill>
                <a:latin typeface="Corbel"/>
              </a:rPr>
              <a:t>Часто встречается сочетание нескольких ИППП у одного человека.  Возбудители ИППП легко передаются от человека  человек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2680" y="3045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5519"/>
                </a:solidFill>
                <a:latin typeface="Corbel"/>
              </a:rPr>
              <a:t>Какие заболевания относятся к ИППП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714680" y="2071800"/>
            <a:ext cx="4929120" cy="1643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гое время к числу ИППП относ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известные заболе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фили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норе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генитальный кандидоз  (молочниц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4"/>
          <p:cNvSpPr/>
          <p:nvPr/>
        </p:nvSpPr>
        <p:spPr>
          <a:xfrm>
            <a:off x="2786040" y="3857760"/>
            <a:ext cx="6072120" cy="2714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следнее время появилась группа ИПП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го покол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хомониа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ламидиоз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итальный герпе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нерические бородав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патиты В и 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Ч – инфек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бковый педикулез, чесот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335" name="Line 5"/>
          <p:cNvSpPr/>
          <p:nvPr/>
        </p:nvSpPr>
        <p:spPr>
          <a:xfrm flipV="1">
            <a:off x="169236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"/>
          <p:cNvSpPr/>
          <p:nvPr/>
        </p:nvSpPr>
        <p:spPr>
          <a:xfrm flipV="1">
            <a:off x="457200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 flipV="1">
            <a:off x="7451640" y="169992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2627280" y="450864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6948360" y="450864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79280" y="0"/>
            <a:ext cx="8713800" cy="704340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40000"/>
                </a:solidFill>
                <a:latin typeface="Corbel"/>
              </a:rPr>
              <a:t>Сифилис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ызывается бледной спирохетой (трепонемой). Передается контактно-половым путем и при попадании возбудителя в кровь через ссадины на кож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знаки болезни проявляются только через 3-4 недели после заражения. На месте внедрившейся инфекции образуется плотная ссадина или язва – твердый шанкр. Она безболезненна и резко ограничена от здоровой ткани. Вскоре твердый шанкр исчезает без всякого лечения, и человек чувствует себя здоровы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о это состояние обманчиво. Возбудитель распространяется по всему организму, и через 1-2 месяца на коже появляется сыпь, которая пропадает и появляется вновь. Затем все это проходит, но через некоторое время могут начаться головные боли и боли в костя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запущенных случаях поражается нервная ткань спинного мозга, теряется чувствительность ног, проваливается нос, поражаются зубы, появляются тяжелые поражения кожи и внутренних органов. Сифилис передается по наследст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настоящее время сифилис успешно лечат. Однако успех лечения во многом зависит от стадии заболевания. Запущенные случаи с трудом поддаются лечению. Человеческий организм не обладает иммунной памятью к этому заболеванию, поэтому вылечившиеся люди могут заразится снов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250920" y="907920"/>
            <a:ext cx="8570880" cy="558036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</a:rPr>
              <a:t>Гоноре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зывают гонококки. Инфекция передается  при половых контактах, а также через вещи, принадлежащие больному человеку. Поэтому недопустимо пользоваться чужим нижним бельем, колготками, мочал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ами заболевания являются гнойные выделения из половых органов и сильная резь при мочеиспускании, повышение температуры. Гнойные выделения заметны утром, после сна. Инфекция распространяется и захватывает мочевой пузырь, почки, а также внутренние половые орг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ная память на это заболевание также отсутству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468360" y="1052640"/>
            <a:ext cx="7920000" cy="448308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</a:rPr>
              <a:t>Хламиди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зывается микроорганизмом, паразитирующим внутри клетки. Известно к настоящему времени 5 видов хламидий. Три вида передаются только контактно-половым путем, а два могут передаваться бытовым пут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заболевания самые разнообразные и диагноз заболевания установить очень трудно. Одним из самых тяжелых осложнений является бесплод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хламидиоза длительное – до одного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468360" y="1268280"/>
            <a:ext cx="8064360" cy="453780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древние греки знали о </a:t>
            </a:r>
            <a:r>
              <a:rPr b="0" lang="ru-RU" sz="2800" spc="-1" strike="noStrike">
                <a:solidFill>
                  <a:srgbClr val="c40000"/>
                </a:solidFill>
                <a:latin typeface="Arial"/>
              </a:rPr>
              <a:t>герпе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Именно они дали этой инфекции такое название, поскольку греческое слово «герпес» означает «расползаться» (действительно, герпетические пузырьки как бы расползаются по поверхности кож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томы – боли внизу живота, покраснение слизистых и кожи, герпетические пузырь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357120" y="500040"/>
            <a:ext cx="8136000" cy="5639760"/>
          </a:xfrm>
          <a:prstGeom prst="rect">
            <a:avLst/>
          </a:prstGeom>
          <a:solidFill>
            <a:srgbClr val="ddfff1"/>
          </a:solidFill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40000"/>
                </a:solidFill>
                <a:latin typeface="Arial"/>
              </a:rPr>
              <a:t>Трихомон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ывается простейшим организмом – трихомонадой. Пути передачи – контактно-половой и бытовой – купание в грязных водоемах со стоячей водой, в том числе иногда и в частных бассей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томы похожи на симптомы гонореи, поэтому любое состояние дискомфорта в половых путях – зуд, выделение и прочее требует лабораторной диагностики с целью определения возбудител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левание излечи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4" descr=""/>
          <p:cNvPicPr/>
          <p:nvPr/>
        </p:nvPicPr>
        <p:blipFill>
          <a:blip r:embed="rId2">
            <a:lum contrast="12000"/>
          </a:blip>
          <a:srcRect l="8562" t="11355" r="10888" b="11645"/>
          <a:stretch/>
        </p:blipFill>
        <p:spPr>
          <a:xfrm>
            <a:off x="2214720" y="1214280"/>
            <a:ext cx="308592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2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6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0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4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6000"/>
                            </p:stCondLst>
                            <p:childTnLst>
                              <p:par>
                                <p:cTn id="278" nodeType="after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425519"/>
                </a:solidFill>
                <a:latin typeface="Corbel"/>
              </a:rPr>
              <a:t>СПИД -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57200" y="1714320"/>
            <a:ext cx="774864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финальна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стади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инфекционного заболевания,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ызываемая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ирусом иммунодефицита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человека 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(ВИЧ)</a:t>
            </a:r>
            <a:r>
              <a:rPr b="1" i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и передающаяся при половом контакте и с кровью человек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4" descr="D:\школьные работы\классный час\добавка\126.jpg"/>
          <p:cNvPicPr/>
          <p:nvPr/>
        </p:nvPicPr>
        <p:blipFill>
          <a:blip r:embed="rId1"/>
          <a:stretch/>
        </p:blipFill>
        <p:spPr>
          <a:xfrm>
            <a:off x="1714680" y="4857840"/>
            <a:ext cx="24922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D:\школьные работы\классный час\добавка\123.jpg"/>
          <p:cNvPicPr/>
          <p:nvPr/>
        </p:nvPicPr>
        <p:blipFill>
          <a:blip r:embed="rId2"/>
          <a:stretch/>
        </p:blipFill>
        <p:spPr>
          <a:xfrm>
            <a:off x="6929280" y="4008600"/>
            <a:ext cx="1943280" cy="264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D:\школьные работы\классный час\добавка\125.jpg"/>
          <p:cNvPicPr/>
          <p:nvPr/>
        </p:nvPicPr>
        <p:blipFill>
          <a:blip r:embed="rId3"/>
          <a:stretch/>
        </p:blipFill>
        <p:spPr>
          <a:xfrm>
            <a:off x="4357800" y="4857840"/>
            <a:ext cx="24685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2:47:56Z</dcterms:created>
  <dc:creator>dvk</dc:creator>
  <dc:description/>
  <dc:language>en-US</dc:language>
  <cp:lastModifiedBy>Наталия</cp:lastModifiedBy>
  <dcterms:modified xsi:type="dcterms:W3CDTF">2015-02-06T12:08:42Z</dcterms:modified>
  <cp:revision>64</cp:revision>
  <dc:subject/>
  <dc:title>Актуальность</dc:title>
</cp:coreProperties>
</file>