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5.jpeg" ContentType="image/jpeg"/>
  <Override PartName="/ppt/media/image11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46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8C1-EFA8-4CB2-AA2F-1ABBF1A76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рточки с предложенными ситуациями раздаются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должны записать собственные варианты от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ям предлагается ответить на вопро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лагаются письма реальных людей, больных СПИДом. После этого вопрос задан сн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C7F-27E7-44C9-A551-AFEACABC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CB7-7093-440E-B2CF-72FCA53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370-BE34-41F1-8159-80DFB39D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537-05DB-4023-8A8D-A302E5F3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FC0-9869-4BF2-8905-5B1FA09B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FCB-3B70-4FC1-96F3-5EDBA78F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346-8C65-4B48-980A-2D8C586F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70D-2CEA-4087-93C8-531FC75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C12-BF30-4240-A6D1-C751B54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406-AE7B-4D82-829F-ACD2307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5A0-57EB-44E2-B43F-AAB5DA9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7A7-E9E5-4A1F-AC52-4AC6133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E45-5F0C-4410-BF00-FA4C36A9739C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ids.ru/" TargetMode="External"/><Relationship Id="rId2" Type="http://schemas.openxmlformats.org/officeDocument/2006/relationships/image" Target="../media/image48.png"/><Relationship Id="rId3" Type="http://schemas.openxmlformats.org/officeDocument/2006/relationships/hyperlink" Target="http://www.spid.ru/index.htm" TargetMode="External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13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Ч-инфекция</a:t>
            </a:r>
            <a:br>
              <a:rPr sz="4400"/>
            </a:b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классный час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(О) БОУ НПО ПУ №1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560" y="25992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ВИ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адая в организм человека, ВИЧ ослабляет иммунную систему, которая защищает человека от различных инфекций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Ч поражает определенные клетки иммунной системы (CD4-клетки). По снижению количества CD4-клеток судят о развитии заболевания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юдей, которым ставится диагноз ВИЧ-инфекция (положительная реакция на антитела к ВИЧ), называют ВИЧ-положительными или ВИЧ-позитивным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189000"/>
            <a:ext cx="48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ирус иммунодефицита человека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3861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ПИ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ослаблении иммунной системы человек становится уязвимым для различных болезней, особенно инфекционных (туберкулез, пневмония и др)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ие инфекции называются оппортунистическими – они «умеют» пользоваться благоприятными обстоятельствами, так как возникают, когда иммунная система человека ослаблена и теряет способность противостоять возбудителям заболевани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89000"/>
            <a:ext cx="518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синдром приобретенного иммунодефицита, развивающегося на конечной стадии ВИЧ-инфекции.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198680" cy="4014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ИЧ -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ВИЧ - инфекции прогрессирует поражение иммунной системы, в результате которого развивается синдром приобретённого иммунодефицита (СПИД)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фоне сниженного иммунитета больные страдают тяжёлыми формами инфекций и онкологическими заболеваниями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333360"/>
            <a:ext cx="51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длительно текущая инфекционная болезнь, вызывает её вирус иммунодефицита человека (ВИЧ)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00360" cy="360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чем разница между ВИЧ и СПИДо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виру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давляющий иммунную систему человека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комплекс заболев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озникающих у ВИЧ-положительного человека на фоне сниженного иммунитета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1080" y="5210280"/>
            <a:ext cx="70934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Правильное название заболевания — 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ВИЧ-инфекция 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115920"/>
            <a:ext cx="1187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15920"/>
            <a:ext cx="1187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2000" y="981000"/>
            <a:ext cx="522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62000" y="998640"/>
            <a:ext cx="52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Д есть в мире, где мы жив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он не должен быть среди на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66920" y="169236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Просто скажи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”!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989000"/>
            <a:ext cx="288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Причин для отказа от разной “дури” – воз и маленькая тележка.</a:t>
            </a:r>
            <a:br>
              <a:rPr sz="1500"/>
            </a:b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719360"/>
            <a:ext cx="2808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ВИЧ-инфекцией заразиться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2079720"/>
            <a:ext cx="1068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0560" y="20797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1719360"/>
            <a:ext cx="28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Как бы вы отнеслись к человеку, если бы узнали, что у него ВИЧ-инфекция?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-4543" b="32378"/>
          <a:stretch/>
        </p:blipFill>
        <p:spPr>
          <a:xfrm>
            <a:off x="179280" y="149400"/>
            <a:ext cx="1017720" cy="93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913520" y="162000"/>
            <a:ext cx="1122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00720" y="636480"/>
            <a:ext cx="415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ИЧ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дается через определенные жидкости организма.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Это: кровь, сперма, вагинальный секрет, грудное молоко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465720" cy="5983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260280"/>
            <a:ext cx="32385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ереливании крови и ее компонентов, при пересадке органов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60280"/>
            <a:ext cx="323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использовании нестерильных шприцев и игл для внутривенного введения наркотиков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1052640"/>
            <a:ext cx="323856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1916280"/>
            <a:ext cx="323820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3429000"/>
            <a:ext cx="323856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941720"/>
            <a:ext cx="32385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рукопожат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23736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целуе, объятия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278136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льзовании общим туалет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437000"/>
            <a:ext cx="323820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сещении бани, бассейн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53896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домашних животн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97180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бытовых контактах дома или на работе, при уходе за больным СПИД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005360"/>
            <a:ext cx="323856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чихан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укусе насеком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199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слезы, слюну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3440" y="450864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использовании посуды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484280"/>
            <a:ext cx="287964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переливании крови и ее компонентов, при пересадке органов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Ч-инфекцией заразиться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61440" y="846000"/>
            <a:ext cx="171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5600" y="8366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349360"/>
            <a:ext cx="2879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2360" y="5950080"/>
            <a:ext cx="28796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использовании нестерильных шприцев и игл для внутривенного введения наркотиков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3500280"/>
            <a:ext cx="287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29264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5224320"/>
            <a:ext cx="28796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3860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рукопожат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6381720"/>
            <a:ext cx="32385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целуе, объятия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1484280"/>
            <a:ext cx="3238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льзовании общим туалет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3284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сещении бани, бассейн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5013360"/>
            <a:ext cx="323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Через домашних животн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89000"/>
            <a:ext cx="3238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бытовых контактах дома или на работе, при уходе за больным СПИД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2852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чихан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1800" y="5948280"/>
            <a:ext cx="32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укусе насеком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544500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Через слезы, слюну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3657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использовании посуды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836640"/>
            <a:ext cx="0" cy="6021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836640"/>
            <a:ext cx="0" cy="602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Ч-инфекция/СПИД в Алтайском крае по данным на 01.10.2006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4156200"/>
            <a:ext cx="37814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2728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2057400"/>
            <a:ext cx="5639040" cy="4449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ЗНАНИЕ - ПРИЧИНА НЕВЕЖЕСТВЕННОСТИ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ВЕЖЕСТВЕННОСТЬ - ПРИЧИНА ОШИБКИ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ОШИБКА МОЖЕТ ОКАЗАТЬСЯ НЕПОПРАВИМОЙ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14280" y="189000"/>
            <a:ext cx="851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о зарегистрировано случаев ВИЧ-инфекции - 3958 чел., в т.ч. 755 - в учреждениях исполнения наказа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ме того, 310 человек выявлено аноним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-инфекция регистрируется в 11 городах и 55 районах Алтайского кра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464000" cy="334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7080" y="361800"/>
            <a:ext cx="88898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50920" y="250920"/>
          <a:ext cx="8641800" cy="2601720"/>
        </p:xfrm>
        <a:graphic>
          <a:graphicData uri="http://schemas.openxmlformats.org/drawingml/2006/table">
            <a:tbl>
              <a:tblPr/>
              <a:tblGrid>
                <a:gridCol w="1438920"/>
                <a:gridCol w="1441440"/>
                <a:gridCol w="1441080"/>
                <a:gridCol w="1439640"/>
                <a:gridCol w="1441440"/>
                <a:gridCol w="143928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-1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-17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8-1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-2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 и старш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49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2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1110.gif (6969 bytes)"/>
          <p:cNvPicPr/>
          <p:nvPr/>
        </p:nvPicPr>
        <p:blipFill>
          <a:blip r:embed="rId1"/>
          <a:stretch/>
        </p:blipFill>
        <p:spPr>
          <a:xfrm>
            <a:off x="1692360" y="3100320"/>
            <a:ext cx="5761080" cy="357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1010.gif (7088 bytes)"/>
          <p:cNvPicPr/>
          <p:nvPr/>
        </p:nvPicPr>
        <p:blipFill>
          <a:blip r:embed="rId1"/>
          <a:stretch/>
        </p:blipFill>
        <p:spPr>
          <a:xfrm>
            <a:off x="1692360" y="3036960"/>
            <a:ext cx="5759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aphicFrame>
        <p:nvGraphicFramePr>
          <p:cNvPr id="152" name=""/>
          <p:cNvGraphicFramePr/>
          <p:nvPr/>
        </p:nvGraphicFramePr>
        <p:xfrm>
          <a:off x="1541520" y="333360"/>
          <a:ext cx="6059520" cy="2001960"/>
        </p:xfrm>
        <a:graphic>
          <a:graphicData uri="http://schemas.openxmlformats.org/drawingml/2006/table">
            <a:tbl>
              <a:tblPr/>
              <a:tblGrid>
                <a:gridCol w="2019600"/>
                <a:gridCol w="2020680"/>
                <a:gridCol w="20192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35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1,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,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221.gif (6982 bytes)"/>
          <p:cNvPicPr/>
          <p:nvPr/>
        </p:nvPicPr>
        <p:blipFill>
          <a:blip r:embed="rId1"/>
          <a:stretch/>
        </p:blipFill>
        <p:spPr>
          <a:xfrm>
            <a:off x="1692360" y="3068640"/>
            <a:ext cx="5759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aphicFrame>
        <p:nvGraphicFramePr>
          <p:cNvPr id="154" name=""/>
          <p:cNvGraphicFramePr/>
          <p:nvPr/>
        </p:nvGraphicFramePr>
        <p:xfrm>
          <a:off x="250920" y="260280"/>
          <a:ext cx="8642160" cy="2556000"/>
        </p:xfrm>
        <a:graphic>
          <a:graphicData uri="http://schemas.openxmlformats.org/drawingml/2006/table">
            <a:tbl>
              <a:tblPr/>
              <a:tblGrid>
                <a:gridCol w="1441440"/>
                <a:gridCol w="1433520"/>
                <a:gridCol w="1446120"/>
                <a:gridCol w="1441440"/>
                <a:gridCol w="1438200"/>
                <a:gridCol w="1441440"/>
              </a:tblGrid>
              <a:tr h="45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оциально-значимое заняти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чеб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работает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/сл-щи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ФСИН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33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5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4,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дельный вес ВИЧ-инфицированных, выявленных среди городского, сельского населения и при поступлении в УФСИН России по Алтайскому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12101.gif (6880 bytes)"/>
          <p:cNvPicPr/>
          <p:nvPr/>
        </p:nvPicPr>
        <p:blipFill>
          <a:blip r:embed="rId1"/>
          <a:stretch/>
        </p:blipFill>
        <p:spPr>
          <a:xfrm>
            <a:off x="1260360" y="2166840"/>
            <a:ext cx="662472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3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ричин для отказа от разной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дури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” – 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воз и маленькая тележ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5867280" cy="3447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536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ногда можно даже приврать ради пользы де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9840" y="836640"/>
            <a:ext cx="3381120" cy="50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ь готов к различным видам дав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8000" y="1765440"/>
            <a:ext cx="5329440" cy="4976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ди, предлагающ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р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огут быть дружелюбными или агрессив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15677"/>
          <a:stretch/>
        </p:blipFill>
        <p:spPr>
          <a:xfrm>
            <a:off x="4572000" y="1557360"/>
            <a:ext cx="4387680" cy="3946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156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ин раз в году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декабр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наступает день, когда о СПИДе вспоминают вс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29868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186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ь готов уйти или сделать что-нибудь, что могло бы уменьшить давление со 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4315" t="0" r="20047" b="0"/>
          <a:stretch/>
        </p:blipFill>
        <p:spPr>
          <a:xfrm>
            <a:off x="127080" y="981000"/>
            <a:ext cx="4589280" cy="5245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88840" y="609480"/>
            <a:ext cx="7283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ы не должен объяснять свои причины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108080" cy="2527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967440" y="338040"/>
            <a:ext cx="2176560" cy="2298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585880" cy="185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40680" y="3962520"/>
            <a:ext cx="931680" cy="23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448000" y="2708280"/>
            <a:ext cx="4537080" cy="195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28600" y="412920"/>
            <a:ext cx="1528920" cy="2288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20469600">
            <a:off x="179280" y="184428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10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100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100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10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656320" y="292428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53481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4320" y="2924280"/>
            <a:ext cx="330804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32440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6320" y="17733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7800" y="3429000"/>
            <a:ext cx="330696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7800" y="2276640"/>
            <a:ext cx="3308400" cy="960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33360"/>
            <a:ext cx="8785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6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17880" y="1268280"/>
            <a:ext cx="13082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656320" y="292428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язк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не тороплюсь на тот свет!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53481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уже пробовал – это мура!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а дрянь не для меня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4320" y="2924280"/>
            <a:ext cx="330804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ы что? У меня аллергия.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т уж, у меня и так вагон неприятностей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532440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и мозги мне пока не лишние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632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увлечение покруче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7800" y="3429000"/>
            <a:ext cx="330696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не хочу умственно отсталых детей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7800" y="2276640"/>
            <a:ext cx="3308400" cy="960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сегодня и не сейчас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333360"/>
            <a:ext cx="8785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6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17880" y="1268280"/>
            <a:ext cx="13082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2781360"/>
            <a:ext cx="7993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35320" y="128520"/>
            <a:ext cx="476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72000" y="260280"/>
            <a:ext cx="3564000" cy="2720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9720" y="3249720"/>
            <a:ext cx="726264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5182"/>
                </a:solidFill>
                <a:latin typeface="Times New Roman"/>
              </a:rPr>
              <a:t>Рома, 29 лет, ВИЧ(+): </a:t>
            </a:r>
            <a:br>
              <a:rPr sz="2400"/>
            </a:br>
            <a:r>
              <a:rPr b="1" i="1" lang="ru-RU" sz="2400" spc="-1" strike="noStrike">
                <a:solidFill>
                  <a:srgbClr val="035182"/>
                </a:solidFill>
                <a:latin typeface="Times New Roman"/>
              </a:rPr>
              <a:t>«У ВИЧ-положительных людей обостряются чувства. Я всегда чувствую, когда меня боятся, хотя и не говорят об этом: чай со мной пить не хотят, за руку не здороваются. И мне неудобно навязывать людям свое общество. Поэтому иногда первым отказываюсь от общения…»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840" y="228600"/>
            <a:ext cx="70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96000" y="388800"/>
            <a:ext cx="3128760" cy="233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3840" y="228600"/>
            <a:ext cx="70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3032280"/>
            <a:ext cx="885672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5182"/>
                </a:solidFill>
                <a:latin typeface="Times New Roman"/>
              </a:rPr>
              <a:t>Светлана, 31 год, ВИЧ(–): </a:t>
            </a:r>
            <a:br>
              <a:rPr sz="2000"/>
            </a:br>
            <a:r>
              <a:rPr b="1" i="1" lang="ru-RU" sz="2000" spc="-1" strike="noStrike">
                <a:solidFill>
                  <a:srgbClr val="035182"/>
                </a:solidFill>
                <a:latin typeface="Times New Roman"/>
              </a:rPr>
              <a:t>«С ВИЧ-инфекцией я столкнулась вплотную три года назад. Мой брат получил положительный диагноз. Сначала у меня был шок, я не знала, не верила и не понимала, что теперь и как это. А после я начала читать литературу, познакомилась еще с ВИЧ-положительными людьми и их родственниками и успокоилась. Теперь я совершенно не думаю об этом. В нашей жизни ничего не изменилось. Только иногда я беспокоюсь за него — когда он сдает анализы на иммунный статус, правда, я так же беспокоюсь за всех других, когда случаются неприятности со здоровьем — давление у бабушки, гастрит у отца…»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325080"/>
            <a:ext cx="856908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льга, 33 года, ВИЧ(–):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«У нас в поселке открылась инфекционная больница, и я устроилась туда работать нянечкой. Больница специализировалась на работе с ВИЧ-инфицированными детьми. Поначалу, когда жители узнали, что в больнице находятся дети с ВИЧ-инфекцией, они относились и к ним, и к нам очень враждебно. Приходилось проводить просветительскую работу. Ведь дети с ВИЧ — это тоже дети, такие же, как и все. Мне очень запомнился разговор у нас дома, когда муж начал ворчать, что я там работаю, что лучше бы я устроилась куда-нибудь в другое место, что это может быть опасно, а у нас у самих ребенок. В это время подошел наш сын и сказал: “Папа, а ты что, не знаешь, что ВИЧ бытовым путем не передается? И мама никак не может заразиться”. Муж замолчал. Спустя некоторое время зашел ко мне на работу, познакомился с детьми. Я до сих пор работаю там, а муж встречает меня после работы»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97520" y="5388120"/>
            <a:ext cx="2346480" cy="1469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324000" y="5562720"/>
            <a:ext cx="608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Человеку, у которого ВИЧ-инфекция, я скажу…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авильное название заболевания — ВИЧ-инфекци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57680" y="1557360"/>
            <a:ext cx="374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ие Вирусом Иммунодефицита Человека возможно только тремя путями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ловой путь,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овь — кровь,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ть — дит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1080" y="1557360"/>
            <a:ext cx="4282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560" y="33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день памяти тех, кто узнал о нем чуть позже, чем это было необходимо.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85880" y="2565360"/>
            <a:ext cx="6059520" cy="407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ие ВИЧ в быту НЕВОЗМОЖ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5508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ловек может передать инфекцию другим не только при употреблении наркотиков, но и при сексуальной близости без презерватива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 момента заражения ВИЧ до развития СПИДа может пройти до 20-ти и более лет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356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ный человек может передавать ВИЧ другим людям уже с момента заражени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6840" y="1557360"/>
            <a:ext cx="4097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стирование на ВИЧ добровольно, анонимно, бесплат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572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юбое ущемление прав ВИЧ-инфицированных незакон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0920" y="1959120"/>
            <a:ext cx="4465440" cy="3795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инфицированный человек получает анти-ВИЧ терапию, наблюдается у врача, ведет здоровый образ жизни, соблюдает диету, соблюдает правила общей гигиены, то он может на долгие годы продлить нормальное самочувствие и сохранить хорошее физическое состоя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716360" y="16365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Социальное бюро"/>
          <p:cNvPicPr/>
          <p:nvPr/>
        </p:nvPicPr>
        <p:blipFill>
          <a:blip r:embed="rId1"/>
          <a:srcRect l="0" t="16229" r="10542" b="15057"/>
          <a:stretch/>
        </p:blipFill>
        <p:spPr>
          <a:xfrm>
            <a:off x="0" y="128520"/>
            <a:ext cx="151272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692360" y="558360"/>
            <a:ext cx="7229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Региональная общественная организация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Г.Липецк, ул. Гагарина, 135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Телефон доверия 345464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Режим работы с 8.00-16.00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Кроме выходных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29973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ередай эту информацию другим!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rId1"/>
          </p:cNvPr>
          <p:cNvPicPr/>
          <p:nvPr/>
        </p:nvPicPr>
        <p:blipFill>
          <a:blip r:embed="rId2"/>
          <a:srcRect l="0" t="18982" r="2573" b="3592"/>
          <a:stretch/>
        </p:blipFill>
        <p:spPr>
          <a:xfrm>
            <a:off x="179280" y="250920"/>
            <a:ext cx="6264360" cy="3605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41" name="" descr="">
            <a:hlinkClick r:id="rId3"/>
          </p:cNvPr>
          <p:cNvPicPr/>
          <p:nvPr/>
        </p:nvPicPr>
        <p:blipFill>
          <a:blip r:embed="rId4"/>
          <a:srcRect l="0" t="19359" r="1827" b="6750"/>
          <a:stretch/>
        </p:blipFill>
        <p:spPr>
          <a:xfrm>
            <a:off x="3419640" y="3573360"/>
            <a:ext cx="5545080" cy="302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623736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Мои мозги мне пока не лишние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62000" y="998640"/>
            <a:ext cx="52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Д есть в мире, где мы жив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он не должен быть среди на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66920" y="169236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Просто скажи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”!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3676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не тороплюсь на тот свет!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587700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уже пробовал – это мура!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556560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Нет уж, у меня и так вагон неприятностей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5205240"/>
            <a:ext cx="20826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не хочу умственно отсталых детей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484488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Ты что? У меня аллергия.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450864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Не сегодня и не сейчас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422100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Эта дрянь не для меня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93372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авязке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364500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Есть увлечение покруче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1989000"/>
            <a:ext cx="288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Причин для отказа от разной “дури” – воз и маленькая тележка.</a:t>
            </a:r>
            <a:br>
              <a:rPr sz="1500"/>
            </a:b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719360"/>
            <a:ext cx="2808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ВИЧ-инфекцией заразиться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00" y="2079720"/>
            <a:ext cx="1068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0560" y="20797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394000"/>
            <a:ext cx="1258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использовании нестерильных шприцев и игл для внутривенного введения наркотиков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3068640"/>
            <a:ext cx="12589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0000"/>
                </a:solidFill>
                <a:latin typeface="Arial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3968640"/>
            <a:ext cx="125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переливании крови и ее компонентов, при пересадке органов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419720"/>
            <a:ext cx="12589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57440" y="239400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Через домашних животны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284328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рукопожатии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57440" y="3203640"/>
            <a:ext cx="12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целуе, объятия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608280"/>
            <a:ext cx="1258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сещении бани, бассейна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57440" y="401472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укусе насекомы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57440" y="432900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чихании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57440" y="4643280"/>
            <a:ext cx="12589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льзовании общим туалетом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57440" y="5048280"/>
            <a:ext cx="125892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использовании посуды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57440" y="5454720"/>
            <a:ext cx="12589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Через слезы, слюну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57440" y="5724360"/>
            <a:ext cx="125892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использовании посуды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57440" y="6084720"/>
            <a:ext cx="125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бытовых контактах дома или на работе, при уходе за больным СПИДом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73640"/>
            <a:ext cx="125892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5994360"/>
            <a:ext cx="12589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92720" y="1719360"/>
            <a:ext cx="28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Как бы вы отнеслись к человеку, если бы узнали, что у него ВИЧ-инфекция?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37360" y="2457720"/>
            <a:ext cx="2708280" cy="2012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Ольга, 33 года, ВИЧ(–): 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0000"/>
                </a:solidFill>
                <a:latin typeface="Arial"/>
              </a:rPr>
              <a:t>«У нас в поселке открылась инфекционная больница, и я устроилась туда работать нянечкой. Больница специализировалась на работе с ВИЧ-инфицированными детьми. Поначалу, когда жители узнали, что в больнице находятся дети с ВИЧ-инфекцией, они относились и к ним, и к нам очень враждебно. Приходилось проводить просветительскую работу. Ведь дети с ВИЧ — это тоже дети, такие же, как и все. Мне очень запомнился разговор у нас дома, когда муж начал ворчать, что я там работаю, что лучше бы я устроилась куда-нибудь в другое место, что это может быть опасно, а у нас у самих ребенок. В это время подошел наш сын и сказал: “Папа, а ты что, не знаешь, что ВИЧ бытовым путем не передается? И мама никак не может заразиться”. Муж замолчал. Спустя некоторое время зашел ко мне на работу, познакомился с детьми. Я до сих пор работаю там, а муж встречает меня после работы»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-4543" b="32378"/>
          <a:stretch/>
        </p:blipFill>
        <p:spPr>
          <a:xfrm>
            <a:off x="179280" y="149400"/>
            <a:ext cx="1017720" cy="939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267000" y="2889360"/>
            <a:ext cx="654120" cy="49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913520" y="162000"/>
            <a:ext cx="1122480" cy="890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2346480" cy="14702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5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Таких людей было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ольше 18 миллионов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10360" cy="5097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0"/>
            <a:ext cx="82296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ждый день вирус передается еще 16 тысячам тех, кто думал, что СПИД - это не его проблема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3021120"/>
            <a:ext cx="5905440" cy="3720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год свыше 5 миллионов человек заражается ВИЧ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87800" y="2276640"/>
            <a:ext cx="3039840" cy="4383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мирный день борьбы со СПИДом - это еще один шанс заяви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7880" y="2565360"/>
            <a:ext cx="5213160" cy="3909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560" y="260280"/>
            <a:ext cx="8229600" cy="21607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"СПИД есть в мире, где мы живем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Но он не должен быть среди нас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37621" b="4529"/>
          <a:stretch/>
        </p:blipFill>
        <p:spPr>
          <a:xfrm>
            <a:off x="2720880" y="2460600"/>
            <a:ext cx="3990960" cy="4321080"/>
          </a:xfrm>
          <a:prstGeom prst="rect">
            <a:avLst/>
          </a:prstGeom>
          <a:ln w="28440">
            <a:solidFill>
              <a:srgbClr val="ff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54:51Z</dcterms:created>
  <dc:creator>VIP</dc:creator>
  <dc:description/>
  <dc:language>en-US</dc:language>
  <cp:lastModifiedBy>User</cp:lastModifiedBy>
  <dcterms:modified xsi:type="dcterms:W3CDTF">2014-11-30T17:32:36Z</dcterms:modified>
  <cp:revision>47</cp:revision>
  <dc:subject/>
  <dc:title>ВИЧ-инфекция/СПИД в Алтайском крае по данным на 01.10.2006г.</dc:title>
</cp:coreProperties>
</file>