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8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3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23.jpeg" ContentType="image/jpeg"/>
  <Override PartName="/ppt/media/image18.jpeg" ContentType="image/jpeg"/>
  <Override PartName="/ppt/media/image22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9.jpeg" ContentType="image/jpeg"/>
  <Override PartName="/ppt/media/image24.jpeg" ContentType="image/jpeg"/>
  <Override PartName="/ppt/media/image15.png" ContentType="image/png"/>
  <Override PartName="/ppt/media/image14.jpeg" ContentType="image/jpeg"/>
  <Override PartName="/ppt/media/image1.wmf" ContentType="image/x-wmf"/>
  <Override PartName="/ppt/media/image2.png" ContentType="image/png"/>
  <Override PartName="/ppt/media/image2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5DA48-A119-4DAD-A27B-633A5E76C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56404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1727280" y="4802040"/>
            <a:ext cx="56404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787E0-3BDF-4AC5-94E6-957543AB4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1736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727280" y="480204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17360" y="480204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DE2D8-AC83-4F47-A190-8757AD145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634200" y="388620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541480" y="388620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1727280" y="480204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634200" y="480204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541480" y="480204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C1ED5-4E94-44FA-B0EB-E55E3960A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05451-4760-49BB-B487-21AE91E49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F6B81-92FC-4E66-A098-C9C63164A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C9D79-CD20-4DA7-ADFD-48E12E9D4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27522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17360" y="3886200"/>
            <a:ext cx="27522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4148C-E370-4564-9D75-67B35F847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E722A-570F-46EA-9151-DA3A06EFC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685800" y="1369800"/>
            <a:ext cx="6966000" cy="95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D55BB-8319-4943-B6B5-84C03279B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17360" y="3886200"/>
            <a:ext cx="27522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1727280" y="480204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67346-5BBD-4869-A0DA-09719D18B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5E776-D2D0-4E3F-ABA0-FFBD4A9D5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27522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1736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17360" y="480204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60DFA-85D6-447B-9F02-40DBCA73D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1736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1727280" y="4802040"/>
            <a:ext cx="56404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B106B-346B-4C5E-A1AD-44E60F932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56404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1727280" y="4802040"/>
            <a:ext cx="56404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BB384-75AE-48F0-AB79-A746A6BD5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1736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1727280" y="480204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17360" y="480204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53761-C28F-4949-A1AD-CA78157B3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634200" y="388620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541480" y="388620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1727280" y="480204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634200" y="480204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541480" y="480204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96066-870C-4707-907E-F28A2402C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5817D-D0DB-4037-A942-D6AF1C3FB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27522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17360" y="3886200"/>
            <a:ext cx="27522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2D569-071D-4981-AEAE-4CF77AEED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8E5D1-96FB-49A7-A191-A0570C0A2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685800" y="1369800"/>
            <a:ext cx="6966000" cy="95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8ED95-FFEC-40FE-AC31-1DFD5B66D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17360" y="3886200"/>
            <a:ext cx="27522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727280" y="480204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C1969-DD2D-406F-BACE-A2C884122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27522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1736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17360" y="480204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1B6A9-F613-4C8E-BC0B-914DE4400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1736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727280" y="4802040"/>
            <a:ext cx="56404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DE5A5-9ABB-4B13-B1F2-2BFF02BB2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d9efe0"/>
                </a:gs>
                <a:gs pos="100000">
                  <a:srgbClr val="15331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15331e"/>
                </a:gs>
                <a:gs pos="100000">
                  <a:srgbClr val="d9efe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8aa79c"/>
                </a:gs>
                <a:gs pos="50000">
                  <a:srgbClr val="a4c6ba"/>
                </a:gs>
                <a:gs pos="100000">
                  <a:srgbClr val="8aa79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a08f5e"/>
                </a:gs>
                <a:gs pos="50000">
                  <a:srgbClr val="c1c177"/>
                </a:gs>
                <a:gs pos="100000">
                  <a:srgbClr val="a08f5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274139"/>
                </a:gs>
                <a:gs pos="50000">
                  <a:srgbClr val="558f7d"/>
                </a:gs>
                <a:gs pos="100000">
                  <a:srgbClr val="2741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a08f5e"/>
                </a:gs>
                <a:gs pos="100000">
                  <a:srgbClr val="d9efe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a08f5e"/>
                </a:gs>
                <a:gs pos="50000">
                  <a:srgbClr val="c1c177"/>
                </a:gs>
                <a:gs pos="100000">
                  <a:srgbClr val="a08f5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d9efe0"/>
                </a:gs>
                <a:gs pos="50000">
                  <a:srgbClr val="a08f5e"/>
                </a:gs>
                <a:gs pos="100000">
                  <a:srgbClr val="d9efe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15331e"/>
                </a:gs>
                <a:gs pos="100000">
                  <a:srgbClr val="d9efe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0605a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38B85-7AA0-4B47-8C9D-CB3DEF97899C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d9efe0"/>
                </a:gs>
                <a:gs pos="100000">
                  <a:srgbClr val="15331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15331e"/>
                </a:gs>
                <a:gs pos="100000">
                  <a:srgbClr val="d9efe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8aa79c"/>
                </a:gs>
                <a:gs pos="50000">
                  <a:srgbClr val="a4c6ba"/>
                </a:gs>
                <a:gs pos="100000">
                  <a:srgbClr val="8aa79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a08f5e"/>
                </a:gs>
                <a:gs pos="50000">
                  <a:srgbClr val="c1c177"/>
                </a:gs>
                <a:gs pos="100000">
                  <a:srgbClr val="a08f5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274139"/>
                </a:gs>
                <a:gs pos="50000">
                  <a:srgbClr val="558f7d"/>
                </a:gs>
                <a:gs pos="100000">
                  <a:srgbClr val="2741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a08f5e"/>
                </a:gs>
                <a:gs pos="100000">
                  <a:srgbClr val="d9efe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a08f5e"/>
                </a:gs>
                <a:gs pos="50000">
                  <a:srgbClr val="c1c177"/>
                </a:gs>
                <a:gs pos="100000">
                  <a:srgbClr val="a08f5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d9efe0"/>
                </a:gs>
                <a:gs pos="50000">
                  <a:srgbClr val="a08f5e"/>
                </a:gs>
                <a:gs pos="100000">
                  <a:srgbClr val="d9efe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15331e"/>
                </a:gs>
                <a:gs pos="100000">
                  <a:srgbClr val="d9efe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0605a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829F6-7AC5-4871-BC02-4DBAD174E049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udwig-drums.com/image/products/profseriestimpani.jpg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tech.mit.edu/V117/N45/prieto.45.gif" TargetMode="External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idaholessons.com/blog/wp-content/uploads/2010/09/20081220105236French_horn_front.png" TargetMode="External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tmo2000c.ipower.com/instruments/photos/tuba.jpg" TargetMode="External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metodposobiya.ucoz.ru/_si/0/77115121.jpg" TargetMode="External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muzexpress.ru/photos2/trombone.jpg" TargetMode="External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elltempered.files.wordpress.com/2011/01/english-horn.jpg" TargetMode="External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dlm3.meta.ua/pic/0/18/153/1VZMEVR5SH.jpg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mgdvorec.ru/images/upload/fleyta.jpg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phillipwserna.com/myPictures%203/Waubonsie%20Valley%20Double%20Bass%20Concerto%20Concert%203.20.2007.04%20Small.jpg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consumer-club.com.ua/modules/info-center/foto/1174_content.jpg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onset.freedom.com/ocregister/l2mtjd-b78639883z.120100518131240000gcnoda4t.2.jpg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musicwithease.com/bassoon-3.jpg" TargetMode="Externa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gdmsh.ru/pic/kolokola1.jpg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krugosvet.ru/images/1001676_PH10238.jpg" TargetMode="Externa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619280" y="1916280"/>
            <a:ext cx="5076720" cy="309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484360" y="1557360"/>
            <a:ext cx="2648160" cy="380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47640" y="1557360"/>
            <a:ext cx="5077080" cy="3800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843280" y="1484280"/>
            <a:ext cx="2286000" cy="380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484360" y="1484280"/>
            <a:ext cx="3171960" cy="380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692360" y="1557360"/>
            <a:ext cx="4762440" cy="380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843280" y="1523880"/>
            <a:ext cx="3457440" cy="381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1547640" y="2349360"/>
            <a:ext cx="5077080" cy="1924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2556000" y="1557360"/>
            <a:ext cx="2933640" cy="380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2124000" y="1557360"/>
            <a:ext cx="3810240" cy="380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2124000" y="907920"/>
            <a:ext cx="3743280" cy="4991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484360" y="1484280"/>
            <a:ext cx="2867040" cy="380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2700360" y="1916280"/>
            <a:ext cx="2631960" cy="271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1763640" y="1773360"/>
            <a:ext cx="4762440" cy="380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403280" y="1773360"/>
            <a:ext cx="5048280" cy="3267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627280" y="1484280"/>
            <a:ext cx="2533680" cy="380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484360" y="1773360"/>
            <a:ext cx="3324240" cy="333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124000" y="1557360"/>
            <a:ext cx="3810240" cy="380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987640" y="1557360"/>
            <a:ext cx="2276640" cy="380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700360" y="1557360"/>
            <a:ext cx="2362320" cy="380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67000" y="1523880"/>
            <a:ext cx="2610000" cy="38102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9T14:21:39Z</dcterms:created>
  <dc:creator>User</dc:creator>
  <dc:description/>
  <dc:language>en-US</dc:language>
  <cp:lastModifiedBy>User</cp:lastModifiedBy>
  <dcterms:modified xsi:type="dcterms:W3CDTF">2012-12-09T14:50:02Z</dcterms:modified>
  <cp:revision>2</cp:revision>
  <dc:subject/>
  <dc:title>Slide 1</dc:title>
</cp:coreProperties>
</file>