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A41-4DA9-4DC6-A775-714B4967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313-9AC7-48D1-ABE9-54DDC878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B58-1AC5-4A26-B7CB-7E27C1F8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F68-D715-4A62-BA9B-3A7045EB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8D0-0D8C-403D-BDAE-83BEB0A6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115A-C80F-4A60-B079-562FB0C8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77D6-B3E4-488B-A211-99B69B63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558D-F6A5-4523-AC36-A95BFE8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EEFB-4EA0-48A8-8D77-5459710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B3E9-382D-4462-A5F4-5DBCCA3D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1F8-93E6-4E47-B888-8BC3F6C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005-AA11-496A-9D96-DCAEADA7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1E0B-853F-4EC9-827F-D5AE9E2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F343-8A2C-4B90-9FFF-B928315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6A67-BC87-4381-BB55-277A45AB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7CD2-C3FE-410D-85BC-4FB4C3A2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A437-781E-4F46-8D4E-5FFC639F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733-0837-4748-ABFE-AB8E1B2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8AB-3BAA-4109-8F34-97951E9B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F9E-1DC3-43D1-8FFA-4DDCA66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FEB-FFFE-4329-9E37-CBD99CDD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961-0F93-478D-A7C4-14C63D1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81A-5DC1-41B6-BEAE-9979225A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639-BCFE-469C-BE7E-FC9A14B9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34A6-D046-49CA-BEFB-68C52C1A64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C4A7-2427-486F-B880-9CFF3C0949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udwig-drums.com/image/products/profseriestimpan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ech.mit.edu/V117/N45/prieto.45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daholessons.com/blog/wp-content/uploads/2010/09/20081220105236French_horn_front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mo2000c.ipower.com/instruments/photos/tuba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todposobiya.ucoz.ru/_si/0/7711512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uzexpress.ru/photos2/trombon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elltempered.files.wordpress.com/2011/01/english-hor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lm3.meta.ua/pic/0/18/153/1VZMEVR5S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gdvorec.ru/images/upload/fleyt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illipwserna.com/myPictures%203/Waubonsie%20Valley%20Double%20Bass%20Concerto%20Concert%203.20.2007.04%20Small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sumer-club.com.ua/modules/info-center/foto/1174_content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onset.freedom.com/ocregister/l2mtjd-b78639883z.120100518131240000gcnoda4t.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usicwithease.com/bassoon-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dmsh.ru/pic/kolokola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rugosvet.ru/images/1001676_PH1023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916280"/>
            <a:ext cx="5076720" cy="30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557360"/>
            <a:ext cx="2648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55736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48428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484280"/>
            <a:ext cx="3171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55736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523880"/>
            <a:ext cx="34574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07708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2933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3743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484280"/>
            <a:ext cx="28670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2631960" cy="27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773360"/>
            <a:ext cx="504828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48428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773360"/>
            <a:ext cx="332424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557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2276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557360"/>
            <a:ext cx="2362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7000" y="1523880"/>
            <a:ext cx="2610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4:21:39Z</dcterms:created>
  <dc:creator>User</dc:creator>
  <dc:description/>
  <dc:language>en-US</dc:language>
  <cp:lastModifiedBy>User</cp:lastModifiedBy>
  <dcterms:modified xsi:type="dcterms:W3CDTF">2012-12-09T14:50:02Z</dcterms:modified>
  <cp:revision>2</cp:revision>
  <dc:subject/>
  <dc:title>Slide 1</dc:title>
</cp:coreProperties>
</file>