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jpeg" ContentType="image/jpeg"/>
  <Override PartName="/ppt/media/image6.png" ContentType="image/pn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22.jpeg" ContentType="image/jpeg"/>
  <Override PartName="/ppt/media/image15.wmf" ContentType="image/x-wmf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FEC-CE6B-4A8F-8E44-0389295C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B82-8C98-428B-B16A-3D3CFDAA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064-33DE-4D18-93B0-766FB473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032-D575-4580-8C63-BAF007D0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46E2-100A-4987-ADD2-CEBCB6D8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9E2A-D8FF-4E1E-B140-40D5A769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4BFD-7168-4938-B320-EC64DECE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4C1-8B3A-43F8-9DF4-FA888C35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8DD1-407A-4227-A6CC-030BA242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1EB5-5DA8-4643-9184-79F58EF0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6A8-9BBB-4ABD-AC2B-0E4183CF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5C2-0278-4B67-B037-603A0D24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B30-F2A8-4766-A7AC-BAC728E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BE0B-40CB-4CD0-B518-507EA76D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5C81-F533-40A8-9DC9-E3B0500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9FE3-AB9B-4307-9541-96FFFCB1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4BD-AA45-4F75-A8EE-389D93F7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252-31A5-4600-BE11-3B8DA886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E6B-DC23-44FD-BD70-79FA9127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19A-AC06-41E4-B4A2-8C59109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FA4-8058-4C9C-9F5B-117F3F81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962-FEB6-4ED9-820C-F38560B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C74-814E-4283-B2BC-EA1FC95C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BD9-6924-415C-A5E4-AE4BBBD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D1E3-3DFF-4569-807C-50E356B6A1C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301-ABAB-44E7-B4CC-C0081EAB1AF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ossible_Self-Portrait_of_Leonardo_da_Vinc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3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2590920" y="26668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d04b"/>
                </a:solidFill>
                <a:latin typeface="Tahoma"/>
              </a:rPr>
              <a:t>Золотое сеч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2362320" y="5486400"/>
            <a:ext cx="6476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2743200" y="350532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d04b"/>
                </a:solidFill>
                <a:latin typeface="Tahoma"/>
              </a:rPr>
              <a:t>в математик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304920" y="685800"/>
            <a:ext cx="4800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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является положительным корнем квадратного уравнения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оугольник 6"/>
          <p:cNvSpPr/>
          <p:nvPr/>
        </p:nvSpPr>
        <p:spPr>
          <a:xfrm>
            <a:off x="5562720" y="7621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 = x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+ 1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380880" y="1523880"/>
            <a:ext cx="358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подставим корень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вместо </a:t>
            </a:r>
            <a:r>
              <a:rPr b="0" i="1" lang="ru-RU" sz="21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и разделим на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</a:t>
            </a:r>
            <a:r>
              <a:rPr b="0" i="1" lang="ru-RU" sz="21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486400" y="1371600"/>
                <a:ext cx="2133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Прямоугольник 15"/>
          <p:cNvSpPr/>
          <p:nvPr/>
        </p:nvSpPr>
        <p:spPr>
          <a:xfrm>
            <a:off x="304920" y="25146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продолжить такую подстановку бесконечное число раз, то получим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цепную дроб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5562720" y="2590920"/>
                <a:ext cx="2286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Прямоугольник 17"/>
          <p:cNvSpPr/>
          <p:nvPr/>
        </p:nvSpPr>
        <p:spPr>
          <a:xfrm>
            <a:off x="304920" y="3581280"/>
            <a:ext cx="510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огично, если взять корень квадратный из правой и левой частей тождества (1) то получим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представление золотой пропорции в «радикалах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18"/>
          <p:cNvSpPr/>
          <p:nvPr/>
        </p:nvSpPr>
        <p:spPr>
          <a:xfrm>
            <a:off x="7943760" y="16765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19"/>
          <p:cNvSpPr/>
          <p:nvPr/>
        </p:nvSpPr>
        <p:spPr>
          <a:xfrm>
            <a:off x="7943760" y="27432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20"/>
          <p:cNvSpPr/>
          <p:nvPr/>
        </p:nvSpPr>
        <p:spPr>
          <a:xfrm>
            <a:off x="7943760" y="8380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5486400" y="4343400"/>
                <a:ext cx="2743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rad>
                              </m:e>
                            </m:rad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Прямоугольник 24"/>
          <p:cNvSpPr/>
          <p:nvPr/>
        </p:nvSpPr>
        <p:spPr>
          <a:xfrm>
            <a:off x="8248680" y="4419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457200" y="5334120"/>
            <a:ext cx="8077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Tahoma"/>
              </a:rPr>
              <a:t>Эти формулы (3) и (4) доставляют «эстетическое наслаждение» и вызывают неосознанное чувство ритма и гармонии…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1221120" y="152280"/>
            <a:ext cx="75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«Золотое сечение» - гармония математик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857160" y="1357200"/>
            <a:ext cx="3500640" cy="1465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Дано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езок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Построить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олотое сечение отрезка АВ, т.е. точку Е так, чтобы                   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Object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928800" cy="554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6"/>
          <p:cNvSpPr/>
          <p:nvPr/>
        </p:nvSpPr>
        <p:spPr>
          <a:xfrm>
            <a:off x="762120" y="3886200"/>
            <a:ext cx="7429320" cy="25628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тро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м прямоугольный треугольник, у которого один катет в два раза больше другого. Для этого восстановим в точке В перпендикуляр к прямой АВ и на нем отложим отрезок ВС=        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лее, соединим точки А и С, отлож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наконе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чка Е является искомой, она производит золотое сечение отрезка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Object 7" descr=""/>
          <p:cNvPicPr/>
          <p:nvPr/>
        </p:nvPicPr>
        <p:blipFill>
          <a:blip r:embed="rId2"/>
          <a:stretch/>
        </p:blipFill>
        <p:spPr>
          <a:xfrm>
            <a:off x="7286760" y="4429080"/>
            <a:ext cx="571320" cy="61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C:\Documents and Settings\Администратор\Рабочий стол\деление отрезка.gif"/>
          <p:cNvPicPr/>
          <p:nvPr/>
        </p:nvPicPr>
        <p:blipFill>
          <a:blip r:embed="rId3"/>
          <a:stretch/>
        </p:blipFill>
        <p:spPr>
          <a:xfrm>
            <a:off x="4500720" y="1357200"/>
            <a:ext cx="3787560" cy="2214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40" name="Прямоугольник 8"/>
          <p:cNvSpPr/>
          <p:nvPr/>
        </p:nvSpPr>
        <p:spPr>
          <a:xfrm>
            <a:off x="3808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еление отрезка в золотом отношени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838080" y="15228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ahoma"/>
              </a:rPr>
              <a:t>Золотое сечение в геометрии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AutoShape 2"/>
          <p:cNvGrpSpPr/>
          <p:nvPr/>
        </p:nvGrpSpPr>
        <p:grpSpPr>
          <a:xfrm>
            <a:off x="738360" y="1494000"/>
            <a:ext cx="2985840" cy="4114800"/>
            <a:chOff x="738360" y="1494000"/>
            <a:chExt cx="2985840" cy="4114800"/>
          </a:xfrm>
        </p:grpSpPr>
        <p:pic>
          <p:nvPicPr>
            <p:cNvPr id="243" name="AutoShape 2" descr=""/>
            <p:cNvPicPr/>
            <p:nvPr/>
          </p:nvPicPr>
          <p:blipFill>
            <a:blip r:embed="rId1"/>
            <a:stretch/>
          </p:blipFill>
          <p:spPr>
            <a:xfrm>
              <a:off x="738360" y="1494000"/>
              <a:ext cx="29858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6"/>
            <p:cNvSpPr/>
            <p:nvPr/>
          </p:nvSpPr>
          <p:spPr>
            <a:xfrm>
              <a:off x="1517760" y="3537000"/>
              <a:ext cx="132228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TextBox 5"/>
          <p:cNvSpPr/>
          <p:nvPr/>
        </p:nvSpPr>
        <p:spPr>
          <a:xfrm>
            <a:off x="2000160" y="12859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7168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429000" y="5429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3276720" y="1066680"/>
            <a:ext cx="53337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Золотым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азывается такой </a:t>
            </a: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равнобедренный треугольник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снование и боковая сторона которого находятся в золотом отношении: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Object 9" descr=""/>
          <p:cNvPicPr/>
          <p:nvPr/>
        </p:nvPicPr>
        <p:blipFill>
          <a:blip r:embed="rId2"/>
          <a:stretch/>
        </p:blipFill>
        <p:spPr>
          <a:xfrm>
            <a:off x="5214960" y="314316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11" descr=""/>
          <p:cNvPicPr/>
          <p:nvPr/>
        </p:nvPicPr>
        <p:blipFill>
          <a:blip r:embed="rId3"/>
          <a:stretch/>
        </p:blipFill>
        <p:spPr>
          <a:xfrm>
            <a:off x="4143240" y="4572000"/>
            <a:ext cx="3857760" cy="9302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4"/>
          <p:cNvSpPr/>
          <p:nvPr/>
        </p:nvSpPr>
        <p:spPr>
          <a:xfrm>
            <a:off x="2132280" y="457200"/>
            <a:ext cx="425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олотой тре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6"/>
          <p:cNvSpPr/>
          <p:nvPr/>
        </p:nvSpPr>
        <p:spPr>
          <a:xfrm>
            <a:off x="609480" y="4419720"/>
            <a:ext cx="82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ямоугольник, стороны которого находятся в золотом отношении, т.е. отношение длины к ширине даёт число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φ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 называется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золотым прямоугольником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Object 2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5" descr="http://www.trinitas.ru/rus/doc/0232/004a/pic/0037/0037-1001.gif"/>
          <p:cNvPicPr/>
          <p:nvPr/>
        </p:nvPicPr>
        <p:blipFill>
          <a:blip r:embed="rId2"/>
          <a:stretch/>
        </p:blipFill>
        <p:spPr>
          <a:xfrm>
            <a:off x="838080" y="1143000"/>
            <a:ext cx="3175200" cy="22431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6" descr="http://www.trinitas.ru/rus/doc/0232/004a/pic/0037/0037-1002.jpg"/>
          <p:cNvPicPr/>
          <p:nvPr/>
        </p:nvPicPr>
        <p:blipFill>
          <a:blip r:embed="rId3"/>
          <a:stretch/>
        </p:blipFill>
        <p:spPr>
          <a:xfrm>
            <a:off x="5029200" y="1143000"/>
            <a:ext cx="2930400" cy="22096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2434320" y="4572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олотой прямо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4" descr="C:\Documents and Settings\Администратор\Рабочий стол\ИТ\14.gif"/>
          <p:cNvPicPr/>
          <p:nvPr/>
        </p:nvPicPr>
        <p:blipFill>
          <a:blip r:embed="rId1"/>
          <a:stretch/>
        </p:blipFill>
        <p:spPr>
          <a:xfrm>
            <a:off x="4902120" y="1143000"/>
            <a:ext cx="3441960" cy="26668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6" descr="http://chernov-trezin.narod.ru/ZS_1_0_2.files/image012.jpg"/>
          <p:cNvPicPr/>
          <p:nvPr/>
        </p:nvPicPr>
        <p:blipFill>
          <a:blip r:embed="rId2"/>
          <a:stretch/>
        </p:blipFill>
        <p:spPr>
          <a:xfrm>
            <a:off x="609480" y="1143000"/>
            <a:ext cx="4124520" cy="26384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8"/>
          <p:cNvSpPr/>
          <p:nvPr/>
        </p:nvSpPr>
        <p:spPr>
          <a:xfrm>
            <a:off x="533520" y="3962520"/>
            <a:ext cx="830556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следовательно отрезая от золотого прямоугольника квадраты и вписывая в каждый по четверти окружности, получаем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золотую логарифмическую спираль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Форма спирально завитой раковины привлекла внимание Архимеда. Он изучал ее и вывел уравнение спирали. Спираль, вычерченная по этому уравнению, называется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спираль Архимеда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2743200" y="4572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олотая спираль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Содержимое 3" descr="http://www.trinitas.ru/rus/doc/0232/004a/pic/0037/0037-1011.gif"/>
          <p:cNvPicPr/>
          <p:nvPr/>
        </p:nvPicPr>
        <p:blipFill>
          <a:blip r:embed="rId1"/>
          <a:stretch/>
        </p:blipFill>
        <p:spPr>
          <a:xfrm>
            <a:off x="457200" y="1143000"/>
            <a:ext cx="2481120" cy="20876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http://www.trinitas.ru/rus/doc/0232/004a/pic/0037/0037-4701.jpg"/>
          <p:cNvPicPr/>
          <p:nvPr/>
        </p:nvPicPr>
        <p:blipFill>
          <a:blip r:embed="rId2"/>
          <a:stretch/>
        </p:blipFill>
        <p:spPr>
          <a:xfrm>
            <a:off x="6019920" y="106668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Рисунок 3" descr="Золотое сечение: Рис.3"/>
          <p:cNvPicPr/>
          <p:nvPr/>
        </p:nvPicPr>
        <p:blipFill>
          <a:blip r:embed="rId3"/>
          <a:stretch/>
        </p:blipFill>
        <p:spPr>
          <a:xfrm>
            <a:off x="335268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 flipV="1" rot="10800000">
            <a:off x="533520" y="3269520"/>
            <a:ext cx="8076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 пентаграмме провести все диагонали, то в результате  получи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иугольную звезду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и пересечения диагоналей в пентаграмме явля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ами золотого сечения диагонал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отношение синего отрезка к зелёному, красного к синему, зелёного к фиолетовому, рав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6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При этом эти точки образую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овую пентаграмм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GHK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ь правильных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E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ание военного ведомства США имеет форму пентаграммы и получило наз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Пентагон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начит правильный пятиугольни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История «Золотого сечения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560" y="1371600"/>
            <a:ext cx="88390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Древнем Египте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ществовала «система правил гармонии», основанная на Золотом Сечении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Древней Греции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Золотое Сечение было своеобразным каноном культуры, который пронизывает все сферы науки и искусства.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Красота и гармония стали важнейшими категориями познания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толковании древних греков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понятие золотого сечения, и понятие  гармонии идентичны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огласно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Пифагору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гармония имеет численное выражение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, то есть, она связана с концепцией числа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Евклид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излагает теорию Платоновых тел, которая является существенным разделом геометрической теории Золотого Сечения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1752480" y="76212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Теория гармонии Древних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000600" cy="2944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762120" y="4648320"/>
            <a:ext cx="7543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ва главных Платоновых тела, додекаэдр и икосаэдр, основаны на Золотом Сечени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Рисунок 5" descr="http://www.trinitas.ru/rus/doc/0232/004a/pic/0036/0036-4742.gif"/>
          <p:cNvPicPr/>
          <p:nvPr/>
        </p:nvPicPr>
        <p:blipFill>
          <a:blip r:embed="rId2"/>
          <a:stretch/>
        </p:blipFill>
        <p:spPr>
          <a:xfrm>
            <a:off x="1600200" y="15238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2133720" y="457200"/>
            <a:ext cx="5726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Икосаэдр и додекаэдр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Фибоначч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0663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С историей золотого сечения связано имя итальянского математика Леонардо Фибоначчи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чисел </a:t>
            </a:r>
            <a:r>
              <a:rPr b="1" lang="ru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0, 1, 1, 2, 3, 5, 8, 13, 21, 34, 55 </a:t>
            </a:r>
            <a:r>
              <a:rPr b="0" lang="ru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и т.д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известен как ряд Фибоначчи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Каждый член последовательности, начиная с третьего, равен сумме двух предыдущих, а отношение смежных чисел ряда приближается к отношению золотого деления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исследователи золотого деления в растительном и в животном мире, искусстве, неизменно приходили к ряду Фибоначчи как арифметическому выражению закона золотого деления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Рисунок 3" descr="http://vestnik-nou.narod.ru/images/180px-Fibonacci.jpg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4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«Золотая Пропорция» - главный эстетический принцип эпохи Средневековь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1920" y="1295280"/>
            <a:ext cx="5867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Эпоха Возрождения ассоциируется с именами таких «титанов», как Леонардо да Винчи, Микеланджело, Рафаэль, Николай Коперник, Альберт Дюрер, Лука Пачоли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ся много авторитетных свидетельств о том, что именно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Леонардо да Винчи(1452-1519) был одним из первых, кто ввел сам термин «Золотое Сечение».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но, что во многих своих произведениях Леонардо да Винчи использовал пропорции золотого сечения, в частности, в своей всемирно известной фреск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«Тайная вечер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и непревзойденной 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конд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39480">
              <a:lnSpc>
                <a:spcPct val="10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7" descr="Предположительный автопортрет Леонардо да Винч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27920" y="1320840"/>
            <a:ext cx="2253960" cy="340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«Витрувийский человек»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Леонардо да Вин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240" y="1066320"/>
            <a:ext cx="53341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атывая правила изображения человеческой фигуры, Леонардо да Винчи пытался на основе литературных сведений древности восстановить так называемый </a:t>
            </a: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«квадрат древних»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выполнил рисунок, в котором показано, что размах вытянутых в сторону рук человека примерно равен его росту, вследствие чего </a:t>
            </a:r>
            <a:r>
              <a:rPr b="0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фигура человека вписывается в квадрат и в круг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сследовании рисунка можно заметить, что комбинация рук и ног в действительности составляет четыре различных позы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унок и текст иногда называют </a:t>
            </a:r>
            <a:r>
              <a:rPr b="0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каноническими пропорция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32904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Содержимое 4" descr="vitruvian-man-av"/>
          <p:cNvPicPr/>
          <p:nvPr/>
        </p:nvPicPr>
        <p:blipFill>
          <a:blip r:embed="rId1"/>
          <a:stretch/>
        </p:blipFill>
        <p:spPr>
          <a:xfrm>
            <a:off x="5486400" y="990720"/>
            <a:ext cx="350532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92468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клад Кеплера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теорию Золотого С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123720" y="12189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иальный астроном Иоганн Кеплер (1571-1630) был последовательным приверженцем Золотого Сечения, Платоновых тел и Пифагорейской доктрины о числовой гармонии Мироздания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итается, что именно Кеплер обратил внимание на ботаническую закономерность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филлотаксис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установил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вязь между числами Фибоначчи и золотой пропорцией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азав, что последовательность отношений соседних чисел Фибонач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1/1; 2/1; 3/2; 5/3 ;8/5; 13/8;…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еле стремится к золотой пропорц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Рисунок 6" descr="Иоганн Кеплер"/>
          <p:cNvPicPr/>
          <p:nvPr/>
        </p:nvPicPr>
        <p:blipFill>
          <a:blip r:embed="rId1"/>
          <a:stretch/>
        </p:blipFill>
        <p:spPr>
          <a:xfrm>
            <a:off x="304920" y="1295280"/>
            <a:ext cx="281916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онятие «Золотое сечение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95280" y="518112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a : b = b : c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с : b = b : 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5" descr="в мат0"/>
          <p:cNvPicPr/>
          <p:nvPr/>
        </p:nvPicPr>
        <p:blipFill>
          <a:blip r:embed="rId1"/>
          <a:stretch/>
        </p:blipFill>
        <p:spPr>
          <a:xfrm>
            <a:off x="1295280" y="3429000"/>
            <a:ext cx="6400800" cy="14637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380880" y="11430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олотое сечение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деление непрерывной величины на две части в таком отношении, при котором меньшая часть так относится к большей, как большая ко всей велич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762120" y="38088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а пропорция равна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Рисунок 5" descr="Золотое сечение: Рис.2"/>
          <p:cNvPicPr/>
          <p:nvPr/>
        </p:nvPicPr>
        <p:blipFill>
          <a:blip r:embed="rId1"/>
          <a:stretch/>
        </p:blipFill>
        <p:spPr>
          <a:xfrm>
            <a:off x="1447920" y="1447920"/>
            <a:ext cx="59436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gold2"/>
          <p:cNvPicPr/>
          <p:nvPr/>
        </p:nvPicPr>
        <p:blipFill>
          <a:blip r:embed="rId2"/>
          <a:stretch/>
        </p:blipFill>
        <p:spPr>
          <a:xfrm>
            <a:off x="1676520" y="3581280"/>
            <a:ext cx="5699160" cy="2333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олотое сечение в процента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ino</dc:creator>
  <dc:description/>
  <dc:language>en-US</dc:language>
  <cp:lastModifiedBy>Domino</cp:lastModifiedBy>
  <dcterms:modified xsi:type="dcterms:W3CDTF">2013-03-14T07:34:34Z</dcterms:modified>
  <cp:revision>4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