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2C38-4EC6-4E63-B5DB-51910AE0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6587-0D02-44E0-BC0B-0F6329F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E6C4-6F13-4811-8E11-63CA793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7906-E0D2-461D-9EFB-C9FB528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45B-180F-45C3-84C9-0D2F4F54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00A8-9654-4BBB-AC57-4223FA2F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3328-4A12-4362-B73C-21BFA3D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4E60-10A1-47EB-8884-0AD9EB9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96F-80CD-4A39-8331-CC2484C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ACC6-6515-4867-A71F-D2071DE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AE7-E3C0-486A-826E-E785963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DD2A-5698-4506-BFD9-D5D7EB1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A8BF-63CB-46A9-8105-2F50012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EE6-B0BF-4DF3-B1D5-929E701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0DAA-74C7-445A-8CB1-744D8531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B558-972D-42B6-8943-E1030EAD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9C72-0FB5-4832-8FBD-51169BA9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9D7C-C32D-4837-80CD-5D3C2CD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77BB-186B-44AA-BFDF-D91AB51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1582-BAB2-4238-9903-53A0C79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1A1-4B5E-4145-AE4F-D6A9EE3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E585-7BEA-4AFC-B90C-1B9CBCD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3F08-A5E1-4CB1-B6B9-5B60E5B1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2E0E-289C-49E0-BFA2-E64541A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4196-F54C-4B01-8EDD-26E0610D8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215-0C22-442D-B418-F0EB33F32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8991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Государственная дума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ссийской Империи III созыва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(1907-1912)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3000" y="1676520"/>
          <a:ext cx="6781320" cy="4952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казский кр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Россия (Сибир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депута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438280" y="1066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го 442 депу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523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19320"/>
            <a:ext cx="93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выборах в Третью Думу приняло участие всего 3 500 000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297240" cy="4419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43200" y="62485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Союз русского на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3887640" cy="542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228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ладимир Митрофанович Пуришк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62784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70 - 19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23880" y="380880"/>
            <a:ext cx="556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ессии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143000"/>
            <a:ext cx="85345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01 ноября по 15 декабря 1907 года, с 09 января по 04 апреля, с 23 апреля по 28 июня 1908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98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20 декабря 1908, с 21 января по 20 марта, с 08 апреля по 02 июня 1909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26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0 октября по 20 декабря 1909 года, с 21 января по 09 апреля, с 27апреля по 17 июня 1910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31 засе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17 декабря 1910 года, с 18 января по 11 марта, с 16 марта по 31 марта и с 16 апреля по 13 мая 1911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13 за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я сесс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должалась с 15 октября по 10 декабря 1911 года, с 11 января по 17 марта, с 11 апреля по 09 июня 1912 года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ялось 153 засе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1143000"/>
          <a:ext cx="9143640" cy="5714640"/>
        </p:xfrm>
        <a:graphic>
          <a:graphicData uri="http://schemas.openxmlformats.org/drawingml/2006/table">
            <a:tbl>
              <a:tblPr/>
              <a:tblGrid>
                <a:gridCol w="4487400"/>
                <a:gridCol w="465624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ственные дворя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ове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щ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дворя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, которые не указали свою сословную принадлеж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енеральск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ли придворные з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остав депутатов по сослов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816360" cy="5410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Председателями Думы избиралис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sp>
        <p:nvSpPr>
          <p:cNvPr id="155" name=""/>
          <p:cNvSpPr/>
          <p:nvPr/>
        </p:nvSpPr>
        <p:spPr>
          <a:xfrm>
            <a:off x="-5400" y="6323760"/>
            <a:ext cx="413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омяков Николай Алексее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626080" y="1143000"/>
            <a:ext cx="3517920" cy="472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97360" y="609588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́ндр Ива́нович Гучко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Председателями Думы избиралис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768480" cy="5410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41880" y="6323760"/>
            <a:ext cx="404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хаи́л Влади́мирович Родзя́н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6840" y="532440"/>
            <a:ext cx="894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кретарём Думы на все время её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ыл избр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1960" y="64008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́н Петро́вич Созоно́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95480" y="1447920"/>
            <a:ext cx="3108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486400" cy="601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00200" y="30384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ракционный состав Думы по губерниям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777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оржественное открыт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Государственной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371600"/>
            <a:ext cx="80773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ы деятельности III Думы неоднозначны и противоре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вое избирательное законодательство 1907 года позволило выбрать такую Думу, которая была способна конструктивно работать с правительством; но в то же время, Дума уже практически не представляла широкие массы населения, депутаты III Думы перестали восприниматься народом как народные избран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результат, III Дума справилась лишь с рутинной частью своей работы. Она не была, подобно I и II Думе, источником непрерывного и неразрешимого конфликта. Текущая законодательная работа шла своим чередом, но более важная задача — выразить политическую волю населения в форме законодательства — не была выполн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380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Итог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569736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врический Дворец в Санкт – 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 сделано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8600" y="38088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Зал зачедания Государственной Дум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457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лан зала заседаний Государственной думы Российской империи III созы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54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920" y="30492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Государственная Дума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рибуна председателей и места министр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858400">
            <a:off x="304920" y="1523520"/>
            <a:ext cx="3429000" cy="2208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316800">
            <a:off x="4286160" y="60912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Таврический Дворе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(наши дни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192560" cy="6019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04920"/>
            <a:ext cx="952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Положению о выборах в Государственную Думу 1907 год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44960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ы были непрямые, не предусматривавшие равного представительства и должны были проходить по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уриальной систем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62120" y="3049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</a:rPr>
              <a:t>Система выборов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Monotype Corsiva"/>
              <a:ea typeface="Monotype Corsiv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1219320"/>
            <a:ext cx="8762760" cy="4616280"/>
            <a:chOff x="228600" y="1219320"/>
            <a:chExt cx="8762760" cy="4616280"/>
          </a:xfrm>
        </p:grpSpPr>
        <p:cxnSp>
          <p:nvCxnSpPr>
            <p:cNvPr id="127" name="_s61464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951880" y="1722600"/>
              <a:ext cx="923760" cy="360900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61460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5049720" y="2624760"/>
              <a:ext cx="923760" cy="180468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1453"/>
            <p:cNvCxnSpPr>
              <a:stCxn id="133" idx="0"/>
              <a:endCxn id="129" idx="2"/>
            </p:cNvCxnSpPr>
            <p:nvPr/>
          </p:nvCxnSpPr>
          <p:spPr>
            <a:xfrm flipV="1">
              <a:off x="4609800" y="3065400"/>
              <a:ext cx="2160" cy="92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61452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3245760" y="2624760"/>
              <a:ext cx="923760" cy="180468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61451"/>
            <p:cNvCxnSpPr>
              <a:stCxn id="137" idx="0"/>
              <a:endCxn id="129" idx="2"/>
            </p:cNvCxnSpPr>
            <p:nvPr/>
          </p:nvCxnSpPr>
          <p:spPr>
            <a:xfrm flipH="1" flipV="1" rot="5400000">
              <a:off x="2343600" y="1722600"/>
              <a:ext cx="923760" cy="3609000"/>
            </a:xfrm>
            <a:prstGeom prst="bentConnector3">
              <a:avLst>
                <a:gd name="adj1" fmla="val 123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61447"/>
            <p:cNvSpPr/>
            <p:nvPr/>
          </p:nvSpPr>
          <p:spPr>
            <a:xfrm>
              <a:off x="3836880" y="121932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0000"/>
                  </a:solidFill>
                  <a:uFillTx/>
                  <a:latin typeface="Arial"/>
                </a:rPr>
                <a:t>Кури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61448"/>
            <p:cNvSpPr/>
            <p:nvPr/>
          </p:nvSpPr>
          <p:spPr>
            <a:xfrm>
              <a:off x="22860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олост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крестьянская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2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61449"/>
            <p:cNvSpPr/>
            <p:nvPr/>
          </p:nvSpPr>
          <p:spPr>
            <a:xfrm>
              <a:off x="203256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емледель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61450"/>
            <p:cNvSpPr/>
            <p:nvPr/>
          </p:nvSpPr>
          <p:spPr>
            <a:xfrm>
              <a:off x="383688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-ая городс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высший избира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ый ценз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1459"/>
            <p:cNvSpPr/>
            <p:nvPr/>
          </p:nvSpPr>
          <p:spPr>
            <a:xfrm>
              <a:off x="564084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-ая городск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низший избиратель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ый ценз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%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61463"/>
            <p:cNvSpPr/>
            <p:nvPr/>
          </p:nvSpPr>
          <p:spPr>
            <a:xfrm>
              <a:off x="7445160" y="3989160"/>
              <a:ext cx="1546200" cy="1846440"/>
            </a:xfrm>
            <a:custGeom>
              <a:avLst/>
              <a:gdLst>
                <a:gd name="textAreaLeft" fmla="*/ 75240 w 1546200"/>
                <a:gd name="textAreaRight" fmla="*/ 1470960 w 1546200"/>
                <a:gd name="textAreaTop" fmla="*/ 75240 h 1846440"/>
                <a:gd name="textAreaBottom" fmla="*/ 1771200 h 1846440"/>
              </a:gdLst>
              <a:ahLst/>
              <a:rect l="textAreaLeft" t="textAreaTop" r="textAreaRight" b="textAreaBottom"/>
              <a:pathLst>
                <a:path w="21600" h="25793">
                  <a:moveTo>
                    <a:pt x="3600" y="0"/>
                  </a:moveTo>
                  <a:arcTo wR="3600" hR="3600" stAng="16200000" swAng="-5400000"/>
                  <a:lnTo>
                    <a:pt x="0" y="22193"/>
                  </a:lnTo>
                  <a:arcTo wR="3600" hR="3600" stAng="10800000" swAng="-5400000"/>
                  <a:lnTo>
                    <a:pt x="18000" y="257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ч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,3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4-10T22:25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