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11.jpeg" ContentType="image/jpeg"/>
  <Override PartName="/ppt/media/image9.jpeg" ContentType="image/jpeg"/>
  <Override PartName="/ppt/media/image7.jpeg" ContentType="image/jpeg"/>
  <Override PartName="/ppt/media/image6.png" ContentType="image/png"/>
  <Override PartName="/ppt/media/image18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jpeg" ContentType="image/jpeg"/>
  <Override PartName="/ppt/media/image10.png" ContentType="image/png"/>
  <Override PartName="/ppt/media/image3.jpeg" ContentType="image/jpe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C378CC-9353-4630-9D69-08A7C53A4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05AC4C-74D5-49C1-8E56-66C7A9184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1174D6-E10A-4162-85BB-3B724F890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DFA97E-F2AF-4706-90E4-A1CB4E0E0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A48F2-4850-42E7-A58A-A1C8EDD72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D59C0-BC56-48BD-A49B-419BF3148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58285-9114-42CC-BF74-DF42D0801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B2CC2-D514-4C7C-80FC-1F07BAD16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AC530-C256-4FF2-8DA8-BC38E971E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65E4C-EA6F-400A-AA11-606B0B260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E098C-68FB-4C6F-AEB3-7E82F727D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00F164-1505-4468-88D4-7B8A9B006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F7A34-9303-4F4B-8A66-382EDAC89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F75F7-6AF1-4680-B0B7-F5A37B58C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E47BC-D5FB-4B38-B179-F0015FE2A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5540F-FC64-49D0-8C40-AF3642156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7CA09-BB46-4260-8470-2E72E5213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E770F9-7B14-4C07-904E-D2EEB55C7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EB89AF-17B1-4251-8DCC-EF1A5A192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B2AFDC-3242-4B19-A0C4-869C5B3F0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69A55E-7AFE-4341-BF9D-11B30F843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EC1047-AC09-465C-9D5B-D8199C123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6AE018-93AF-4AB8-931F-8C334249A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D7481B-3207-4D04-9EFC-1C7A09C07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2B57C-0FB3-487C-9153-8CA733938ED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73830-534C-45BA-A19D-B05F0F937E6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0" y="0"/>
            <a:ext cx="8991720" cy="22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latin typeface="Monotype Corsiva"/>
              </a:rPr>
              <a:t>Государственная дума </a:t>
            </a:r>
            <a:endParaRPr b="1" i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000000"/>
              </a:solidFill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latin typeface="Monotype Corsiva"/>
              </a:rPr>
              <a:t>Российской Империи III созыва </a:t>
            </a:r>
            <a:endParaRPr b="1" i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000000"/>
              </a:solidFill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latin typeface="Monotype Corsiva"/>
              </a:rPr>
              <a:t>(1907-1912) </a:t>
            </a:r>
            <a:endParaRPr b="1" i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000000"/>
              </a:solidFill>
              <a:latin typeface="Monotype Corsiva"/>
              <a:ea typeface="Monotype Corsiv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143000" y="2209680"/>
            <a:ext cx="6877080" cy="44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762120" y="304920"/>
            <a:ext cx="76960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Monotype Corsiva"/>
              </a:rPr>
              <a:t>Система выборов: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Monotype Corsiva"/>
              <a:ea typeface="Monotype Corsiva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1143000" y="1676520"/>
          <a:ext cx="6781320" cy="4952520"/>
        </p:xfrm>
        <a:graphic>
          <a:graphicData uri="http://schemas.openxmlformats.org/drawingml/2006/table">
            <a:tbl>
              <a:tblPr/>
              <a:tblGrid>
                <a:gridCol w="3390480"/>
                <a:gridCol w="3390840"/>
              </a:tblGrid>
              <a:tr h="110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вропейская Росс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3 депутато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</a:tr>
              <a:tr h="112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ьш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 депутато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</a:tr>
              <a:tr h="112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вказский кра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депутато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</a:tr>
              <a:tr h="16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зиатская Россия (Сибирь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 депутато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</a:tr>
            </a:tbl>
          </a:graphicData>
        </a:graphic>
      </p:graphicFrame>
      <p:sp>
        <p:nvSpPr>
          <p:cNvPr id="140" name=""/>
          <p:cNvSpPr/>
          <p:nvPr/>
        </p:nvSpPr>
        <p:spPr>
          <a:xfrm>
            <a:off x="2438280" y="1066680"/>
            <a:ext cx="441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сего 442 депута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828800" y="1523880"/>
            <a:ext cx="5334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1219320"/>
            <a:ext cx="9372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В выборах в Третью Думу приняло участие всего 3 500 000 чел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762120" y="304920"/>
            <a:ext cx="76960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Monotype Corsiva"/>
              </a:rPr>
              <a:t>Система выборов: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Monotype Corsiva"/>
              <a:ea typeface="Monotype Corsiv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743200" y="1752480"/>
            <a:ext cx="3297240" cy="441972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2743200" y="6248520"/>
            <a:ext cx="3276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«Союз русского народ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2514600" y="838080"/>
            <a:ext cx="3887640" cy="542448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228600" y="228600"/>
            <a:ext cx="891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Владимир Митрофанович Пуришкевич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0400" y="6278400"/>
            <a:ext cx="419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1870 - 192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523880" y="380880"/>
            <a:ext cx="55627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Monotype Corsiva"/>
              </a:rPr>
              <a:t>Сессии Думы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Monotype Corsiva"/>
              <a:ea typeface="Monotype Corsiva"/>
            </a:endParaRPr>
          </a:p>
        </p:txBody>
      </p:sp>
      <p:sp>
        <p:nvSpPr>
          <p:cNvPr id="150" name=""/>
          <p:cNvSpPr/>
          <p:nvPr/>
        </p:nvSpPr>
        <p:spPr>
          <a:xfrm>
            <a:off x="380880" y="1143000"/>
            <a:ext cx="8534520" cy="41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я сесси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продолжалась с 01 ноября по 15 декабря 1907 года, с 09 января по 04 апреля, с 23 апреля по 28 июня 1908 года;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остоялось 98 заседа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я сесси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продолжалась с 15 октября по 20 декабря 1908, с 21 января по 20 марта, с 08 апреля по 02 июня 1909 года;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остоялось 126 заседа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я сесси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продолжалась с 10 октября по 20 декабря 1909 года, с 21 января по 09 апреля, с 27апреля по 17 июня 1910 года;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остоялось 131 заседа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я сесси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продолжалась с 15 октября по 17 декабря 1910 года, с 18 января по 11 марта, с 16 марта по 31 марта и с 16 апреля по 13 мая 1911 года;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остоялось 113 заседа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я сесси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продолжалась с 15 октября по 10 декабря 1911 года, с 11 января по 17 марта, с 11 апреля по 09 июня 1912 года;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остоялось 153 засед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1" name=""/>
          <p:cNvGraphicFramePr/>
          <p:nvPr/>
        </p:nvGraphicFramePr>
        <p:xfrm>
          <a:off x="0" y="1143000"/>
          <a:ext cx="9143640" cy="5714640"/>
        </p:xfrm>
        <a:graphic>
          <a:graphicData uri="http://schemas.openxmlformats.org/drawingml/2006/table">
            <a:tbl>
              <a:tblPr/>
              <a:tblGrid>
                <a:gridCol w="4487400"/>
                <a:gridCol w="4656240"/>
              </a:tblGrid>
              <a:tr h="69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томственные дворяне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—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</a:tr>
              <a:tr h="40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естьяне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−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</a:tr>
              <a:tr h="51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уховенств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—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</a:tr>
              <a:tr h="40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упц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—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</a:tr>
              <a:tr h="77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за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—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</a:tr>
              <a:tr h="77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щан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—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</a:tr>
              <a:tr h="46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ичные дворян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 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</a:tr>
              <a:tr h="76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ица, которые не указали свою сословную принадлежнос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buClr>
                          <a:srgbClr val="00007d"/>
                        </a:buClr>
                        <a:buSzPct val="75000"/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</a:tr>
              <a:tr h="46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Генеральские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buClr>
                          <a:srgbClr val="00007d"/>
                        </a:buClr>
                        <a:buSzPct val="75000"/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</a:tr>
              <a:tr h="46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мели придворные зва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buClr>
                          <a:srgbClr val="00007d"/>
                        </a:buClr>
                        <a:buSzPct val="75000"/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</a:tr>
            </a:tbl>
          </a:graphicData>
        </a:graphic>
      </p:graphicFrame>
      <p:sp>
        <p:nvSpPr>
          <p:cNvPr id="152" name=""/>
          <p:cNvSpPr txBox="1"/>
          <p:nvPr/>
        </p:nvSpPr>
        <p:spPr>
          <a:xfrm>
            <a:off x="762120" y="304920"/>
            <a:ext cx="76960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Monotype Corsiva"/>
              </a:rPr>
              <a:t>Состав депутатов по сословиям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Monotype Corsiva"/>
              <a:ea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52280" y="838080"/>
            <a:ext cx="3816360" cy="541044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 txBox="1"/>
          <p:nvPr/>
        </p:nvSpPr>
        <p:spPr>
          <a:xfrm>
            <a:off x="762120" y="304920"/>
            <a:ext cx="76960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Monotype Corsiva"/>
              </a:rPr>
              <a:t>Председателями Думы избирались: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Monotype Corsiva"/>
              <a:ea typeface="Monotype Corsiva"/>
            </a:endParaRPr>
          </a:p>
        </p:txBody>
      </p:sp>
      <p:sp>
        <p:nvSpPr>
          <p:cNvPr id="155" name=""/>
          <p:cNvSpPr/>
          <p:nvPr/>
        </p:nvSpPr>
        <p:spPr>
          <a:xfrm>
            <a:off x="-5400" y="6323760"/>
            <a:ext cx="41385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Хомяков Николай Алексеевич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2">
            <a:lum bright="-18000"/>
          </a:blip>
          <a:stretch/>
        </p:blipFill>
        <p:spPr>
          <a:xfrm>
            <a:off x="5626080" y="1143000"/>
            <a:ext cx="3517920" cy="472428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5697360" y="6095880"/>
            <a:ext cx="344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Алекса́ндр Ива́нович Гучко́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762120" y="304920"/>
            <a:ext cx="76960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Monotype Corsiva"/>
              </a:rPr>
              <a:t>Председателями Думы избирались: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Monotype Corsiva"/>
              <a:ea typeface="Monotype Corsiv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2590920" y="1066680"/>
            <a:ext cx="3768480" cy="541044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2441880" y="6323760"/>
            <a:ext cx="40442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Михаи́л Влади́мирович Родзя́нк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-6840" y="532440"/>
            <a:ext cx="8940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Секретарём Думы на все время её работ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был избран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361960" y="6400800"/>
            <a:ext cx="430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ва́н Петро́вич Созоно́вич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2895480" y="1447920"/>
            <a:ext cx="31086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2133720" y="838080"/>
            <a:ext cx="5486400" cy="601992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1600200" y="303840"/>
            <a:ext cx="661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Фракционный состав Думы по губерниям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rcRect l="0" t="0" r="0" b="7770"/>
          <a:stretch/>
        </p:blipFill>
        <p:spPr>
          <a:xfrm>
            <a:off x="0" y="1219320"/>
            <a:ext cx="9144000" cy="56386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 txBox="1"/>
          <p:nvPr/>
        </p:nvSpPr>
        <p:spPr>
          <a:xfrm>
            <a:off x="0" y="380880"/>
            <a:ext cx="883908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Monotype Corsiva"/>
              </a:rPr>
              <a:t>Торжественное открыти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Monotype Corsiva"/>
              </a:rPr>
              <a:t>Государственной Думы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Monotype Corsiva"/>
              <a:ea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685800" y="1371600"/>
            <a:ext cx="8077320" cy="498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Результаты деятельности III Думы неоднозначны и противоречив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овое избирательное законодательство 1907 года позволило выбрать такую Думу, которая была способна конструктивно работать с правительством; но в то же время, Дума уже практически не представляла широкие массы населения, депутаты III Думы перестали восприниматься народом как народные избранник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ак результат, III Дума справилась лишь с рутинной частью своей работы. Она не была, подобно I и II Думе, источником непрерывного и неразрешимого конфликта. Текущая законодательная работа шла своим чередом, но более важная задача — выразить политическую волю населения в форме законодательства — не была выполне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2057400" y="380880"/>
            <a:ext cx="50292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Monotype Corsiva"/>
              </a:rPr>
              <a:t>Итог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Monotype Corsiva"/>
              <a:ea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609480"/>
            <a:ext cx="9144000" cy="5181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152280" y="5697360"/>
            <a:ext cx="8991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аврический Дворец в Санкт – Петербург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Фото сделано в конце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XIX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ек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0" y="114300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 txBox="1"/>
          <p:nvPr/>
        </p:nvSpPr>
        <p:spPr>
          <a:xfrm>
            <a:off x="228600" y="380880"/>
            <a:ext cx="86104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Monotype Corsiva"/>
              </a:rPr>
              <a:t>Зал зачедания Государственной Думы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Monotype Corsiva"/>
              <a:ea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457200"/>
            <a:ext cx="8991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План зала заседаний Государственной думы Российской империи III созыва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209680" y="1371600"/>
            <a:ext cx="45468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rcRect l="0" t="0" r="0" b="8449"/>
          <a:stretch/>
        </p:blipFill>
        <p:spPr>
          <a:xfrm>
            <a:off x="0" y="1447920"/>
            <a:ext cx="9144000" cy="54100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 txBox="1"/>
          <p:nvPr/>
        </p:nvSpPr>
        <p:spPr>
          <a:xfrm>
            <a:off x="304920" y="304920"/>
            <a:ext cx="86868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Monotype Corsiva"/>
              </a:rPr>
              <a:t>Государственная Дума. 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Monotype Corsiva"/>
              </a:rPr>
              <a:t>Трибуна председателей и места министров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Monotype Corsiva"/>
              <a:ea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9144000" cy="34290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 rot="20858400">
            <a:off x="304920" y="1523520"/>
            <a:ext cx="3429000" cy="220824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 rot="316800">
            <a:off x="4286160" y="609120"/>
            <a:ext cx="4857840" cy="323856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 txBox="1"/>
          <p:nvPr/>
        </p:nvSpPr>
        <p:spPr>
          <a:xfrm>
            <a:off x="0" y="533520"/>
            <a:ext cx="42670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Monotype Corsiva"/>
              </a:rPr>
              <a:t>Таврический Дворец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Monotype Corsiva"/>
              </a:rPr>
              <a:t>(наши дни)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Monotype Corsiva"/>
              <a:ea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838080"/>
            <a:ext cx="4192560" cy="601992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0" y="304920"/>
            <a:ext cx="95248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 u="sng">
                <a:solidFill>
                  <a:srgbClr val="000000"/>
                </a:solidFill>
                <a:uFillTx/>
                <a:latin typeface="Arial"/>
              </a:rPr>
              <a:t>Положению о выборах в Государственную Думу 1907 года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267080" y="2362320"/>
            <a:ext cx="4496040" cy="19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ыборы были непрямые, не предусматривавшие равного представительства и должны были проходить по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куриальной системе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762120" y="304920"/>
            <a:ext cx="76960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Monotype Corsiva"/>
              </a:rPr>
              <a:t>Система выборов: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Monotype Corsiva"/>
              <a:ea typeface="Monotype Corsiva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28600" y="1219320"/>
            <a:ext cx="8762760" cy="4616280"/>
            <a:chOff x="228600" y="1219320"/>
            <a:chExt cx="8762760" cy="4616280"/>
          </a:xfrm>
        </p:grpSpPr>
        <p:cxnSp>
          <p:nvCxnSpPr>
            <p:cNvPr id="127" name="_s61464"/>
            <p:cNvCxnSpPr>
              <a:stCxn id="128" idx="0"/>
              <a:endCxn id="129" idx="2"/>
            </p:cNvCxnSpPr>
            <p:nvPr/>
          </p:nvCxnSpPr>
          <p:spPr>
            <a:xfrm flipV="1" rot="16200000">
              <a:off x="5951880" y="1722600"/>
              <a:ext cx="923760" cy="3609000"/>
            </a:xfrm>
            <a:prstGeom prst="bentConnector3">
              <a:avLst>
                <a:gd name="adj1" fmla="val 1235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0" name="_s61460"/>
            <p:cNvCxnSpPr>
              <a:stCxn id="131" idx="0"/>
              <a:endCxn id="129" idx="2"/>
            </p:cNvCxnSpPr>
            <p:nvPr/>
          </p:nvCxnSpPr>
          <p:spPr>
            <a:xfrm flipV="1" rot="16200000">
              <a:off x="5049720" y="2624760"/>
              <a:ext cx="923760" cy="1804680"/>
            </a:xfrm>
            <a:prstGeom prst="bentConnector3">
              <a:avLst>
                <a:gd name="adj1" fmla="val 1235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2" name="_s61453"/>
            <p:cNvCxnSpPr>
              <a:stCxn id="133" idx="0"/>
              <a:endCxn id="129" idx="2"/>
            </p:cNvCxnSpPr>
            <p:nvPr/>
          </p:nvCxnSpPr>
          <p:spPr>
            <a:xfrm flipV="1">
              <a:off x="4609800" y="3065400"/>
              <a:ext cx="2160" cy="9237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4" name="_s61452"/>
            <p:cNvCxnSpPr>
              <a:stCxn id="135" idx="0"/>
              <a:endCxn id="129" idx="2"/>
            </p:cNvCxnSpPr>
            <p:nvPr/>
          </p:nvCxnSpPr>
          <p:spPr>
            <a:xfrm flipH="1" flipV="1" rot="5400000">
              <a:off x="3245760" y="2624760"/>
              <a:ext cx="923760" cy="1804680"/>
            </a:xfrm>
            <a:prstGeom prst="bentConnector3">
              <a:avLst>
                <a:gd name="adj1" fmla="val 1235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6" name="_s61451"/>
            <p:cNvCxnSpPr>
              <a:stCxn id="137" idx="0"/>
              <a:endCxn id="129" idx="2"/>
            </p:cNvCxnSpPr>
            <p:nvPr/>
          </p:nvCxnSpPr>
          <p:spPr>
            <a:xfrm flipH="1" flipV="1" rot="5400000">
              <a:off x="2343600" y="1722600"/>
              <a:ext cx="923760" cy="3609000"/>
            </a:xfrm>
            <a:prstGeom prst="bentConnector3">
              <a:avLst>
                <a:gd name="adj1" fmla="val 12358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29" name="_s61447"/>
            <p:cNvSpPr/>
            <p:nvPr/>
          </p:nvSpPr>
          <p:spPr>
            <a:xfrm>
              <a:off x="3836880" y="1219320"/>
              <a:ext cx="1546200" cy="1846440"/>
            </a:xfrm>
            <a:custGeom>
              <a:avLst/>
              <a:gdLst>
                <a:gd name="textAreaLeft" fmla="*/ 75240 w 1546200"/>
                <a:gd name="textAreaRight" fmla="*/ 1470960 w 1546200"/>
                <a:gd name="textAreaTop" fmla="*/ 75240 h 1846440"/>
                <a:gd name="textAreaBottom" fmla="*/ 1771200 h 1846440"/>
              </a:gdLst>
              <a:ahLst/>
              <a:rect l="textAreaLeft" t="textAreaTop" r="textAreaRight" b="textAreaBottom"/>
              <a:pathLst>
                <a:path w="21600" h="25793">
                  <a:moveTo>
                    <a:pt x="3600" y="0"/>
                  </a:moveTo>
                  <a:arcTo wR="3600" hR="3600" stAng="16200000" swAng="-5400000"/>
                  <a:lnTo>
                    <a:pt x="0" y="22193"/>
                  </a:lnTo>
                  <a:arcTo wR="3600" hR="3600" stAng="10800000" swAng="-5400000"/>
                  <a:lnTo>
                    <a:pt x="18000" y="2579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 u="sng">
                  <a:solidFill>
                    <a:srgbClr val="000000"/>
                  </a:solidFill>
                  <a:uFillTx/>
                  <a:latin typeface="Arial"/>
                </a:rPr>
                <a:t>Курии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_s61448"/>
            <p:cNvSpPr/>
            <p:nvPr/>
          </p:nvSpPr>
          <p:spPr>
            <a:xfrm>
              <a:off x="228600" y="3989160"/>
              <a:ext cx="1546200" cy="1846440"/>
            </a:xfrm>
            <a:custGeom>
              <a:avLst/>
              <a:gdLst>
                <a:gd name="textAreaLeft" fmla="*/ 75240 w 1546200"/>
                <a:gd name="textAreaRight" fmla="*/ 1470960 w 1546200"/>
                <a:gd name="textAreaTop" fmla="*/ 75240 h 1846440"/>
                <a:gd name="textAreaBottom" fmla="*/ 1771200 h 1846440"/>
              </a:gdLst>
              <a:ahLst/>
              <a:rect l="textAreaLeft" t="textAreaTop" r="textAreaRight" b="textAreaBottom"/>
              <a:pathLst>
                <a:path w="21600" h="25793">
                  <a:moveTo>
                    <a:pt x="3600" y="0"/>
                  </a:moveTo>
                  <a:arcTo wR="3600" hR="3600" stAng="16200000" swAng="-5400000"/>
                  <a:lnTo>
                    <a:pt x="0" y="22193"/>
                  </a:lnTo>
                  <a:arcTo wR="3600" hR="3600" stAng="10800000" swAng="-5400000"/>
                  <a:lnTo>
                    <a:pt x="18000" y="2579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Волостная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крестьянская)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22%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_s61449"/>
            <p:cNvSpPr/>
            <p:nvPr/>
          </p:nvSpPr>
          <p:spPr>
            <a:xfrm>
              <a:off x="2032560" y="3989160"/>
              <a:ext cx="1546200" cy="1846440"/>
            </a:xfrm>
            <a:custGeom>
              <a:avLst/>
              <a:gdLst>
                <a:gd name="textAreaLeft" fmla="*/ 75240 w 1546200"/>
                <a:gd name="textAreaRight" fmla="*/ 1470960 w 1546200"/>
                <a:gd name="textAreaTop" fmla="*/ 75240 h 1846440"/>
                <a:gd name="textAreaBottom" fmla="*/ 1771200 h 1846440"/>
              </a:gdLst>
              <a:ahLst/>
              <a:rect l="textAreaLeft" t="textAreaTop" r="textAreaRight" b="textAreaBottom"/>
              <a:pathLst>
                <a:path w="21600" h="25793">
                  <a:moveTo>
                    <a:pt x="3600" y="0"/>
                  </a:moveTo>
                  <a:arcTo wR="3600" hR="3600" stAng="16200000" swAng="-5400000"/>
                  <a:lnTo>
                    <a:pt x="0" y="22193"/>
                  </a:lnTo>
                  <a:arcTo wR="3600" hR="3600" stAng="10800000" swAng="-5400000"/>
                  <a:lnTo>
                    <a:pt x="18000" y="2579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Земледельческа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_s61450"/>
            <p:cNvSpPr/>
            <p:nvPr/>
          </p:nvSpPr>
          <p:spPr>
            <a:xfrm>
              <a:off x="3836880" y="3989160"/>
              <a:ext cx="1546200" cy="1846440"/>
            </a:xfrm>
            <a:custGeom>
              <a:avLst/>
              <a:gdLst>
                <a:gd name="textAreaLeft" fmla="*/ 75240 w 1546200"/>
                <a:gd name="textAreaRight" fmla="*/ 1470960 w 1546200"/>
                <a:gd name="textAreaTop" fmla="*/ 75240 h 1846440"/>
                <a:gd name="textAreaBottom" fmla="*/ 1771200 h 1846440"/>
              </a:gdLst>
              <a:ahLst/>
              <a:rect l="textAreaLeft" t="textAreaTop" r="textAreaRight" b="textAreaBottom"/>
              <a:pathLst>
                <a:path w="21600" h="25793">
                  <a:moveTo>
                    <a:pt x="3600" y="0"/>
                  </a:moveTo>
                  <a:arcTo wR="3600" hR="3600" stAng="16200000" swAng="-5400000"/>
                  <a:lnTo>
                    <a:pt x="0" y="22193"/>
                  </a:lnTo>
                  <a:arcTo wR="3600" hR="3600" stAng="10800000" swAng="-5400000"/>
                  <a:lnTo>
                    <a:pt x="18000" y="2579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1-ая городская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(высший избиратель-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ный ценз)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15%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_s61459"/>
            <p:cNvSpPr/>
            <p:nvPr/>
          </p:nvSpPr>
          <p:spPr>
            <a:xfrm>
              <a:off x="5640840" y="3989160"/>
              <a:ext cx="1546200" cy="1846440"/>
            </a:xfrm>
            <a:custGeom>
              <a:avLst/>
              <a:gdLst>
                <a:gd name="textAreaLeft" fmla="*/ 75240 w 1546200"/>
                <a:gd name="textAreaRight" fmla="*/ 1470960 w 1546200"/>
                <a:gd name="textAreaTop" fmla="*/ 75240 h 1846440"/>
                <a:gd name="textAreaBottom" fmla="*/ 1771200 h 1846440"/>
              </a:gdLst>
              <a:ahLst/>
              <a:rect l="textAreaLeft" t="textAreaTop" r="textAreaRight" b="textAreaBottom"/>
              <a:pathLst>
                <a:path w="21600" h="25793">
                  <a:moveTo>
                    <a:pt x="3600" y="0"/>
                  </a:moveTo>
                  <a:arcTo wR="3600" hR="3600" stAng="16200000" swAng="-5400000"/>
                  <a:lnTo>
                    <a:pt x="0" y="22193"/>
                  </a:lnTo>
                  <a:arcTo wR="3600" hR="3600" stAng="10800000" swAng="-5400000"/>
                  <a:lnTo>
                    <a:pt x="18000" y="2579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2-ая городская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(низший избиратель-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ный ценз)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1%.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_s61463"/>
            <p:cNvSpPr/>
            <p:nvPr/>
          </p:nvSpPr>
          <p:spPr>
            <a:xfrm>
              <a:off x="7445160" y="3989160"/>
              <a:ext cx="1546200" cy="1846440"/>
            </a:xfrm>
            <a:custGeom>
              <a:avLst/>
              <a:gdLst>
                <a:gd name="textAreaLeft" fmla="*/ 75240 w 1546200"/>
                <a:gd name="textAreaRight" fmla="*/ 1470960 w 1546200"/>
                <a:gd name="textAreaTop" fmla="*/ 75240 h 1846440"/>
                <a:gd name="textAreaBottom" fmla="*/ 1771200 h 1846440"/>
              </a:gdLst>
              <a:ahLst/>
              <a:rect l="textAreaLeft" t="textAreaTop" r="textAreaRight" b="textAreaBottom"/>
              <a:pathLst>
                <a:path w="21600" h="25793">
                  <a:moveTo>
                    <a:pt x="3600" y="0"/>
                  </a:moveTo>
                  <a:arcTo wR="3600" hR="3600" stAng="16200000" swAng="-5400000"/>
                  <a:lnTo>
                    <a:pt x="0" y="22193"/>
                  </a:lnTo>
                  <a:arcTo wR="3600" hR="3600" stAng="10800000" swAng="-5400000"/>
                  <a:lnTo>
                    <a:pt x="18000" y="2579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Рабоча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2,3%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4-04-10T22:25:28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