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4.gif" ContentType="image/gif"/>
  <Override PartName="/ppt/media/image2.jpeg" ContentType="image/jpe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4D0-B29F-4C5F-80CD-50A335C1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549F-B1A1-43E0-9036-0C89A94F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290-BDE6-447E-8A2A-C2E65875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BEC-951E-4EDE-9771-49C70B2D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97A9-595A-4B4F-85BD-0F0BC38A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7E11-0C77-426E-921C-8550AB6D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538B-A767-4B16-9194-6EF5D393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DFC4-C9E3-48E5-8156-6D1B51B6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5538-84A8-42CA-9E43-A64F9DA4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06CF-7AB1-44B7-8CC4-7DC523B9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56D6-3A0A-40BA-9CAE-B588F2CD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AFF-55EF-474D-AB41-49D785F9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93E9-34CF-47C8-9FC0-146B01EF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B81A-CDE9-45F2-A347-382F4A27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DB2E-08C5-424C-9B8F-7D14567E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71B6-475E-4635-9A6C-C8145F06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6638-8451-47EB-8DCA-D42734DF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221D1-1E3C-4B8B-9135-3D3A63DF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2A0B2-9328-4786-AB64-BD339EF2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252AA-CB73-4DC3-A073-1E5A8809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5088E-5AD8-48E7-803C-4AF7FD3F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CD1D9-B96C-4ED4-82F1-798AB755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D287-7C2D-464D-B7DC-9DCE9836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55BFD-6B28-4957-B42E-D9690136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DE15D-280F-4EC4-A7FD-30747102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45989-B1DB-42FC-B3A6-6FF86A8F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3A2B-27DE-4A7F-88B8-DE1CAB28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DC402-AC95-4186-926C-E20540E0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8A497-271B-4ADF-97B4-A09ECB15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E1871-4C44-43D3-89FF-6CD5F817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A4EEF-F11C-4560-B2C4-3B5948FC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5D15C-5718-4EF8-B276-8E784F51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ED040-71EE-4133-ABF4-A53E93EC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720-2427-4A4B-B07C-3E36D312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B4467-1B8A-4848-9A61-586A08D6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4EB9F-76B9-44A1-9BC9-532DD095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FF349-09E0-4123-A443-9A5B1FB5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7B6B3-F7BA-4F0B-9A2D-284B4A03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2BD37-6AE4-446C-9E4A-BDBFE8AB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608FE-AC1D-4533-A521-A217DFD1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BE561-55E1-43A5-8F6A-0C8E1E42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4246E-BB46-4C73-8087-3129F236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F53EE-CCEC-440C-A4DE-4951ED76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B9DA8-2E38-45A5-A98A-145A0A92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87B5-36D4-4C23-A451-6C2D3053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E8E0E-2222-4D97-BF0F-1B8558D3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EDB05-5694-4900-B3C9-BF08CAC9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9574C-E020-4488-976A-B947D9C7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55025-852A-4703-9370-674B3325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91B03-0CF6-4D44-998E-E4F7F9F6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8BE47-0F6F-47AE-9036-A8C71897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E4ACD-B419-489C-848F-8F8BFC9D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3FAC5-5075-4479-9873-8DA68D33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09A70-0611-49A0-BF60-F7CC05A5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706BB-7E98-45AF-8FCF-10EF6FEC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3E1-6779-4C5C-8160-E1995F18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2B2D8-E963-469A-872E-034AFDE8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C6E-4D93-426A-B218-FF3DBFD3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50D-8AEF-4A4E-B1A0-69D49004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BE9-D394-4A02-ADFD-1DFC90E7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0C82-452A-4A99-8D6D-B89EE1581C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A4D2-FC9A-4E01-957F-4B7B2EC4BE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667E-6C3A-40B7-98A7-5D57CD68D9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E69A-F363-43CC-ABDB-337349386E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EC44-61D2-482C-BC21-CC05868C01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714400" y="142560"/>
            <a:ext cx="6143400" cy="25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ЕМА СЕМИНАРА: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Стили семейного воспитания и агрессивное поведение детей»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30" name="Picture 7" descr="http://t2.gstatic.com/images?q=tbn:ANd9GcSkD2Lo3M9gU3g9GPqy-NDhTwigurtqpsHi2rI0ZQw4nthfFd9t"/>
          <p:cNvPicPr/>
          <p:nvPr/>
        </p:nvPicPr>
        <p:blipFill>
          <a:blip r:embed="rId1"/>
          <a:stretch/>
        </p:blipFill>
        <p:spPr>
          <a:xfrm>
            <a:off x="0" y="1557360"/>
            <a:ext cx="2697120" cy="26956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9" descr="http://t1.gstatic.com/images?q=tbn:ANd9GcQq3CjfE7pyNBIL8taWynO1B1Hz2RudG-GC-kSwEZdzI80oM3Wc-A"/>
          <p:cNvPicPr/>
          <p:nvPr/>
        </p:nvPicPr>
        <p:blipFill>
          <a:blip r:embed="rId2"/>
          <a:stretch/>
        </p:blipFill>
        <p:spPr>
          <a:xfrm>
            <a:off x="539640" y="4253040"/>
            <a:ext cx="316872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кцентуация характер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«Лабильность»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агрессия от страха, «быть как вс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«Циклоидность»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редрасположен к проявлению агрессии из-за эмоционального неравновес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ce4ff"/>
                </a:solidFill>
                <a:latin typeface="Arial"/>
              </a:rPr>
              <a:t>Эпилептоидность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крайне агрессивны и раздражитель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Социально- биологические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ичин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95280" y="1413000"/>
            <a:ext cx="82296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альчи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чаще проявляют агрессию, нежели девоч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стр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од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оказаться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белой вороной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згоя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ь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ним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верстников, взрослы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словлены установками,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едрассудк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истемой ценносте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чимых для них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зрослы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ить всех людей на «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вои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 и «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чужи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- подрост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емейные установ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щита и ме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Психологические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причины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достаточно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азвитие интеллекта и коммуникативных навы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ниженный уровен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регуля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развит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гровой 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нижен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амооц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руш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отношениях со сверстни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5915160" cy="138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Физическая агрессия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–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спользование физической силы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тив другого лица.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44720" y="190512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свенная агрессия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– агрессия, окольным путём направленная на другое лицо или ни на кого не направленн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4" descr="110702"/>
          <p:cNvPicPr/>
          <p:nvPr/>
        </p:nvPicPr>
        <p:blipFill>
          <a:blip r:embed="rId1"/>
          <a:stretch/>
        </p:blipFill>
        <p:spPr>
          <a:xfrm>
            <a:off x="6300720" y="333360"/>
            <a:ext cx="2222640" cy="3240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5" descr="agr_03"/>
          <p:cNvPicPr/>
          <p:nvPr/>
        </p:nvPicPr>
        <p:blipFill>
          <a:blip r:embed="rId2"/>
          <a:stretch/>
        </p:blipFill>
        <p:spPr>
          <a:xfrm>
            <a:off x="1103400" y="2397240"/>
            <a:ext cx="2913120" cy="334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5483160" cy="138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аздражение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–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готовность к проявлению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егативных чувств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и малейшем возбуждении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(вспыльчивость, грубость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44720" y="190512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гативизм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–оппозиционная манера в поведении от пассивного сопротивления до активной борьбы против установившихся обычаев и закон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Picture 4" descr="agresia3"/>
          <p:cNvPicPr/>
          <p:nvPr/>
        </p:nvPicPr>
        <p:blipFill>
          <a:blip r:embed="rId1"/>
          <a:stretch/>
        </p:blipFill>
        <p:spPr>
          <a:xfrm>
            <a:off x="5796000" y="549360"/>
            <a:ext cx="2703600" cy="23763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8" descr="24732270"/>
          <p:cNvPicPr/>
          <p:nvPr/>
        </p:nvPicPr>
        <p:blipFill>
          <a:blip r:embed="rId2"/>
          <a:stretch/>
        </p:blipFill>
        <p:spPr>
          <a:xfrm>
            <a:off x="895320" y="3165480"/>
            <a:ext cx="3052800" cy="231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6059520" cy="138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бида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– зависть и ненависть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к окружающим за действительные и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ымышленные действия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65" name="Picture 11" descr="i"/>
          <p:cNvPicPr/>
          <p:nvPr/>
        </p:nvPicPr>
        <p:blipFill>
          <a:blip r:embed="rId1"/>
          <a:stretch/>
        </p:blipFill>
        <p:spPr>
          <a:xfrm>
            <a:off x="684360" y="2349360"/>
            <a:ext cx="3166920" cy="345600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00720" y="1915920"/>
            <a:ext cx="4248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дозрительность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 диапазоне от недоверия и осторожность по отношении к людям до убеждения в том, что другие люди планируют и приносят вр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12" descr="а2"/>
          <p:cNvPicPr/>
          <p:nvPr/>
        </p:nvPicPr>
        <p:blipFill>
          <a:blip r:embed="rId2"/>
          <a:stretch/>
        </p:blipFill>
        <p:spPr>
          <a:xfrm>
            <a:off x="6516720" y="404640"/>
            <a:ext cx="1727280" cy="223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119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ербальная агрессия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–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ыражение негативных чувств,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как через форму(крик, визг),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так и через содержание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словесных ответов (проклятия, угрозы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15640" y="3933360"/>
            <a:ext cx="73436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амоагресси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– разрушительный вид поведения людей с нарушением развития: битьё головой, кусание рук, чрезмерное расчесывание и царапание своего т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10" descr="agresiya2"/>
          <p:cNvPicPr/>
          <p:nvPr/>
        </p:nvPicPr>
        <p:blipFill>
          <a:blip r:embed="rId1"/>
          <a:stretch/>
        </p:blipFill>
        <p:spPr>
          <a:xfrm>
            <a:off x="5724360" y="2349360"/>
            <a:ext cx="3116520" cy="16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Формы</a:t>
            </a:r>
            <a:r>
              <a:rPr b="0" i="1" lang="ru-RU" sz="3600" spc="-1" strike="noStrike">
                <a:solidFill>
                  <a:srgbClr val="ccecff"/>
                </a:solidFill>
                <a:latin typeface="Arial"/>
              </a:rPr>
              <a:t> проявления агрессии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Недеструктив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еханизм удовлетворения желания, достижения цели и способности  к адаптации. Побуждает ребенка  к конкуренции в окружающем мире, защите своих прав и интересов, служит для развития познания и способности положиться на 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716000" y="1557360"/>
            <a:ext cx="397044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раждебная (деструктивна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лобное, враждебное поведение, желание причинить боль, получить удовольствие от этого. Результаты: конфликты, становление агрессивности как черты личности и снижение адаптивных возможностей реб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Стрелка вниз 4"/>
          <p:cNvSpPr/>
          <p:nvPr/>
        </p:nvSpPr>
        <p:spPr>
          <a:xfrm>
            <a:off x="1871640" y="1341360"/>
            <a:ext cx="1079640" cy="719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Стрелка вниз 6"/>
          <p:cNvSpPr/>
          <p:nvPr/>
        </p:nvSpPr>
        <p:spPr>
          <a:xfrm>
            <a:off x="6216480" y="1305000"/>
            <a:ext cx="792360" cy="51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Агрессия младших школьников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8000" y="764640"/>
            <a:ext cx="90360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нициато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группировки ребя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грессия более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рганизованн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раждебн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грессия начинает преобладать над инструментальн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и стараются решать проблемы в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воем круг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е прибегая к взросл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группировок- возможность испытать чувства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фор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щищен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выш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воих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озможност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исчезновение страха наказания за проявление агрессии, обостренное желание утвердиться в роли полноправного участника событий, занять в группе достойное место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озрастае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жестокость, разрушительность и другие проявления враждебной деструктив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драж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ведению любимых геро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58560" y="291600"/>
            <a:ext cx="7427880" cy="2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Агрессия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дростк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712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оявляют открыт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получая тычки и жизненный опыт- либо добиваются авторитета, престижа, самореализации, либо ломаются, спиваются, кончают жизнь самоубийств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ячут и подавляю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становятся послушными пай девочками ( мальчиками), при этом утрачивают часть энергии, ничего особого не добиваясь. Срывы в виде неврозов, психосоматических заболеван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ь семинара: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999720" y="1928520"/>
            <a:ext cx="72867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комство с понятием «агрессивное поведение» детей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 стилями семейного воспитания, которые формируют такое пове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Факторы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, способствующие росту агрессивности у подростков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81" name="Схема 4" descr=""/>
          <p:cNvPicPr/>
          <p:nvPr/>
        </p:nvPicPr>
        <p:blipFill>
          <a:blip r:embed="rId1"/>
          <a:stretch/>
        </p:blipFill>
        <p:spPr>
          <a:xfrm>
            <a:off x="890640" y="1322280"/>
            <a:ext cx="7510320" cy="514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ак помочь агрессивному ребенку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55280" y="1412640"/>
            <a:ext cx="79311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с гне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учение детей навыкам распознавания и контроля, умению владеть собой в ситуациях, провоцирующих вспышки гне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способности к эмпатии, доверию, сочувствию, сопереживани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ие конструктивных навыков об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ак взрослому правильно вести себя с агрессивным ребенком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856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покойное отношение в случае незначительной агресс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е игнорирование реакций ребе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ражение понимания чувств ребенка («Конечно, тебе обидно…»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ключение внимания («Помоги мне раздать тетради…»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итивное обозначение поведения («Ты злишься потому, что ты уста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0244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. Акцентирование внимания на поступках ( поведении), а не личности (обратная связь);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788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татация факта («Ты ведешь себя агрессивно»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татирующий вопрос («Ты злишься?»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крытие мотивов агрессивного поведения («Ты хочешь меня обидеть?, продемонстрировать силу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наружение своих собственных чувств по отношению к нежелательному поведению ( «Мне не нравится, когда со мной говорят в таком тоне»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ппеляция к правилам (« Мы  же с тобой договаривались!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3. Контроль над собственными негативными эмоциям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зрослым необходимо очень тщательно контролировать свои негативные эмоции во взаимодействии с агрессивными деть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Необходимо признать нормальность и естественность этих негативных переживаний, понять характер, силу и длительность таких чув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4. Снижение напряжения ситуаци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91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Неправильные действия взрослог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Повышение голоса (угрожающий тон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Демонстрация власти  («Учитель здесь пока еще я», «Будет так, как я скажу»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Крик, негодо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Агрессивные позы, жес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насмешки, высмеивание, передразни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Негативная оценка личности ребенка, его близких, друз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Использование физической силы, непреклонное настаивание на своей правот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Нотации, проповеди, «чтение морали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Наказания, угрозы наказ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Обобщение типа : «Вы все одинаковые», «Ты как всегда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Сравнение ребенка с другими детьми- не в его польз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Команды, давление, жесткие треб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Оправдания, подкуп, нагр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5. Обсуждение проступка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915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суждать поведени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в момент проявления агрессии, а после того, когда все успокоятся и ситуация разрешится, но и в то же время как можно скорее…( лучше наедине, без свидетелей, и только после в класс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охранять спокойстви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ъектив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обн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судить последстви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грессивного поведения, ег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зрушитель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 отношению к окружающим и к самому себ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6. Сохранение положительной репутации ребенк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713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Публично минимизировать вину подростка («Ты  не важно себя чувствуешь», Ты не хотел его обидеть»), в беседе наедине показать истин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 требовать полного подчинения, позволить подростку выполнить ваше требование по-своем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едложить компромисс, договор с взаимными уступ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7. Демонстрация модели неагрессивного поведе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Нерефлексивное слуша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лушание без анализ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Пауз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дающая возможность ребенку успокоить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ушение спокойствия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невербальными средства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яснение ситуации с помощью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наводящих вопрос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ие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юмор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знание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чувст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еб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ритерии агрессивност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бено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теряет контроль над соб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спорит, ругается со взрослы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отказывается выполнять прави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специально раздражает люд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винит других в своих ошибк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сердится и отказывается сделать что-либ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завистлив, мстител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50920" y="981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кры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нятие «агрессивное поведение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сихологические особенности детей с агрессивным поведени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явление агрессивного поведения (А) детей исследуемой групп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ипы семейного воспитания и их особ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сти стилей семейного воспитания (Б)  родителей исследуемой групп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азать взаимосвязь между показателя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и 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их людей ты считаешь агрессивными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28760" y="2428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лые , невежливые, громко ругаются, кричат на всех, бьют, дерутся, люди , которые не могут справиться со своими эмоциями, они вечно не довольные, постоянно ворча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оказатели теста агрессивности  Л.Г.Почебут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Цель: определить виды агрессивного поведения, уровень агрессивности и адаптационные возможности  детей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4" name="Объект 5"/>
          <p:cNvGraphicFramePr/>
          <p:nvPr/>
        </p:nvGraphicFramePr>
        <p:xfrm>
          <a:off x="1332000" y="1989000"/>
          <a:ext cx="6769080" cy="32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89000"/>
                    <a:ext cx="67690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1117440" y="436680"/>
            <a:ext cx="690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Показатели склонностей к агрессивного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мальчиков и девоч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8" name="Объект 7"/>
          <p:cNvGraphicFramePr/>
          <p:nvPr/>
        </p:nvGraphicFramePr>
        <p:xfrm>
          <a:off x="826920" y="1773360"/>
          <a:ext cx="749016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73360"/>
                    <a:ext cx="74901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"/>
          <p:cNvSpPr/>
          <p:nvPr/>
        </p:nvSpPr>
        <p:spPr>
          <a:xfrm>
            <a:off x="1692360" y="443520"/>
            <a:ext cx="58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Показатели видов агрессивного п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у мальчиков и девоч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Объект 5"/>
          <p:cNvGraphicFramePr/>
          <p:nvPr/>
        </p:nvGraphicFramePr>
        <p:xfrm>
          <a:off x="900000" y="2133720"/>
          <a:ext cx="777564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133720"/>
                    <a:ext cx="777564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14" name="Picture 3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5" name="Прямоугольник 3" descr=""/>
          <p:cNvPicPr/>
          <p:nvPr/>
        </p:nvPicPr>
        <p:blipFill>
          <a:blip r:embed="rId2"/>
          <a:stretch/>
        </p:blipFill>
        <p:spPr>
          <a:xfrm>
            <a:off x="12600" y="1646280"/>
            <a:ext cx="8686800" cy="232884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5" descr="H:\тн\05192010165550.jpg"/>
          <p:cNvPicPr/>
          <p:nvPr/>
        </p:nvPicPr>
        <p:blipFill>
          <a:blip r:embed="rId3"/>
          <a:stretch/>
        </p:blipFill>
        <p:spPr>
          <a:xfrm>
            <a:off x="2500200" y="4143240"/>
            <a:ext cx="3571920" cy="20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611280" y="115920"/>
            <a:ext cx="7848360" cy="936720"/>
          </a:xfrm>
          <a:prstGeom prst="rect">
            <a:avLst/>
          </a:pr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ласс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еправильно сложившихся стилей вос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функционально несостоятельных семьях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250920" y="1413000"/>
            <a:ext cx="4059000" cy="7920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Увещева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4859280" y="1413000"/>
            <a:ext cx="4105440" cy="7920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Жёстко-авторитарны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f1ac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250920" y="2492280"/>
            <a:ext cx="4032000" cy="792360"/>
          </a:xfrm>
          <a:prstGeom prst="rect">
            <a:avLst/>
          </a:prstGeom>
          <a:solidFill>
            <a:srgbClr val="ff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тстранённо-равнодушный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f1ac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10"/>
          <p:cNvSpPr/>
          <p:nvPr/>
        </p:nvSpPr>
        <p:spPr>
          <a:xfrm>
            <a:off x="250920" y="3573360"/>
            <a:ext cx="3924360" cy="792360"/>
          </a:xfrm>
          <a:prstGeom prst="rect">
            <a:avLst/>
          </a:prstGeom>
          <a:solidFill>
            <a:srgbClr val="00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Непоследовательный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1619280" y="5877000"/>
            <a:ext cx="6265800" cy="647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спитание по типу «кумир семьи»</a:t>
            </a: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10"/>
          <p:cNvSpPr/>
          <p:nvPr/>
        </p:nvSpPr>
        <p:spPr>
          <a:xfrm>
            <a:off x="4859280" y="2565360"/>
            <a:ext cx="4140360" cy="79236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едантично-подозрительный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4859280" y="4797360"/>
            <a:ext cx="4105440" cy="64764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зиция круговой обороны</a:t>
            </a:r>
            <a:r>
              <a:rPr b="0" lang="ru-RU" sz="3200" spc="-1" strike="noStrike">
                <a:solidFill>
                  <a:srgbClr val="2f1ac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250920" y="4724280"/>
            <a:ext cx="4059000" cy="79236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пуститительск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нисходите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6"/>
          <p:cNvSpPr/>
          <p:nvPr/>
        </p:nvSpPr>
        <p:spPr>
          <a:xfrm>
            <a:off x="4932360" y="3645000"/>
            <a:ext cx="4032360" cy="79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емонстративный стиль</a:t>
            </a:r>
            <a:r>
              <a:rPr b="0" lang="ru-RU" sz="3200" spc="-1" strike="noStrike">
                <a:solidFill>
                  <a:srgbClr val="2f1ac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Line 23"/>
          <p:cNvSpPr/>
          <p:nvPr/>
        </p:nvSpPr>
        <p:spPr>
          <a:xfrm>
            <a:off x="4500720" y="1197000"/>
            <a:ext cx="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25"/>
          <p:cNvSpPr/>
          <p:nvPr/>
        </p:nvSpPr>
        <p:spPr>
          <a:xfrm flipH="1">
            <a:off x="4211280" y="184464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25"/>
          <p:cNvSpPr/>
          <p:nvPr/>
        </p:nvSpPr>
        <p:spPr>
          <a:xfrm flipH="1">
            <a:off x="4284720" y="2852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Line 25"/>
          <p:cNvSpPr/>
          <p:nvPr/>
        </p:nvSpPr>
        <p:spPr>
          <a:xfrm flipH="1">
            <a:off x="4284720" y="39337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25"/>
          <p:cNvSpPr/>
          <p:nvPr/>
        </p:nvSpPr>
        <p:spPr>
          <a:xfrm flipH="1">
            <a:off x="4211280" y="508464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30"/>
          <p:cNvSpPr/>
          <p:nvPr/>
        </p:nvSpPr>
        <p:spPr>
          <a:xfrm>
            <a:off x="4356000" y="1844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30"/>
          <p:cNvSpPr/>
          <p:nvPr/>
        </p:nvSpPr>
        <p:spPr>
          <a:xfrm>
            <a:off x="4356000" y="2852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30"/>
          <p:cNvSpPr/>
          <p:nvPr/>
        </p:nvSpPr>
        <p:spPr>
          <a:xfrm>
            <a:off x="4356000" y="39337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Line 30"/>
          <p:cNvSpPr/>
          <p:nvPr/>
        </p:nvSpPr>
        <p:spPr>
          <a:xfrm>
            <a:off x="4284720" y="508464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21"/>
          <p:cNvSpPr/>
          <p:nvPr/>
        </p:nvSpPr>
        <p:spPr>
          <a:xfrm>
            <a:off x="4500720" y="5445000"/>
            <a:ext cx="0" cy="405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Line 3"/>
          <p:cNvSpPr/>
          <p:nvPr/>
        </p:nvSpPr>
        <p:spPr>
          <a:xfrm flipH="1">
            <a:off x="3276360" y="1557360"/>
            <a:ext cx="1222200" cy="93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4"/>
          <p:cNvSpPr/>
          <p:nvPr/>
        </p:nvSpPr>
        <p:spPr>
          <a:xfrm>
            <a:off x="2340000" y="4437000"/>
            <a:ext cx="583236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дители проявляют по отноше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 своим детям полную беспомощность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 приним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левых решений и наказ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Увещева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ети в таких семьях «садятся на голову»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одител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68360" y="2636640"/>
            <a:ext cx="352728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предпочитают уговаривать, объяснять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9"/>
          <p:cNvSpPr/>
          <p:nvPr/>
        </p:nvSpPr>
        <p:spPr>
          <a:xfrm>
            <a:off x="4500720" y="1557360"/>
            <a:ext cx="1726920" cy="93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3"/>
          <p:cNvSpPr/>
          <p:nvPr/>
        </p:nvSpPr>
        <p:spPr>
          <a:xfrm flipH="1">
            <a:off x="3276360" y="1557360"/>
            <a:ext cx="122220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Oval 4"/>
          <p:cNvSpPr/>
          <p:nvPr/>
        </p:nvSpPr>
        <p:spPr>
          <a:xfrm>
            <a:off x="2195640" y="4699080"/>
            <a:ext cx="5832360" cy="1969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Женщ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глощена воспитани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ладшего ребёнк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вершенно забыв о старших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Oval 6"/>
          <p:cNvSpPr/>
          <p:nvPr/>
        </p:nvSpPr>
        <p:spPr>
          <a:xfrm>
            <a:off x="5219640" y="2276640"/>
            <a:ext cx="3924360" cy="2304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Женщина, расставшись с муж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рестаёт любить «его ребёнка»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тстранённо – равнодуш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ебёнок испытывает дефицит любви и внимания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68360" y="2205000"/>
            <a:ext cx="37432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Женщина занята поиском нового спутник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9"/>
          <p:cNvSpPr/>
          <p:nvPr/>
        </p:nvSpPr>
        <p:spPr>
          <a:xfrm>
            <a:off x="4500720" y="1557360"/>
            <a:ext cx="1511280" cy="792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3"/>
          <p:cNvSpPr/>
          <p:nvPr/>
        </p:nvSpPr>
        <p:spPr>
          <a:xfrm flipH="1">
            <a:off x="3203640" y="1557360"/>
            <a:ext cx="1295280" cy="107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Oval 4"/>
          <p:cNvSpPr/>
          <p:nvPr/>
        </p:nvSpPr>
        <p:spPr>
          <a:xfrm>
            <a:off x="2411280" y="4653000"/>
            <a:ext cx="5832720" cy="180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 наказание, слёзы, руган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 умиление и всепрощ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Oval 5"/>
          <p:cNvSpPr/>
          <p:nvPr/>
        </p:nvSpPr>
        <p:spPr>
          <a:xfrm>
            <a:off x="0" y="2492280"/>
            <a:ext cx="4572000" cy="216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зникают рез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моциональные перепа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отношениях с детьм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епоследовате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ебёнок становится либо неуправляемы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ибо, используя разногласия родителе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мело манипулирует им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08000" y="836280"/>
            <a:ext cx="43927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 родителей,  не хват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ыдержки, самооблад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ля осуществления последовательной воспитательной тактики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9"/>
          <p:cNvSpPr/>
          <p:nvPr/>
        </p:nvSpPr>
        <p:spPr>
          <a:xfrm>
            <a:off x="4500720" y="1557360"/>
            <a:ext cx="187164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3"/>
          <p:cNvSpPr/>
          <p:nvPr/>
        </p:nvSpPr>
        <p:spPr>
          <a:xfrm flipH="1">
            <a:off x="3203640" y="1557360"/>
            <a:ext cx="1295280" cy="107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Oval 4"/>
          <p:cNvSpPr/>
          <p:nvPr/>
        </p:nvSpPr>
        <p:spPr>
          <a:xfrm>
            <a:off x="1908000" y="4437000"/>
            <a:ext cx="6409080" cy="2303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изкая педагогическая культура родител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развитость родительских чувст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х сосредоточенность на  собственных проблем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6"/>
          <p:cNvSpPr/>
          <p:nvPr/>
        </p:nvSpPr>
        <p:spPr>
          <a:xfrm>
            <a:off x="5219640" y="2349360"/>
            <a:ext cx="392436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читают, что «все дети такие»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ибо рассуждают так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Мы сами такими же был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пуститительско – снисходите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ребёнка склонность к непослушани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а людях ведёт себя неадекватно, нетребователен к себ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68360" y="836280"/>
            <a:ext cx="35272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одите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придают значение проступкам детей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Line 9"/>
          <p:cNvSpPr/>
          <p:nvPr/>
        </p:nvSpPr>
        <p:spPr>
          <a:xfrm>
            <a:off x="4500720" y="1557360"/>
            <a:ext cx="187164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23640" y="2852280"/>
            <a:ext cx="821988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деструктивное поведение, противоречащее нормам и правилам существования людей в обществе, приносящее физический или моральный ущерб людям, или вызывающий у них психологический дискомфорт.</a:t>
            </a:r>
            <a:br>
              <a:rPr sz="3200"/>
            </a:br>
            <a:br>
              <a:rPr sz="54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37" name="Picture 4" descr="BABY8"/>
          <p:cNvPicPr/>
          <p:nvPr/>
        </p:nvPicPr>
        <p:blipFill>
          <a:blip r:embed="rId1"/>
          <a:stretch/>
        </p:blipFill>
        <p:spPr>
          <a:xfrm>
            <a:off x="6261120" y="3762360"/>
            <a:ext cx="2882880" cy="3095640"/>
          </a:xfrm>
          <a:prstGeom prst="rect">
            <a:avLst/>
          </a:prstGeom>
          <a:ln w="0">
            <a:noFill/>
          </a:ln>
        </p:spPr>
      </p:pic>
      <p:sp>
        <p:nvSpPr>
          <p:cNvPr id="538" name="Прямоугольник 1"/>
          <p:cNvSpPr/>
          <p:nvPr/>
        </p:nvSpPr>
        <p:spPr>
          <a:xfrm>
            <a:off x="2627280" y="69228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гресс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3"/>
          <p:cNvSpPr/>
          <p:nvPr/>
        </p:nvSpPr>
        <p:spPr>
          <a:xfrm flipH="1">
            <a:off x="3203640" y="1557360"/>
            <a:ext cx="1295280" cy="107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4"/>
          <p:cNvSpPr/>
          <p:nvPr/>
        </p:nvSpPr>
        <p:spPr>
          <a:xfrm>
            <a:off x="2340000" y="4365720"/>
            <a:ext cx="583236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читают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то существует лишь один эффектив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ём воспитания – физическая расправа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, чаще отец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збивают ребёнка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Жёстко-авторитар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Дети  растут агрессивными, жестоким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тремятся обижать слабых и беззащитных.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95280" y="1699920"/>
            <a:ext cx="396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Характерен для родителей, злоупотребляющих физическими наказаниями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9"/>
          <p:cNvSpPr/>
          <p:nvPr/>
        </p:nvSpPr>
        <p:spPr>
          <a:xfrm>
            <a:off x="4500720" y="1557360"/>
            <a:ext cx="187164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Line 3"/>
          <p:cNvSpPr/>
          <p:nvPr/>
        </p:nvSpPr>
        <p:spPr>
          <a:xfrm flipH="1">
            <a:off x="3203640" y="1557360"/>
            <a:ext cx="1295280" cy="107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Oval 4"/>
          <p:cNvSpPr/>
          <p:nvPr/>
        </p:nvSpPr>
        <p:spPr>
          <a:xfrm>
            <a:off x="2340000" y="4508640"/>
            <a:ext cx="583236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бирают друзе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нтролируют свободное время ребён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уг его общения и интерес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Oval 5"/>
          <p:cNvSpPr/>
          <p:nvPr/>
        </p:nvSpPr>
        <p:spPr>
          <a:xfrm>
            <a:off x="0" y="256536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ытаются полность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золировать ребё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 сверстник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7"/>
          <p:cNvSpPr/>
          <p:nvPr/>
        </p:nvSpPr>
        <p:spPr>
          <a:xfrm>
            <a:off x="1116000" y="115920"/>
            <a:ext cx="7559640" cy="18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едантично-подозрите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ети  расту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решительными, озлобленны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безынициативными,  неуверенны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ормируются  невротические расстройства у подрост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68360" y="1916280"/>
            <a:ext cx="3743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 не доверяют своим детям, подвергают их оскорбительному тотальному контрол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9"/>
          <p:cNvSpPr/>
          <p:nvPr/>
        </p:nvSpPr>
        <p:spPr>
          <a:xfrm>
            <a:off x="5364000" y="1989000"/>
            <a:ext cx="1008360" cy="5050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Line 3"/>
          <p:cNvSpPr/>
          <p:nvPr/>
        </p:nvSpPr>
        <p:spPr>
          <a:xfrm flipH="1">
            <a:off x="3276360" y="1628640"/>
            <a:ext cx="936360" cy="863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Oval 4"/>
          <p:cNvSpPr/>
          <p:nvPr/>
        </p:nvSpPr>
        <p:spPr>
          <a:xfrm>
            <a:off x="2268360" y="4508640"/>
            <a:ext cx="583272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слух заявляют, что сын растёт «бандитом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чь «проститутка» и пр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6"/>
          <p:cNvSpPr/>
          <p:nvPr/>
        </p:nvSpPr>
        <p:spPr>
          <a:xfrm>
            <a:off x="5292720" y="2349360"/>
            <a:ext cx="385128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ссказывают о его проступка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явно преувеличи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тепень их опасност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Oval 7"/>
          <p:cNvSpPr/>
          <p:nvPr/>
        </p:nvSpPr>
        <p:spPr>
          <a:xfrm>
            <a:off x="1187280" y="115920"/>
            <a:ext cx="7632720" cy="151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Демонстративный сти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риводит к утрате у ребё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тыдливости, чувства раскаяния за свои поступк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нимает внутренний контроль за своё поведение.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68360" y="2133720"/>
            <a:ext cx="3672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одители, чаще всего мать, не стесняясь, всем жалуются на своего ребё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Line 9"/>
          <p:cNvSpPr/>
          <p:nvPr/>
        </p:nvSpPr>
        <p:spPr>
          <a:xfrm>
            <a:off x="4788000" y="1628640"/>
            <a:ext cx="1584360" cy="8654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Line 3"/>
          <p:cNvSpPr/>
          <p:nvPr/>
        </p:nvSpPr>
        <p:spPr>
          <a:xfrm flipH="1">
            <a:off x="3203640" y="1557360"/>
            <a:ext cx="1295280" cy="107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Oval 4"/>
          <p:cNvSpPr/>
          <p:nvPr/>
        </p:nvSpPr>
        <p:spPr>
          <a:xfrm>
            <a:off x="2340000" y="4365720"/>
            <a:ext cx="583236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то указывает на неправильное повед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х детей  становятся их враг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акие родители весь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грессив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строены ко вс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зиция круговой обор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ети в таких семьях  лживы и жесток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.к. постоянно уверенны в родительской защит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68360" y="1773360"/>
            <a:ext cx="35272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 строя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и отнош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 окружающи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 принцип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наш ребёнок всегда прав»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9"/>
          <p:cNvSpPr/>
          <p:nvPr/>
        </p:nvSpPr>
        <p:spPr>
          <a:xfrm>
            <a:off x="4500720" y="1557360"/>
            <a:ext cx="187164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Line 3"/>
          <p:cNvSpPr/>
          <p:nvPr/>
        </p:nvSpPr>
        <p:spPr>
          <a:xfrm flipH="1">
            <a:off x="3348000" y="1700280"/>
            <a:ext cx="936720" cy="792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4"/>
          <p:cNvSpPr/>
          <p:nvPr/>
        </p:nvSpPr>
        <p:spPr>
          <a:xfrm>
            <a:off x="2484360" y="4365720"/>
            <a:ext cx="583272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се сделаю для ребёнка, посвящу ему себ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се его просьб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прихоти выполняют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Oval 7"/>
          <p:cNvSpPr/>
          <p:nvPr/>
        </p:nvSpPr>
        <p:spPr>
          <a:xfrm>
            <a:off x="1116000" y="115920"/>
            <a:ext cx="7559640" cy="158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оспитание по типу «кумир семь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Ребёнок растёт эгоистом и от его эгоизма страдают сами родител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-360" y="764640"/>
            <a:ext cx="44276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бенок—центр моих интересов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Line 9"/>
          <p:cNvSpPr/>
          <p:nvPr/>
        </p:nvSpPr>
        <p:spPr>
          <a:xfrm>
            <a:off x="4859280" y="1700280"/>
            <a:ext cx="1368360" cy="7207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122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Результаты проведенной методики Эйдемиллера и Юстицкиса "Анализ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семейных взаимоотношений" (АСВ) для родителей детей</a:t>
            </a:r>
            <a:br>
              <a:rPr sz="18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 методики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: определить способы родительского воспитания и выявить  нарушения, приводящие  к развитию у детей агрессивного поведения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1" name="Объект 4"/>
          <p:cNvGraphicFramePr/>
          <p:nvPr/>
        </p:nvGraphicFramePr>
        <p:xfrm>
          <a:off x="684360" y="1773360"/>
          <a:ext cx="748800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2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488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44480" y="252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оказатели совпадений агрессивного поведения детей со шкалой ВН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714" name="Объект 6"/>
          <p:cNvGraphicFramePr/>
          <p:nvPr/>
        </p:nvGraphicFramePr>
        <p:xfrm>
          <a:off x="468360" y="1628640"/>
          <a:ext cx="8207280" cy="40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5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0728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53272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оказатели совпадений агрессивного поведения детей со шкалой ПНК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8" name="Объект 5"/>
          <p:cNvGraphicFramePr/>
          <p:nvPr/>
        </p:nvGraphicFramePr>
        <p:xfrm>
          <a:off x="539640" y="1916280"/>
          <a:ext cx="7920000" cy="345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792000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Показатели шкалы С - и агрессивного поведения младших школьников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2" name="Объект 4"/>
          <p:cNvGraphicFramePr/>
          <p:nvPr/>
        </p:nvGraphicFramePr>
        <p:xfrm>
          <a:off x="468360" y="1700280"/>
          <a:ext cx="763272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76327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оказатели совпадений агрессивного поведения детей со шкалой 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Г+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6" name="Объект 6"/>
          <p:cNvGraphicFramePr/>
          <p:nvPr/>
        </p:nvGraphicFramePr>
        <p:xfrm>
          <a:off x="826920" y="1844640"/>
          <a:ext cx="7848720" cy="331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44640"/>
                    <a:ext cx="7848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4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чины детской агрессивност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40" name="Схема 3" descr=""/>
          <p:cNvPicPr/>
          <p:nvPr/>
        </p:nvPicPr>
        <p:blipFill>
          <a:blip r:embed="rId1"/>
          <a:stretch/>
        </p:blipFill>
        <p:spPr>
          <a:xfrm>
            <a:off x="-12600" y="1414440"/>
            <a:ext cx="9199440" cy="5327640"/>
          </a:xfrm>
          <a:prstGeom prst="rect">
            <a:avLst/>
          </a:prstGeom>
          <a:ln w="0">
            <a:noFill/>
          </a:ln>
        </p:spPr>
      </p:pic>
      <p:pic>
        <p:nvPicPr>
          <p:cNvPr id="541" name="Рисунок 4" descr="детская агрессивность"/>
          <p:cNvPicPr/>
          <p:nvPr/>
        </p:nvPicPr>
        <p:blipFill>
          <a:blip r:embed="rId2"/>
          <a:stretch/>
        </p:blipFill>
        <p:spPr>
          <a:xfrm>
            <a:off x="6000840" y="142920"/>
            <a:ext cx="22860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0" name="Rectangle 5"/>
          <p:cNvGrpSpPr/>
          <p:nvPr/>
        </p:nvGrpSpPr>
        <p:grpSpPr>
          <a:xfrm>
            <a:off x="1878120" y="853920"/>
            <a:ext cx="6637320" cy="2071800"/>
            <a:chOff x="1878120" y="853920"/>
            <a:chExt cx="6637320" cy="2071800"/>
          </a:xfrm>
        </p:grpSpPr>
        <p:pic>
          <p:nvPicPr>
            <p:cNvPr id="731" name="Rectangle 5" descr=""/>
            <p:cNvPicPr/>
            <p:nvPr/>
          </p:nvPicPr>
          <p:blipFill>
            <a:blip r:embed="rId2"/>
            <a:stretch/>
          </p:blipFill>
          <p:spPr>
            <a:xfrm>
              <a:off x="1878120" y="853920"/>
              <a:ext cx="66373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2084400" y="866160"/>
              <a:ext cx="6224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«Главная ошибка взрослых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в том, что мы пытаемся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воспитывать детей,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 </a:t>
              </a:r>
              <a:r>
                <a:rPr b="1" lang="ru-RU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не воспитывая себя!»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33" name="Прямоугольник 9" descr=""/>
          <p:cNvPicPr/>
          <p:nvPr/>
        </p:nvPicPr>
        <p:blipFill>
          <a:blip r:embed="rId3"/>
          <a:stretch/>
        </p:blipFill>
        <p:spPr>
          <a:xfrm>
            <a:off x="4084560" y="3432240"/>
            <a:ext cx="44370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428760" y="9284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ма и папа я хочу, чтобы вы меня понима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щайте на меня вним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веряйте м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ьте добрее ко м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хочу, чтобы вы прощали мои ошиб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хотела бы чтобы конфликтов у меня с мамой было меньше из-за учите лей. Ведь они не всегда бывают правы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исьма детей к родителям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457200" y="135684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нужно укорять меня за то, что я испортилась, хотя это не так, что со всех 5-к скатилась на 4-ки. Хватит кричать не из-за чего, сдерживайте свои мнения при себе, и особенно то, что думаете о моих друзьях и не надо запрещать мне общаться с ними и не так часто выражаться матерными слов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исьма детей к родителям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исьма детей к родителям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57200" y="192852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орогие родители, я вас очень люблю! Желаю вам счастья, здоровья и любв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е стареть, денег, терпени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Живите долг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пехов в рабо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его самого наилучшег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ма, я хочу, чтобы ты перестала твердить мне: «Как дела с оценками?» Я хочу, чтобы вы давали мне больше любви. Чтобы в свободное время уделяли мне больше внимания. Мамы почти не бывает дома, а про папу я вообще молчу… Но зато они иногда не разрешают  мне встречаться с подруг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54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исьма детей к родителям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мама ты будешь на мен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ра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бег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з дом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исьма детей к родителям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126800" y="1052280"/>
            <a:ext cx="6870600" cy="410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мейте принять и любить детей такими, какие  они есть!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читесь слушать и слышать  детей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Семейны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» причи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9528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риятие детей родител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различие или враждебность со стороны родит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ушение эмоциональных связей в семь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уважение к личности реб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резмерный контроль или полное отсутствие ег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быток или недостаток внимания со стороны родит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прет на физическую актив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каз в праве на личную свобо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Личны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» причин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сознательное ожидание опас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уверенность в собственной безопас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ый отрицательный опы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оциональная нестабиль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овольство соб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ышенная раздражитель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ство вин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Ситуативны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причин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хое самочувствие, переутомл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ияние продуктов пит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ияние шума, вибрации, тесноты, температуры воздух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Тип темперамента 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и особенности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характер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енее склонны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активной агрессии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меланхолик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е склонны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агрессии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флегматик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Сангвиник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 природе своей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е агрессивн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ественн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клонн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к активной агрессии-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холерик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06:59:55Z</dcterms:created>
  <dc:creator>XTreme</dc:creator>
  <dc:description/>
  <dc:language>en-US</dc:language>
  <cp:lastModifiedBy>bmw</cp:lastModifiedBy>
  <dcterms:modified xsi:type="dcterms:W3CDTF">2012-11-17T10:30:13Z</dcterms:modified>
  <cp:revision>115</cp:revision>
  <dc:subject/>
  <dc:title>Муниципальное общеобразовательное учреждение – гимназия №1 г.Лыткарино Московской области  ТЕМА. «Стили семейного воспитания».</dc:title>
</cp:coreProperties>
</file>