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media/image7.jpeg" ContentType="image/jpeg"/>
  <Override PartName="/ppt/media/image6.jpeg" ContentType="image/jpeg"/>
  <Override PartName="/ppt/media/image4.gif" ContentType="image/gif"/>
  <Override PartName="/ppt/media/image2.jpeg" ContentType="image/jpeg"/>
  <Override PartName="/ppt/media/image3.jpeg" ContentType="image/jpeg"/>
  <Override PartName="/ppt/media/image15.png" ContentType="image/png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2.png" ContentType="image/png"/>
  <Override PartName="/ppt/media/image20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2A86-93F7-4EB6-958A-5B92F2B8E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DD1A-18A5-4334-81EF-BFC2A7FB9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866A-35DA-4237-9429-E6EB2F284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B989-9DD4-4969-8051-BC20898BF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51B8F-283A-498D-B111-0BCB148D6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C35E4-94A4-4CC9-B458-DB4A5A14D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24B0E-EF8B-48F7-B448-9C2CC1716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0B7B5-E9F8-46F9-B37D-4CB956D21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5C6B4-8654-4289-8AD9-25B67960A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9ACE3-C282-4C9B-A0A5-D2F2B4928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8B462-D831-4278-BBAC-4AF1C6C55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C476-B898-4833-948F-5AA36D051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5D7F9-1E51-4246-AC21-C1FBEB051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0DBBE-97CA-4A7E-A6D9-6FC856A0B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47208-117A-46C5-8FAF-EE1327C38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B117E-665D-4003-B1C4-E6FED7B62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4B807-3778-4B00-9F0F-18052B8C3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797CB-A885-4A1C-ABC6-F92C0A65A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FF2DE-EB24-466A-926E-149BF4E8E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84290-5808-43D3-B220-D5B2E1BF3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014F2-C220-4886-9B38-503B1F27A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BC5CE-A336-4FFB-AB1B-2C5767302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54AF-ACB1-4AF4-93A0-AD731683E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B3BE2-D8DE-48D6-BEFA-CAC059B95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E5C25-757F-4CBC-A12B-3C6AF8BF5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95370-B079-4486-AE05-466DFAA1B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8882C-4310-4415-82D3-5D8C80E2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94312-AB71-4918-BC9B-63040749B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7478E-C113-435D-9CD0-3F0C67419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996B0-1BD4-4F10-BEA7-134A93216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FDAFC-C1B0-4CD4-9A13-8066DBC60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92177-78D4-473E-9885-F77D96900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67033-8F41-4464-8EBD-E36106451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2BF2-5A08-462D-BD9E-91CCA50E9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5B4F4-20AE-4A6F-A680-8D2EDD4E9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169DB-4761-4013-A8AD-DAC8640E0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369D8-3DD7-4739-8832-ECAAEE0AC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039E9-6324-485D-8B6E-FCADC5501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5C514-194E-42DC-A98A-3E1FBC72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A9152-CCAE-4EB8-88D6-DC3481974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81378-C115-4A2A-8B1E-D0FA7F978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656B67-7B2C-4981-98A0-33D68CF52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9545A-ECEB-41FA-80BD-7F849B814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9DFE2A-141C-4DEC-B4AC-8D402ADE9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DFDB-8301-44B6-B0F2-657ED5B85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ACB8C7-E702-46BF-BB7C-7954C785A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A29E38-948F-49B4-BEF6-9C0C3C0BA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6E91D7-BA3A-4C30-BA4B-0FE1DB57F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5D4EDA-A450-4098-AAE8-7262E9876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1756D8-476A-4DE3-AD3A-DF151FDEF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CE5123-2562-4BC3-8996-A2A2265C2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B5F695-A010-4EF3-A05D-53D13AC0A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F72D98-C147-4487-BA17-0194AA561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A7A184-C191-478B-83A4-9ED0AFC9C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DDAB62-DCBC-4E7A-B240-F90629F6B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7CB2-40EC-44CD-B51E-EC6E97E01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4B8F4D-F733-42A2-BA7F-E22B9B6A2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5CA8-B8E0-4448-B888-5302DAA64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AB7F-8E66-410B-811F-4AF97F00C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79E5-F0DB-40A8-B82E-33EB4806F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35F80-9E35-4C7C-A378-8E7CAD417A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A01E4-CC4A-40BB-B846-D59CD17A84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2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13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4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215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6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27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5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46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3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64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71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72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3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4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5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253D4-67BA-4838-B45C-E0083F571E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8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319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0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321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2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333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1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2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9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370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77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378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9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0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1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A9E20-3AA2-4877-96DF-5E68E6ED4E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4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25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6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27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38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439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7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458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75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476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83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484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5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6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7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31ABA-F472-4418-B70E-914A03301D4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714400" y="142560"/>
            <a:ext cx="6143400" cy="2500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ТЕМА СЕМИНАРА:</a:t>
            </a:r>
            <a:br>
              <a:rPr sz="2800"/>
            </a:b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«Стили семейного воспитания и агрессивное поведение детей».</a:t>
            </a:r>
            <a:br>
              <a:rPr sz="28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30" name="Picture 7" descr="http://t2.gstatic.com/images?q=tbn:ANd9GcSkD2Lo3M9gU3g9GPqy-NDhTwigurtqpsHi2rI0ZQw4nthfFd9t"/>
          <p:cNvPicPr/>
          <p:nvPr/>
        </p:nvPicPr>
        <p:blipFill>
          <a:blip r:embed="rId1"/>
          <a:stretch/>
        </p:blipFill>
        <p:spPr>
          <a:xfrm>
            <a:off x="0" y="1557360"/>
            <a:ext cx="2697120" cy="269568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9" descr="http://t1.gstatic.com/images?q=tbn:ANd9GcQq3CjfE7pyNBIL8taWynO1B1Hz2RudG-GC-kSwEZdzI80oM3Wc-A"/>
          <p:cNvPicPr/>
          <p:nvPr/>
        </p:nvPicPr>
        <p:blipFill>
          <a:blip r:embed="rId2"/>
          <a:stretch/>
        </p:blipFill>
        <p:spPr>
          <a:xfrm>
            <a:off x="539640" y="4253040"/>
            <a:ext cx="3168720" cy="253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Акцентуация характера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«Лабильность»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7030a0"/>
                </a:solidFill>
                <a:latin typeface="Arial"/>
              </a:rPr>
              <a:t>агрессия от страха, «быть как все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ctr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«Циклоидность»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предрасположен к проявлению агрессии из-за эмоционального неравновес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ctr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ce4ff"/>
                </a:solidFill>
                <a:latin typeface="Arial"/>
              </a:rPr>
              <a:t>Эпилептоидность»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крайне агрессивны и раздражитель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Arial"/>
              </a:rPr>
              <a:t>Социально- биологические 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ричины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395280" y="1413000"/>
            <a:ext cx="822960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-488520" algn="ctr"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Мальчик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чаще проявляют агрессию, нежели девочк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520" indent="-488520" algn="ctr"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Настрой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родителе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520" indent="-488520" algn="ctr"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 оказаться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«белой вороной»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изгоям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520" indent="-488520" algn="ctr"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влечь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внимани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сверстников, взрослых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520" indent="-488520" algn="ctr"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условлены установками,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предрассудкам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системой ценностей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начимых для них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взрослых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520" indent="-488520" algn="ctr"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елить всех людей на «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своих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» и «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чужих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»- подростк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520" indent="-488520" algn="ctr"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Семейные установк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520" indent="-488520" algn="ctr"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Защита и мест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520" indent="-488520" algn="ctr"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520" indent="-488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520" indent="-488520" algn="ctr"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Arial"/>
              </a:rPr>
              <a:t>Психологические</a:t>
            </a: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 причины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Недостаточно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развитие интеллекта и коммуникативных навык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ctr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Сниженный уровень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морегуляци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ctr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Неразвитость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игровой деятельност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ctr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Сниженна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самооценк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ctr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Нарушени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в отношениях со сверстник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5915160" cy="1384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Физическая агрессия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 –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использование физической силы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против другого лица.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                                 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644720" y="1905120"/>
            <a:ext cx="4041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Косвенная агрессия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– агрессия, окольным путём направленная на другое лицо или ни на кого не направленна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8" name="Picture 4" descr="110702"/>
          <p:cNvPicPr/>
          <p:nvPr/>
        </p:nvPicPr>
        <p:blipFill>
          <a:blip r:embed="rId1"/>
          <a:stretch/>
        </p:blipFill>
        <p:spPr>
          <a:xfrm>
            <a:off x="6300720" y="333360"/>
            <a:ext cx="2222640" cy="324000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15" descr="agr_03"/>
          <p:cNvPicPr/>
          <p:nvPr/>
        </p:nvPicPr>
        <p:blipFill>
          <a:blip r:embed="rId2"/>
          <a:stretch/>
        </p:blipFill>
        <p:spPr>
          <a:xfrm>
            <a:off x="1103400" y="2397240"/>
            <a:ext cx="2913120" cy="3349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5483160" cy="1384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Раздражение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 –</a:t>
            </a:r>
            <a:br>
              <a:rPr sz="2800"/>
            </a:b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готовность к проявлению </a:t>
            </a:r>
            <a:br>
              <a:rPr sz="2800"/>
            </a:b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негативных чувств </a:t>
            </a:r>
            <a:br>
              <a:rPr sz="2800"/>
            </a:b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при малейшем возбуждении</a:t>
            </a:r>
            <a:br>
              <a:rPr sz="2800"/>
            </a:b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 (вспыльчивость, грубость)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644720" y="1905120"/>
            <a:ext cx="4041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Негативизм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 –оппозиционная манера в поведении от пассивного сопротивления до активной борьбы против установившихся обычаев и законо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2" name="Picture 4" descr="agresia3"/>
          <p:cNvPicPr/>
          <p:nvPr/>
        </p:nvPicPr>
        <p:blipFill>
          <a:blip r:embed="rId1"/>
          <a:stretch/>
        </p:blipFill>
        <p:spPr>
          <a:xfrm>
            <a:off x="5796000" y="549360"/>
            <a:ext cx="2703600" cy="237636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8" descr="24732270"/>
          <p:cNvPicPr/>
          <p:nvPr/>
        </p:nvPicPr>
        <p:blipFill>
          <a:blip r:embed="rId2"/>
          <a:stretch/>
        </p:blipFill>
        <p:spPr>
          <a:xfrm>
            <a:off x="895320" y="3165480"/>
            <a:ext cx="3052800" cy="2313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6059520" cy="1384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Обида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 – зависть и ненависть</a:t>
            </a:r>
            <a:br>
              <a:rPr sz="2800"/>
            </a:b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 к окружающим за действительные и </a:t>
            </a:r>
            <a:br>
              <a:rPr sz="2800"/>
            </a:b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вымышленные действия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65" name="Picture 11" descr="i"/>
          <p:cNvPicPr/>
          <p:nvPr/>
        </p:nvPicPr>
        <p:blipFill>
          <a:blip r:embed="rId1"/>
          <a:stretch/>
        </p:blipFill>
        <p:spPr>
          <a:xfrm>
            <a:off x="684360" y="2349360"/>
            <a:ext cx="3166920" cy="3456000"/>
          </a:xfrm>
          <a:prstGeom prst="rect">
            <a:avLst/>
          </a:prstGeom>
          <a:ln w="0">
            <a:noFill/>
          </a:ln>
        </p:spPr>
      </p:pic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00720" y="1915920"/>
            <a:ext cx="42480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Подозрительность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в диапазоне от недоверия и осторожность по отношении к людям до убеждения в том, что другие люди планируют и приносят вре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7" name="Picture 12" descr="а2"/>
          <p:cNvPicPr/>
          <p:nvPr/>
        </p:nvPicPr>
        <p:blipFill>
          <a:blip r:embed="rId2"/>
          <a:stretch/>
        </p:blipFill>
        <p:spPr>
          <a:xfrm>
            <a:off x="6516720" y="404640"/>
            <a:ext cx="1727280" cy="2232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95280" y="291960"/>
            <a:ext cx="8291520" cy="1192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Вербальная агрессия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– </a:t>
            </a:r>
            <a:br>
              <a:rPr sz="2800"/>
            </a:b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выражение негативных чувств,</a:t>
            </a:r>
            <a:br>
              <a:rPr sz="2800"/>
            </a:b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 как через форму(крик, визг), </a:t>
            </a:r>
            <a:br>
              <a:rPr sz="2800"/>
            </a:b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так и через содержание</a:t>
            </a:r>
            <a:br>
              <a:rPr sz="2800"/>
            </a:b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 словесных ответов (проклятия, угрозы)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115640" y="3933360"/>
            <a:ext cx="734364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Самоагрессия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– разрушительный вид поведения людей с нарушением развития: битьё головой, кусание рук, чрезмерное расчесывание и царапание своего тел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0" name="Picture 10" descr="agresiya2"/>
          <p:cNvPicPr/>
          <p:nvPr/>
        </p:nvPicPr>
        <p:blipFill>
          <a:blip r:embed="rId1"/>
          <a:stretch/>
        </p:blipFill>
        <p:spPr>
          <a:xfrm>
            <a:off x="5724360" y="2349360"/>
            <a:ext cx="3116520" cy="168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15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Arial"/>
              </a:rPr>
              <a:t>Формы</a:t>
            </a:r>
            <a:r>
              <a:rPr b="0" i="1" lang="ru-RU" sz="3600" spc="-1" strike="noStrike">
                <a:solidFill>
                  <a:srgbClr val="ccecff"/>
                </a:solidFill>
                <a:latin typeface="Arial"/>
              </a:rPr>
              <a:t> проявления агрессии: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38480" cy="47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Недеструктивн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Механизм удовлетворения желания, достижения цели и способности  к адаптации. Побуждает ребенка  к конкуренции в окружающем мире, защите своих прав и интересов, служит для развития познания и способности положиться на себ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716000" y="1557360"/>
            <a:ext cx="397044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Враждебная (деструктивная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Злобное, враждебное поведение, желание причинить боль, получить удовольствие от этого. Результаты: конфликты, становление агрессивности как черты личности и снижение адаптивных возможностей ребен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Стрелка вниз 4"/>
          <p:cNvSpPr/>
          <p:nvPr/>
        </p:nvSpPr>
        <p:spPr>
          <a:xfrm>
            <a:off x="1871640" y="1341360"/>
            <a:ext cx="1079640" cy="7192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Стрелка вниз 6"/>
          <p:cNvSpPr/>
          <p:nvPr/>
        </p:nvSpPr>
        <p:spPr>
          <a:xfrm>
            <a:off x="6216480" y="1305000"/>
            <a:ext cx="792360" cy="512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Агрессия младших школьников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08000" y="764640"/>
            <a:ext cx="90360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Инициатор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группировки ребят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грессия более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организованна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Враждебна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агрессия начинает преобладать над инструментально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ети стараются решать проблемы в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своем кругу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не прибегая к взрослы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ормирование группировок- возможность испытать чувства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комфорт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защищенност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повышен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своих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возможностей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(исчезновение страха наказания за проявление агрессии, обостренное желание утвердиться в роли полноправного участника событий, занять в группе достойное место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Возрастает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жестокость, разрушительность и другие проявления враждебной деструктивност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Подражани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поведению любимых герое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258560" y="291600"/>
            <a:ext cx="7427880" cy="257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Агрессия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подростков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08000" y="907920"/>
            <a:ext cx="87120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Проявляют открыто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получая тычки и жизненный опыт- либо добиваются авторитета, престижа, самореализации, либо ломаются, спиваются, кончают жизнь самоубийство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Прячут и подавляют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становятся послушными пай девочками ( мальчиками), при этом утрачивают часть энергии, ничего особого не добиваясь. Срывы в виде неврозов, психосоматических заболеваний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Цель семинара: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999720" y="1928520"/>
            <a:ext cx="72867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накомство с понятием «агрессивное поведение» детей 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 стилями семейного воспитания, которые формируют такое поведе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Факторы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, способствующие росту агрессивности у подростков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81" name="Схема 4" descr=""/>
          <p:cNvPicPr/>
          <p:nvPr/>
        </p:nvPicPr>
        <p:blipFill>
          <a:blip r:embed="rId1"/>
          <a:stretch/>
        </p:blipFill>
        <p:spPr>
          <a:xfrm>
            <a:off x="890640" y="1322280"/>
            <a:ext cx="7510320" cy="5145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Как помочь агрессивному ребенку?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755280" y="1412640"/>
            <a:ext cx="793116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бота с гнев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учение детей навыкам распознавания и контроля, умению владеть собой в ситуациях, провоцирующих вспышки гне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ормирование способности к эмпатии, доверию, сочувствию, сопереживанию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витие конструктивных навыков общ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" dur="500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7" dur="500"/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" dur="500"/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500"/>
                                        <p:tgtEl>
                                          <p:spTgt spid="5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15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Как взрослому правильно вести себя с агрессивным ребенком?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85672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Спокойное отношение в случае незначительной агресси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лное игнорирование реакций ребен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ражение понимания чувств ребенка («Конечно, тебе обидно…»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еключение внимания («Помоги мне раздать тетради…»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зитивное обозначение поведения («Ты злишься потому, что ты устал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4000" y="620280"/>
            <a:ext cx="8002440" cy="576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2. Акцентирование внимания на поступках ( поведении), а не личности (обратная связь);</a:t>
            </a: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57880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нстатация факта («Ты ведешь себя агрессивно»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нстатирующий вопрос («Ты злишься?»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скрытие мотивов агрессивного поведения («Ты хочешь меня обидеть?, продемонстрировать силу?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наружение своих собственных чувств по отношению к нежелательному поведению ( «Мне не нравится, когда со мной говорят в таком тоне»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ппеляция к правилам (« Мы  же с тобой договаривались!»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00"/>
                </a:solidFill>
                <a:latin typeface="Arial"/>
              </a:rPr>
              <a:t>3. Контроль над собственными негативными эмоциями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489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Взрослым необходимо очень тщательно контролировать свои негативные эмоции во взаимодействии с агрессивными детьм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Необходимо признать нормальность и естественность этих негативных переживаний, понять характер, силу и длительность таких чувст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4. Снижение напряжения ситуации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475920"/>
            <a:ext cx="82915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Неправильные действия взрослого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2e6ff"/>
                </a:solidFill>
                <a:latin typeface="Arial"/>
              </a:rPr>
              <a:t>Повышение голоса (угрожающий тон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2e6ff"/>
                </a:solidFill>
                <a:latin typeface="Arial"/>
              </a:rPr>
              <a:t>Демонстрация власти  («Учитель здесь пока еще я», «Будет так, как я скажу»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2e6ff"/>
                </a:solidFill>
                <a:latin typeface="Arial"/>
              </a:rPr>
              <a:t>Крик, негодовани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2e6ff"/>
                </a:solidFill>
                <a:latin typeface="Arial"/>
              </a:rPr>
              <a:t>Агрессивные позы, жесты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2e6ff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c2e6ff"/>
                </a:solidFill>
                <a:latin typeface="Arial"/>
              </a:rPr>
              <a:t>насмешки, высмеивание, передразнивани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2e6ff"/>
                </a:solidFill>
                <a:latin typeface="Arial"/>
              </a:rPr>
              <a:t>Негативная оценка личности ребенка, его близких, друзе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2e6ff"/>
                </a:solidFill>
                <a:latin typeface="Arial"/>
              </a:rPr>
              <a:t>Использование физической силы, непреклонное настаивание на своей правот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2e6ff"/>
                </a:solidFill>
                <a:latin typeface="Arial"/>
              </a:rPr>
              <a:t>Нотации, проповеди, «чтение морали»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2e6ff"/>
                </a:solidFill>
                <a:latin typeface="Arial"/>
              </a:rPr>
              <a:t>Наказания, угрозы наказа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2e6ff"/>
                </a:solidFill>
                <a:latin typeface="Arial"/>
              </a:rPr>
              <a:t>Обобщение типа : «Вы все одинаковые», «Ты как всегда»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2e6ff"/>
                </a:solidFill>
                <a:latin typeface="Arial"/>
              </a:rPr>
              <a:t>Сравнение ребенка с другими детьми- не в его пользу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2e6ff"/>
                </a:solidFill>
                <a:latin typeface="Arial"/>
              </a:rPr>
              <a:t>Команды, давление, жесткие требова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2e6ff"/>
                </a:solidFill>
                <a:latin typeface="Arial"/>
              </a:rPr>
              <a:t>Оправдания, подкуп, наград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00"/>
                </a:solidFill>
                <a:latin typeface="Arial"/>
              </a:rPr>
              <a:t>5. Обсуждение проступка: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9152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Обсуждать поведение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 в момент проявления агрессии, а после того, когда все успокоятся и ситуация разрешится, но и в то же время как можно скорее…( лучше наедине, без свидетелей, и только после в классе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Сохранять спокойствие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объективность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дробно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обсудить последствия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грессивного поведения, его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разрушительность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по отношению к окружающим и к самому себ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6. Сохранение положительной репутации ребенка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178920" y="1483920"/>
            <a:ext cx="87138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Arial"/>
              </a:rPr>
              <a:t>Публично минимизировать вину подростка («Ты  не важно себя чувствуешь», Ты не хотел его обидеть»), в беседе наедине показать истину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Не требовать полного подчинения, позволить подростку выполнить ваше требование по-своему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редложить компромисс, договор с взаимными уступк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Arial"/>
              </a:rPr>
              <a:t>7. Демонстрация модели неагрессивного поведения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843588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Arial"/>
              </a:rPr>
              <a:t>Нерефлексивное слушани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слушание без анализ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Arial"/>
              </a:rPr>
              <a:t>Пауз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дающая возможность ребенку успокоитьс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нушение спокойствия </a:t>
            </a:r>
            <a:r>
              <a:rPr b="0" lang="ru-RU" sz="2800" spc="-1" strike="noStrike">
                <a:solidFill>
                  <a:srgbClr val="ff6600"/>
                </a:solidFill>
                <a:latin typeface="Arial"/>
              </a:rPr>
              <a:t>невербальными средствам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яснение ситуации с помощью </a:t>
            </a:r>
            <a:r>
              <a:rPr b="0" lang="ru-RU" sz="2800" spc="-1" strike="noStrike">
                <a:solidFill>
                  <a:srgbClr val="ff6600"/>
                </a:solidFill>
                <a:latin typeface="Arial"/>
              </a:rPr>
              <a:t>наводящих вопрос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пользование </a:t>
            </a:r>
            <a:r>
              <a:rPr b="0" lang="ru-RU" sz="2800" spc="-1" strike="noStrike">
                <a:solidFill>
                  <a:srgbClr val="ff6600"/>
                </a:solidFill>
                <a:latin typeface="Arial"/>
              </a:rPr>
              <a:t>юмор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знание </a:t>
            </a:r>
            <a:r>
              <a:rPr b="0" lang="ru-RU" sz="2800" spc="-1" strike="noStrike">
                <a:solidFill>
                  <a:srgbClr val="ff6600"/>
                </a:solidFill>
                <a:latin typeface="Arial"/>
              </a:rPr>
              <a:t>чувств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ребен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Критерии агрессивности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бенок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асто теряет контроль над собо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асто спорит, ругается со взрослым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асто отказывается выполнять правил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асто специально раздражает люде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асто винит других в своих ошибка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асто сердится и отказывается сделать что-либо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асто завистлив, мстителе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Задачи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250920" y="981000"/>
            <a:ext cx="8642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скрыть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нятие «агрессивное поведение»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сихологические особенности детей с агрессивным поведение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явление агрессивного поведения (А) детей исследуемой групп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ипы семейного воспитания и их особенност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обенности стилей семейного воспитания (Б)  родителей исследуемой групп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казать взаимосвязь между показателям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 и Б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Каких людей ты считаешь агрессивными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428760" y="2428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Злые , невежливые, громко ругаются, кричат на всех, бьют, дерутся, люди , которые не могут справиться со своими эмоциями, они вечно не довольные, постоянно ворчат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Показатели теста агрессивности  Л.Г.Почебут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Цель: определить виды агрессивного поведения, уровень агрессивности и адаптационные возможности  детей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04" name="Объект 5"/>
          <p:cNvGraphicFramePr/>
          <p:nvPr/>
        </p:nvGraphicFramePr>
        <p:xfrm>
          <a:off x="1332000" y="1989000"/>
          <a:ext cx="6769080" cy="324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5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989000"/>
                    <a:ext cx="6769080" cy="32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2"/>
          <p:cNvSpPr/>
          <p:nvPr/>
        </p:nvSpPr>
        <p:spPr>
          <a:xfrm>
            <a:off x="1117440" y="436680"/>
            <a:ext cx="690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Показатели склонностей к агрессивного поведе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мальчиков и девоче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08" name="Объект 7"/>
          <p:cNvGraphicFramePr/>
          <p:nvPr/>
        </p:nvGraphicFramePr>
        <p:xfrm>
          <a:off x="826920" y="1773360"/>
          <a:ext cx="7490160" cy="3959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9" name="Объект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773360"/>
                    <a:ext cx="7490160" cy="39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2"/>
          <p:cNvSpPr/>
          <p:nvPr/>
        </p:nvSpPr>
        <p:spPr>
          <a:xfrm>
            <a:off x="1692360" y="443520"/>
            <a:ext cx="584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Показатели видов агрессивного повед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у мальчиков и девоче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11" name="Объект 5"/>
          <p:cNvGraphicFramePr/>
          <p:nvPr/>
        </p:nvGraphicFramePr>
        <p:xfrm>
          <a:off x="900000" y="2133720"/>
          <a:ext cx="7775640" cy="3959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2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133720"/>
                    <a:ext cx="7775640" cy="39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614" name="Picture 3" descr=""/>
          <p:cNvPicPr/>
          <p:nvPr/>
        </p:nvPicPr>
        <p:blipFill>
          <a:blip r:embed="rId1"/>
          <a:stretch/>
        </p:blipFill>
        <p:spPr>
          <a:xfrm>
            <a:off x="0" y="-284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5" name="Прямоугольник 3" descr=""/>
          <p:cNvPicPr/>
          <p:nvPr/>
        </p:nvPicPr>
        <p:blipFill>
          <a:blip r:embed="rId2"/>
          <a:stretch/>
        </p:blipFill>
        <p:spPr>
          <a:xfrm>
            <a:off x="12600" y="1646280"/>
            <a:ext cx="8686800" cy="2328840"/>
          </a:xfrm>
          <a:prstGeom prst="rect">
            <a:avLst/>
          </a:prstGeom>
          <a:ln w="0">
            <a:noFill/>
          </a:ln>
        </p:spPr>
      </p:pic>
      <p:pic>
        <p:nvPicPr>
          <p:cNvPr id="616" name="Рисунок 5" descr="H:\тн\05192010165550.jpg"/>
          <p:cNvPicPr/>
          <p:nvPr/>
        </p:nvPicPr>
        <p:blipFill>
          <a:blip r:embed="rId3"/>
          <a:stretch/>
        </p:blipFill>
        <p:spPr>
          <a:xfrm>
            <a:off x="2500200" y="4143240"/>
            <a:ext cx="3571920" cy="2071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2"/>
          <p:cNvSpPr/>
          <p:nvPr/>
        </p:nvSpPr>
        <p:spPr>
          <a:xfrm>
            <a:off x="611280" y="115920"/>
            <a:ext cx="7848360" cy="936720"/>
          </a:xfrm>
          <a:prstGeom prst="rect">
            <a:avLst/>
          </a:prstGeom>
          <a:solidFill>
            <a:srgbClr val="ff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Классифик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неправильно сложившихся стилей воспит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в функционально несостоятельных семьях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Rectangle 3"/>
          <p:cNvSpPr/>
          <p:nvPr/>
        </p:nvSpPr>
        <p:spPr>
          <a:xfrm>
            <a:off x="250920" y="1413000"/>
            <a:ext cx="4059000" cy="79200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Увещеватель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Rectangle 4"/>
          <p:cNvSpPr/>
          <p:nvPr/>
        </p:nvSpPr>
        <p:spPr>
          <a:xfrm>
            <a:off x="4859280" y="1413000"/>
            <a:ext cx="4105440" cy="79200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Жёстко-авторитарный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2f1ace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Rectangle 6"/>
          <p:cNvSpPr/>
          <p:nvPr/>
        </p:nvSpPr>
        <p:spPr>
          <a:xfrm>
            <a:off x="250920" y="2492280"/>
            <a:ext cx="4032000" cy="792360"/>
          </a:xfrm>
          <a:prstGeom prst="rect">
            <a:avLst/>
          </a:prstGeom>
          <a:solidFill>
            <a:srgbClr val="ff00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тстранённо-равнодушный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2f1ace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Rectangle 10"/>
          <p:cNvSpPr/>
          <p:nvPr/>
        </p:nvSpPr>
        <p:spPr>
          <a:xfrm>
            <a:off x="250920" y="3573360"/>
            <a:ext cx="3924360" cy="792360"/>
          </a:xfrm>
          <a:prstGeom prst="rect">
            <a:avLst/>
          </a:prstGeom>
          <a:solidFill>
            <a:srgbClr val="00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Непоследовательный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Rectangle 2"/>
          <p:cNvSpPr/>
          <p:nvPr/>
        </p:nvSpPr>
        <p:spPr>
          <a:xfrm>
            <a:off x="1619280" y="5877000"/>
            <a:ext cx="6265800" cy="64764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оспитание по типу «кумир семьи»</a:t>
            </a:r>
            <a:r>
              <a:rPr b="1" lang="ru-RU" sz="2400" spc="-1" strike="noStrike">
                <a:solidFill>
                  <a:srgbClr val="ff66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Rectangle 10"/>
          <p:cNvSpPr/>
          <p:nvPr/>
        </p:nvSpPr>
        <p:spPr>
          <a:xfrm>
            <a:off x="4859280" y="2565360"/>
            <a:ext cx="4140360" cy="79236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Педантично-подозрительный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Rectangle 4"/>
          <p:cNvSpPr/>
          <p:nvPr/>
        </p:nvSpPr>
        <p:spPr>
          <a:xfrm>
            <a:off x="4859280" y="4797360"/>
            <a:ext cx="4105440" cy="647640"/>
          </a:xfrm>
          <a:prstGeom prst="rect">
            <a:avLst/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зиция круговой обороны</a:t>
            </a:r>
            <a:r>
              <a:rPr b="0" lang="ru-RU" sz="3200" spc="-1" strike="noStrike">
                <a:solidFill>
                  <a:srgbClr val="2f1ace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Rectangle 3"/>
          <p:cNvSpPr/>
          <p:nvPr/>
        </p:nvSpPr>
        <p:spPr>
          <a:xfrm>
            <a:off x="250920" y="4724280"/>
            <a:ext cx="4059000" cy="792360"/>
          </a:xfrm>
          <a:prstGeom prst="rect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опуститительско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нисходитель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Rectangle 6"/>
          <p:cNvSpPr/>
          <p:nvPr/>
        </p:nvSpPr>
        <p:spPr>
          <a:xfrm>
            <a:off x="4932360" y="3645000"/>
            <a:ext cx="4032360" cy="79200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Демонстративный стиль</a:t>
            </a:r>
            <a:r>
              <a:rPr b="0" lang="ru-RU" sz="3200" spc="-1" strike="noStrike">
                <a:solidFill>
                  <a:srgbClr val="2f1ace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Line 23"/>
          <p:cNvSpPr/>
          <p:nvPr/>
        </p:nvSpPr>
        <p:spPr>
          <a:xfrm>
            <a:off x="4500720" y="1197000"/>
            <a:ext cx="0" cy="446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Line 25"/>
          <p:cNvSpPr/>
          <p:nvPr/>
        </p:nvSpPr>
        <p:spPr>
          <a:xfrm flipH="1">
            <a:off x="4211280" y="1844640"/>
            <a:ext cx="289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Line 25"/>
          <p:cNvSpPr/>
          <p:nvPr/>
        </p:nvSpPr>
        <p:spPr>
          <a:xfrm flipH="1">
            <a:off x="4284720" y="2852640"/>
            <a:ext cx="21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Line 25"/>
          <p:cNvSpPr/>
          <p:nvPr/>
        </p:nvSpPr>
        <p:spPr>
          <a:xfrm flipH="1">
            <a:off x="4284720" y="3933720"/>
            <a:ext cx="21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Line 25"/>
          <p:cNvSpPr/>
          <p:nvPr/>
        </p:nvSpPr>
        <p:spPr>
          <a:xfrm flipH="1">
            <a:off x="4211280" y="5084640"/>
            <a:ext cx="289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Line 30"/>
          <p:cNvSpPr/>
          <p:nvPr/>
        </p:nvSpPr>
        <p:spPr>
          <a:xfrm>
            <a:off x="4356000" y="184464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Line 30"/>
          <p:cNvSpPr/>
          <p:nvPr/>
        </p:nvSpPr>
        <p:spPr>
          <a:xfrm>
            <a:off x="4356000" y="285264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Line 30"/>
          <p:cNvSpPr/>
          <p:nvPr/>
        </p:nvSpPr>
        <p:spPr>
          <a:xfrm>
            <a:off x="4356000" y="393372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Line 30"/>
          <p:cNvSpPr/>
          <p:nvPr/>
        </p:nvSpPr>
        <p:spPr>
          <a:xfrm>
            <a:off x="4284720" y="5084640"/>
            <a:ext cx="431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Line 21"/>
          <p:cNvSpPr/>
          <p:nvPr/>
        </p:nvSpPr>
        <p:spPr>
          <a:xfrm>
            <a:off x="4500720" y="5445000"/>
            <a:ext cx="0" cy="405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0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Line 2"/>
          <p:cNvSpPr/>
          <p:nvPr/>
        </p:nvSpPr>
        <p:spPr>
          <a:xfrm>
            <a:off x="4500720" y="1557360"/>
            <a:ext cx="647640" cy="273528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Line 3"/>
          <p:cNvSpPr/>
          <p:nvPr/>
        </p:nvSpPr>
        <p:spPr>
          <a:xfrm flipH="1">
            <a:off x="3276360" y="1557360"/>
            <a:ext cx="1222200" cy="93492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Oval 4"/>
          <p:cNvSpPr/>
          <p:nvPr/>
        </p:nvSpPr>
        <p:spPr>
          <a:xfrm>
            <a:off x="2340000" y="4437000"/>
            <a:ext cx="5832360" cy="21589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Родители проявляют по отношени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 своим детям полную беспомощность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Oval 5"/>
          <p:cNvSpPr/>
          <p:nvPr/>
        </p:nvSpPr>
        <p:spPr>
          <a:xfrm>
            <a:off x="0" y="2492280"/>
            <a:ext cx="4464000" cy="2087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Oval 6"/>
          <p:cNvSpPr/>
          <p:nvPr/>
        </p:nvSpPr>
        <p:spPr>
          <a:xfrm>
            <a:off x="5400720" y="2421000"/>
            <a:ext cx="3743280" cy="20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Родител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н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е принимаю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олевых решений и наказан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Oval 7"/>
          <p:cNvSpPr/>
          <p:nvPr/>
        </p:nvSpPr>
        <p:spPr>
          <a:xfrm>
            <a:off x="1116000" y="115920"/>
            <a:ext cx="7416720" cy="14414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Увещеватель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Дети в таких семьях «садятся на голову»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родителя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468360" y="2636640"/>
            <a:ext cx="3527280" cy="194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Haettenschweiler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Haettenschweiler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Haettenschweiler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Родители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предпочитают уговаривать, объяснять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Line 9"/>
          <p:cNvSpPr/>
          <p:nvPr/>
        </p:nvSpPr>
        <p:spPr>
          <a:xfrm>
            <a:off x="4500720" y="1557360"/>
            <a:ext cx="1726920" cy="93492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Line 2"/>
          <p:cNvSpPr/>
          <p:nvPr/>
        </p:nvSpPr>
        <p:spPr>
          <a:xfrm>
            <a:off x="4500720" y="1557360"/>
            <a:ext cx="647640" cy="273528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Line 3"/>
          <p:cNvSpPr/>
          <p:nvPr/>
        </p:nvSpPr>
        <p:spPr>
          <a:xfrm flipH="1">
            <a:off x="3276360" y="1557360"/>
            <a:ext cx="1222200" cy="100800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Oval 4"/>
          <p:cNvSpPr/>
          <p:nvPr/>
        </p:nvSpPr>
        <p:spPr>
          <a:xfrm>
            <a:off x="2195640" y="4699080"/>
            <a:ext cx="5832360" cy="19699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Женщи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оглощена воспитание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младшего ребёнка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овершенно забыв о старших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Oval 5"/>
          <p:cNvSpPr/>
          <p:nvPr/>
        </p:nvSpPr>
        <p:spPr>
          <a:xfrm>
            <a:off x="0" y="2492280"/>
            <a:ext cx="4464000" cy="2087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Oval 6"/>
          <p:cNvSpPr/>
          <p:nvPr/>
        </p:nvSpPr>
        <p:spPr>
          <a:xfrm>
            <a:off x="5219640" y="2276640"/>
            <a:ext cx="3924360" cy="23047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Женщина, расставшись с муже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ерестаёт любить «его ребёнка»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Oval 7"/>
          <p:cNvSpPr/>
          <p:nvPr/>
        </p:nvSpPr>
        <p:spPr>
          <a:xfrm>
            <a:off x="1116000" y="115920"/>
            <a:ext cx="7416720" cy="14414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Отстранённо – равнодуш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Ребёнок испытывает дефицит любви и внимания.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468360" y="2205000"/>
            <a:ext cx="374328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Haettenschweiler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Haettenschweiler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Haettenschweiler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Женщина занята поиском нового спутника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Line 9"/>
          <p:cNvSpPr/>
          <p:nvPr/>
        </p:nvSpPr>
        <p:spPr>
          <a:xfrm>
            <a:off x="4500720" y="1557360"/>
            <a:ext cx="1511280" cy="79200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Line 2"/>
          <p:cNvSpPr/>
          <p:nvPr/>
        </p:nvSpPr>
        <p:spPr>
          <a:xfrm>
            <a:off x="4500720" y="1557360"/>
            <a:ext cx="647640" cy="273528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Line 3"/>
          <p:cNvSpPr/>
          <p:nvPr/>
        </p:nvSpPr>
        <p:spPr>
          <a:xfrm flipH="1">
            <a:off x="3203640" y="1557360"/>
            <a:ext cx="1295280" cy="107964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Oval 4"/>
          <p:cNvSpPr/>
          <p:nvPr/>
        </p:nvSpPr>
        <p:spPr>
          <a:xfrm>
            <a:off x="2411280" y="4653000"/>
            <a:ext cx="5832720" cy="1800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То наказание, слёзы, ругань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то умиление и всепрощени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Oval 5"/>
          <p:cNvSpPr/>
          <p:nvPr/>
        </p:nvSpPr>
        <p:spPr>
          <a:xfrm>
            <a:off x="0" y="2492280"/>
            <a:ext cx="4572000" cy="21607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Oval 6"/>
          <p:cNvSpPr/>
          <p:nvPr/>
        </p:nvSpPr>
        <p:spPr>
          <a:xfrm>
            <a:off x="5400720" y="2421000"/>
            <a:ext cx="3743280" cy="20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озникают резк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эмоциональные перепад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 отношениях с детьми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Oval 7"/>
          <p:cNvSpPr/>
          <p:nvPr/>
        </p:nvSpPr>
        <p:spPr>
          <a:xfrm>
            <a:off x="1116000" y="115920"/>
            <a:ext cx="7416720" cy="14414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Непоследователь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Ребёнок становится либо неуправляемым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либо, используя разногласия родителей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умело манипулирует ими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108000" y="836280"/>
            <a:ext cx="439272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Haettenschweiler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Haettenschweiler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Haettenschweiler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У родителей,  не хватае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ыдержки, самообладан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для осуществления последовательной воспитательной тактики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Line 9"/>
          <p:cNvSpPr/>
          <p:nvPr/>
        </p:nvSpPr>
        <p:spPr>
          <a:xfrm>
            <a:off x="4500720" y="1557360"/>
            <a:ext cx="1871640" cy="100800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Line 2"/>
          <p:cNvSpPr/>
          <p:nvPr/>
        </p:nvSpPr>
        <p:spPr>
          <a:xfrm>
            <a:off x="4500720" y="1557360"/>
            <a:ext cx="647640" cy="273528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Line 3"/>
          <p:cNvSpPr/>
          <p:nvPr/>
        </p:nvSpPr>
        <p:spPr>
          <a:xfrm flipH="1">
            <a:off x="3203640" y="1557360"/>
            <a:ext cx="1295280" cy="107964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Oval 4"/>
          <p:cNvSpPr/>
          <p:nvPr/>
        </p:nvSpPr>
        <p:spPr>
          <a:xfrm>
            <a:off x="1908000" y="4437000"/>
            <a:ext cx="6409080" cy="2303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изкая педагогическая культура родителей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еразвитость родительских чувств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х сосредоточенность на  собственных проблемах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Oval 5"/>
          <p:cNvSpPr/>
          <p:nvPr/>
        </p:nvSpPr>
        <p:spPr>
          <a:xfrm>
            <a:off x="0" y="2492280"/>
            <a:ext cx="4464000" cy="2087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Oval 6"/>
          <p:cNvSpPr/>
          <p:nvPr/>
        </p:nvSpPr>
        <p:spPr>
          <a:xfrm>
            <a:off x="5219640" y="2349360"/>
            <a:ext cx="3924360" cy="2087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читают, что «все дети такие»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либо рассуждают так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«Мы сами такими же были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Oval 7"/>
          <p:cNvSpPr/>
          <p:nvPr/>
        </p:nvSpPr>
        <p:spPr>
          <a:xfrm>
            <a:off x="1116000" y="115920"/>
            <a:ext cx="7416720" cy="14414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Попуститительско – снисходительн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У ребёнка склонность к непослушанию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на людях ведёт себя неадекватно, нетребователен к себ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468360" y="836280"/>
            <a:ext cx="352728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Haettenschweiler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Haettenschweiler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Haettenschweiler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Родител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не придают значение проступкам детей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Line 9"/>
          <p:cNvSpPr/>
          <p:nvPr/>
        </p:nvSpPr>
        <p:spPr>
          <a:xfrm>
            <a:off x="4500720" y="1557360"/>
            <a:ext cx="1871640" cy="100800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23640" y="2852280"/>
            <a:ext cx="8219880" cy="151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– </a:t>
            </a: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деструктивное поведение, противоречащее нормам и правилам существования людей в обществе, приносящее физический или моральный ущерб людям, или вызывающий у них психологический дискомфорт.</a:t>
            </a:r>
            <a:br>
              <a:rPr sz="3200"/>
            </a:br>
            <a:br>
              <a:rPr sz="54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37" name="Picture 4" descr="BABY8"/>
          <p:cNvPicPr/>
          <p:nvPr/>
        </p:nvPicPr>
        <p:blipFill>
          <a:blip r:embed="rId1"/>
          <a:stretch/>
        </p:blipFill>
        <p:spPr>
          <a:xfrm>
            <a:off x="6261120" y="3762360"/>
            <a:ext cx="2882880" cy="3095640"/>
          </a:xfrm>
          <a:prstGeom prst="rect">
            <a:avLst/>
          </a:prstGeom>
          <a:ln w="0">
            <a:noFill/>
          </a:ln>
        </p:spPr>
      </p:pic>
      <p:sp>
        <p:nvSpPr>
          <p:cNvPr id="538" name="Прямоугольник 1"/>
          <p:cNvSpPr/>
          <p:nvPr/>
        </p:nvSpPr>
        <p:spPr>
          <a:xfrm>
            <a:off x="2627280" y="692280"/>
            <a:ext cx="28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Агрессия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Line 2"/>
          <p:cNvSpPr/>
          <p:nvPr/>
        </p:nvSpPr>
        <p:spPr>
          <a:xfrm>
            <a:off x="4500720" y="1557360"/>
            <a:ext cx="647640" cy="273528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Line 3"/>
          <p:cNvSpPr/>
          <p:nvPr/>
        </p:nvSpPr>
        <p:spPr>
          <a:xfrm flipH="1">
            <a:off x="3203640" y="1557360"/>
            <a:ext cx="1295280" cy="107964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Oval 4"/>
          <p:cNvSpPr/>
          <p:nvPr/>
        </p:nvSpPr>
        <p:spPr>
          <a:xfrm>
            <a:off x="2340000" y="4365720"/>
            <a:ext cx="5832360" cy="21589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Родител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читают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что существует лишь один эффективны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риём воспитания – физическая расправа.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Oval 5"/>
          <p:cNvSpPr/>
          <p:nvPr/>
        </p:nvSpPr>
        <p:spPr>
          <a:xfrm>
            <a:off x="0" y="2492280"/>
            <a:ext cx="4464000" cy="2087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Oval 6"/>
          <p:cNvSpPr/>
          <p:nvPr/>
        </p:nvSpPr>
        <p:spPr>
          <a:xfrm>
            <a:off x="5400720" y="2421000"/>
            <a:ext cx="3743280" cy="20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Родители, чаще отец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збивают ребёнка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Oval 7"/>
          <p:cNvSpPr/>
          <p:nvPr/>
        </p:nvSpPr>
        <p:spPr>
          <a:xfrm>
            <a:off x="1116000" y="115920"/>
            <a:ext cx="7416720" cy="14414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Жёстко-авторитарн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Дети  растут агрессивными, жестокими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стремятся обижать слабых и беззащитных.</a:t>
            </a: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395280" y="1699920"/>
            <a:ext cx="396072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Haettenschweiler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Haettenschweiler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Haettenschweiler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Характерен для родителей, злоупотребляющих физическими наказаниями.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Line 9"/>
          <p:cNvSpPr/>
          <p:nvPr/>
        </p:nvSpPr>
        <p:spPr>
          <a:xfrm>
            <a:off x="4500720" y="1557360"/>
            <a:ext cx="1871640" cy="100800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Line 2"/>
          <p:cNvSpPr/>
          <p:nvPr/>
        </p:nvSpPr>
        <p:spPr>
          <a:xfrm>
            <a:off x="4500720" y="1557360"/>
            <a:ext cx="647640" cy="273528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Line 3"/>
          <p:cNvSpPr/>
          <p:nvPr/>
        </p:nvSpPr>
        <p:spPr>
          <a:xfrm flipH="1">
            <a:off x="3203640" y="1557360"/>
            <a:ext cx="1295280" cy="107964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Oval 4"/>
          <p:cNvSpPr/>
          <p:nvPr/>
        </p:nvSpPr>
        <p:spPr>
          <a:xfrm>
            <a:off x="2340000" y="4508640"/>
            <a:ext cx="5832360" cy="21589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ыбирают друзей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онтролируют свободное время ребёнк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руг его общения и интерес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Oval 5"/>
          <p:cNvSpPr/>
          <p:nvPr/>
        </p:nvSpPr>
        <p:spPr>
          <a:xfrm>
            <a:off x="0" y="2565360"/>
            <a:ext cx="4464000" cy="2087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Oval 6"/>
          <p:cNvSpPr/>
          <p:nvPr/>
        </p:nvSpPr>
        <p:spPr>
          <a:xfrm>
            <a:off x="5400720" y="2421000"/>
            <a:ext cx="3743280" cy="20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Родител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ытаются полностью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золировать ребён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т сверстников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Oval 7"/>
          <p:cNvSpPr/>
          <p:nvPr/>
        </p:nvSpPr>
        <p:spPr>
          <a:xfrm>
            <a:off x="1116000" y="115920"/>
            <a:ext cx="7559640" cy="1873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Педантично-подозрительн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Дети  растут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нерешительными, озлобленными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безынициативными,  неуверенными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Формируются  невротические расстройства у подростк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468360" y="1916280"/>
            <a:ext cx="374328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Haettenschweiler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Haettenschweiler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Haettenschweiler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Родители не доверяют своим детям, подвергают их оскорбительному тотальному контролю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Line 9"/>
          <p:cNvSpPr/>
          <p:nvPr/>
        </p:nvSpPr>
        <p:spPr>
          <a:xfrm>
            <a:off x="5364000" y="1989000"/>
            <a:ext cx="1008360" cy="50508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Line 2"/>
          <p:cNvSpPr/>
          <p:nvPr/>
        </p:nvSpPr>
        <p:spPr>
          <a:xfrm>
            <a:off x="4500720" y="1557360"/>
            <a:ext cx="647640" cy="273528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Line 3"/>
          <p:cNvSpPr/>
          <p:nvPr/>
        </p:nvSpPr>
        <p:spPr>
          <a:xfrm flipH="1">
            <a:off x="3276360" y="1628640"/>
            <a:ext cx="936360" cy="86364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Oval 4"/>
          <p:cNvSpPr/>
          <p:nvPr/>
        </p:nvSpPr>
        <p:spPr>
          <a:xfrm>
            <a:off x="2268360" y="4508640"/>
            <a:ext cx="5832720" cy="21589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 слух заявляют, что сын растёт «бандитом»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дочь «проститутка» и пр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Oval 5"/>
          <p:cNvSpPr/>
          <p:nvPr/>
        </p:nvSpPr>
        <p:spPr>
          <a:xfrm>
            <a:off x="0" y="2492280"/>
            <a:ext cx="4464000" cy="2087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Oval 6"/>
          <p:cNvSpPr/>
          <p:nvPr/>
        </p:nvSpPr>
        <p:spPr>
          <a:xfrm>
            <a:off x="5292720" y="2349360"/>
            <a:ext cx="3851280" cy="2087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Рассказывают о его проступках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явно преувеличив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тепень их опасности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Oval 7"/>
          <p:cNvSpPr/>
          <p:nvPr/>
        </p:nvSpPr>
        <p:spPr>
          <a:xfrm>
            <a:off x="1187280" y="115920"/>
            <a:ext cx="7632720" cy="1512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Демонстративный стил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Приводит к утрате у ребён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стыдливости, чувства раскаяния за свои поступки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снимает внутренний контроль за своё поведение.</a:t>
            </a: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468360" y="2133720"/>
            <a:ext cx="36720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Haettenschweiler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Haettenschweiler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Haettenschweiler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Родители, чаще всего мать, не стесняясь, всем жалуются на своего ребён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Line 9"/>
          <p:cNvSpPr/>
          <p:nvPr/>
        </p:nvSpPr>
        <p:spPr>
          <a:xfrm>
            <a:off x="4788000" y="1628640"/>
            <a:ext cx="1584360" cy="86544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Line 2"/>
          <p:cNvSpPr/>
          <p:nvPr/>
        </p:nvSpPr>
        <p:spPr>
          <a:xfrm>
            <a:off x="4500720" y="1557360"/>
            <a:ext cx="647640" cy="273528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Line 3"/>
          <p:cNvSpPr/>
          <p:nvPr/>
        </p:nvSpPr>
        <p:spPr>
          <a:xfrm flipH="1">
            <a:off x="3203640" y="1557360"/>
            <a:ext cx="1295280" cy="107964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Oval 4"/>
          <p:cNvSpPr/>
          <p:nvPr/>
        </p:nvSpPr>
        <p:spPr>
          <a:xfrm>
            <a:off x="2340000" y="4365720"/>
            <a:ext cx="5832360" cy="21589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Кто указывает на неправильное поведе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х детей  становятся их враг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Oval 5"/>
          <p:cNvSpPr/>
          <p:nvPr/>
        </p:nvSpPr>
        <p:spPr>
          <a:xfrm>
            <a:off x="0" y="2492280"/>
            <a:ext cx="4464000" cy="2087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Oval 6"/>
          <p:cNvSpPr/>
          <p:nvPr/>
        </p:nvSpPr>
        <p:spPr>
          <a:xfrm>
            <a:off x="5400720" y="2421000"/>
            <a:ext cx="3743280" cy="20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Такие родители весьм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агрессивн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астроены ко все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Oval 7"/>
          <p:cNvSpPr/>
          <p:nvPr/>
        </p:nvSpPr>
        <p:spPr>
          <a:xfrm>
            <a:off x="1116000" y="115920"/>
            <a:ext cx="7416720" cy="14414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Позиция круговой оборон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Дети в таких семьях  лживы и жестоки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т.к. постоянно уверенны в родительской защит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468360" y="1773360"/>
            <a:ext cx="352728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Haettenschweiler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Haettenschweiler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Haettenschweiler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Родители строя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вои отношен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 окружающим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о принцип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«наш ребёнок всегда прав»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Line 9"/>
          <p:cNvSpPr/>
          <p:nvPr/>
        </p:nvSpPr>
        <p:spPr>
          <a:xfrm>
            <a:off x="4500720" y="1557360"/>
            <a:ext cx="1871640" cy="100800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Line 2"/>
          <p:cNvSpPr/>
          <p:nvPr/>
        </p:nvSpPr>
        <p:spPr>
          <a:xfrm>
            <a:off x="4500720" y="1557360"/>
            <a:ext cx="647640" cy="273528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Line 3"/>
          <p:cNvSpPr/>
          <p:nvPr/>
        </p:nvSpPr>
        <p:spPr>
          <a:xfrm flipH="1">
            <a:off x="3348000" y="1700280"/>
            <a:ext cx="936720" cy="79200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Oval 4"/>
          <p:cNvSpPr/>
          <p:nvPr/>
        </p:nvSpPr>
        <p:spPr>
          <a:xfrm>
            <a:off x="2484360" y="4365720"/>
            <a:ext cx="5832720" cy="21589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се сделаю для ребёнка, посвящу ему себ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Oval 5"/>
          <p:cNvSpPr/>
          <p:nvPr/>
        </p:nvSpPr>
        <p:spPr>
          <a:xfrm>
            <a:off x="0" y="2492280"/>
            <a:ext cx="4464000" cy="2087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Oval 6"/>
          <p:cNvSpPr/>
          <p:nvPr/>
        </p:nvSpPr>
        <p:spPr>
          <a:xfrm>
            <a:off x="5400720" y="2421000"/>
            <a:ext cx="3743280" cy="20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се его просьб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 прихоти выполняютс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Oval 7"/>
          <p:cNvSpPr/>
          <p:nvPr/>
        </p:nvSpPr>
        <p:spPr>
          <a:xfrm>
            <a:off x="1116000" y="115920"/>
            <a:ext cx="7559640" cy="1584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Воспитание по типу «кумир семьи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Ребёнок растёт эгоистом и от его эгоизма страдают сами родители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-360" y="764640"/>
            <a:ext cx="442764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Haettenschweiler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Haettenschweiler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Haettenschweiler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Ребенок—центр моих интересов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Line 9"/>
          <p:cNvSpPr/>
          <p:nvPr/>
        </p:nvSpPr>
        <p:spPr>
          <a:xfrm>
            <a:off x="4859280" y="1700280"/>
            <a:ext cx="1368360" cy="72072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8713800" cy="122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Результаты проведенной методики Эйдемиллера и Юстицкиса "Анализ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семейных взаимоотношений" (АСВ) для родителей детей</a:t>
            </a:r>
            <a:br>
              <a:rPr sz="1800"/>
            </a:b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Цель методики</a:t>
            </a: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: определить способы родительского воспитания и выявить  нарушения, приводящие  к развитию у детей агрессивного поведения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11" name="Объект 4"/>
          <p:cNvGraphicFramePr/>
          <p:nvPr/>
        </p:nvGraphicFramePr>
        <p:xfrm>
          <a:off x="684360" y="1773360"/>
          <a:ext cx="7488000" cy="417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12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773360"/>
                    <a:ext cx="748800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744480" y="252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Показатели совпадений агрессивного поведения детей со шкалой ВН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714" name="Объект 6"/>
          <p:cNvGraphicFramePr/>
          <p:nvPr/>
        </p:nvGraphicFramePr>
        <p:xfrm>
          <a:off x="468360" y="1628640"/>
          <a:ext cx="8207280" cy="403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15" name="Объект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628640"/>
                    <a:ext cx="8207280" cy="40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853272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Показатели совпадений агрессивного поведения детей со шкалой ПНК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18" name="Объект 5"/>
          <p:cNvGraphicFramePr/>
          <p:nvPr/>
        </p:nvGraphicFramePr>
        <p:xfrm>
          <a:off x="539640" y="1916280"/>
          <a:ext cx="7920000" cy="345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19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916280"/>
                    <a:ext cx="7920000" cy="34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Показатели шкалы С - и агрессивного поведения младших школьников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22" name="Объект 4"/>
          <p:cNvGraphicFramePr/>
          <p:nvPr/>
        </p:nvGraphicFramePr>
        <p:xfrm>
          <a:off x="468360" y="1700280"/>
          <a:ext cx="7632720" cy="381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00280"/>
                    <a:ext cx="763272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Показатели совпадений агрессивного поведения детей со шкалой </a:t>
            </a: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Г+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26" name="Объект 6"/>
          <p:cNvGraphicFramePr/>
          <p:nvPr/>
        </p:nvGraphicFramePr>
        <p:xfrm>
          <a:off x="826920" y="1844640"/>
          <a:ext cx="7848720" cy="331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7" name="Объект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844640"/>
                    <a:ext cx="7848720" cy="33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5472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ричины детской агрессивности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40" name="Схема 3" descr=""/>
          <p:cNvPicPr/>
          <p:nvPr/>
        </p:nvPicPr>
        <p:blipFill>
          <a:blip r:embed="rId1"/>
          <a:stretch/>
        </p:blipFill>
        <p:spPr>
          <a:xfrm>
            <a:off x="-12600" y="1414440"/>
            <a:ext cx="9199440" cy="5327640"/>
          </a:xfrm>
          <a:prstGeom prst="rect">
            <a:avLst/>
          </a:prstGeom>
          <a:ln w="0">
            <a:noFill/>
          </a:ln>
        </p:spPr>
      </p:pic>
      <p:pic>
        <p:nvPicPr>
          <p:cNvPr id="541" name="Рисунок 4" descr="детская агрессивность"/>
          <p:cNvPicPr/>
          <p:nvPr/>
        </p:nvPicPr>
        <p:blipFill>
          <a:blip r:embed="rId2"/>
          <a:stretch/>
        </p:blipFill>
        <p:spPr>
          <a:xfrm>
            <a:off x="6000840" y="142920"/>
            <a:ext cx="228600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72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30" name="Rectangle 5"/>
          <p:cNvGrpSpPr/>
          <p:nvPr/>
        </p:nvGrpSpPr>
        <p:grpSpPr>
          <a:xfrm>
            <a:off x="1878120" y="853920"/>
            <a:ext cx="6637320" cy="2071800"/>
            <a:chOff x="1878120" y="853920"/>
            <a:chExt cx="6637320" cy="2071800"/>
          </a:xfrm>
        </p:grpSpPr>
        <p:pic>
          <p:nvPicPr>
            <p:cNvPr id="731" name="Rectangle 5" descr=""/>
            <p:cNvPicPr/>
            <p:nvPr/>
          </p:nvPicPr>
          <p:blipFill>
            <a:blip r:embed="rId2"/>
            <a:stretch/>
          </p:blipFill>
          <p:spPr>
            <a:xfrm>
              <a:off x="1878120" y="853920"/>
              <a:ext cx="6637320" cy="20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2" name=""/>
            <p:cNvSpPr/>
            <p:nvPr/>
          </p:nvSpPr>
          <p:spPr>
            <a:xfrm>
              <a:off x="2084400" y="866160"/>
              <a:ext cx="622476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2060"/>
                  </a:solidFill>
                  <a:latin typeface="Bookman Old Style"/>
                  <a:ea typeface="Times New Roman"/>
                </a:rPr>
                <a:t>«Главная ошибка взрослых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2060"/>
                  </a:solidFill>
                  <a:latin typeface="Bookman Old Style"/>
                  <a:ea typeface="Times New Roman"/>
                </a:rPr>
                <a:t>в том, что мы пытаемся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2060"/>
                  </a:solidFill>
                  <a:latin typeface="Bookman Old Style"/>
                  <a:ea typeface="Times New Roman"/>
                </a:rPr>
                <a:t>воспитывать детей,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2060"/>
                  </a:solidFill>
                  <a:latin typeface="Bookman Old Style"/>
                  <a:ea typeface="Times New Roman"/>
                </a:rPr>
                <a:t> </a:t>
              </a:r>
              <a:r>
                <a:rPr b="1" lang="ru-RU" sz="3200" spc="-1" strike="noStrike">
                  <a:solidFill>
                    <a:srgbClr val="002060"/>
                  </a:solidFill>
                  <a:latin typeface="Bookman Old Style"/>
                  <a:ea typeface="Times New Roman"/>
                </a:rPr>
                <a:t>не воспитывая себя!».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733" name="Прямоугольник 9" descr=""/>
          <p:cNvPicPr/>
          <p:nvPr/>
        </p:nvPicPr>
        <p:blipFill>
          <a:blip r:embed="rId3"/>
          <a:stretch/>
        </p:blipFill>
        <p:spPr>
          <a:xfrm>
            <a:off x="4084560" y="3432240"/>
            <a:ext cx="4437000" cy="10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"/>
          <p:cNvSpPr txBox="1"/>
          <p:nvPr/>
        </p:nvSpPr>
        <p:spPr>
          <a:xfrm>
            <a:off x="428760" y="92844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ма и папа я хочу, чтобы вы меня понимал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ращайте на меня внима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веряйте мн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удьте добрее ко мн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 хочу, чтобы вы прощали мои ошиб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 хотела бы чтобы конфликтов у меня с мамой было меньше из-за учите лей. Ведь они не всегда бывают правы.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исьма детей к родителям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 txBox="1"/>
          <p:nvPr/>
        </p:nvSpPr>
        <p:spPr>
          <a:xfrm>
            <a:off x="457200" y="1356840"/>
            <a:ext cx="82296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 нужно укорять меня за то, что я испортилась, хотя это не так, что со всех 5-к скатилась на 4-ки. Хватит кричать не из-за чего, сдерживайте свои мнения при себе, и особенно то, что думаете о моих друзьях и не надо запрещать мне общаться с ними и не так часто выражаться матерными слова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547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исьма детей к родителям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исьма детей к родителям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9" name=""/>
          <p:cNvSpPr txBox="1"/>
          <p:nvPr/>
        </p:nvSpPr>
        <p:spPr>
          <a:xfrm>
            <a:off x="457200" y="1928520"/>
            <a:ext cx="822960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Дорогие родители, я вас очень люблю! Желаю вам счастья, здоровья и любви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Не стареть, денег, терпения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Живите долго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Успехов в работ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Всего самого наилучшего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"/>
          <p:cNvSpPr txBox="1"/>
          <p:nvPr/>
        </p:nvSpPr>
        <p:spPr>
          <a:xfrm>
            <a:off x="42876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ма, я хочу, чтобы ты перестала твердить мне: «Как дела с оценками?» Я хочу, чтобы вы давали мне больше любви. Чтобы в свободное время уделяли мне больше внимания. Мамы почти не бывает дома, а про папу я вообще молчу… Но зато они иногда не разрешают  мне встречаться с подруга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54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исьма детей к родителям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 txBox="1"/>
          <p:nvPr/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ли мама ты будешь на меня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рать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я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убегу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из дома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исьма детей к родителям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126800" y="1052280"/>
            <a:ext cx="6870600" cy="4103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Умейте принять и любить детей такими, какие  они есть!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Учитесь слушать и слышать  детей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«</a:t>
            </a:r>
            <a:r>
              <a:rPr b="0" i="1" lang="ru-RU" sz="4400" spc="-1" strike="noStrike">
                <a:solidFill>
                  <a:srgbClr val="ff0000"/>
                </a:solidFill>
                <a:latin typeface="Arial"/>
              </a:rPr>
              <a:t>Семейные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» причин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39528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62960" indent="-462960" algn="ctr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приятие детей родителям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2960" indent="-462960" algn="ctr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езразличие или враждебность со стороны родителе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2960" indent="-462960" algn="ctr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рушение эмоциональных связей в семь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2960" indent="-462960" algn="ctr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уважение к личности ребенк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2960" indent="-462960" algn="ctr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резмерный контроль или полное отсутствие его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2960" indent="-462960" algn="ctr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збыток или недостаток внимания со стороны родителе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2960" indent="-462960" algn="ctr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прет на физическую активность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2960" indent="-462960" algn="ctr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тказ в праве на личную свобод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2960" indent="-462960"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2960" indent="-462960"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«</a:t>
            </a:r>
            <a:r>
              <a:rPr b="0" i="1" lang="ru-RU" sz="4400" spc="-1" strike="noStrike">
                <a:solidFill>
                  <a:srgbClr val="ff0000"/>
                </a:solidFill>
                <a:latin typeface="Arial"/>
              </a:rPr>
              <a:t>Личные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» причины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дсознательное ожидание опасност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ctr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уверенность в собственной безопасност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ctr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ичный отрицательный опыт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ctr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моциональная нестабильность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ctr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довольство собо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ctr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вышенная раздражительность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ctr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увство вин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Arial"/>
              </a:rPr>
              <a:t>Ситуативные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причины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лохое самочувствие, переутомлени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ctr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лияние продуктов пита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ctr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лияние шума, вибрации, тесноты, температуры воздух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Arial"/>
              </a:rPr>
              <a:t>Тип темперамента </a:t>
            </a: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и особенности </a:t>
            </a:r>
            <a:r>
              <a:rPr b="0" i="1" lang="ru-RU" sz="3600" spc="-1" strike="noStrike">
                <a:solidFill>
                  <a:srgbClr val="ff0000"/>
                </a:solidFill>
                <a:latin typeface="Arial"/>
              </a:rPr>
              <a:t>характера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Менее склонны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 активной агрессии </a:t>
            </a: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меланхолик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Не склонны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 агрессии </a:t>
            </a: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флегматик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Сангвиник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по природе своей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не агрессивны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тественно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клонны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к активной агрессии- </a:t>
            </a: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холерик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5T06:59:55Z</dcterms:created>
  <dc:creator>XTreme</dc:creator>
  <dc:description/>
  <dc:language>en-US</dc:language>
  <cp:lastModifiedBy>bmw</cp:lastModifiedBy>
  <dcterms:modified xsi:type="dcterms:W3CDTF">2012-11-17T10:30:13Z</dcterms:modified>
  <cp:revision>115</cp:revision>
  <dc:subject/>
  <dc:title>Муниципальное общеобразовательное учреждение – гимназия №1 г.Лыткарино Московской области  ТЕМА. «Стили семейного воспитания».</dc:title>
</cp:coreProperties>
</file>