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8D0-BDCF-469D-8002-8A1A9B94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69A-9CE6-4894-A9FB-2291148E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440-E188-4D45-98E2-65E50339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D14-0FFB-4936-8168-3C3A0B39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1FF-1AA5-4F23-B1D9-773DE64A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B8BE-7D94-4594-8BB1-3F03DC4B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5A2-9402-4AE1-8A21-19DAAB96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28A-C932-46CD-B63E-7D021FAD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86C0-2C0E-4A2B-80E5-4DAAA3F8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738-FCB9-4D1A-889B-0608DC49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366-BBF7-4F16-B8FE-CA0F1FEE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813-0B51-46A5-B08E-A0502B63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A628-87A8-447C-A703-90D021D31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ДЕТСКО-РОДИТЕЛЬСКИХ ОТНОШЕНИЙ В СЕМЬЯХ, ВОСПИТЫВАЮЩИХ ДЕТЕЙ СО СЛОЖНЫМИ НАРУШЕНИЯМИ РАЗВИТИЯ</a:t>
            </a:r>
            <a:br>
              <a:rPr sz="1600"/>
            </a:br>
            <a:br>
              <a:rPr sz="1600"/>
            </a:b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280" y="3429360"/>
            <a:ext cx="8839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гут 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онтрольного эксперимен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ыявить и экспериментально проверить эффективность работы родительского клуба «Мы вместе», направленной на формирование детско-родительских отношений в семьях, воспитывающих детей со сложными нарушениями разви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контрольного эксперимен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ить динамику результатов диагностики влияния родителей на воспитание ребенка, особенности типов детско-родительских отношений, положение субъекта в системе межличностных отношений и характер коммуникации в семь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сравнительный анализ результатов экспериментального исслед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106200"/>
          <a:ext cx="9148680" cy="6712200"/>
        </p:xfrm>
        <a:graphic>
          <a:graphicData uri="http://schemas.openxmlformats.org/drawingml/2006/table">
            <a:tbl>
              <a:tblPr/>
              <a:tblGrid>
                <a:gridCol w="1247760"/>
                <a:gridCol w="1469880"/>
                <a:gridCol w="476280"/>
                <a:gridCol w="268560"/>
                <a:gridCol w="163440"/>
                <a:gridCol w="115920"/>
                <a:gridCol w="144360"/>
                <a:gridCol w="311040"/>
                <a:gridCol w="225360"/>
                <a:gridCol w="276480"/>
                <a:gridCol w="179280"/>
                <a:gridCol w="480960"/>
                <a:gridCol w="117720"/>
                <a:gridCol w="390240"/>
                <a:gridCol w="168480"/>
                <a:gridCol w="117360"/>
                <a:gridCol w="436680"/>
                <a:gridCol w="542880"/>
                <a:gridCol w="237960"/>
                <a:gridCol w="177840"/>
                <a:gridCol w="308160"/>
                <a:gridCol w="139680"/>
                <a:gridCol w="117360"/>
                <a:gridCol w="271440"/>
                <a:gridCol w="117360"/>
                <a:gridCol w="646200"/>
              </a:tblGrid>
              <a:tr h="472320">
                <a:tc gridSpan="2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авнительный анализ сформированности детско-родительских отношений в семьях, воспитывающих детей со сложными нарушениями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2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(в % соотношени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нализ семейных взаимоотношений» - АСВ (Э.Г. Эйдемиллер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ить влияние родителей на воспитание ребенк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2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результатов сформированности детско-родительских отнош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отнош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- отвер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пер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био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итарная гиперсоциализ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аленький неудачни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2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96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– опросник родительского отношения – ОРО (А. Я. Варга, В. В. Стол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ить особенности типа детско-родительских отношений семей, воспитывающих детей со сложными нарушениями развит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2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семейного воспитания семей, воспитывающих детей со сложными нарушениями разви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ворствую­щая гиперпрот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ини­рующая гиперпрот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моральная ответствен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е отвер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окое обращ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прот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61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«Семейная социограмма» (Эйдемиллера Э.Г., Черемисин О.В.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ить положение субъекта в системе межличностных отношений и характер коммуникаций в семье – прямой или опосредованны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2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субъекта в системе межличностных отношен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членов попавших в площадь кру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ина круж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кружков относительно друг от дру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я между ни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есенка для детей» (В.П. Ткачёв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ить уровень привязанности ребенка к родителям (прародителям), близким родственника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2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оценки ребенком, его взаимоотношений с родителя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язанность к мате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язанность к отц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язанность к другим членам семь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-360" y="228600"/>
            <a:ext cx="8991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-родительские отношения в семьях, воспитывающих детей со сложными нарушениями развит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детско-родительских отношений в семьях, воспитывающих детей со сложными нарушениями развит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детско-родительских отношений детей со сложным нарушением развития, будет успешным, если учитывать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типа детско-родительских отношений семей, воспитывающих детей со сложными нарушениями развити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субъекта в системе межличностных отношений и характер коммуникаций в семьях, воспитывающих детей со сложными нарушениями развити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родителей, на воспитание ребенка со сложными нарушениями развити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модели деятельности родительского клуба «Мы вместе» по педагогическому взаимодействию учреждения с семьями воспитывающих детей со сложными нарушениями развит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явить специфику и типологию детско-родительских отношений в семьях, воспитывающих детей со сложными нарушениями разви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основе эмпирического анализа детско-родительских отношений в семьях с детьми со сложным нарушением развития, разработать технологию формирования детско-родительских отнош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явить динамику показателей, детско-родительских отношений семей, воспитывающих детей со сложными нарушениями развития после внедрения технологий работы родительского клуба «Мы вместе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152640" y="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304920" y="380880"/>
            <a:ext cx="8458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онстатирующего эксперимент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ыявить специфику проблем семей, воспитывающих детей со сложными нарушениями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стижения поставленной цели предстояло решить следующ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диагностический инструментарий для  выявления детско – родительских отношений в семьях воспитывающих детей со сложным де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диагностический инструментарий для  выявления детско – родительских отношений в семьях воспитывающих детей со сложным дефек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диагностический инструментарий для  выявления детско – родительских отношений в семьях воспитывающих детей со сложным де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и наглядно представить полученные результ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49400" y="106200"/>
          <a:ext cx="8847000" cy="6355080"/>
        </p:xfrm>
        <a:graphic>
          <a:graphicData uri="http://schemas.openxmlformats.org/drawingml/2006/table">
            <a:tbl>
              <a:tblPr/>
              <a:tblGrid>
                <a:gridCol w="1252440"/>
                <a:gridCol w="1473120"/>
                <a:gridCol w="1252440"/>
                <a:gridCol w="1111320"/>
                <a:gridCol w="139680"/>
                <a:gridCol w="222480"/>
                <a:gridCol w="591840"/>
                <a:gridCol w="223920"/>
                <a:gridCol w="117360"/>
                <a:gridCol w="417600"/>
                <a:gridCol w="117360"/>
                <a:gridCol w="333720"/>
                <a:gridCol w="610920"/>
                <a:gridCol w="201600"/>
                <a:gridCol w="781200"/>
              </a:tblGrid>
              <a:tr h="518760">
                <a:tc gridSpan="1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авнительный анализ сформированности детско-родительских отношений в семьях, воспитывающих детей со сложными нарушениями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(в % соотношени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нализ семейных взаимоотношений» - АСВ (Э.Г. Эйдемиллер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ить влияние родителей на воспитание ребенк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результатов сформированности детско-родительских отнош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отнош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- отвер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пер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био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итарная гиперсоциализ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аленький неудачни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– опросник родительского отношения – ОРО (А. Я. Варга, В. В. Стол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ить особенности типа детско-родительских отношений семей, воспитывающих детей со сложными нарушениями развит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семейного воспитания семей, воспитывающих детей со сложными нарушениями разви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ворствую­щая гиперпрот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ини­рующая гиперпрот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моральная ответствен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е отвер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окое обращ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прот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45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«Семейная социограмма» (Эйдемиллера Э.Г., Черемисин О.В.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ить положение субъекта в системе межличностных отношений и характер коммуникаций в семье – прямой или опосредованны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субъекта в системе межличностных отношен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членов попавших в площадь кру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ина круж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кружков относительно друг от дру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я между ни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есенка для детей» (В.П. Ткачёв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ить уровень привязанности ребенка к родителям (прародителям), близким родственника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оценки ребенком, его взаимоотношений с родителя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язанность к мате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язанность к отц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язанность к другим членам семь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формирующего эксперимента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ить форму и содержание формирования детско-родительских отношений в семьях, воспитывающих детей со сложными нарушениями разви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формирующего эксперимен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содержание программы деятельности родительского клуба «Мы вместе» по коррекции детско-родительских отношений в семьях, воспитывающих детей со сложными нарушениями разви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овать программу деятельности родительского клуба «Мы вместе» по коррекции детско-родительских отношений в семьях, воспитывающих детей со сложными нарушениями разви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психолого-педагогической деятельности родительского  клуб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нвариантные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овые мероприятия для всех родителе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ариативны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групповые мероприятия для дифференцированных групп родителей в соответствии с их запрос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заимопомощ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терпимост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уникальности личности ребенк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сознанности.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4"/>
          <p:cNvSpPr/>
          <p:nvPr/>
        </p:nvSpPr>
        <p:spPr>
          <a:xfrm>
            <a:off x="3200400" y="1676520"/>
            <a:ext cx="25146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609480" y="838080"/>
            <a:ext cx="1981440" cy="12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дошкольным, образовательным учрежд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2"/>
          <p:cNvSpPr/>
          <p:nvPr/>
        </p:nvSpPr>
        <p:spPr>
          <a:xfrm>
            <a:off x="6477120" y="990720"/>
            <a:ext cx="198108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заведующего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3"/>
          <p:cNvSpPr/>
          <p:nvPr/>
        </p:nvSpPr>
        <p:spPr>
          <a:xfrm>
            <a:off x="685800" y="2666880"/>
            <a:ext cx="1981080" cy="9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- дефект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3505320" y="4648320"/>
            <a:ext cx="1981080" cy="9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- 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5"/>
          <p:cNvSpPr/>
          <p:nvPr/>
        </p:nvSpPr>
        <p:spPr>
          <a:xfrm>
            <a:off x="6019920" y="3886200"/>
            <a:ext cx="1981080" cy="60948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- 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6"/>
          <p:cNvSpPr/>
          <p:nvPr/>
        </p:nvSpPr>
        <p:spPr>
          <a:xfrm>
            <a:off x="6400800" y="2666880"/>
            <a:ext cx="1981080" cy="9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7"/>
          <p:cNvSpPr/>
          <p:nvPr/>
        </p:nvSpPr>
        <p:spPr>
          <a:xfrm>
            <a:off x="990720" y="4038480"/>
            <a:ext cx="1981080" cy="60984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 flipH="1" flipV="1">
            <a:off x="2590560" y="190512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4"/>
          <p:cNvSpPr/>
          <p:nvPr/>
        </p:nvSpPr>
        <p:spPr>
          <a:xfrm>
            <a:off x="5791320" y="1905120"/>
            <a:ext cx="685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7"/>
          <p:cNvSpPr/>
          <p:nvPr/>
        </p:nvSpPr>
        <p:spPr>
          <a:xfrm flipH="1">
            <a:off x="2666880" y="2286000"/>
            <a:ext cx="533520" cy="457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9"/>
          <p:cNvSpPr/>
          <p:nvPr/>
        </p:nvSpPr>
        <p:spPr>
          <a:xfrm>
            <a:off x="5715000" y="2362320"/>
            <a:ext cx="68580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33"/>
          <p:cNvSpPr/>
          <p:nvPr/>
        </p:nvSpPr>
        <p:spPr>
          <a:xfrm flipH="1">
            <a:off x="2971800" y="2362320"/>
            <a:ext cx="990720" cy="1676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35"/>
          <p:cNvSpPr/>
          <p:nvPr/>
        </p:nvSpPr>
        <p:spPr>
          <a:xfrm>
            <a:off x="5029200" y="2438280"/>
            <a:ext cx="990720" cy="1447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37"/>
          <p:cNvSpPr/>
          <p:nvPr/>
        </p:nvSpPr>
        <p:spPr>
          <a:xfrm>
            <a:off x="4457160" y="2362320"/>
            <a:ext cx="37800" cy="228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9"/>
          <p:cNvSpPr/>
          <p:nvPr/>
        </p:nvSpPr>
        <p:spPr>
          <a:xfrm>
            <a:off x="762120" y="3049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ное обеспечение родительского клуба «Мы вмест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3" descr=""/>
          <p:cNvPicPr/>
          <p:nvPr/>
        </p:nvPicPr>
        <p:blipFill>
          <a:blip r:embed="rId1"/>
          <a:stretch/>
        </p:blipFill>
        <p:spPr>
          <a:xfrm>
            <a:off x="298440" y="1030320"/>
            <a:ext cx="8547120" cy="5516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304920" y="30492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ы необходимые для реализации модели мероприятий с семьями, воспитывающих детей со сложными нарушениями развит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родительского клуба позволит обеспечи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едагогической культу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я уровня социально – педагогической грамотност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я положительного опыта семейного воспит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я новых знаний и умени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ультуры и навыков взаимодействия с взрослы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ультурного уровня семьи в вопросах воспитания и обучения ребенка со сложными нарушениями разви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организации программы родительского клуба «Мы вместе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онно – аналитический (сентябрь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теоретически изучить и экспериментально проанализировать состояние проблемы, связанной с формированием детско-родительских отношений в семьях, воспитывающих детей со сложными нарушениями разви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ктик –ориентировочный (октябрь-апрель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формировать оптимальные детско-родительские отношения в семьях, воспитывающих детей со сложными нарушениями разви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ьный этап (май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выявить итоги реализации программы деятельности родительского клуба «Мы вместе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8T01:34:45Z</dcterms:created>
  <dc:creator>Любовь</dc:creator>
  <dc:description/>
  <dc:language>en-US</dc:language>
  <cp:lastModifiedBy>dmin</cp:lastModifiedBy>
  <dcterms:modified xsi:type="dcterms:W3CDTF">2015-02-07T03:51:56Z</dcterms:modified>
  <cp:revision>75</cp:revision>
  <dc:subject/>
  <dc:title>ФОРМИРОВАНИЕ ДЕТСКО-РОДИТЕЛЬСКИХ ОТНОШЕНИЙ НА ОСНОВЕ ПЕДАГОГИЧЕСКОГО ВЗАИМОДЕЙСТВИЯ ДОШКОЛЬНОГО ОБРАЗОВАТЕЛЬНОГО УЧРЕЖДЕНИЯ И СЕМЬИ, ВОСПИТЫВАЮЩИХ ДЕТЕЙ СО СЛОЖНЫМИ НАРУШЕНИЯМИ РАЗВИТИЯ</dc:title>
</cp:coreProperties>
</file>