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CB3-8F94-4AF9-A215-701CDC8B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F64-DEB6-4569-B112-591554EC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261-9899-4539-A3AC-D76E759A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F22-F038-4888-BE7B-E837C446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706-42B1-4225-A598-B6EE60BB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FB7-AF17-47EF-B2E9-45673B3B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5EF-B98C-476A-BD8E-38A7A1F7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47C-4564-404A-8A5E-FA4A1DC8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4EA-B0C3-41D6-B1B7-EF390CC2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051-EBC0-4832-B2AA-B4B6FAC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C18-C11C-494B-9777-B9270C8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015-D953-4BCB-A290-A72F04A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59E-BCA9-4200-9997-45B2BEFDF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ЕТСКО-РОДИТЕЛЬСКИХ ОТНОШЕНИЙ В СЕМЬЯХ, ВОСПИТЫВАЮЩИХ ДЕТЕЙ СО СЛОЖНЫМИ НАРУШЕНИЯМИ РАЗВИТИЯ</a:t>
            </a:r>
            <a:br>
              <a:rPr sz="1600"/>
            </a:br>
            <a:br>
              <a:rPr sz="16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342936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гут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трольного экспериме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ыявить и экспериментально проверить эффективность работы родительского клуба «Мы вместе», направленной на формирование детско-родительских отношений в семьях, воспитывающих детей со сложными нарушениями разви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контрольного эксперимен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ть динамику результатов диагностики влияния родителей на воспитание ребенка, особенности типов детско-родительских отношений, положение субъекта в системе межличностных отношений и характер коммуникации в семь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сравнительный анализ результатов экспериментального исслед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106200"/>
          <a:ext cx="9148680" cy="6712200"/>
        </p:xfrm>
        <a:graphic>
          <a:graphicData uri="http://schemas.openxmlformats.org/drawingml/2006/table">
            <a:tbl>
              <a:tblPr/>
              <a:tblGrid>
                <a:gridCol w="1247760"/>
                <a:gridCol w="1469880"/>
                <a:gridCol w="476280"/>
                <a:gridCol w="268560"/>
                <a:gridCol w="163440"/>
                <a:gridCol w="115920"/>
                <a:gridCol w="144360"/>
                <a:gridCol w="311040"/>
                <a:gridCol w="225360"/>
                <a:gridCol w="276480"/>
                <a:gridCol w="179280"/>
                <a:gridCol w="480960"/>
                <a:gridCol w="117720"/>
                <a:gridCol w="390240"/>
                <a:gridCol w="168480"/>
                <a:gridCol w="117360"/>
                <a:gridCol w="436680"/>
                <a:gridCol w="542880"/>
                <a:gridCol w="237960"/>
                <a:gridCol w="177840"/>
                <a:gridCol w="308160"/>
                <a:gridCol w="139680"/>
                <a:gridCol w="117360"/>
                <a:gridCol w="271440"/>
                <a:gridCol w="117360"/>
                <a:gridCol w="646200"/>
              </a:tblGrid>
              <a:tr h="472320">
                <a:tc gridSpan="2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внительный анализ сформированности детско-родительских отношений в семьях, воспитывающих детей со сложными нарушениями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(в % соотношени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лиз семейных взаимоотношений» - АСВ (Э.Г. Эйдемилл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ть влияние родителей на воспитание ребен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сформированности детско-родительских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-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ио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арная гиперсоци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ленький неудачни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96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– опросник родительского отношения – ОРО (А. Я. Варга, В. В. Стол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особенности типа детско-родительских отношений семей, воспитывающих детей со сложными нарушениями разви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семейного воспитания семей, воспитывающих детей со сложными нарушениями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ворствую­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и­рую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моральная ответств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окое обращ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«Семейная социограмма» (Эйдемиллера Э.Г., Черемисин О.В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положение субъекта в системе межличностных отношений и характер коммуникаций в семье – прямой или опосредованн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субъекта в системе межличностных отнош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членов попавших в площадь к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круж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кружков относительно друг от д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я между ни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есенка для детей» (В.П. Ткачё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уровень привязанности ребенка к родителям (прародителям), близким родственника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оценки ребенком, его взаимоотношений с родителя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мате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отц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другим членам семь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22860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ие отношения в семьях, воспитывающих детей со сложными нарушениями развит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детско-родительских отношений в семьях, воспитывающих детей со сложными нарушениями развит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етско-родительских отношений детей со сложным нарушением развития, будет успешным, если учитывать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типа детско-родительских отношений семей, воспитывающих детей со сложными нарушениями развит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субъекта в системе межличностных отношений и характер коммуникаций в семьях, воспитывающих детей со сложными нарушениями развит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родителей, на воспитание ребенка со сложными нарушениями развит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одели деятельности родительского клуба «Мы вместе» по педагогическому взаимодействию учреждения с семьями воспитывающих детей со сложными нарушениями развит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явить специфику и типологию детско-родительских отношений в семьях, воспитывающих детей со сложными нарушениями разви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основе эмпирического анализа детско-родительских отношений в семьях с детьми со сложным нарушением развития, разработать технологию формирования детско-родительских отно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ить динамику показателей, детско-родительских отношений семей, воспитывающих детей со сложными нарушениями развития после внедрения технологий работы родительского клуба «Мы вместе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04920" y="380880"/>
            <a:ext cx="8458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статирующего эксперимен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явить специфику проблем семей, воспитывающих детей со сложными нарушениями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поставленной цели предстояло решить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диагностический инструментарий для  выявления детско – родительских отношений в семьях воспитывающих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диагностический инструментарий для  выявления детско – родительских отношений в семьях воспитывающих детей со сложным дефек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диагностический инструментарий для  выявления детско – родительских отношений в семьях воспитывающих детей со сложным де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и наглядно представить полученные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400" y="106200"/>
          <a:ext cx="8847000" cy="6355080"/>
        </p:xfrm>
        <a:graphic>
          <a:graphicData uri="http://schemas.openxmlformats.org/drawingml/2006/table">
            <a:tbl>
              <a:tblPr/>
              <a:tblGrid>
                <a:gridCol w="1252440"/>
                <a:gridCol w="1473120"/>
                <a:gridCol w="1252440"/>
                <a:gridCol w="1111320"/>
                <a:gridCol w="139680"/>
                <a:gridCol w="222480"/>
                <a:gridCol w="591840"/>
                <a:gridCol w="223920"/>
                <a:gridCol w="117360"/>
                <a:gridCol w="417600"/>
                <a:gridCol w="117360"/>
                <a:gridCol w="333720"/>
                <a:gridCol w="610920"/>
                <a:gridCol w="201600"/>
                <a:gridCol w="781200"/>
              </a:tblGrid>
              <a:tr h="518760"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внительный анализ сформированности детско-родительских отношений в семьях, воспитывающих детей со сложными нарушениями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(в % соотношени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ализ семейных взаимоотношений» - АСВ (Э.Г. Эйдемилл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ить влияние родителей на воспитание ребен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сформированности детско-родительских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отно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-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пер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ио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арная гиперсоциализ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ленький неудачни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– опросник родительского отношения – ОРО (А. Я. Варга, В. В. Стол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особенности типа детско-родительских отношений семей, воспитывающих детей со сложными нарушениями разви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семейного воспитания семей, воспитывающих детей со сложными нарушениями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ворствую­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и­рующая гипер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моральная ответств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отверж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окое обращ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прот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45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«Семейная социограмма» (Эйдемиллера Э.Г., Черемисин О.В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положение субъекта в системе межличностных отношений и характер коммуникаций в семье – прямой или опосредованн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субъекта в системе межличностных отноше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членов попавших в площадь к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 круж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кружков относительно друг от др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я между ни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есенка для детей» (В.П. Ткачё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ить уровень привязанности ребенка к родителям (прародителям), близким родственника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оценки ребенком, его взаимоотношений с родителя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мате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отц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язанность к другим членам семь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ормирующего эксперимент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ь форму и содержание формирования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формирующего эксперимен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одержание программы деятельности родительского клуба «Мы вместе» по коррекции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программу деятельности родительского клуба «Мы вместе» по коррекции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психолого-педагогической деятельности родительского  клуб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нвариантные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овые мероприятия для всех род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риатив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рупповые мероприятия для дифференцированных групп родителей в соответствии с их запрос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заимопомощ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ерпим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никальности личности ребенк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сознанности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4"/>
          <p:cNvSpPr/>
          <p:nvPr/>
        </p:nvSpPr>
        <p:spPr>
          <a:xfrm>
            <a:off x="3200400" y="1676520"/>
            <a:ext cx="2514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09480" y="838080"/>
            <a:ext cx="1981440" cy="12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дошкольным, образовательным учреж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2"/>
          <p:cNvSpPr/>
          <p:nvPr/>
        </p:nvSpPr>
        <p:spPr>
          <a:xfrm>
            <a:off x="6477120" y="990720"/>
            <a:ext cx="198108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заведующего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685800" y="2666880"/>
            <a:ext cx="198108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- дефект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3505320" y="4648320"/>
            <a:ext cx="198108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- 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5"/>
          <p:cNvSpPr/>
          <p:nvPr/>
        </p:nvSpPr>
        <p:spPr>
          <a:xfrm>
            <a:off x="6019920" y="3886200"/>
            <a:ext cx="1981080" cy="60948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-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6400800" y="2666880"/>
            <a:ext cx="198108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990720" y="4038480"/>
            <a:ext cx="1981080" cy="60984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 flipH="1" flipV="1">
            <a:off x="2590560" y="1905120"/>
            <a:ext cx="609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4"/>
          <p:cNvSpPr/>
          <p:nvPr/>
        </p:nvSpPr>
        <p:spPr>
          <a:xfrm>
            <a:off x="5791320" y="1905120"/>
            <a:ext cx="685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7"/>
          <p:cNvSpPr/>
          <p:nvPr/>
        </p:nvSpPr>
        <p:spPr>
          <a:xfrm flipH="1">
            <a:off x="2666880" y="2286000"/>
            <a:ext cx="53352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9"/>
          <p:cNvSpPr/>
          <p:nvPr/>
        </p:nvSpPr>
        <p:spPr>
          <a:xfrm>
            <a:off x="5715000" y="2362320"/>
            <a:ext cx="68580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33"/>
          <p:cNvSpPr/>
          <p:nvPr/>
        </p:nvSpPr>
        <p:spPr>
          <a:xfrm flipH="1">
            <a:off x="2971800" y="2362320"/>
            <a:ext cx="990720" cy="167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5"/>
          <p:cNvSpPr/>
          <p:nvPr/>
        </p:nvSpPr>
        <p:spPr>
          <a:xfrm>
            <a:off x="5029200" y="2438280"/>
            <a:ext cx="990720" cy="1447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7"/>
          <p:cNvSpPr/>
          <p:nvPr/>
        </p:nvSpPr>
        <p:spPr>
          <a:xfrm>
            <a:off x="4457160" y="2362320"/>
            <a:ext cx="37800" cy="228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9"/>
          <p:cNvSpPr/>
          <p:nvPr/>
        </p:nvSpPr>
        <p:spPr>
          <a:xfrm>
            <a:off x="762120" y="3049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ное обеспечение родительского клуба «Мы вмест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298440" y="1030320"/>
            <a:ext cx="8547120" cy="5516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304920" y="3049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ы необходимые для реализации модели мероприятий с семьями, воспитывающих детей со сложными нарушениями развит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родительского клуба позволит обеспечи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едагогической куль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уровня социально – педагогической грамот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я положительного опыта семейного воспит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я новых знаний и умен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ультуры и навыков взаимодействия с взрослы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ультурного уровня семьи в вопросах воспитания и обучения ребенка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организации программы родительского клуба «Мы вместе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онно – аналитический (сентябрь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теоретически изучить и экспериментально проанализировать состояние проблемы, связанной с формированием детско-родительских отношений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к –ориентировочный (октябрь-апрел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формировать оптимальные детско-родительские отношения в семьях, воспитывающих детей со сложными нарушениями разви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ьный этап (ма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выявить итоги реализации программы деятельности родительского клуба «Мы вместе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01:34:45Z</dcterms:created>
  <dc:creator>Любовь</dc:creator>
  <dc:description/>
  <dc:language>en-US</dc:language>
  <cp:lastModifiedBy>dmin</cp:lastModifiedBy>
  <dcterms:modified xsi:type="dcterms:W3CDTF">2015-02-07T03:51:56Z</dcterms:modified>
  <cp:revision>75</cp:revision>
  <dc:subject/>
  <dc:title>ФОРМИРОВАНИЕ ДЕТСКО-РОДИТЕЛЬСКИХ ОТНОШЕНИЙ НА ОСНОВЕ ПЕДАГОГИЧЕСКОГО ВЗАИМОДЕЙСТВИЯ ДОШКОЛЬНОГО ОБРАЗОВАТЕЛЬНОГО УЧРЕЖДЕНИЯ И СЕМЬИ, ВОСПИТЫВАЮЩИХ ДЕТЕЙ СО СЛОЖНЫМИ НАРУШЕНИЯМИ РАЗВИТИЯ</dc:title>
</cp:coreProperties>
</file>