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566-97D3-4744-AAF3-09BB0929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0B1-4546-4AFE-98ED-C84158AA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0DF-F65C-40F6-948E-3307149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89C-0386-453B-A87C-279C809D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11DF-4B19-44B7-B151-ACFAF152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7ED9A-AFEB-4364-90FD-53237788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88EB1-DA3E-4C5C-B8C7-5F5D48A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EE4DC-DC1C-43A0-ABD3-04AC27B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4462-39C0-4D93-8563-707E919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0F18D-3E24-4353-AF49-72BF1D52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5F554-CCF9-44DF-8C56-63F1082E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259-F87D-4CB2-8788-EAF81E48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5B5DF-8F5F-4E36-9ABF-A820140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643F-9FD6-444E-8CB4-1776B58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0F867-39EF-45E5-BD3D-4EE0BE9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35EDD-7253-4EE1-9537-25238214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C4FA5-7151-4BA6-850C-9892EDC9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72CF-F6B7-4662-A51A-D3A6D21E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FE43-9BBD-428C-9BB5-828EA7D7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7D47-77EC-49A6-9FB1-AA0C9C8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1467-625E-4B57-B15B-3ADC2AC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5336-28A0-4DF8-AA3F-50C2D6E9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CDC-E41D-4811-8EC9-82FD19C8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C2F1-A05C-461A-8483-38BBF9B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1D2E-B264-4B27-8EFA-710B0BB4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C919-485F-4821-B1A1-8BEF10B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ACBF-512D-4F58-B132-07853E3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715B-5668-4217-8DA9-D15744E8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DC52-0D7E-45EE-BF7A-807D9ABD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7C68-02D3-4B0D-8718-B28E820D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40129-6C74-45CC-A82B-72A816E3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FE7AF-F369-44A8-BEA3-6D30CAA2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80E54-D30C-46A2-B711-7B9612C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98B-198A-4D6B-A2B6-B610E922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7D28C-1233-4D6B-B811-CEE81C56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BA903-3EE7-4C2F-B402-DBE54F5F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B3660-BB49-472A-B914-AC78869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44368-BDE5-4BF3-A3BC-0BB8894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4EE38-D2D7-4DF9-8C3F-A2A7131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7B222-AF69-4084-8E18-5A110B5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F7D54-1A84-4E04-9298-7F7C7EF9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03657-4920-4FE2-A53D-E372CA29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86CD5-0FD8-4A09-8318-22A85365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7AEF1-1455-40F9-B438-DBCE03F3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640-B311-49C6-970B-087B9E8E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134A4-638B-4958-A058-AFB956FB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16436-8EB7-4452-8D51-71A8E6C1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AC962-50BC-49CE-BA50-009BE36D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3FD0F-466E-41BF-BAC5-6F3F300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7381F-66B9-457C-8DE6-9BC4F891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0B505-7790-4987-9990-6B10BC4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3C4F7-FC09-4FDD-872E-F81D594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BA967-46AE-426F-8CCF-2C4258D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942A8-CE28-4E69-BBCE-B95B39C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A2D7F-F7E5-4B3B-903A-ECCA0256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80B-0E9F-4DD3-BCA9-570843DD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A4D62-0B75-456D-AA3C-143CF2A0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5D13B-4149-48B6-8778-A88056E4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4AAF7-C16C-4077-A9D3-FD85B0F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F35F1-203D-4081-A7EC-9850B9E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5F9EE-AC1E-4B6B-9A98-3E30E73E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B3C3D-52EE-4D70-A297-D125628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10870-C0F1-4154-9F7A-8EF737A5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C2723-3643-4F3E-9E31-705F01F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68C56-5503-4CC7-85E1-A18FDFA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A10EE-E3FC-41E4-9A94-D5FCFBD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FBA-4966-4305-8C01-62B9D2D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B21CB-D05C-4E5A-A6E9-0798A97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6CA4D-DFF4-4DB6-918F-F94DCB9D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0344D-C0B4-4C31-A561-6246128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8F7-924F-4DD0-9D90-D5C71BC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461-2FC2-4288-9CE8-DE75562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9F3A-1FD1-4371-9D21-31717A01E61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1FB-6CE9-4D61-A2FD-AC7199E9CB1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F87-7BAE-4408-90E4-A2EA260A72B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68A-C79B-4D3E-A208-BE05E874163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FB3C-05F0-41C7-8E65-FAE7291023B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FE9-B533-402D-882F-969D5188F16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wiki/%25D0%259F%25D0%25BE%25D1%2587%25D1%2582%25D0%25B0" TargetMode="External"/><Relationship Id="rId2" Type="http://schemas.openxmlformats.org/officeDocument/2006/relationships/hyperlink" Target="file:///../../wiki/%25D0%2592%25D0%25BE%25D0%25B9%25D1%2581%25D0%25BA%25D0%25BE%25D0%25B2%25D0%25B0%25D1%258F_%25D1%2587%25D0%25B0%25D1%2581%25D1%2582%25D1%258C" TargetMode="External"/><Relationship Id="rId3" Type="http://schemas.openxmlformats.org/officeDocument/2006/relationships/slide" Target=""/><Relationship Id="rId4" Type="http://schemas.openxmlformats.org/officeDocument/2006/relationships/hyperlink" Target="file:///../../wiki/%25D0%2590%25D1%2580%25D0%25BC%25D0%25B8%25D1%258F" TargetMode="External"/><Relationship Id="rId5" Type="http://schemas.openxmlformats.org/officeDocument/2006/relationships/hyperlink" Target="file:///../../wiki/%25D0%25A4%25D0%25B0%25D0%25B9%25D0%25BB:Milpostcardussr1944.jpg" TargetMode="External"/><Relationship Id="rId6" Type="http://schemas.openxmlformats.org/officeDocument/2006/relationships/hyperlink" Target="file:///../../wiki/1712_%25D0%25B3%25D0%25BE%25D0%25B4" TargetMode="External"/><Relationship Id="rId7" Type="http://schemas.openxmlformats.org/officeDocument/2006/relationships/hyperlink" Target="file:///../../wiki/1716_%25D0%25B3%25D0%25BE%25D0%25B4" TargetMode="External"/><Relationship Id="rId8" Type="http://schemas.openxmlformats.org/officeDocument/2006/relationships/hyperlink" Target="file:///../../wiki/%25D0%2592%25D0%25BE%25D0%25B8%25D0%25BD%25D1%2581%25D0%25BA%25D0%25B8%25D0%25B9_%25D1%2583%25D1%2581%25D1%2582%25D0%25B0%25D0%25B2" TargetMode="External"/><Relationship Id="rId9" Type="http://schemas.openxmlformats.org/officeDocument/2006/relationships/hyperlink" Target="file:///../../wiki/%25D0%259F%25D1%2591%25D1%2582%25D1%2580_%25D0%2592%25D0%25B5%25D0%25BB%25D0%25B8%25D0%25BA%25D0%25B8%25D0%25B9" TargetMode="External"/><Relationship Id="rId10" Type="http://schemas.openxmlformats.org/officeDocument/2006/relationships/hyperlink" Target="file:///../../wiki/%25D0%259E%25D1%2582%25D0%25BA%25D1%2580%25D1%258B%25D1%2582%25D0%25BA%25D0%25B0" TargetMode="External"/><Relationship Id="rId11" Type="http://schemas.openxmlformats.org/officeDocument/2006/relationships/hyperlink" Target="file:///../../wiki/%25D0%259F%25D0%25BE%25D1%2587%25D1%2582%25D0%25BE%25D0%25B2%25D1%258B%25D0%25B9_%25D1%258F%25D1%2589%25D0%25B8%25D0%25BA" TargetMode="External"/><Relationship Id="rId12" Type="http://schemas.openxmlformats.org/officeDocument/2006/relationships/hyperlink" Target="file:///../../wiki/%25D0%25A2%25D1%258B%25D0%25BB" TargetMode="External"/><Relationship Id="rId13" Type="http://schemas.openxmlformats.org/officeDocument/2006/relationships/hyperlink" Target="file:///../../wiki/%25D0%259E%25D1%2582%25D0%25B4%25D0%25B5%25D0%25BB%25D0%25B5%25D0%25BD%25D0%25B8%25D0%25B5_%25D1%2581%25D0%25B2%25D1%258F%25D0%25B7%25D0%25B8" TargetMode="External"/><Relationship Id="rId14" Type="http://schemas.openxmlformats.org/officeDocument/2006/relationships/hyperlink" Target="file:///../../wiki/%25D0%2590%25D0%25B4%25D1%2580%25D0%25B5%25D1%2581%25D0%25B0%25D1%2582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wiki/%25D0%25A0%25D0%259A%25D0%259A%25D0%2590" TargetMode="External"/><Relationship Id="rId2" Type="http://schemas.openxmlformats.org/officeDocument/2006/relationships/hyperlink" Target="file:///../../w/index.php%3Ftitle=%25D0%2592%25D0%25BE%25D0%25B5%25D0%25BD%25D0%25BD%25D0%25B0%25D1%258F_%25D1%2586%25D0%25B5%25D0%25BD%25D0%25B7%25D1%2583%25D1%2580%25D0%25B0&amp;action=edit&amp;redlink=1" TargetMode="External"/><Relationship Id="rId3" Type="http://schemas.openxmlformats.org/officeDocument/2006/relationships/hyperlink" Target="file:///../../wiki/%25D0%25A8%25D1%2582%25D0%25B0%25D0%25BC%25D0%25BF" TargetMode="External"/><Relationship Id="rId4" Type="http://schemas.openxmlformats.org/officeDocument/2006/relationships/hyperlink" Target="file:///../../wiki/&#208;&#164;&#208;&#176;&#208;&#185;&#208;&#187;:&#208;&#162;&#209;&#128;&#208;&#181;&#209;&#131;&#208;&#179;&#208;&#190;&#208;&#187;&#209;&#140;&#208;&#189;&#208;&#184;&#208;&#186;_&#208;&#191;&#208;&#190;&#208;&#187;&#208;&#181;&#208;&#178;&#208;&#190;&#208;&#185;_&#208;&#191;&#208;&#190;&#209;&#135;&#209;&#130;&#209;&#139;_13778._&#208;&#156;&#208;&#190;&#209;&#129;&#208;&#186;&#208;&#178;&#208;&#176;,_&#209;&#129;&#208;&#181;&#208;&#189;&#209;&#130;&#209;&#143;&#208;&#177;&#209;&#128;&#209;&#140;_1944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wiki/&#208;&#164;&#208;&#176;&#208;&#185;&#208;&#187;:&#208;&#162;&#209;&#128;&#208;&#181;&#209;&#131;&#208;&#179;&#208;&#190;&#208;&#187;&#209;&#140;&#208;&#189;&#208;&#184;&#208;&#186;_&#208;&#191;&#208;&#190;&#208;&#187;&#208;&#181;&#208;&#178;&#208;&#190;&#208;&#185;_&#208;&#191;&#208;&#190;&#209;&#135;&#209;&#130;&#209;&#139;_13778._&#208;&#156;&#208;&#190;&#209;&#129;&#208;&#186;&#208;&#178;&#208;&#176;,_&#209;&#129;&#208;&#181;&#208;&#189;&#209;&#130;&#209;&#143;&#208;&#177;&#209;&#128;&#209;&#140;_1944.jpg" TargetMode="External"/><Relationship Id="rId2" Type="http://schemas.openxmlformats.org/officeDocument/2006/relationships/image" Target="../media/image5.png"/><Relationship Id="rId3" Type="http://schemas.openxmlformats.org/officeDocument/2006/relationships/hyperlink" Target="file:///../../wiki/%25D0%259F%25D0%25BE%25D1%2581%25D1%258B%25D0%25BB%25D0%25BA%25D0%25B0" TargetMode="External"/><Relationship Id="rId4" Type="http://schemas.openxmlformats.org/officeDocument/2006/relationships/hyperlink" Target="file:///../../wiki/%25D0%259F%25D0%25B8%25D1%2581%25D1%258C%25D0%25BC%25D0%25BE-%25D1%2582%25D1%2580%25D0%25B5%25D1%2583%25D0%25B3%25D0%25BE%25D0%25BB%25D1%258C%25D0%25BD%25D0%25B8%25D0%25BA" TargetMode="External"/><Relationship Id="rId5" Type="http://schemas.openxmlformats.org/officeDocument/2006/relationships/hyperlink" Target="file:///../../wiki/%25D0%259A%25D0%25BE%25D0%25BD%25D0%25B2%25D0%25B5%25D1%2580%25D1%2582" TargetMode="External"/><Relationship Id="rId6" Type="http://schemas.openxmlformats.org/officeDocument/2006/relationships/hyperlink" Target="file:///../../wiki/%25D0%2594%25D0%25B5%25D1%2584%25D0%25B8%25D1%2586%25D0%25B8%25D1%2582" TargetMode="External"/><Relationship Id="rId7" Type="http://schemas.openxmlformats.org/officeDocument/2006/relationships/hyperlink" Target="file:///../../wiki/%25D0%25A2%25D0%25B5%25D1%2582%25D1%2580%25D0%25B0%25D0%25B4%25D1%258C" TargetMode="External"/><Relationship Id="rId8" Type="http://schemas.openxmlformats.org/officeDocument/2006/relationships/hyperlink" Target="file:///../../wiki/%25D0%259A%25D0%25B2%25D0%25B0%25D0%25B4%25D1%2580%25D0%25B0%25D1%2582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6840" y="1143000"/>
            <a:ext cx="2895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Письма с фронтов Великой Отечественной войны — документы огромной силы. В пропахших порохом строках — дыхание войны, грубость суровых окопных будней, нежность солдатского сердца,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вера в Победу…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809880" y="426924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своеобразная художественная летопись времен военного лихолетья, обращение к героическому прошлому наших предков, призыв к беспощадной борьбе с захватчикам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DSC07049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124080" y="304920"/>
            <a:ext cx="5121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800px-Milpostcardussr1944"/>
          <p:cNvPicPr/>
          <p:nvPr/>
        </p:nvPicPr>
        <p:blipFill>
          <a:blip r:embed="rId1"/>
          <a:stretch/>
        </p:blipFill>
        <p:spPr>
          <a:xfrm>
            <a:off x="1143000" y="1066680"/>
            <a:ext cx="7620120" cy="49914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4191120" y="1905840"/>
            <a:ext cx="4647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исем белые стаи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рилетали на Русь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х с волнением читали,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нали их наизусть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Эти письма, поныне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е теряют, не жгут,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Как большую святыню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ыновьям берегу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457200" y="55584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ева́я по́ч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вид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почтов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бслуживания в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войсковых част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мирное время, организованного вместо почтовой связи через обычные государственные почтовые ведомства</a:t>
            </a:r>
            <a:r>
              <a:rPr b="0" lang="ru-RU" sz="2000" spc="-1" strike="noStrike" u="sng" baseline="30000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зновидностью полевой почты являетс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е́нно-полева́я по́ч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почтовая связь, устанавливаемая в действующей 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арм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условиях ведения боевых действ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57200" y="2666520"/>
            <a:ext cx="82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словосочетание «полевая почта» впервые появилось в ма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1712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кончательно закреплено в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1716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Воинским устав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9"/>
              </a:rPr>
              <a:t>Петра Пер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в котором находился раздел «О чине полевой почт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04920" y="40384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ьма либ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0"/>
              </a:rPr>
              <a:t>откры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дресованные в армию и брошенные в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1"/>
              </a:rPr>
              <a:t>почтовый ящ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2"/>
              </a:rPr>
              <a:t>тылов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орода, сначала отправлялись в гражданско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3"/>
              </a:rPr>
              <a:t>отделение связ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ттуда в тыловой военно-сортировочный пункт. Затем в почтовом вагоне они отправлялись на фронтовой военно-почтовый пункт, оттуда на военно-почтовую базу армии, оттуда в дивизию, полк, батальон и, наконец, попадали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4"/>
              </a:rPr>
              <a:t>адресат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33"/>
          <p:cNvSpPr/>
          <p:nvPr/>
        </p:nvSpPr>
        <p:spPr>
          <a:xfrm>
            <a:off x="609480" y="627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Великой Отечественной войны ежемесячно только в действующую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Красную Арми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ставлялось 70 миллионов писем. В годы войны основная переписка шла между родными на фронте и родными в ты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мом начале войны в Главном управлении связи Красной Армии было сформировано Управление военно-полевой почты, а при штабах армий и фронтов были созданы отделы военно-полевой почты. Непосредственно в частях были созданы почтовые полевые станции (ППС), которые гасили корреспонденцию почтовыми штемпелями с текстом «СССР Полевая почта №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4"/>
          <p:cNvSpPr/>
          <p:nvPr/>
        </p:nvSpPr>
        <p:spPr>
          <a:xfrm>
            <a:off x="609480" y="373392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зарезервировано более 88000 ном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а Отечественн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м было сохранение военной тайны: надо бы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ать возможности врагу по содержанию пис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ить сведения о дислокации частей, их вооружении и проч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этого была создана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военная цензу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се письма с фронта в обязательном порядке просматривались, любые спорные места вымарывались чёрной краской. На почтовые отправления ставился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штам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роверено военной цензурой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35" descr="325px-%D0%A2%D1%80%D0%B5%D1%83%D0%B3%D0%BE%D0%BB%D1%8C%D0%BD%D0%B8%D0%BA_%D0%BF%D0%BE%D0%BB%D0%B5%D0%B2%D0%BE%D0%B9_%D0%BF%D0%BE%D1%87%D1%82%D1%8B_13778">
            <a:hlinkClick r:id="rId4"/>
          </p:cNvPr>
          <p:cNvPicPr/>
          <p:nvPr/>
        </p:nvPicPr>
        <p:blipFill>
          <a:blip r:embed="rId5"/>
          <a:stretch/>
        </p:blipFill>
        <p:spPr>
          <a:xfrm rot="1470600">
            <a:off x="6474960" y="3657240"/>
            <a:ext cx="26686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304920" y="3017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agnify-cl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403880" y="40086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380880" y="659160"/>
            <a:ext cx="441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ССР пересылка корреспонденции с фронта (кром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посыло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производилась беспла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ьма складывались простым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треугольни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что не требовал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5"/>
              </a:rPr>
              <a:t>конвер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на фронте всегда были в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6"/>
              </a:rPr>
              <a:t>дефици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верт-треугольник — обычно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7"/>
              </a:rPr>
              <a:t>тетрад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ст бумаги, сначала загнутый справа налево, потом слева направо. Оставшаяся полоса бумаги (поскольку тетрадь не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8"/>
              </a:rPr>
              <a:t>квадра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прямоугольной формы) вставлялась, как клапан, внутрь треугольника. Готовое к отправке письмо не заклеивалось — его всё равно должна была прочитать цензура; почтовая марка была не нужна, адрес писался на наружной стороне ли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04920" y="3657600"/>
            <a:ext cx="85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9" descr="image008"/>
          <p:cNvPicPr/>
          <p:nvPr/>
        </p:nvPicPr>
        <p:blipFill>
          <a:blip r:embed="rId9"/>
          <a:stretch/>
        </p:blipFill>
        <p:spPr>
          <a:xfrm>
            <a:off x="4819680" y="838080"/>
            <a:ext cx="43243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304920" y="3598920"/>
            <a:ext cx="85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04920" y="1066680"/>
            <a:ext cx="3504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имо писем-треугольников, во время войны также выпускались секретки, конверты и открытки. Большинство из них имели текст «Смерть немецким оккупантам», «Воинское», иногда «Письмо с фронта». Рисунки на них обычно были на темы боевых действий и героического труда в тылу. Поскольку пересылка почты на фронт и с фронта была бесплатной, почтовые отправления, франкированные марками, попадаются очень ред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b"/>
          <p:cNvPicPr/>
          <p:nvPr/>
        </p:nvPicPr>
        <p:blipFill>
          <a:blip r:embed="rId1"/>
          <a:stretch/>
        </p:blipFill>
        <p:spPr>
          <a:xfrm>
            <a:off x="4038480" y="533520"/>
            <a:ext cx="47628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380880" y="1479240"/>
            <a:ext cx="83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в августе 1941 года в газете «Правда» в «передовице» было написано о том, что очень важно, чтобы письма находили своего адресата на фронте. И далее: «Каждое письмо, посылка…. вливают силы в бойцов, вдохновляют на новые подвиги». Не секрет, что немцы уничтожали узлы связи, разрушали телефонные линии. В стране была создана система военно-полевой почты под началом Центрального управления полевой связ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ько в первый военный год Государственный комитет обороны принял несколько решений, которые касались продвижения корреспонденции между фронтом и тылом. В частности, было запрещено использовать почтовый транспорт для хозяйственных работ. Почтовые вагоны «цепляли» ко всем поездам, даже к военным эшелона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1-04-28T07:54:0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