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0F2-166A-4195-8FC5-58270788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EC9-4C6A-4E38-ADE0-29C1382F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BF9-934B-4B4E-97BB-CBE50C74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F54-46E0-434D-83A4-636CD872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C4360-AF80-4203-B46D-E42003CE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32E7E-E0F9-4E0A-9B5C-7FECBC5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DF906-5F85-4CE7-99F3-D008337B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5E1F-3545-432F-BFA6-907BFA89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8A163-9B19-40DD-8F20-B49BAA5A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21035-54CA-46DE-AA74-5974EB10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F0700-F56D-4DDE-B42E-EA77E065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38A-DF90-409E-B68C-5A77E0D3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607FF-DCE8-405B-A210-EA770B9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647E2-6373-49BD-A2B6-F6B056A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DDA61-62D6-487E-8482-544C7045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75C63-3537-4848-92A6-20DE6D85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1D802-CE80-48CA-8DC0-850A48B0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4DDF-B4C7-4754-849D-106130DC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BC22-8C76-47FF-8F70-759FA449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00AD-0CE2-4C69-835F-356BE550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D71B-BFDD-4A7E-A5E3-ABF00DE4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CBC8-54D4-4AA7-B1A5-DEE8997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B5D-487F-45F0-8F08-03C230A9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3D35-DC96-46F3-ADBF-1FDD8398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7659-681E-4A47-BC54-6420009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1A4A-87CE-4A5E-8C48-340CF67F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32D34-3C7F-46B4-A90E-E8C13E9D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731B-737E-43C1-A0C8-1014C4E4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A9BE-B928-4498-B409-41D8520F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5A27-6F64-4546-9391-538FB67D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F5C22-B210-48B9-99DE-5871E694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816E0-69B5-47B4-A13E-E7B72936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23F51-9C23-445F-B786-08408D79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BF0-9360-447E-8E71-8E3BDCA8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F9966-7326-4DAE-8243-A8B1827A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DC312-8C6F-4BDE-894E-12654312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EA13AF-77EA-4ADF-9E6A-3687EE75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9F56F5-5440-4BCD-9075-CDAB698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A2E58-4F8B-469E-B42C-73F7E5AD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4855F-A096-4C64-9DD7-5A90BACB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683FB-9AE0-4FA1-8708-3300BD7F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6190B-A0B8-4B50-AB58-46CBCA97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85EE81-8AB8-4583-BAD0-87242E2E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86D0E-2A5E-4AEF-BB50-4235B347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71D-4E98-4941-9F91-305E388C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B8DC6-1CC0-4FFB-9FCC-C6694681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BC1A8-F07A-4FEC-888A-F24AD9AB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937EE-D91D-4F98-BE99-8EEFAD39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0909C-0E73-49C6-ABDD-CF9DC9B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0B309-745C-4F1A-B199-942AD369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6CD8F-7878-42F7-91A9-5CB53D9D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25CEF-8E0B-42DC-8B29-CD874B30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7A72B-2CE4-4C42-A650-3A8981D8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87580-91C2-4DD6-ACD8-F6894DCD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710DC-B5CB-4E03-A541-AA5E2C7F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CD2-6718-4D66-B7D5-8FA6014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1898D-C54C-4A30-A091-B5903906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6FB36-8752-4197-B3C4-76F26542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289FB-BEA8-4A24-A3F7-7798A7FC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B0531-C5DF-42E7-BFC8-233D48CE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53134-28CD-4581-AF96-D2525F30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8406F-967A-4D6E-8C64-6EC4FE7C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32AAF-BA82-4ABD-A345-6B3D481E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50C41-4954-4BA5-ADBB-9CF324A9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E4337-3A7F-4C00-A0A6-32349BCF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F8D8E-A1DF-47FE-825D-3FA9E21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889-B986-4A74-99E3-7CA01E8B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1DD4F-DFEE-4AFC-A5C4-7F03EC8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EF364-D38B-4F4C-A59C-FF52D5E5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C0174-5024-413A-9A49-DC3096FA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75B-4B4E-4082-B149-F0448BC3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003-6D92-45B2-8F49-B570E164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C0F7-B7B7-466E-9960-DB56A61D579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FC1-1D39-4E4B-864C-A888B9FAE66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F65C-5C00-4F12-ACC7-2DE1628BD2F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C814-8A9F-4CB4-AE11-2E99D59700D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1ED0-2A70-49A2-9977-357800D59E2A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19E1-4A15-4D66-866D-550905C9EDB7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wiki/%25D0%259F%25D0%25BE%25D1%2587%25D1%2582%25D0%25B0" TargetMode="External"/><Relationship Id="rId2" Type="http://schemas.openxmlformats.org/officeDocument/2006/relationships/hyperlink" Target="file:///../../wiki/%25D0%2592%25D0%25BE%25D0%25B9%25D1%2581%25D0%25BA%25D0%25BE%25D0%25B2%25D0%25B0%25D1%258F_%25D1%2587%25D0%25B0%25D1%2581%25D1%2582%25D1%258C" TargetMode="External"/><Relationship Id="rId3" Type="http://schemas.openxmlformats.org/officeDocument/2006/relationships/slide" Target=""/><Relationship Id="rId4" Type="http://schemas.openxmlformats.org/officeDocument/2006/relationships/hyperlink" Target="file:///../../wiki/%25D0%2590%25D1%2580%25D0%25BC%25D0%25B8%25D1%258F" TargetMode="External"/><Relationship Id="rId5" Type="http://schemas.openxmlformats.org/officeDocument/2006/relationships/hyperlink" Target="file:///../../wiki/%25D0%25A4%25D0%25B0%25D0%25B9%25D0%25BB:Milpostcardussr1944.jpg" TargetMode="External"/><Relationship Id="rId6" Type="http://schemas.openxmlformats.org/officeDocument/2006/relationships/hyperlink" Target="file:///../../wiki/1712_%25D0%25B3%25D0%25BE%25D0%25B4" TargetMode="External"/><Relationship Id="rId7" Type="http://schemas.openxmlformats.org/officeDocument/2006/relationships/hyperlink" Target="file:///../../wiki/1716_%25D0%25B3%25D0%25BE%25D0%25B4" TargetMode="External"/><Relationship Id="rId8" Type="http://schemas.openxmlformats.org/officeDocument/2006/relationships/hyperlink" Target="file:///../../wiki/%25D0%2592%25D0%25BE%25D0%25B8%25D0%25BD%25D1%2581%25D0%25BA%25D0%25B8%25D0%25B9_%25D1%2583%25D1%2581%25D1%2582%25D0%25B0%25D0%25B2" TargetMode="External"/><Relationship Id="rId9" Type="http://schemas.openxmlformats.org/officeDocument/2006/relationships/hyperlink" Target="file:///../../wiki/%25D0%259F%25D1%2591%25D1%2582%25D1%2580_%25D0%2592%25D0%25B5%25D0%25BB%25D0%25B8%25D0%25BA%25D0%25B8%25D0%25B9" TargetMode="External"/><Relationship Id="rId10" Type="http://schemas.openxmlformats.org/officeDocument/2006/relationships/hyperlink" Target="file:///../../wiki/%25D0%259E%25D1%2582%25D0%25BA%25D1%2580%25D1%258B%25D1%2582%25D0%25BA%25D0%25B0" TargetMode="External"/><Relationship Id="rId11" Type="http://schemas.openxmlformats.org/officeDocument/2006/relationships/hyperlink" Target="file:///../../wiki/%25D0%259F%25D0%25BE%25D1%2587%25D1%2582%25D0%25BE%25D0%25B2%25D1%258B%25D0%25B9_%25D1%258F%25D1%2589%25D0%25B8%25D0%25BA" TargetMode="External"/><Relationship Id="rId12" Type="http://schemas.openxmlformats.org/officeDocument/2006/relationships/hyperlink" Target="file:///../../wiki/%25D0%25A2%25D1%258B%25D0%25BB" TargetMode="External"/><Relationship Id="rId13" Type="http://schemas.openxmlformats.org/officeDocument/2006/relationships/hyperlink" Target="file:///../../wiki/%25D0%259E%25D1%2582%25D0%25B4%25D0%25B5%25D0%25BB%25D0%25B5%25D0%25BD%25D0%25B8%25D0%25B5_%25D1%2581%25D0%25B2%25D1%258F%25D0%25B7%25D0%25B8" TargetMode="External"/><Relationship Id="rId14" Type="http://schemas.openxmlformats.org/officeDocument/2006/relationships/hyperlink" Target="file:///../../wiki/%25D0%2590%25D0%25B4%25D1%2580%25D0%25B5%25D1%2581%25D0%25B0%25D1%2582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wiki/%25D0%25A0%25D0%259A%25D0%259A%25D0%2590" TargetMode="External"/><Relationship Id="rId2" Type="http://schemas.openxmlformats.org/officeDocument/2006/relationships/hyperlink" Target="file:///../../w/index.php%3Ftitle=%25D0%2592%25D0%25BE%25D0%25B5%25D0%25BD%25D0%25BD%25D0%25B0%25D1%258F_%25D1%2586%25D0%25B5%25D0%25BD%25D0%25B7%25D1%2583%25D1%2580%25D0%25B0&amp;action=edit&amp;redlink=1" TargetMode="External"/><Relationship Id="rId3" Type="http://schemas.openxmlformats.org/officeDocument/2006/relationships/hyperlink" Target="file:///../../wiki/%25D0%25A8%25D1%2582%25D0%25B0%25D0%25BC%25D0%25BF" TargetMode="External"/><Relationship Id="rId4" Type="http://schemas.openxmlformats.org/officeDocument/2006/relationships/hyperlink" Target="file:///../../wiki/&#208;&#164;&#208;&#176;&#208;&#185;&#208;&#187;:&#208;&#162;&#209;&#128;&#208;&#181;&#209;&#131;&#208;&#179;&#208;&#190;&#208;&#187;&#209;&#140;&#208;&#189;&#208;&#184;&#208;&#186;_&#208;&#191;&#208;&#190;&#208;&#187;&#208;&#181;&#208;&#178;&#208;&#190;&#208;&#185;_&#208;&#191;&#208;&#190;&#209;&#135;&#209;&#130;&#209;&#139;_13778._&#208;&#156;&#208;&#190;&#209;&#129;&#208;&#186;&#208;&#178;&#208;&#176;,_&#209;&#129;&#208;&#181;&#208;&#189;&#209;&#130;&#209;&#143;&#208;&#177;&#209;&#128;&#209;&#140;_1944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wiki/&#208;&#164;&#208;&#176;&#208;&#185;&#208;&#187;:&#208;&#162;&#209;&#128;&#208;&#181;&#209;&#131;&#208;&#179;&#208;&#190;&#208;&#187;&#209;&#140;&#208;&#189;&#208;&#184;&#208;&#186;_&#208;&#191;&#208;&#190;&#208;&#187;&#208;&#181;&#208;&#178;&#208;&#190;&#208;&#185;_&#208;&#191;&#208;&#190;&#209;&#135;&#209;&#130;&#209;&#139;_13778._&#208;&#156;&#208;&#190;&#209;&#129;&#208;&#186;&#208;&#178;&#208;&#176;,_&#209;&#129;&#208;&#181;&#208;&#189;&#209;&#130;&#209;&#143;&#208;&#177;&#209;&#128;&#209;&#140;_1944.jpg" TargetMode="External"/><Relationship Id="rId2" Type="http://schemas.openxmlformats.org/officeDocument/2006/relationships/image" Target="../media/image5.png"/><Relationship Id="rId3" Type="http://schemas.openxmlformats.org/officeDocument/2006/relationships/hyperlink" Target="file:///../../wiki/%25D0%259F%25D0%25BE%25D1%2581%25D1%258B%25D0%25BB%25D0%25BA%25D0%25B0" TargetMode="External"/><Relationship Id="rId4" Type="http://schemas.openxmlformats.org/officeDocument/2006/relationships/hyperlink" Target="file:///../../wiki/%25D0%259F%25D0%25B8%25D1%2581%25D1%258C%25D0%25BC%25D0%25BE-%25D1%2582%25D1%2580%25D0%25B5%25D1%2583%25D0%25B3%25D0%25BE%25D0%25BB%25D1%258C%25D0%25BD%25D0%25B8%25D0%25BA" TargetMode="External"/><Relationship Id="rId5" Type="http://schemas.openxmlformats.org/officeDocument/2006/relationships/hyperlink" Target="file:///../../wiki/%25D0%259A%25D0%25BE%25D0%25BD%25D0%25B2%25D0%25B5%25D1%2580%25D1%2582" TargetMode="External"/><Relationship Id="rId6" Type="http://schemas.openxmlformats.org/officeDocument/2006/relationships/hyperlink" Target="file:///../../wiki/%25D0%2594%25D0%25B5%25D1%2584%25D0%25B8%25D1%2586%25D0%25B8%25D1%2582" TargetMode="External"/><Relationship Id="rId7" Type="http://schemas.openxmlformats.org/officeDocument/2006/relationships/hyperlink" Target="file:///../../wiki/%25D0%25A2%25D0%25B5%25D1%2582%25D1%2580%25D0%25B0%25D0%25B4%25D1%258C" TargetMode="External"/><Relationship Id="rId8" Type="http://schemas.openxmlformats.org/officeDocument/2006/relationships/hyperlink" Target="file:///../../wiki/%25D0%259A%25D0%25B2%25D0%25B0%25D0%25B4%25D1%2580%25D0%25B0%25D1%2582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6840" y="1143000"/>
            <a:ext cx="2895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Письма с фронтов Великой Отечественной войны — документы огромной силы. В пропахших порохом строках — дыхание войны, грубость суровых окопных будней, нежность солдатского сердца,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вера в Победу…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809880" y="426924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своеобразная художественная летопись времен военного лихолетья, обращение к героическому прошлому наших предков, призыв к беспощадной борьбе с захватчикам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DSC07049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124080" y="304920"/>
            <a:ext cx="5121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800px-Milpostcardussr1944"/>
          <p:cNvPicPr/>
          <p:nvPr/>
        </p:nvPicPr>
        <p:blipFill>
          <a:blip r:embed="rId1"/>
          <a:stretch/>
        </p:blipFill>
        <p:spPr>
          <a:xfrm>
            <a:off x="1143000" y="1066680"/>
            <a:ext cx="7620120" cy="49914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4191120" y="1905840"/>
            <a:ext cx="4647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исем белые стаи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рилетали на Русь.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х с волнением читали,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Знали их наизусть.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Эти письма, поныне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Не теряют, не жгут,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Как большую святыню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ыновьям берегу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457200" y="55584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ева́я по́ч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вид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почтов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бслуживания в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войсковых част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мирное время, организованного вместо почтовой связи через обычные государственные почтовые ведомства</a:t>
            </a:r>
            <a:r>
              <a:rPr b="0" lang="ru-RU" sz="2000" spc="-1" strike="noStrike" u="sng" baseline="30000">
                <a:solidFill>
                  <a:srgbClr val="8e58b6"/>
                </a:solidFill>
                <a:uFillTx/>
                <a:latin typeface="Arial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зновидностью полевой почты являетс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е́нно-полева́я по́ч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почтовая связь, устанавливаемая в действующей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арм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условиях ведения боевых действ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57200" y="2666520"/>
            <a:ext cx="82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оссии словосочетание «полевая почта» впервые появилось в мае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1712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Окончательно закреплено в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7"/>
              </a:rPr>
              <a:t>1716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8"/>
              </a:rPr>
              <a:t>Воинским устав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9"/>
              </a:rPr>
              <a:t>Петра Перво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в котором находился раздел «О чине полевой почт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04920" y="40384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ьма либо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0"/>
              </a:rPr>
              <a:t>откры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дресованные в армию и брошенные в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1"/>
              </a:rPr>
              <a:t>почтовый ящ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2"/>
              </a:rPr>
              <a:t>тылово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орода, сначала отправлялись в гражданское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3"/>
              </a:rPr>
              <a:t>отделение связ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оттуда в тыловой военно-сортировочный пункт. Затем в почтовом вагоне они отправлялись на фронтовой военно-почтовый пункт, оттуда на военно-почтовую базу армии, оттуда в дивизию, полк, батальон и, наконец, попадали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4"/>
              </a:rPr>
              <a:t>адресат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33"/>
          <p:cNvSpPr/>
          <p:nvPr/>
        </p:nvSpPr>
        <p:spPr>
          <a:xfrm>
            <a:off x="609480" y="627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Великой Отечественной войны ежемесячно только в действующую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Красную Арми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ставлялось 70 миллионов писем. В годы войны основная переписка шла между родными на фронте и родными в ты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амом начале войны в Главном управлении связи Красной Армии было сформировано Управление военно-полевой почты, а при штабах армий и фронтов были созданы отделы военно-полевой почты. Непосредственно в частях были созданы почтовые полевые станции (ППС), которые гасили корреспонденцию почтовыми штемпелями с текстом «СССР Полевая почта №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4"/>
          <p:cNvSpPr/>
          <p:nvPr/>
        </p:nvSpPr>
        <p:spPr>
          <a:xfrm>
            <a:off x="609480" y="37339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го зарезервировано более 88000 ном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а Отечественной во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ым было сохранение военной тайны: надо бы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ать возможности врагу по содержанию пис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ить сведения о дислокации частей, их вооружении и проч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этого была создана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военная цензу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Все письма с фронта в обязательном порядке просматривались, любые спорные места вымарывались чёрной краской. На почтовые отправления ставился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штам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Проверено военной цензурой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35" descr="325px-%D0%A2%D1%80%D0%B5%D1%83%D0%B3%D0%BE%D0%BB%D1%8C%D0%BD%D0%B8%D0%BA_%D0%BF%D0%BE%D0%BB%D0%B5%D0%B2%D0%BE%D0%B9_%D0%BF%D0%BE%D1%87%D1%82%D1%8B_13778">
            <a:hlinkClick r:id="rId4"/>
          </p:cNvPr>
          <p:cNvPicPr/>
          <p:nvPr/>
        </p:nvPicPr>
        <p:blipFill>
          <a:blip r:embed="rId5"/>
          <a:stretch/>
        </p:blipFill>
        <p:spPr>
          <a:xfrm rot="1470600">
            <a:off x="6474960" y="3657240"/>
            <a:ext cx="26686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304920" y="3017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agnify-cl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403880" y="40086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380880" y="659160"/>
            <a:ext cx="4419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ССР пересылка корреспонденции с фронта (кроме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посыло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производилась беспла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ьма складывались простым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треугольни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что не требовало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конвер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е на фронте всегда были в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дефицит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верт-треугольник — обычно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7"/>
              </a:rPr>
              <a:t>тетрад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ст бумаги, сначала загнутый справа налево, потом слева направо. Оставшаяся полоса бумаги (поскольку тетрадь не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8"/>
              </a:rPr>
              <a:t>квадра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прямоугольной формы) вставлялась, как клапан, внутрь треугольника. Готовое к отправке письмо не заклеивалось — его всё равно должна была прочитать цензура; почтовая марка была не нужна, адрес писался на наружной стороне ли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304920" y="3657600"/>
            <a:ext cx="854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9" descr="image008"/>
          <p:cNvPicPr/>
          <p:nvPr/>
        </p:nvPicPr>
        <p:blipFill>
          <a:blip r:embed="rId9"/>
          <a:stretch/>
        </p:blipFill>
        <p:spPr>
          <a:xfrm>
            <a:off x="4819680" y="838080"/>
            <a:ext cx="43243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304920" y="3598920"/>
            <a:ext cx="853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304920" y="1066680"/>
            <a:ext cx="3504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имо писем-треугольников, во время войны также выпускались секретки, конверты и открытки. Большинство из них имели текст «Смерть немецким оккупантам», «Воинское», иногда «Письмо с фронта». Рисунки на них обычно были на темы боевых действий и героического труда в тылу. Поскольку пересылка почты на фронт и с фронта была бесплатной, почтовые отправления, франкированные марками, попадаются очень редк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6" descr="b"/>
          <p:cNvPicPr/>
          <p:nvPr/>
        </p:nvPicPr>
        <p:blipFill>
          <a:blip r:embed="rId1"/>
          <a:stretch/>
        </p:blipFill>
        <p:spPr>
          <a:xfrm>
            <a:off x="4038480" y="533520"/>
            <a:ext cx="47628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380880" y="1479240"/>
            <a:ext cx="838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ще в августе 1941 года в газете «Правда» в «передовице» было написано о том, что очень важно, чтобы письма находили своего адресата на фронте. И далее: «Каждое письмо, посылка…. вливают силы в бойцов, вдохновляют на новые подвиги». Не секрет, что немцы уничтожали узлы связи, разрушали телефонные линии. В стране была создана система военно-полевой почты под началом Центрального управления полевой связ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ько в первый военный год Государственный комитет обороны принял несколько решений, которые касались продвижения корреспонденции между фронтом и тылом. В частности, было запрещено использовать почтовый транспорт для хозяйственных работ. Почтовые вагоны «цепляли» ко всем поездам, даже к военным эшелона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1-04-28T07:54:0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