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ndi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Indi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Без-имени-3"/>
          <p:cNvPicPr/>
          <p:nvPr/>
        </p:nvPicPr>
        <p:blipFill>
          <a:blip r:embed="rId1"/>
          <a:stretch/>
        </p:blipFill>
        <p:spPr>
          <a:xfrm>
            <a:off x="7740720" y="6512040"/>
            <a:ext cx="1068480" cy="2584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1974960"/>
            <a:ext cx="5407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64533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6500880" y="1285920"/>
            <a:ext cx="2643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НДИЯ (на яз. хинди Bharat)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еспублика Индия, государство в Южной Азии, на полуострове Индостан. Площадь 3,3 млн к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седьмое место в мире). По численности населения занимает второе место в мире (после Китая) — 1 млрд 130 млн человек (2007). Столица Дели (Нью-Дели). Крупнейшие города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лькутта, Бомбей, Дели, Ченнай, Бангалор, Ахмадабад, Хайдарабад, Пуна, Канпур, Нагпур, Джайпур, Лакхна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28 шта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74-Budda"/>
          <p:cNvPicPr/>
          <p:nvPr/>
        </p:nvPicPr>
        <p:blipFill>
          <a:blip r:embed="rId1"/>
          <a:stretch/>
        </p:blipFill>
        <p:spPr>
          <a:xfrm>
            <a:off x="4986360" y="1268280"/>
            <a:ext cx="3975120" cy="4857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857160" y="214200"/>
            <a:ext cx="40719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просветления Гаутама отправился в Бенарес и произнес перед пятью своими бывшими спутниками первую проповедь, в которой раскрыл то, что познал, - Четыре Благородные Истины, Восьмеричный Путь и Срединный Путь. Эти монахи стали первыми членами его общины. Гаутама основал сангху (общину), которая вскоре стала насчитывать более 12.000 приверженц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      Хьюстон Смит пишет в "Религиях человека": "Прошло почти полвека, в течение которых Будда ходил по пыльным дорогам Индии, неся разрушающий эго и дарующий жизнь эликсир своего послания, пока его волосы не поседели, ноги не ослабли и тело не одряхлело. Он основал монашеский орден, тем самым бросая вызов мертвенному обществу под руководством браминов, и получил в ответ возмущение, сомнения и замешательство, вызванные его сло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73080"/>
            <a:ext cx="5686200" cy="1139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000080" y="121428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нса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цепь перерождений (всё мироздание находится в постоянном изменении и перерождении).Каждые 100 тысяч лет должен наступить новый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57160" y="228600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 ступени совершенств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Вертикальный свиток 4" descr=""/>
          <p:cNvPicPr/>
          <p:nvPr/>
        </p:nvPicPr>
        <p:blipFill>
          <a:blip r:embed="rId2"/>
          <a:stretch/>
        </p:blipFill>
        <p:spPr>
          <a:xfrm>
            <a:off x="628560" y="2719440"/>
            <a:ext cx="2747880" cy="4065480"/>
          </a:xfrm>
          <a:prstGeom prst="rect">
            <a:avLst/>
          </a:prstGeom>
          <a:ln w="0">
            <a:noFill/>
          </a:ln>
        </p:spPr>
      </p:pic>
      <p:pic>
        <p:nvPicPr>
          <p:cNvPr id="88" name="Вертикальный свиток 5" descr=""/>
          <p:cNvPicPr/>
          <p:nvPr/>
        </p:nvPicPr>
        <p:blipFill>
          <a:blip r:embed="rId3"/>
          <a:stretch/>
        </p:blipFill>
        <p:spPr>
          <a:xfrm>
            <a:off x="3286080" y="2627280"/>
            <a:ext cx="3005280" cy="4175280"/>
          </a:xfrm>
          <a:prstGeom prst="rect">
            <a:avLst/>
          </a:prstGeom>
          <a:ln w="0">
            <a:noFill/>
          </a:ln>
        </p:spPr>
      </p:pic>
      <p:pic>
        <p:nvPicPr>
          <p:cNvPr id="89" name="Вертикальный свиток 6" descr=""/>
          <p:cNvPicPr/>
          <p:nvPr/>
        </p:nvPicPr>
        <p:blipFill>
          <a:blip r:embed="rId4"/>
          <a:stretch/>
        </p:blipFill>
        <p:spPr>
          <a:xfrm>
            <a:off x="6261120" y="2657520"/>
            <a:ext cx="262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116000"/>
            <a:ext cx="9255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Ellora_Kailas1911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53-1"/>
          <p:cNvPicPr/>
          <p:nvPr/>
        </p:nvPicPr>
        <p:blipFill>
          <a:blip r:embed="rId2"/>
          <a:stretch/>
        </p:blipFill>
        <p:spPr>
          <a:xfrm>
            <a:off x="250920" y="3068640"/>
            <a:ext cx="2805120" cy="358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ambukeshwaraTemple04"/>
          <p:cNvPicPr/>
          <p:nvPr/>
        </p:nvPicPr>
        <p:blipFill>
          <a:blip r:embed="rId3"/>
          <a:stretch/>
        </p:blipFill>
        <p:spPr>
          <a:xfrm>
            <a:off x="4643280" y="714240"/>
            <a:ext cx="4299120" cy="4969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3214800" y="5786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нтастический облик божеств – многоголавые и многорукие, с необычным цветом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ndiaPrin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213119999_kali1"/>
          <p:cNvPicPr/>
          <p:nvPr/>
        </p:nvPicPr>
        <p:blipFill>
          <a:blip r:embed="rId2"/>
          <a:stretch/>
        </p:blipFill>
        <p:spPr>
          <a:xfrm>
            <a:off x="0" y="0"/>
            <a:ext cx="514368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5286240" y="16430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«чёрная», богиня смерти и раз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7:16:30Z</dcterms:created>
  <dc:creator>SamLab.ws</dc:creator>
  <dc:description/>
  <dc:language>en-US</dc:language>
  <cp:lastModifiedBy>Владимирова Анастасия Владимировна</cp:lastModifiedBy>
  <dcterms:modified xsi:type="dcterms:W3CDTF">2015-02-07T03:54:26Z</dcterms:modified>
  <cp:revision>24</cp:revision>
  <dc:subject/>
  <dc:title>Слайд 1</dc:title>
</cp:coreProperties>
</file>