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DC0-8B03-4B0A-956C-8F04CB67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7D6-A4B8-4AD3-9B67-23C10A75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6B1-11E9-4013-BD4B-D24B44E6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E34-8D09-4742-9B86-8B2CD3B3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954E3-F8EE-4BD3-9801-AA1466E3DD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115F7-239C-40FD-92E4-CE708C81E6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45B32-BFD0-435D-BBD8-C3E3EF121F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6140D-40D6-4A0C-B8D4-46DCEB1D9F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CC685-B0EA-46AE-89E5-D42DF2F1D1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2023C-5169-4D48-A8A0-A326FCFBA7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EDAEE-EFDF-40DE-B783-B3CC34D4C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95E-7A5F-427D-9339-B12373DF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52AA6-475B-4192-AA69-183D2261D2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33226-9554-4592-8CA0-E6E18DBA5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1F47B-F63D-4F65-84DB-28420A0969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1C68E-508F-427E-8AD2-BB41050523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3587C-7F3A-4F1D-87C2-C09B404B9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9AE-D0E3-4047-9C07-67F0AF57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4ED-2CC3-4564-A1D3-5484F21E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8B1-E227-4E87-B81D-6864227C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F83-AC5B-4A9B-B83B-761384A9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498-718F-48BA-9AE0-2EBBFA23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ECD-DB82-48B7-8BFB-016166E6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918-0E06-46BE-B1F3-C9240DF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96E2-BE1A-42F8-9549-6BB5E137BC24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B51B-FEA9-4C65-9CDC-B27D08EA39D2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«Самый классный классный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ассный руководитель 9 «Б» класса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У Инзенская СОШ №4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таростина Ю.А.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3249360" cy="4141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ный руководитель – помощник во всех делах: режиссер, балетмейстер, автор сценария, костюмер, звукорежиссер и т.п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294948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6165720"/>
            <a:ext cx="741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ВН «Здоровый образ жизни»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3024360" cy="226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356000" y="1773360"/>
            <a:ext cx="4399200" cy="329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чень важной частью воспитательной работы является неформальное общ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5084280"/>
            <a:ext cx="82184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Традиционными в классе стали праздничные «Огоньки»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179960" cy="31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16360" y="1916280"/>
            <a:ext cx="4114800" cy="308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ход на озеро Юлово совместно с родителя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292720" y="4221000"/>
            <a:ext cx="3017880" cy="2264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радиционный День здоровь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382920" cy="253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3160800" cy="2368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3159000" cy="236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724360" y="4076640"/>
            <a:ext cx="3232440" cy="2421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учение классным руководителем сплоченности коллектив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55640" y="1628640"/>
          <a:ext cx="7129440" cy="42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628640"/>
                    <a:ext cx="71294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минация «классный психолог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9770a"/>
                </a:solidFill>
                <a:latin typeface="Arial"/>
              </a:rPr>
              <a:t>Основная цель работы классногоруководителя: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Создание комфортного для каждого ученика морально-психологического климата класса, творческой атмосферы, доброжелательности друг к другу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4537080" cy="3590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ля реализации этой цели классный руководитель использует различные формы и методы работ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075360" cy="455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пользуются интеллектуальные и сюжетно-ролевые игры, тестирование, психологические тренин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859280" y="1484280"/>
            <a:ext cx="3313080" cy="248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859280" y="4076640"/>
            <a:ext cx="3317760" cy="2486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вместный труд способствует сплочению классного коллекти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24360" cy="2941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59280" y="2060640"/>
            <a:ext cx="3995640" cy="2994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5373720"/>
            <a:ext cx="8362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Выращиваем цветы на пришкольном участке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579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нкурс на лучшую фигуру на зимнем школьном двор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3280" y="2222640"/>
            <a:ext cx="4105440" cy="307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042920" y="39546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но из самых любимых традиционных мероприятий – школьное кафе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0960" cy="2319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64000" y="407664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Активная, творческая личность – результат воспитательной работы в классе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3263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770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Ученики класса принимают участие во всех коллективно-творческих делах, с удовольствием готовятся и показывают себя на школьной сцене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4362480" cy="32720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сенние праздники, новогодние представления, КВН и многое другое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3097080" cy="2320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3089160" cy="2314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332000" y="4076640"/>
            <a:ext cx="3159000" cy="2367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219640" y="4076640"/>
            <a:ext cx="3173400" cy="2378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20:15:30Z</dcterms:created>
  <dc:creator>User</dc:creator>
  <dc:description/>
  <cp:keywords/>
  <dc:language>en-US</dc:language>
  <cp:lastModifiedBy>User</cp:lastModifiedBy>
  <dcterms:modified xsi:type="dcterms:W3CDTF">2015-02-06T21:41:09Z</dcterms:modified>
  <cp:revision>4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