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5A6-FA04-4202-9372-76710F85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533-96D4-4CB7-B336-4F8C9111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9541-2FC0-472D-B5A4-4FD8EF32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9CB-9BC9-4F4D-B2CE-F88FF141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9DD95-C98C-4B7B-9A1B-EF74CCEDEA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41652-88B3-4031-82F5-BAD2DFFC8D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20045-CDAB-4933-9B75-98F17DEE99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4DEA5-B229-4061-8CB5-8C8B87C3DB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CD231-775B-4AFA-A3E2-00A581A3E4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64814-17B6-4B02-BFD2-2C92702BCB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1D572-41AB-4057-A373-899B763F0F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70F-EF13-42D0-B05D-C83717E3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84612-D603-4C30-ACA1-6852337712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F860E-4A6E-4C20-8A2D-B538D83862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24392-FE57-471B-AA15-86117F7798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0486A-E9D9-4289-8B54-F306DC9483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D2F21-A44D-4A34-A2F0-6C9C3F9F89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78E-E3E2-426F-B017-2C647C31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00B9-325F-4EF7-BD7B-8D76A037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8B1-0C4C-45FA-92C9-51B2F4C7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94DE-E506-4481-A93C-9F8A51D2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5C3-1574-4C46-A8EE-C631851E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AC0-255F-434F-9A3C-3E5C4A2E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881-594C-41D9-B99A-C7314A5F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7545-E154-4B41-9A11-4F5708524180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62E6-45F4-4F93-AB33-D27744388586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курс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«Самый классный классный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53002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лассный руководитель 9 «Б» класса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У Инзенская СОШ №4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таростина Ю.А.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3249360" cy="4141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ассный руководитель – помощник во всех делах: режиссер, балетмейстер, автор сценария, костюмер, звукорежиссер и т.п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2949480" cy="22096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6165720"/>
            <a:ext cx="7417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ВН «Здоровый образ жизни»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116000" y="3789360"/>
            <a:ext cx="3024360" cy="2265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356000" y="1773360"/>
            <a:ext cx="4399200" cy="329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чень важной частью воспитательной работы является неформальное общ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5084280"/>
            <a:ext cx="82184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770a"/>
                </a:solidFill>
                <a:latin typeface="Arial"/>
              </a:rPr>
              <a:t>Традиционными в классе стали праздничные «Огоньки»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179960" cy="313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716360" y="1916280"/>
            <a:ext cx="4114800" cy="3082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ход на озеро Юлово совместно с родителям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971640" y="4221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292720" y="4221000"/>
            <a:ext cx="3017880" cy="2264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радиционный День здоровь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3382920" cy="253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292720" y="1413000"/>
            <a:ext cx="3160800" cy="2368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3159000" cy="2367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5724360" y="4076640"/>
            <a:ext cx="3232440" cy="2421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зучение классным руководителем сплоченности коллектив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55640" y="1628640"/>
          <a:ext cx="7129440" cy="4262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628640"/>
                    <a:ext cx="71294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оминация «классный психолог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9770a"/>
                </a:solidFill>
                <a:latin typeface="Arial"/>
              </a:rPr>
              <a:t>Основная цель работы классногоруководителя: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Создание комфортного для каждого ученика морально-психологического климата класса, творческой атмосферы, доброжелательности друг к другу</a:t>
            </a: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356000" y="1773360"/>
            <a:ext cx="4537080" cy="3590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ля реализации этой цели классный руководитель использует различные формы и методы работ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075360" cy="4551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спользуются интеллектуальные и сюжетно-ролевые игры, тестирование, психологические тренинг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4038840" cy="3025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859280" y="1484280"/>
            <a:ext cx="3313080" cy="2482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859280" y="4076640"/>
            <a:ext cx="3317760" cy="2486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овместный труд способствует сплочению классного коллекти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924360" cy="2941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859280" y="2060640"/>
            <a:ext cx="3995640" cy="2994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5373720"/>
            <a:ext cx="8362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770a"/>
                </a:solidFill>
                <a:latin typeface="Arial"/>
              </a:rPr>
              <a:t>Выращиваем цветы на пришкольном участке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579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нкурс на лучшую фигуру на зимнем школьном двор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3313080" cy="2481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3280" y="2222640"/>
            <a:ext cx="4105440" cy="3074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042920" y="3954600"/>
            <a:ext cx="3168720" cy="23749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дно из самых любимых традиционных мероприятий – школьное кафе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356000" y="148428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187280" y="4005360"/>
            <a:ext cx="3090960" cy="2319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364000" y="4076640"/>
            <a:ext cx="3162600" cy="2371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Активная, творческая личность – результат воспитательной работы в классе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3263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5157720"/>
            <a:ext cx="7704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Ученики класса принимают участие во всех коллективно-творческих делах, с удовольствием готовятся и показывают себя на школьной сцене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1628640"/>
            <a:ext cx="4362480" cy="32720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сенние праздники, новогодние представления, КВН и многое другое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3097080" cy="2320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3089160" cy="2314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332000" y="4076640"/>
            <a:ext cx="3159000" cy="2367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219640" y="4076640"/>
            <a:ext cx="3173400" cy="2378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20:15:30Z</dcterms:created>
  <dc:creator>User</dc:creator>
  <dc:description/>
  <cp:keywords/>
  <dc:language>en-US</dc:language>
  <cp:lastModifiedBy>User</cp:lastModifiedBy>
  <dcterms:modified xsi:type="dcterms:W3CDTF">2015-02-06T21:41:09Z</dcterms:modified>
  <cp:revision>4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