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DB0-88DB-4747-9B03-6E1EF8C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4F3-9B08-4C85-B610-12ABBA2F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F04-0AE8-427C-B956-E722EE96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E94-933A-46F5-89C1-68C192D8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7BC8-D244-4E65-8DBF-CB51A964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726-8950-46DA-B9F8-2FFB874A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87F-43CC-4ECC-844F-4EDBC7E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F0F6-B871-433C-9119-0D75AED5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892-A037-427D-A5B0-4699B69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AC9-3C53-4AC3-9E62-3594C7D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D90-2CD3-47ED-A815-19338CC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142-4C26-45DE-974C-5FFD444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CF1-65AB-482E-A4CA-38967C0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BA35-332C-464A-9407-E07A548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813-0F5F-4A41-9BCB-D865F10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B6ED-E45B-4DD2-952A-64784DB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0E7-1010-41C2-AA57-CAE38235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C77E-5776-42A6-AEBD-174122BB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ADBF-1211-4AE0-BA07-8D4F70B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72D4-7A12-40C2-9E15-9424DB7E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64EB-9C30-4659-AF89-620CB0F7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B46F-3C75-41DB-B560-CCC05D12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906-F99C-4ACD-8702-69D17AD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ADE8-9E02-41DB-A3D2-2C828F5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C1B5-9B52-4BF2-BC4C-CD1E9DD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CA4D-419D-479D-B523-DBDFE7C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099E-911A-4387-8B54-BB59C44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933B-1274-4CD8-88F7-37AEBB5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4D11-BB8E-4E18-87F5-06E67811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6D41-519A-4835-B31C-79C6762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6FA3-A69D-4E94-9BD8-A6D44E68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76AE-96A6-4756-8B9E-1855D5A2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4B04-F177-46DC-925D-7A2CEB9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91E-40E3-436C-B902-5693101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DBB7-E285-49D8-97AF-07D6DB7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D708-4F07-4AD3-9848-8ED214A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D82F-D699-451D-BD13-6C81DACE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EE9E-C4C0-491F-ADF9-FF346A8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96AF-4B24-4BB0-94CB-0FE8772F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C1BC-69E4-465C-9A9B-C3A951B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E7E7-CBF8-491E-A28E-540435DF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E8CD-6696-4D26-998F-3C31B910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45BA-6D11-4CEF-B5A9-5F891E46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58C9-44DF-49B2-A84E-0C4D7D88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9E1-164D-424F-8455-C5D86652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8B223-1813-4CF1-A247-BA76042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D1ED-C049-42A2-BDDE-ECA79C3C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4896-DF70-45CA-82B5-983F4D17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0532-6FC2-4CEE-8551-5B86274F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BA86-07BB-4EA8-83B7-F751219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DA5A-5AE4-4387-B57F-C94D6871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542F-7323-44F2-92DD-8250E42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25D6-3143-4AAD-8738-B565ACC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EA2E3-F349-42D8-89D4-7151FED5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DA6F-1E42-4893-B805-0000C3B7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EA2-15CD-4BAE-8AFB-33B87B4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A636-781A-4948-A2C3-87E28B52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0073-D6B4-4F04-9A4F-2E34F17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B187D-2BB5-4829-9140-266D4EF2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A010E-675E-4CAC-8388-B1D9D581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E5A6-9DC8-4E9F-9A58-F5C15AF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67BF-E8AC-4219-BFEF-3358BC7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2FE9-FDBA-40C8-9475-D8F0CFC2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A23C-3152-4EC0-9612-CE4F085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B0DD-D3A8-41FC-9E95-A72C4DE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91F6-1DDF-4970-81B3-2D07E8E5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453-7FF7-4EE2-95F2-9496AAF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7E51-777E-49A3-B968-F3B72C47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751F-569F-4B61-9FD2-9790BCF8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AFDF-0064-48BA-80A6-C49B42D5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7F8A-C099-4B01-8EAB-09C7A3CD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2B9CE-F3E3-4816-820E-A76EED7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9B12-7369-4228-A956-7D2BAF15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BAAB-C32A-416E-9205-0A68A6DF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AF27-8BAD-40DE-B7E4-17A68E4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4C56-105A-4029-9494-56E8FEE0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3C5B7-F053-48F6-A77A-C2E358A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813-BF7C-44A4-B4DE-C613173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1387-5EA8-4159-9AE0-F71CF3A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3303-6DC9-44BF-95D2-4608D7F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497A7-D597-4475-B818-2A872A3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39E7-11D0-4139-B007-051915A7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2873-0B5B-409E-B4D4-DB9580CE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CE5-0BDB-47D9-87FA-BB61D24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A3C4-BEBC-4E23-AC44-B941EC4A6A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BEBB-C176-4A95-8A0E-0E5B675ED3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FD0-A26C-45ED-8ADC-29D275F5B7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17A-0297-4977-809A-0BC83B1CA4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7EA-8C21-4DA5-9B8E-D6B5DEE91B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66F-CA75-4702-9B2B-1E46D13E7D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3C8-DA46-4F0C-9038-742BC5A126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214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72314"/>
                </a:solidFill>
                <a:latin typeface="Times New Roman"/>
              </a:rPr>
              <a:t>Культура России </a:t>
            </a:r>
            <a:r>
              <a:rPr b="0" i="1" lang="en-US" sz="4800" spc="-1" strike="noStrike">
                <a:solidFill>
                  <a:srgbClr val="572314"/>
                </a:solidFill>
                <a:latin typeface="Times New Roman"/>
              </a:rPr>
              <a:t>XVIII </a:t>
            </a:r>
            <a:r>
              <a:rPr b="0" i="1" lang="ru-RU" sz="4800" spc="-1" strike="noStrike">
                <a:solidFill>
                  <a:srgbClr val="572314"/>
                </a:solidFill>
                <a:latin typeface="Times New Roman"/>
              </a:rPr>
              <a:t>века</a:t>
            </a:r>
            <a:endParaRPr b="0" lang="en-US" sz="48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Духовные семинарии и школы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х насчитывалось 66, в них обучалось 20 393 человека. Это были также сословные школы, предназначаемые для детей духовенства; разночинцев в них не принимали. Главной задачей этих школ была подготовка преданных церкви и царю священников, но воспитанники семинарий получали и общее образование и нередко становились проводниками грамотности в своих прих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4280" y="21427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72314"/>
                </a:solidFill>
                <a:latin typeface="Times New Roman"/>
              </a:rPr>
              <a:t>Книгопечатание</a:t>
            </a:r>
            <a:endParaRPr b="0" lang="en-US" sz="80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28480" y="49968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начительно усилилось книгоиздательское дело. В 1708 г. была проведена реформа шрифта, были введены гражданская печать, что способствовало увеличению светских и гражданских книг, журналов. Были организованы библиотеки, открыты книжные магазины. Широкая книгоиздательская деятельность во многом ускорила развитие литературы. Введение гражданского языка способствовало укреплению светского язык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8556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Литература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709280" y="428760"/>
            <a:ext cx="743436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это время были очень популярными стихотворные произведения - оды, басни, эпиграммы русского поэта и просветителя Антиоха Кантемира (1708-1744 гг.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эт В.К.Тредиаковский (1703-1768 гг.) стал реформатором русского языка и стихослож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новоположником русской драматургии стал А.П.Сумароков (1717-1777), поэт, автор первых комедий и трагедий, директор Российского театра в Петербурге. Он писал в разных жанрах: лирические песни, оды, эпиграммы, сатиры, басн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произведениях этих писателей нашли отражение идеи русского классицизма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2" descr="C:\Documents and Settings\Екатерина.MICROSOF-2C7A04\Мои документы\Kantemir.jpg"/>
          <p:cNvPicPr/>
          <p:nvPr/>
        </p:nvPicPr>
        <p:blipFill>
          <a:blip r:embed="rId2"/>
          <a:stretch/>
        </p:blipFill>
        <p:spPr>
          <a:xfrm>
            <a:off x="214200" y="21420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Documents and Settings\Екатерина.MICROSOF-2C7A04\Мои документы\m_28371.jpg"/>
          <p:cNvPicPr/>
          <p:nvPr/>
        </p:nvPicPr>
        <p:blipFill>
          <a:blip r:embed="rId3"/>
          <a:stretch/>
        </p:blipFill>
        <p:spPr>
          <a:xfrm>
            <a:off x="214200" y="4572000"/>
            <a:ext cx="1714680" cy="207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C:\Documents and Settings\Екатерина.MICROSOF-2C7A04\Мои документы\trediakov.jpg"/>
          <p:cNvPicPr/>
          <p:nvPr/>
        </p:nvPicPr>
        <p:blipFill>
          <a:blip r:embed="rId4"/>
          <a:stretch/>
        </p:blipFill>
        <p:spPr>
          <a:xfrm>
            <a:off x="285840" y="2428920"/>
            <a:ext cx="142884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571760" y="356760"/>
            <a:ext cx="736272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ледняя четверть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. стала временем расцвета творчества крупного поэта Г.Р.Державина (1743-1816). Основным жанром его произведений была од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усские нравы и обычаи выразил в своих социальных комедиях "Бригадир" и "Недоросль" Д.И.Фонвизин. Его комедии положили начало обличительно-реалистическому направлению в литератур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оположником русского сентиментализма стал Н.М.Карамзин (1766-1826 гг.), автор повестей "Бедная Лиза", "Деревня" и др. Основное сочинение Карамзина - "История государства Российского"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C:\Documents and Settings\Екатерина.MICROSOF-2C7A04\Мои документы\Vladimir_Borovikovsky_001.jpg"/>
          <p:cNvPicPr/>
          <p:nvPr/>
        </p:nvPicPr>
        <p:blipFill>
          <a:blip r:embed="rId2"/>
          <a:stretch/>
        </p:blipFill>
        <p:spPr>
          <a:xfrm>
            <a:off x="214200" y="428760"/>
            <a:ext cx="1706760" cy="213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Екатерина.MICROSOF-2C7A04\Мои документы\Nikolai_Michailowitsch_Karamzin.jpg"/>
          <p:cNvPicPr/>
          <p:nvPr/>
        </p:nvPicPr>
        <p:blipFill>
          <a:blip r:embed="rId3"/>
          <a:stretch/>
        </p:blipFill>
        <p:spPr>
          <a:xfrm>
            <a:off x="214200" y="357192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4280" y="21427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Архитектура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42640" y="785520"/>
            <a:ext cx="77914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мнадцатым веком завершается 700-летний период каменного древнерусского строительства, вписавшего не одну замечательную страницу в летопись мировой архитек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етровскую эпоху вносятся новшества в архитектуру и строительство, обусловленные требованиями правительства выразить в архитектурных сооружениях силу, мощь и величие Российской импер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политико-экономическим развитием страны нов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ъявляются к гражданскому строи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иболее заметными строениями того времени в Москве были Большой Каменный мост, Арсенал в Кремле и др. В 1749 г. Ухтомский организовал в Москве первую в России Архитектурную школу, в которой под его руководством учились В.П.Баженов и М.Ф.Каза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C:\Documents and Settings\Екатерина.MICROSOF-2C7A04\Мои документы\Bolshoikamennyi.jpg"/>
          <p:cNvPicPr/>
          <p:nvPr/>
        </p:nvPicPr>
        <p:blipFill>
          <a:blip r:embed="rId2"/>
          <a:stretch/>
        </p:blipFill>
        <p:spPr>
          <a:xfrm>
            <a:off x="1143000" y="3357720"/>
            <a:ext cx="3786120" cy="2517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C:\Documents and Settings\Екатерина.MICROSOF-2C7A04\Мои документы\Arsenal1.JPG"/>
          <p:cNvPicPr/>
          <p:nvPr/>
        </p:nvPicPr>
        <p:blipFill>
          <a:blip r:embed="rId3"/>
          <a:stretch/>
        </p:blipFill>
        <p:spPr>
          <a:xfrm>
            <a:off x="5286240" y="4264200"/>
            <a:ext cx="364356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Екатерина.MICROSOF-2C7A04\Мои документы\admiralteystvo_schema.jpg"/>
          <p:cNvPicPr/>
          <p:nvPr/>
        </p:nvPicPr>
        <p:blipFill>
          <a:blip r:embed="rId2"/>
          <a:stretch/>
        </p:blipFill>
        <p:spPr>
          <a:xfrm>
            <a:off x="6643800" y="5072040"/>
            <a:ext cx="2311200" cy="1593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1071720" y="214200"/>
            <a:ext cx="77911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00 году Россия начала Северную войну против Швеции, чтобы освободить русские земли и возвратить Невские берега России. Выход в Балтийское море для России был открыт. Необходимо было только его обезопасить и закреп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 мая 1703 года, по чертежу Петра I и военных инженеров заложили крепость нового бастионного типа  – Петропавловскую креп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южном берегу Невы, почти напротив Петропавловской крепости, в 1704 году по                чертежу Петра I залож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достроительную верфь-крепость –Адмиралтей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71360" y="1785960"/>
            <a:ext cx="78627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Век разума и просвещения" - так говорили о своем времени великие мыслители XVIII столетия, провозвестники новых революционных и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Введение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Documents and Settings\Екатерина.MICROSOF-2C7A04\Мои документы\0000284306-preview.jpg"/>
          <p:cNvPicPr/>
          <p:nvPr/>
        </p:nvPicPr>
        <p:blipFill>
          <a:blip r:embed="rId2"/>
          <a:stretch/>
        </p:blipFill>
        <p:spPr>
          <a:xfrm>
            <a:off x="214200" y="4929120"/>
            <a:ext cx="2857680" cy="1763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пицентром передовых веяний в архитектуре  и  градостроительство Санкт-Петербурга. Под защитой трех взаимодействующих крепостей началось его возведение, ставшего с1712 года новой столицей Росс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мещение градоформирующих сооружений велось по указаниям самого Петра 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1710 года стали строить только кирпичные до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.к. квалифицированный специалистов не хватало, то в 1710 году были приглашены: итальянцы, немцы, голландцы. Они должны были не только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оить, но и подготавливать русских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рхитекторов  из  учеников,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ботавших с ни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C:\Documents and Settings\Екатерина.MICROSOF-2C7A04\Мои документы\zimn.jpg"/>
          <p:cNvPicPr/>
          <p:nvPr/>
        </p:nvPicPr>
        <p:blipFill>
          <a:blip r:embed="rId2"/>
          <a:stretch/>
        </p:blipFill>
        <p:spPr>
          <a:xfrm>
            <a:off x="6429240" y="5045040"/>
            <a:ext cx="2714760" cy="1812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42640" y="214200"/>
            <a:ext cx="779148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сское барокко, тяготевший к созданию героизированных образов, к прославлению могущества Российской империи, наиболее ярко проявился в  архитектурных сооружениях одного из крупнейших зодчих этого направления — Ф. Б. Растрел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его проектам созданы величественные дворцовые ансамбли в Петербурге (Зимний, Строгановский дворец, и в Петергофе, в Царском Селе (Екатерининский дворец,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жественный, праздничный характер архитектуры Растрелли наложи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печаток на всё искус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едины XVIII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143000" y="214200"/>
            <a:ext cx="771984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60-х годах в России произошла смена архитектурно-художественного стиля. Декоративное барокко, уступило место классицизму, быстро утвердившемуся в Петербурге и Москве, а затем распространившемуся по всей стра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цизм (от лат.- образцовый) – художественный стиль, развивающийся путем творческого заимствования форм, композиций и образцов искусства античного мира и эпохи итальянского возр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C:\Documents and Settings\Екатерина.MICROSOF-2C7A04\Мои документы\000061.jpg"/>
          <p:cNvPicPr/>
          <p:nvPr/>
        </p:nvPicPr>
        <p:blipFill>
          <a:blip r:embed="rId2"/>
          <a:stretch/>
        </p:blipFill>
        <p:spPr>
          <a:xfrm>
            <a:off x="5786280" y="4643280"/>
            <a:ext cx="3143520" cy="2001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C:\Documents and Settings\Екатерина.MICROSOF-2C7A04\Мои документы\St._Michael's_Castle_1825.jpg"/>
          <p:cNvPicPr/>
          <p:nvPr/>
        </p:nvPicPr>
        <p:blipFill>
          <a:blip r:embed="rId2"/>
          <a:stretch/>
        </p:blipFill>
        <p:spPr>
          <a:xfrm>
            <a:off x="5572080" y="4857840"/>
            <a:ext cx="3357720" cy="1785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071720" y="142920"/>
            <a:ext cx="77198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руководства повсеместной градостроительной деятельностью в декабре 1762 года было учреждена комиссия о каменном строении Санкт-Петербурга и Москвы. Созданная для регулирования застройки обеих столиц, вскоре стала руководить всем градостроительством в стане. Комиссия функционировала до 1796 г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мимо урегулирования планировки Петербурга и Москвы комиссия за 34 года создала генеральные планы 24 городов (Архангельска, Астрахани, Твери, Нижнего Новгорода, Казани, Новгорода, Ярославля, Костромы, Томска, Пскова, Воронежа, Витебска и других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ии были созданы архитектурные творения, являющиеся достоянием не только России, но и всего мира. Некоторые из них, а именно: Баженов В. И. – строительство Большого Кремлевского дворца и здания коллегий на территории московского Кремля. и до сих пор одной самой совершенной работой всего русского классицизма конца XVIII ве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здание в подмосковном селе Царицыно загородной царской дворцово-парковой резиденци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 Пашкова, ныне старое здание Библиотеки В.И.Ленина является до сих пор одной самой совершенной работой всего русского классицизма конца XVIII ве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вершением творчества Баженова был проект Михайловского замка в Петербург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Documents and Settings\Екатерина.MICROSOF-2C7A04\Мои документы\Pashkov18.jpg"/>
          <p:cNvPicPr/>
          <p:nvPr/>
        </p:nvPicPr>
        <p:blipFill>
          <a:blip r:embed="rId2"/>
          <a:stretch/>
        </p:blipFill>
        <p:spPr>
          <a:xfrm>
            <a:off x="6215040" y="4714920"/>
            <a:ext cx="2681280" cy="195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143000" y="142560"/>
            <a:ext cx="7719840" cy="57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важными прогрессивными традициями русского зодчества, имеющими огромное значение для практики поздней архитектуры, являются ансамблевость и градостроительное искус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хитектура преобразовывалась во времени, но тем не менее некоторые особенности русского зодчества бытовали и развивались на протяжении столетий, сохраняя традиционную устойчивость вплоть до XX века, когда космополитическая сущность империализма не стала их постепенно истира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560" y="2714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72314"/>
                </a:solidFill>
                <a:latin typeface="Times New Roman"/>
              </a:rPr>
              <a:t>Изобразительное искусство</a:t>
            </a:r>
            <a:br>
              <a:rPr sz="4800"/>
            </a:br>
            <a:endParaRPr b="0" lang="en-US" sz="72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Documents and Settings\Екатерина.MICROSOF-2C7A04\Мои документы\Matveev_Andrey_Artamonovich.jpg"/>
          <p:cNvPicPr/>
          <p:nvPr/>
        </p:nvPicPr>
        <p:blipFill>
          <a:blip r:embed="rId2"/>
          <a:stretch/>
        </p:blipFill>
        <p:spPr>
          <a:xfrm>
            <a:off x="0" y="0"/>
            <a:ext cx="1860480" cy="22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428480" y="213840"/>
            <a:ext cx="7715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время расцвета портретной живописи. Наиболее известные художники петровского времени - Андрей Матвеев и Иван Никитин - основоположники русской светской живопис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 концу 20-х годов наметился перелом к придворному направлению живописи. Лучшие портретист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.П.Антропов, Ф.С.Рокотов, Д.Т.Левицкий, В.Л.Боровиковски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лассическое направление в скульптуре представляли Федор Шубин, Михаил Козловски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конце 18 в. формируется одна из богатейших художественных коллекций мира - Эрмитаж. В его основе лежит частная собрание картин Екатерин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C:\Documents and Settings\Екатерина.MICROSOF-2C7A04\Мои документы\Borovikovsky_By_Bugaevsky_Blagodatny.jpg"/>
          <p:cNvPicPr/>
          <p:nvPr/>
        </p:nvPicPr>
        <p:blipFill>
          <a:blip r:embed="rId3"/>
          <a:stretch/>
        </p:blipFill>
        <p:spPr>
          <a:xfrm>
            <a:off x="0" y="4572000"/>
            <a:ext cx="164304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C:\Documents and Settings\Екатерина.MICROSOF-2C7A04\Мои документы\Antropov_Self.jpg"/>
          <p:cNvPicPr/>
          <p:nvPr/>
        </p:nvPicPr>
        <p:blipFill>
          <a:blip r:embed="rId4"/>
          <a:stretch/>
        </p:blipFill>
        <p:spPr>
          <a:xfrm>
            <a:off x="0" y="228600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Екатерина.MICROSOF-2C7A04\Мои документы\Nikolai_Argunov_(1771-c1829)_-_Portrait_of_Praskovya_Ivanovna_Zhemchugova-Sheremeteva,_1803.jpg"/>
          <p:cNvPicPr/>
          <p:nvPr/>
        </p:nvPicPr>
        <p:blipFill>
          <a:blip r:embed="rId2"/>
          <a:stretch/>
        </p:blipFill>
        <p:spPr>
          <a:xfrm>
            <a:off x="0" y="214200"/>
            <a:ext cx="1928880" cy="264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Documents and Settings\Екатерина.MICROSOF-2C7A04\Мои документы\447px-Михаил_Щепкин.jpg"/>
          <p:cNvPicPr/>
          <p:nvPr/>
        </p:nvPicPr>
        <p:blipFill>
          <a:blip r:embed="rId3"/>
          <a:stretch/>
        </p:blipFill>
        <p:spPr>
          <a:xfrm>
            <a:off x="0" y="2928960"/>
            <a:ext cx="1928880" cy="26431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714680" y="214200"/>
            <a:ext cx="721512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18 в. продолжалось развитие театра. Открывались новые театры, ставились спектакли по пьесам русских авторов - Сумарокова, Фонвизин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алет в России зародился как отдельные танцевальные номера в антрактах драматических и оперных спектакле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1741 г. по указу дочери Петра Елизаветы была учреждена русская балетная трупп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должал развиваться и крепостной театр. В историю театра вошли имена крепостных актеров Прасковьи Жемчуговой, Михаила Щепкина и др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веке театр приобрел огромную популярность, стал достоянием широких масс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8480" y="2285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Музыка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Условия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в. начинает распространяться светское музыкальное искусство. Создается Филармоническое общество, в котором исполняется старинная и классическая музыка, формируется композиторская школа, появляются русские композиторы - авторы оперной, камерной музы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етровская эпоха положила начало развитию светской музыки нового типа. Творчество этого времени пока еще очень незначительно: оно ограничивается в основном простейшими жанрами прикладной музыки - военной, застольной, танцевальной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овая функция музыкального искусства особенно полно проявилась в жанрах парадной, торжественной музы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142640" y="357120"/>
            <a:ext cx="779148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Особой популярностью пользовались танцевальные жанр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Танцы петровских ассамблей - менуэт, полонез, англез - прочно укоренились на русской почве, а некоторые из них, в первую очередь менуэт, стали излюбленными в дворянском обществе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 музыкальному искусству, несмотря на сословные ограничения, тянутся все более широкие слои населения, и даже представители крепостного сословия теперь составляют едва ли не основную группу музыкантов-профессионал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 концу XVIII века можно говорить о вполне сложившихся, устойчивых национальных традициях в области музыкального исполнительства, оперного театра, концертной жизн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2848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Опера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едущим музыкальным жанром становится опера. Ведущим оперным композитором того времени являлся Д.С.Бортнянский - автор около 200 произведений. В конце века появляется жанр камерной лирической песни - русский романс на стихи русских поэтов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пера привлекает к себе и широкую аудиторию и лучшие творческие силы. Опера вызывает живые отклики в общественном мнении, в поэзии, литературе и критике. С большой непосредственностью и полнотой она отображает передовые, демократические тенденции русского искусств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опере, как и в комедии, затрагивались самые острые, коренные проблемы русской действительности, и в первую очередь вопрос о социальном неравенстве, о тяжелом, бесправном положении крепостного крестьянств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214280" y="142920"/>
            <a:ext cx="77155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Русская опера XVIII века - это прежде всего реалистическая опера-комедия бытового плана, тесно связанная со всем укладом русской общественной жизн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Опера, со всей сложностью и многообразием ее форм, питала всю русскую профессиональную музыку содействовала развитию других жан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В ней коренились основы и русского симфонизма, и русской хоровой классики. Тесно соприкасаясь с народной песней и бытовым романсом, она оказывала воздействие и на профессиональную вокальную лирик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Активное развитие оперной драматургии в XVIII веке во многом заранее обусловило ту важную роль, которую суждено было играть оперному жанру в творчестве композиторов-классиков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560" y="2356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Заключение</a:t>
            </a:r>
            <a:br>
              <a:rPr sz="3900"/>
            </a:b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семнадцатый век в области культуры и быта России — век глубоких социальных контрастов, подъема просвещения и нау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ек был знаменателен для России заметными переменами и значительными достижениями в области искусств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менились его жанровая структура, содержание, характер, средства художественного выражения. И в архитектуре, и в скульптуре, и в живописи, и в графике русское искусство выходило на общеевропейские пути развития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213920" y="356760"/>
            <a:ext cx="772020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учили развитие все направления культуры - образование, книгопечатание, литература, архитектура, изобразительное искусство. Появились новые литературные журналы, художественная литература, общедоступный театр, светская му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т становление русского классицизма. Развитие культуры 18 в. подготовило блестящий расцвет русской культуры 19 в., ставшей неотъемлемой составной частью мировой культуры. Однако в отличие от предыдущего периода времени на культуру большое влияние оказывало дворянство, а также продолжалось засилье иностранц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Екатерина.MICROSOF-2C7A04\Мои документы\image001_0_0.jpg"/>
          <p:cNvPicPr/>
          <p:nvPr/>
        </p:nvPicPr>
        <p:blipFill>
          <a:blip r:embed="rId2"/>
          <a:stretch/>
        </p:blipFill>
        <p:spPr>
          <a:xfrm>
            <a:off x="7000920" y="4000680"/>
            <a:ext cx="2000160" cy="2614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99720" y="285840"/>
            <a:ext cx="7497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нсивный рост русской культуры в XVIII веке в огромной мере был обусловлен крупными преобразованиями во всех областях жизни русского общества, осуществленными в эпоху Петра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итические и культурные достижения петровской эпохи содействовали укреплению в народе чувства национальной гордости, сознания величия и мощи Русского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тровские реформы способствовали экономическому и политическому подъему государства. Намного продвинулось просвещение,                         что оказало большое влияние на дальнейшее   развитие куль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Просвещение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грани XIX в. в России числилось 550 учебных заведений и 62 тыс. учащихся. Эти цифры показывают подъем грамотности в России и вместе с тем ее отставание по сравнению с Западной Европой: в Англии в конце XVIII в. насчитывалось в одних только воскресных школах бо­лее 250 тыс. учащихся, а во Франции количество начальных школ в 1794 г. доходило до 8 тыс. В России же в среднем училось лишь два человека из тыся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ьный состав учащихся в общеобразовательных школах был чрезвычайно пестрым. В народных училищах преобладали дети мастеровых, крестьян, ремесленников, солдат, матросов и т. д. Неодинаков был и возрастной состав учащихся — в одних и тех же классах обучались и малыши и 22-летние муж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овало 3 типа школ: солдатские школы, закрытые дворянские учебные заведения, духовные семинарии и шко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велась и через университеты — Академический, учрежденный в 1725 г. при Академии наук и существовавший до 1765 г., Московский, основанный в 1755 г. по почину Ломоносова, и Виленский, который формально был открыт лишь в 1803 г., но фактически действовал как университет с 80-х годов XVIII 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Times New Roman"/>
              </a:rPr>
              <a:t>Солдатские школы</a:t>
            </a:r>
            <a:endParaRPr b="0" lang="en-US" sz="44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лдатские школы — общеобразовательные училища для солдатских детей, преемники и продолжатели цифирных школ петровского времени.  Солдатские дети составляли основную массу студентов Московского и Петербургского университетов. К типу солдатских принадлежали также национальные военные школы, от­крытые во второй половине XVIII в. на Северном Кавказе (Кизлярская, Моздокская и Екатериноградская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Закрытые дворянские учебные заведения</a:t>
            </a:r>
            <a:endParaRPr b="0" lang="en-US" sz="40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2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ые дворянские учебные заведения - это частные пансионы, шляхетские корпу­са, институты благородных девиц и т. д. всего более 60 учебных заведений, где обучалось около 4,5 тыс. дворянских детей. Сословными учебными заведениями были и благородные пансионы — частные и государственные: Смольный институт благородных девиц, Благородный пансион при Московском университете и т. д.  Эти учебные заведения пользовались наибольшей финансовой поддержкой прав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5:47Z</dcterms:created>
  <dc:creator>Бортникова Екатерина Сергеевна</dc:creator>
  <dc:description/>
  <dc:language>en-US</dc:language>
  <cp:lastModifiedBy>User</cp:lastModifiedBy>
  <dcterms:modified xsi:type="dcterms:W3CDTF">2009-06-01T10:41:30Z</dcterms:modified>
  <cp:revision>17</cp:revision>
  <dc:subject/>
  <dc:title>Культура России XVIII века</dc:title>
</cp:coreProperties>
</file>