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292-AF8B-4CF2-818C-3256F33F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9C3-E69D-46C4-A85B-7111ADC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97A-EB85-4E45-9026-6849F1A8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C77-5BC8-4658-8881-05EAF9FC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175E-9ADF-4884-8131-2C7D2DD6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6E82-81FF-4D98-B3F6-C8B4FE97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8543-B254-4E6B-BACB-D9991EF1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7832-1D0C-4DAA-94E7-F922751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E4A3-42AB-4EEE-8868-B03EC32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61D-DDB3-4C7B-9294-3BBECB5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8501-A8F2-420A-8A1A-B32E675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6A9-6B96-45D0-B2D7-722CED9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A599-2B15-44FA-8920-16C6538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54B-5306-4A34-B669-34D41DD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7612-A39D-468A-8839-45B38F8A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DA06-356D-4237-9FE9-93B156B1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7297-2D98-49C3-A10E-B4862D4E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E299-9A62-46BD-A982-C202D9AA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5757-327B-4917-AC9F-A625AAB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8312-D37C-4559-8224-3B4A822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65E3-A29D-4E6C-B98A-98FA99F5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CDFF-DF3A-4F6C-8E8E-0E8F415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55B-D239-4ACA-A08A-4CAFCCB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E8A9-450D-4011-9E54-4C9CEC3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DE1E-6C7C-47C4-A93D-94BB666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F06C-1C63-4FB1-99C7-1C58C707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2A23-D81B-4B90-A9B9-0E78A90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86BB-3051-4F17-97F0-E496FB5D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8442-644A-4CB8-91BA-22B3B5B3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E9D8-8880-4140-923D-795346ED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8845-E802-48A8-B271-D127C5C1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719F-9919-4A09-9CC8-9CD4F774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F1D8-4734-495F-A672-ACEF4DD6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D93-6F3E-4845-86E1-9D73B31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843B-B1F8-406F-B1E3-6ECC7D8E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CF8E-C6D7-40C6-805C-F4CD6BAA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E1FD-3943-48DC-AA92-21734870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F110-0EC3-41CF-A77E-BE1EB75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2521-1668-41F3-A27A-A26BC58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55BC-FB20-40F5-9CF2-B42BEC8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BB8D-802A-407E-B933-DCF4801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7213-02FF-44CA-AA3E-78CAD448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67A0-B1FA-4D9D-AAA9-A108194B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0CB1-B24C-484E-AC40-758C9D2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BCD-0975-40B8-ABF1-BD9C43E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E208C-D225-420F-B209-0E50B30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8ACB-338C-458B-9655-3238796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D1C3-7AF8-4899-AB3C-58B0116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245D-2653-40DC-AFFB-216E89CC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9C82-B61A-4109-9BCF-5A48F28E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1D208-67B3-4365-8F48-23632175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BD94-DA15-415E-A917-69127FE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09F67-AF6C-4C43-AD13-6A69209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75D2-F1BB-4E53-B7FD-76BAEEB3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428C-A878-405A-A705-9738052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6EC-02B1-4C05-B0C2-11F20C10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D4769-AC1F-46E3-828E-4803C8D2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05E5-D8BC-4A51-AF64-220DD4AB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02B7-62F0-4765-8B9B-605FBCB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B524-3701-4EF7-B2EB-D73F3E01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100F-A9FE-45F3-9A2B-DE101CE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1978-C42F-41A5-8F4B-35F176A6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1618-E617-4672-9D1F-A9AB3CC8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EF1A-DDA9-4E65-9D77-BEB5599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4397-4C63-445F-B494-24D44C2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F02B7-FE38-485E-875F-4D7A28B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85A-41A3-4691-B273-5BCA024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2399-2EEE-4F4F-897A-1B3706F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88C3-C304-4C21-B338-32077919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90AE-9983-4BF9-980A-1875F5D8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A712-8FAF-4A17-97B7-A8C0478F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F8FA-886E-48A3-B8CD-7B910CFA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8383-9ECD-4FAF-98FB-FF14300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3F524-5C23-4CFF-BD0C-8463A3A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FC35-5022-43DC-99B6-F10BE5B7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B276-4677-474B-B328-6F1AACD4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58B21-834F-4868-A04B-DB65FA0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5AB-0FEC-4FEB-87AF-DB0677C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0969-2DE1-459F-AF06-CCEDDDD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DBBD-7615-4798-9DDB-95129C2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8A3D-50AA-42DC-B7F9-52059AF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43B3-D4FC-440C-AE65-38975342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47C92-176A-4AFD-AFF1-1E6604E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085-C42A-4770-9F1C-9A3C3F0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8023-AC8D-4ED4-9C82-47A995D762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BB9-11C2-4E8D-BCFE-744AF1F75D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61B-4988-46C0-B386-108F9F3C12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77A-6541-4F9D-A35D-B7B147C501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2D4-94E3-428C-86F5-7D49C4E406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BF7F-2BD7-4751-BEAE-00A1A4C6383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B530-14C0-4EC2-A07B-3DE8736759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214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572314"/>
                </a:solidFill>
                <a:latin typeface="Times New Roman"/>
              </a:rPr>
              <a:t>Культура России </a:t>
            </a:r>
            <a:r>
              <a:rPr b="0" i="1" lang="en-US" sz="4800" spc="-1" strike="noStrike">
                <a:solidFill>
                  <a:srgbClr val="572314"/>
                </a:solidFill>
                <a:latin typeface="Times New Roman"/>
              </a:rPr>
              <a:t>XVIII </a:t>
            </a:r>
            <a:r>
              <a:rPr b="0" i="1" lang="ru-RU" sz="4800" spc="-1" strike="noStrike">
                <a:solidFill>
                  <a:srgbClr val="572314"/>
                </a:solidFill>
                <a:latin typeface="Times New Roman"/>
              </a:rPr>
              <a:t>века</a:t>
            </a:r>
            <a:endParaRPr b="0" lang="en-US" sz="48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Духовные семинарии и школы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х насчитывалось 66, в них обучалось 20 393 человека. Это были также сословные школы, предназначаемые для детей духовенства; разночинцев в них не принимали. Главной задачей этих школ была подготовка преданных церкви и царю священников, но воспитанники семинарий получали и общее образование и нередко становились проводниками грамотности в своих прих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4280" y="21427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572314"/>
                </a:solidFill>
                <a:latin typeface="Times New Roman"/>
              </a:rPr>
              <a:t>Книгопечатание</a:t>
            </a:r>
            <a:endParaRPr b="0" lang="en-US" sz="80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28480" y="49968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начительно усилилось книгоиздательское дело. В 1708 г. была проведена реформа шрифта, были введены гражданская печать, что способствовало увеличению светских и гражданских книг, журналов. Были организованы библиотеки, открыты книжные магазины. Широкая книгоиздательская деятельность во многом ускорила развитие литературы. Введение гражданского языка способствовало укреплению светского язык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8556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Литература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709280" y="428760"/>
            <a:ext cx="743436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это время были очень популярными стихотворные произведения - оды, басни, эпиграммы русского поэта и просветителя Антиоха Кантемира (1708-1744 гг.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эт В.К.Тредиаковский (1703-1768 гг.) стал реформатором русского языка и стихосложе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новоположником русской драматургии стал А.П.Сумароков (1717-1777), поэт, автор первых комедий и трагедий, директор Российского театра в Петербурге. Он писал в разных жанрах: лирические песни, оды, эпиграммы, сатиры, басн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произведениях этих писателей нашли отражение идеи русского классицизма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2" descr="C:\Documents and Settings\Екатерина.MICROSOF-2C7A04\Мои документы\Kantemir.jpg"/>
          <p:cNvPicPr/>
          <p:nvPr/>
        </p:nvPicPr>
        <p:blipFill>
          <a:blip r:embed="rId2"/>
          <a:stretch/>
        </p:blipFill>
        <p:spPr>
          <a:xfrm>
            <a:off x="214200" y="21420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C:\Documents and Settings\Екатерина.MICROSOF-2C7A04\Мои документы\m_28371.jpg"/>
          <p:cNvPicPr/>
          <p:nvPr/>
        </p:nvPicPr>
        <p:blipFill>
          <a:blip r:embed="rId3"/>
          <a:stretch/>
        </p:blipFill>
        <p:spPr>
          <a:xfrm>
            <a:off x="214200" y="4572000"/>
            <a:ext cx="1714680" cy="207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C:\Documents and Settings\Екатерина.MICROSOF-2C7A04\Мои документы\trediakov.jpg"/>
          <p:cNvPicPr/>
          <p:nvPr/>
        </p:nvPicPr>
        <p:blipFill>
          <a:blip r:embed="rId4"/>
          <a:stretch/>
        </p:blipFill>
        <p:spPr>
          <a:xfrm>
            <a:off x="285840" y="2428920"/>
            <a:ext cx="142884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571760" y="356760"/>
            <a:ext cx="736272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ледняя четверть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. стала временем расцвета творчества крупного поэта Г.Р.Державина (1743-1816). Основным жанром его произведений была од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усские нравы и обычаи выразил в своих социальных комедиях "Бригадир" и "Недоросль" Д.И.Фонвизин. Его комедии положили начало обличительно-реалистическому направлению в литератур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оположником русского сентиментализма стал Н.М.Карамзин (1766-1826 гг.), автор повестей "Бедная Лиза", "Деревня" и др. Основное сочинение Карамзина - "История государства Российского"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C:\Documents and Settings\Екатерина.MICROSOF-2C7A04\Мои документы\Vladimir_Borovikovsky_001.jpg"/>
          <p:cNvPicPr/>
          <p:nvPr/>
        </p:nvPicPr>
        <p:blipFill>
          <a:blip r:embed="rId2"/>
          <a:stretch/>
        </p:blipFill>
        <p:spPr>
          <a:xfrm>
            <a:off x="214200" y="428760"/>
            <a:ext cx="1706760" cy="213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Екатерина.MICROSOF-2C7A04\Мои документы\Nikolai_Michailowitsch_Karamzin.jpg"/>
          <p:cNvPicPr/>
          <p:nvPr/>
        </p:nvPicPr>
        <p:blipFill>
          <a:blip r:embed="rId3"/>
          <a:stretch/>
        </p:blipFill>
        <p:spPr>
          <a:xfrm>
            <a:off x="214200" y="357192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4280" y="21427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Архитектура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42640" y="785520"/>
            <a:ext cx="77914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мнадцатым веком завершается 700-летний период каменного древнерусского строительства, вписавшего не одну замечательную страницу в летопись мировой архитек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етровскую эпоху вносятся новшества в архитектуру и строительство, обусловленные требованиями правительства выразить в архитектурных сооружениях силу, мощь и величие Российской импер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политико-экономическим развитием страны нов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ъявляются к гражданскому строи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285560" y="285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иболее заметными строениями того времени в Москве были Большой Каменный мост, Арсенал в Кремле и др. В 1749 г. Ухтомский организовал в Москве первую в России Архитектурную школу, в которой под его руководством учились В.П.Баженов и М.Ф.Каза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C:\Documents and Settings\Екатерина.MICROSOF-2C7A04\Мои документы\Bolshoikamennyi.jpg"/>
          <p:cNvPicPr/>
          <p:nvPr/>
        </p:nvPicPr>
        <p:blipFill>
          <a:blip r:embed="rId2"/>
          <a:stretch/>
        </p:blipFill>
        <p:spPr>
          <a:xfrm>
            <a:off x="1143000" y="3357720"/>
            <a:ext cx="3786120" cy="2517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C:\Documents and Settings\Екатерина.MICROSOF-2C7A04\Мои документы\Arsenal1.JPG"/>
          <p:cNvPicPr/>
          <p:nvPr/>
        </p:nvPicPr>
        <p:blipFill>
          <a:blip r:embed="rId3"/>
          <a:stretch/>
        </p:blipFill>
        <p:spPr>
          <a:xfrm>
            <a:off x="5286240" y="4264200"/>
            <a:ext cx="364356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Екатерина.MICROSOF-2C7A04\Мои документы\admiralteystvo_schema.jpg"/>
          <p:cNvPicPr/>
          <p:nvPr/>
        </p:nvPicPr>
        <p:blipFill>
          <a:blip r:embed="rId2"/>
          <a:stretch/>
        </p:blipFill>
        <p:spPr>
          <a:xfrm>
            <a:off x="6643800" y="5072040"/>
            <a:ext cx="2311200" cy="1593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1071720" y="214200"/>
            <a:ext cx="77911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00 году Россия начала Северную войну против Швеции, чтобы освободить русские земли и возвратить Невские берега России. Выход в Балтийское море для России был открыт. Необходимо было только его обезопасить и закреп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 мая 1703 года, по чертежу Петра I и военных инженеров заложили крепость нового бастионного типа  – Петропавловскую креп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южном берегу Невы, почти напротив Петропавловской крепости, в 1704 году по                чертежу Петра I залож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-167400">
              <a:spcBef>
                <a:spcPts val="60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достроительную верфь-крепость –Адмиралтей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71360" y="1785960"/>
            <a:ext cx="786276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Век разума и просвещения" - так говорили о своем времени великие мыслители XVIII столетия, провозвестники новых революционных и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</a:rPr>
              <a:t>Введение</a:t>
            </a:r>
            <a:endParaRPr b="0" lang="en-US" sz="43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Documents and Settings\Екатерина.MICROSOF-2C7A04\Мои документы\0000284306-preview.jpg"/>
          <p:cNvPicPr/>
          <p:nvPr/>
        </p:nvPicPr>
        <p:blipFill>
          <a:blip r:embed="rId2"/>
          <a:stretch/>
        </p:blipFill>
        <p:spPr>
          <a:xfrm>
            <a:off x="214200" y="4929120"/>
            <a:ext cx="2857680" cy="1763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пицентром передовых веяний в архитектуре  и  градостроительство Санкт-Петербурга. Под защитой трех взаимодействующих крепостей началось его возведение, ставшего с1712 года новой столицей Росс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мещение градоформирующих сооружений велось по указаниям самого Петра 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1710 года стали строить только кирпичные до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.к. квалифицированный специалистов не хватало, то в 1710 году были приглашены: итальянцы, немцы, голландцы. Они должны были не только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оить, но и подготавливать русских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рхитекторов  из  учеников,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ботавших с ни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C:\Documents and Settings\Екатерина.MICROSOF-2C7A04\Мои документы\zimn.jpg"/>
          <p:cNvPicPr/>
          <p:nvPr/>
        </p:nvPicPr>
        <p:blipFill>
          <a:blip r:embed="rId2"/>
          <a:stretch/>
        </p:blipFill>
        <p:spPr>
          <a:xfrm>
            <a:off x="6429240" y="5045040"/>
            <a:ext cx="2714760" cy="1812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142640" y="214200"/>
            <a:ext cx="779148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сское барокко, тяготевший к созданию героизированных образов, к прославлению могущества Российской империи, наиболее ярко проявился в  архитектурных сооружениях одного из крупнейших зодчих этого направления — Ф. Б. Растрел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его проектам созданы величественные дворцовые ансамбли в Петербурге (Зимний, Строгановский дворец, и в Петергофе, в Царском Селе (Екатерининский дворец,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жественный, праздничный характер архитектуры Растрелли наложи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печаток на всё искус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3800" indent="-16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едины XVIII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143000" y="214200"/>
            <a:ext cx="771984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60-х годах в России произошла смена архитектурно-художественного стиля. Декоративное барокко, уступило место классицизму, быстро утвердившемуся в Петербурге и Москве, а затем распространившемуся по всей стра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цизм (от лат.- образцовый) – художественный стиль, развивающийся путем творческого заимствования форм, композиций и образцов искусства античного мира и эпохи итальянского возро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C:\Documents and Settings\Екатерина.MICROSOF-2C7A04\Мои документы\000061.jpg"/>
          <p:cNvPicPr/>
          <p:nvPr/>
        </p:nvPicPr>
        <p:blipFill>
          <a:blip r:embed="rId2"/>
          <a:stretch/>
        </p:blipFill>
        <p:spPr>
          <a:xfrm>
            <a:off x="5786280" y="4643280"/>
            <a:ext cx="3143520" cy="2001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C:\Documents and Settings\Екатерина.MICROSOF-2C7A04\Мои документы\St._Michael's_Castle_1825.jpg"/>
          <p:cNvPicPr/>
          <p:nvPr/>
        </p:nvPicPr>
        <p:blipFill>
          <a:blip r:embed="rId2"/>
          <a:stretch/>
        </p:blipFill>
        <p:spPr>
          <a:xfrm>
            <a:off x="5572080" y="4857840"/>
            <a:ext cx="3357720" cy="1785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071720" y="142920"/>
            <a:ext cx="77198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руководства повсеместной градостроительной деятельностью в декабре 1762 года было учреждена комиссия о каменном строении Санкт-Петербурга и Москвы. Созданная для регулирования застройки обеих столиц, вскоре стала руководить всем градостроительством в стане. Комиссия функционировала до 1796 г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мимо урегулирования планировки Петербурга и Москвы комиссия за 34 года создала генеральные планы 24 городов (Архангельска, Астрахани, Твери, Нижнего Новгорода, Казани, Новгорода, Ярославля, Костромы, Томска, Пскова, Воронежа, Витебска и других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ии были созданы архитектурные творения, являющиеся достоянием не только России, но и всего мира. Некоторые из них, а именно: Баженов В. И. – строительство Большого Кремлевского дворца и здания коллегий на территории московского Кремля. и до сих пор одной самой совершенной работой всего русского классицизма конца XVIII ве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здание в подмосковном селе Царицыно загородной царской дворцово-парковой резиденци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м Пашкова, ныне старое здание Библиотеки В.И.Ленина является до сих пор одной самой совершенной работой всего русского классицизма конца XVIII ве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вершением творчества Баженова был проект Михайловского замка в Петербург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Documents and Settings\Екатерина.MICROSOF-2C7A04\Мои документы\Pashkov18.jpg"/>
          <p:cNvPicPr/>
          <p:nvPr/>
        </p:nvPicPr>
        <p:blipFill>
          <a:blip r:embed="rId2"/>
          <a:stretch/>
        </p:blipFill>
        <p:spPr>
          <a:xfrm>
            <a:off x="6215040" y="4714920"/>
            <a:ext cx="2681280" cy="195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143000" y="142560"/>
            <a:ext cx="7719840" cy="57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важными прогрессивными традициями русского зодчества, имеющими огромное значение для практики поздней архитектуры, являются ансамблевость и градостроительное искус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хитектура преобразовывалась во времени, но тем не менее некоторые особенности русского зодчества бытовали и развивались на протяжении столетий, сохраняя традиционную устойчивость вплоть до XX века, когда космополитическая сущность империализма не стала их постепенно истира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560" y="2714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572314"/>
                </a:solidFill>
                <a:latin typeface="Times New Roman"/>
              </a:rPr>
              <a:t>Изобразительное искусство</a:t>
            </a:r>
            <a:br>
              <a:rPr sz="4800"/>
            </a:br>
            <a:endParaRPr b="0" lang="en-US" sz="72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Documents and Settings\Екатерина.MICROSOF-2C7A04\Мои документы\Matveev_Andrey_Artamonovich.jpg"/>
          <p:cNvPicPr/>
          <p:nvPr/>
        </p:nvPicPr>
        <p:blipFill>
          <a:blip r:embed="rId2"/>
          <a:stretch/>
        </p:blipFill>
        <p:spPr>
          <a:xfrm>
            <a:off x="0" y="0"/>
            <a:ext cx="1860480" cy="22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428480" y="213840"/>
            <a:ext cx="7715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время расцвета портретной живописи. Наиболее известные художники петровского времени - Андрей Матвеев и Иван Никитин - основоположники русской светской живопис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 концу 20-х годов наметился перелом к придворному направлению живописи. Лучшие портретист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.П.Антропов, Ф.С.Рокотов, Д.Т.Левицкий, В.Л.Боровиковски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лассическое направление в скульптуре представляли Федор Шубин, Михаил Козловски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конце 18 в. формируется одна из богатейших художественных коллекций мира - Эрмитаж. В его основе лежит частная собрание картин Екатерин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C:\Documents and Settings\Екатерина.MICROSOF-2C7A04\Мои документы\Borovikovsky_By_Bugaevsky_Blagodatny.jpg"/>
          <p:cNvPicPr/>
          <p:nvPr/>
        </p:nvPicPr>
        <p:blipFill>
          <a:blip r:embed="rId3"/>
          <a:stretch/>
        </p:blipFill>
        <p:spPr>
          <a:xfrm>
            <a:off x="0" y="4572000"/>
            <a:ext cx="164304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C:\Documents and Settings\Екатерина.MICROSOF-2C7A04\Мои документы\Antropov_Self.jpg"/>
          <p:cNvPicPr/>
          <p:nvPr/>
        </p:nvPicPr>
        <p:blipFill>
          <a:blip r:embed="rId4"/>
          <a:stretch/>
        </p:blipFill>
        <p:spPr>
          <a:xfrm>
            <a:off x="0" y="228600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Екатерина.MICROSOF-2C7A04\Мои документы\Nikolai_Argunov_(1771-c1829)_-_Portrait_of_Praskovya_Ivanovna_Zhemchugova-Sheremeteva,_1803.jpg"/>
          <p:cNvPicPr/>
          <p:nvPr/>
        </p:nvPicPr>
        <p:blipFill>
          <a:blip r:embed="rId2"/>
          <a:stretch/>
        </p:blipFill>
        <p:spPr>
          <a:xfrm>
            <a:off x="0" y="214200"/>
            <a:ext cx="1928880" cy="264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Documents and Settings\Екатерина.MICROSOF-2C7A04\Мои документы\447px-Михаил_Щепкин.jpg"/>
          <p:cNvPicPr/>
          <p:nvPr/>
        </p:nvPicPr>
        <p:blipFill>
          <a:blip r:embed="rId3"/>
          <a:stretch/>
        </p:blipFill>
        <p:spPr>
          <a:xfrm>
            <a:off x="0" y="2928960"/>
            <a:ext cx="1928880" cy="26431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714680" y="214200"/>
            <a:ext cx="721512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18 в. продолжалось развитие театра. Открывались новые театры, ставились спектакли по пьесам русских авторов - Сумарокова, Фонвизин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алет в России зародился как отдельные танцевальные номера в антрактах драматических и оперных спектакле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1741 г. по указу дочери Петра Елизаветы была учреждена русская балетная труппа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должал развиваться и крепостной театр. В историю театра вошли имена крепостных актеров Прасковьи Жемчуговой, Михаила Щепкина и др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веке театр приобрел огромную популярность, стал достоянием широких масс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8480" y="2285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Музыка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Условия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в. начинает распространяться светское музыкальное искусство. Создается Филармоническое общество, в котором исполняется старинная и классическая музыка, формируется композиторская школа, появляются русские композиторы - авторы оперной, камерной музы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етровская эпоха положила начало развитию светской музыки нового типа. Творчество этого времени пока еще очень незначительно: оно ограничивается в основном простейшими жанрами прикладной музыки - военной, застольной, танцевальной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овая функция музыкального искусства особенно полно проявилась в жанрах парадной, торжественной музык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142640" y="357120"/>
            <a:ext cx="779148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Особой популярностью пользовались танцевальные жанры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Танцы петровских ассамблей - менуэт, полонез, англез - прочно укоренились на русской почве, а некоторые из них, в первую очередь менуэт, стали излюбленными в дворянском обществе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 музыкальному искусству, несмотря на сословные ограничения, тянутся все более широкие слои населения, и даже представители крепостного сословия теперь составляют едва ли не основную группу музыкантов-профессионал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К концу XVIII века можно говорить о вполне сложившихся, устойчивых национальных традициях в области музыкального исполнительства, оперного театра, концертной жизн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28480" y="2214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572314"/>
                </a:solidFill>
                <a:latin typeface="Times New Roman"/>
              </a:rPr>
              <a:t>Опера</a:t>
            </a:r>
            <a:endParaRPr b="0" lang="en-US" sz="115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213920" y="285480"/>
            <a:ext cx="77202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едущим музыкальным жанром становится опера. Ведущим оперным композитором того времени являлся Д.С.Бортнянский - автор около 200 произведений. В конце века появляется жанр камерной лирической песни - русский романс на стихи русских поэтов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пера привлекает к себе и широкую аудиторию и лучшие творческие силы. Опера вызывает живые отклики в общественном мнении, в поэзии, литературе и критике. С большой непосредственностью и полнотой она отображает передовые, демократические тенденции русского искусств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опере, как и в комедии, затрагивались самые острые, коренные проблемы русской действительности, и в первую очередь вопрос о социальном неравенстве, о тяжелом, бесправном положении крепостного крестьянств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214280" y="142920"/>
            <a:ext cx="77155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Русская опера XVIII века - это прежде всего реалистическая опера-комедия бытового плана, тесно связанная со всем укладом русской общественной жизни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Опера, со всей сложностью и многообразием ее форм, питала всю русскую профессиональную музыку содействовала развитию других жан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В ней коренились основы и русского симфонизма, и русской хоровой классики. Тесно соприкасаясь с народной песней и бытовым романсом, она оказывала воздействие и на профессиональную вокальную лирик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Активное развитие оперной драматургии в XVIII веке во многом заранее обусловило ту важную роль, которую суждено было играть оперному жанру в творчестве композиторов-классиков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560" y="2356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Заключение</a:t>
            </a:r>
            <a:br>
              <a:rPr sz="3900"/>
            </a:b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2640" y="285480"/>
            <a:ext cx="77914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семнадцатый век в области культуры и быта России — век глубоких социальных контрастов, подъема просвещения и нау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ек был знаменателен для России заметными переменами и значительными достижениями в области искусств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менились его жанровая структура, содержание, характер, средства художественного выражения. И в архитектуре, и в скульптуре, и в живописи, и в графике русское искусство выходило на общеевропейские пути развития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213920" y="356760"/>
            <a:ext cx="772020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учили развитие все направления культуры - образование, книгопечатание, литература, архитектура, изобразительное искусство. Появились новые литературные журналы, художественная литература, общедоступный театр, светская му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т становление русского классицизма. Развитие культуры 18 в. подготовило блестящий расцвет русской культуры 19 в., ставшей неотъемлемой составной частью мировой культуры. Однако в отличие от предыдущего периода времени на культуру большое влияние оказывало дворянство, а также продолжалось засилье иностранц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Екатерина.MICROSOF-2C7A04\Мои документы\image001_0_0.jpg"/>
          <p:cNvPicPr/>
          <p:nvPr/>
        </p:nvPicPr>
        <p:blipFill>
          <a:blip r:embed="rId2"/>
          <a:stretch/>
        </p:blipFill>
        <p:spPr>
          <a:xfrm>
            <a:off x="7000920" y="4000680"/>
            <a:ext cx="2000160" cy="2614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99720" y="285840"/>
            <a:ext cx="749772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нсивный рост русской культуры в XVIII веке в огромной мере был обусловлен крупными преобразованиями во всех областях жизни русского общества, осуществленными в эпоху Петра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итические и культурные достижения петровской эпохи содействовали укреплению в народе чувства национальной гордости, сознания величия и мощи Русского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тровские реформы способствовали экономическому и политическому подъему государства. Намного продвинулось просвещение,                         что оказало большое влияние на дальнейшее   развитие куль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572314"/>
                </a:solidFill>
                <a:latin typeface="Times New Roman"/>
              </a:rPr>
              <a:t>Просвещение</a:t>
            </a:r>
            <a:endParaRPr b="0" lang="en-US" sz="9600" spc="-1" strike="noStrike">
              <a:solidFill>
                <a:srgbClr val="572314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грани XIX в. в России числилось 550 учебных заведений и 62 тыс. учащихся. Эти цифры показывают подъем грамотности в России и вместе с тем ее отставание по сравнению с Западной Европой: в Англии в конце XVIII в. насчитывалось в одних только воскресных школах бо­лее 250 тыс. учащихся, а во Франции количество начальных школ в 1794 г. доходило до 8 тыс. В России же в среднем училось лишь два человека из тыся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ьный состав учащихся в общеобразовательных школах был чрезвычайно пестрым. В народных училищах преобладали дети мастеровых, крестьян, ремесленников, солдат, матросов и т. д. Неодинаков был и возрастной состав учащихся — в одних и тех же классах обучались и малыши и 22-летние муж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овало 3 типа школ: солдатские школы, закрытые дворянские учебные заведения, духовные семинарии и шко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велась и через университеты — Академический, учрежденный в 1725 г. при Академии наук и существовавший до 1765 г., Московский, основанный в 1755 г. по почину Ломоносова, и Виленский, который формально был открыт лишь в 1803 г., но фактически действовал как университет с 80-х годов XVIII 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Times New Roman"/>
              </a:rPr>
              <a:t>Солдатские школы</a:t>
            </a:r>
            <a:endParaRPr b="0" lang="en-US" sz="44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лдатские школы — общеобразовательные училища для солдатских детей, преемники и продолжатели цифирных школ петровского времени.  Солдатские дети составляли основную массу студентов Московского и Петербургского университетов. К типу солдатских принадлежали также национальные военные школы, от­крытые во второй половине XVIII в. на Северном Кавказе (Кизлярская, Моздокская и Екатериноградская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92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Закрытые дворянские учебные заведения</a:t>
            </a:r>
            <a:endParaRPr b="0" lang="en-US" sz="40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642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ые дворянские учебные заведения - это частные пансионы, шляхетские корпу­са, институты благородных девиц и т. д. всего более 60 учебных заведений, где обучалось около 4,5 тыс. дворянских детей. Сословными учебными заведениями были и благородные пансионы — частные и государственные: Смольный институт благородных девиц, Благородный пансион при Московском университете и т. д.  Эти учебные заведения пользовались наибольшей финансовой поддержкой прав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5:47Z</dcterms:created>
  <dc:creator>Бортникова Екатерина Сергеевна</dc:creator>
  <dc:description/>
  <dc:language>en-US</dc:language>
  <cp:lastModifiedBy>User</cp:lastModifiedBy>
  <dcterms:modified xsi:type="dcterms:W3CDTF">2009-06-01T10:41:30Z</dcterms:modified>
  <cp:revision>17</cp:revision>
  <dc:subject/>
  <dc:title>Культура России XVIII века</dc:title>
</cp:coreProperties>
</file>