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A8AB-B5DF-4028-9136-5E21A2923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2D8-B7FD-4693-9FF4-E7095E051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D6B-BDE9-46DB-A93E-7156A700F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30D-8970-40F6-9702-7055C2B0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970-5682-4728-BFC5-65B6C41C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59C-B8A8-45DB-AA0E-5915CC47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883-8CED-43B5-B2C4-11FEA59C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AEA-DB67-4CF8-86AB-0DA60E5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57F-798F-4321-B6DB-6251CB1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28E-7C62-4CC8-8FAF-63A4105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F40-72F6-48BF-B18A-5DBA95B7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D3D-E847-45D9-B7DA-98AEA60B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62E-5037-47CC-980C-7D1B66E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BB0-CC56-442D-B8E9-7F0028E0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B89-D228-43E8-A295-0B4DC9D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541-821A-4C06-A198-52AEAC92D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765000"/>
            <a:ext cx="738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РОССИ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ек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локольня Ивана Вели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505-1508 г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26828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тектор Бон Фрязин. Высокий стройный столп из двух поставленных один на один восьмигранников (походила на русские сторожевые башни). 1624 – Филаретовская пристройка арх. Бажен Огурц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32 – звонница для тяжёлых колоколов. Арх. Петрок Мал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Рисунок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2924280"/>
            <a:ext cx="2889360" cy="3744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97" name="Picture 6" descr="bell_tower2"/>
          <p:cNvPicPr/>
          <p:nvPr/>
        </p:nvPicPr>
        <p:blipFill>
          <a:blip r:embed="rId2"/>
          <a:stretch/>
        </p:blipFill>
        <p:spPr>
          <a:xfrm>
            <a:off x="7524720" y="189000"/>
            <a:ext cx="1324080" cy="132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00A1449"/>
          <p:cNvPicPr/>
          <p:nvPr/>
        </p:nvPicPr>
        <p:blipFill>
          <a:blip r:embed="rId3"/>
          <a:srcRect l="32972" t="0" r="0" b="17534"/>
          <a:stretch/>
        </p:blipFill>
        <p:spPr>
          <a:xfrm>
            <a:off x="4284720" y="2881440"/>
            <a:ext cx="3868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явился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шатровый  стиль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ы венчались шатром. Шатёр – завершение центрических сооружений (колоколен, башен, храмов, крылец, ворот) в виде четырёхгранной пирамиды либо кону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Церковь Вознесения в селе Коломен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24000" y="2349360"/>
            <a:ext cx="511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а в 1532 г., в честь рождения наследника Василия III - будущего царя Ивана Гроз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около 62 м с крес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выстроено из кирпича, почти все архитектурные детали выполнены из белого кам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тер выложен из кирпича, с незначительным отступом каждого последующего ряда по отношению к предыдущему. 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«… Бе же та велми чюдна высоьою и светлостью, такова не бывала прежде того на Рус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исал летопис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3"/>
          <p:cNvPicPr/>
          <p:nvPr/>
        </p:nvPicPr>
        <p:blipFill>
          <a:blip r:embed="rId1"/>
          <a:stretch/>
        </p:blipFill>
        <p:spPr>
          <a:xfrm>
            <a:off x="5981760" y="2349360"/>
            <a:ext cx="2800440" cy="4105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1268280"/>
            <a:ext cx="36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Собор Василия Блаженного"/>
          <p:cNvPicPr/>
          <p:nvPr/>
        </p:nvPicPr>
        <p:blipFill>
          <a:blip r:embed="rId1"/>
          <a:stretch/>
        </p:blipFill>
        <p:spPr>
          <a:xfrm>
            <a:off x="2268360" y="0"/>
            <a:ext cx="448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Храм Василия Блаже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(Покровский собо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555—156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1268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3984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внутр вид Покровского собора"/>
          <p:cNvPicPr/>
          <p:nvPr/>
        </p:nvPicPr>
        <p:blipFill>
          <a:blip r:embed="rId1"/>
          <a:stretch/>
        </p:blipFill>
        <p:spPr>
          <a:xfrm>
            <a:off x="6804000" y="836640"/>
            <a:ext cx="1905120" cy="2409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332748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внутр вид Покр соб 2"/>
          <p:cNvPicPr/>
          <p:nvPr/>
        </p:nvPicPr>
        <p:blipFill>
          <a:blip r:embed="rId2"/>
          <a:stretch/>
        </p:blipFill>
        <p:spPr>
          <a:xfrm>
            <a:off x="6804000" y="3645000"/>
            <a:ext cx="1905120" cy="26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Покровский собор"/>
          <p:cNvPicPr/>
          <p:nvPr/>
        </p:nvPicPr>
        <p:blipFill>
          <a:blip r:embed="rId3"/>
          <a:stretch/>
        </p:blipFill>
        <p:spPr>
          <a:xfrm>
            <a:off x="179280" y="1052640"/>
            <a:ext cx="2995560" cy="3744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3348000" y="1844640"/>
            <a:ext cx="32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дч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р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сть взятия русскими войсками Каза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ачала собор был окрашен в белый цвет, и только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олучил пёструю окра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79280" y="49417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е переходами, галереями девяти различных столпообразных храмов символизировало объединение земель и княжеств в единое русск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моленский Кремль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рхитектор Фёдор К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268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18"/>
          <p:cNvPicPr/>
          <p:nvPr/>
        </p:nvPicPr>
        <p:blipFill>
          <a:blip r:embed="rId1"/>
          <a:stretch/>
        </p:blipFill>
        <p:spPr>
          <a:xfrm>
            <a:off x="0" y="907920"/>
            <a:ext cx="3457440" cy="482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моленский Кремль"/>
          <p:cNvPicPr/>
          <p:nvPr/>
        </p:nvPicPr>
        <p:blipFill>
          <a:blip r:embed="rId2"/>
          <a:stretch/>
        </p:blipFill>
        <p:spPr>
          <a:xfrm>
            <a:off x="2484360" y="3463920"/>
            <a:ext cx="4788000" cy="3394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419640" y="2055960"/>
            <a:ext cx="223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ожерелье земли русской»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Фёдор Конь"/>
          <p:cNvPicPr/>
          <p:nvPr/>
        </p:nvPicPr>
        <p:blipFill>
          <a:blip r:embed="rId3"/>
          <a:stretch/>
        </p:blipFill>
        <p:spPr>
          <a:xfrm>
            <a:off x="5724360" y="1125360"/>
            <a:ext cx="3270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ЖИВО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64200" y="5666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онопис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Рисунок2"/>
          <p:cNvPicPr/>
          <p:nvPr/>
        </p:nvPicPr>
        <p:blipFill>
          <a:blip r:embed="rId1"/>
          <a:stretch/>
        </p:blipFill>
        <p:spPr>
          <a:xfrm>
            <a:off x="539640" y="1268280"/>
            <a:ext cx="4537080" cy="3059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24000" y="44560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а-картина «Церковь воинствующ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4 метра. Цель: увековеч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кусстве покорение Казанского х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292720" y="620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жная миниатюр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4"/>
          <p:cNvPicPr/>
          <p:nvPr/>
        </p:nvPicPr>
        <p:blipFill>
          <a:blip r:embed="rId2"/>
          <a:stretch/>
        </p:blipFill>
        <p:spPr>
          <a:xfrm>
            <a:off x="5651640" y="1197000"/>
            <a:ext cx="2554200" cy="3456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1" name="Text Box 9"/>
          <p:cNvSpPr/>
          <p:nvPr/>
        </p:nvSpPr>
        <p:spPr>
          <a:xfrm>
            <a:off x="5435640" y="5229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ев Со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ЖИВО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65280" y="56664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есковая рос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50920" y="1341360"/>
            <a:ext cx="461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ски Благовещенского собора Московского кремля, выполненные артелью художников во главе с Феодос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803_76"/>
          <p:cNvPicPr/>
          <p:nvPr/>
        </p:nvPicPr>
        <p:blipFill>
          <a:blip r:embed="rId1"/>
          <a:stretch/>
        </p:blipFill>
        <p:spPr>
          <a:xfrm>
            <a:off x="5073480" y="1197000"/>
            <a:ext cx="3684600" cy="5416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253800" y="6491160"/>
            <a:ext cx="57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ый Суд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говещен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ЖИВО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5280" y="56664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есковая рос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50920" y="119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говещ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Тро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1101"/>
          <p:cNvPicPr/>
          <p:nvPr/>
        </p:nvPicPr>
        <p:blipFill>
          <a:blip r:embed="rId1"/>
          <a:stretch/>
        </p:blipFill>
        <p:spPr>
          <a:xfrm>
            <a:off x="1332000" y="1700280"/>
            <a:ext cx="745812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-252720" y="-316080"/>
            <a:ext cx="9396360" cy="7174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амятник русского меднолитейного де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Царь-пушка – 1594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0" y="1268280"/>
            <a:ext cx="341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й Чох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большая пушка в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 - 40 тонн, калибр пушки -89 см, диаметр ствола - 120 с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пушки - 5,5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гигантское оружие могло стрелять каменными ядрами весом более 800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Чохов, называл её  "пушкой", в старину это орудие часто называли "Дробовиком российским", потому что стрелять оно должно было "дробом" (картечью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100A1439"/>
          <p:cNvPicPr/>
          <p:nvPr/>
        </p:nvPicPr>
        <p:blipFill>
          <a:blip r:embed="rId1"/>
          <a:stretch/>
        </p:blipFill>
        <p:spPr>
          <a:xfrm>
            <a:off x="3348000" y="165096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РУССКОЙ КУЛЬТУРЫ XVI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26920" y="765000"/>
            <a:ext cx="73882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76200" y="1000080"/>
            <a:ext cx="851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кратили свое существование некогда могущественные культурные центры и шко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стало результатом завершившегося процесса складывания единого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, став общерусским центром куль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брала лучших мастеров со всех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гиозное мировоззрение продолжало оставаться единствен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потому определяло направление духовной жизни общества в XVI столе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XVI в. формировалась общенациональная куль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кладывавшаяся на базе тех традиций, которые развивались и совершенствовались в традиционных центрах, сохранивших самобытность, характерную для каждой мест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ИСЬМЕННОСТЬ И КНИГОПЕЧАТАНИЕ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836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 материал для письма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возили ее из Италии, Франции, Германских государств, Поль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ы книгописания – монасты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письменные доку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ется лето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01A3204"/>
          <p:cNvPicPr/>
          <p:nvPr/>
        </p:nvPicPr>
        <p:blipFill>
          <a:blip r:embed="rId1"/>
          <a:srcRect l="0" t="17572" r="0" b="0"/>
          <a:stretch/>
        </p:blipFill>
        <p:spPr>
          <a:xfrm>
            <a:off x="179280" y="2384280"/>
            <a:ext cx="8209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563 г –первая типография в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ut3"/>
          <p:cNvPicPr/>
          <p:nvPr/>
        </p:nvPicPr>
        <p:blipFill>
          <a:blip r:embed="rId1"/>
          <a:stretch/>
        </p:blipFill>
        <p:spPr>
          <a:xfrm>
            <a:off x="468360" y="692280"/>
            <a:ext cx="80517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ервопечатник в России – Иван Фёд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564 – начало книгопечатания на 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памятник ив фёд"/>
          <p:cNvPicPr/>
          <p:nvPr/>
        </p:nvPicPr>
        <p:blipFill>
          <a:blip r:embed="rId1"/>
          <a:stretch/>
        </p:blipFill>
        <p:spPr>
          <a:xfrm>
            <a:off x="5479920" y="1143000"/>
            <a:ext cx="3476880" cy="473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АПостол 1574"/>
          <p:cNvPicPr/>
          <p:nvPr/>
        </p:nvPicPr>
        <p:blipFill>
          <a:blip r:embed="rId2"/>
          <a:stretch/>
        </p:blipFill>
        <p:spPr>
          <a:xfrm>
            <a:off x="324000" y="1197000"/>
            <a:ext cx="25174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843280" y="1557360"/>
            <a:ext cx="23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–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ётр Мстислав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ечатная книга, вышедшая в России,—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Апостол»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56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8760" y="5032440"/>
            <a:ext cx="48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65 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«Часослов» - сборник ежедневных моли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букварь был напечатан в 1574 г в Литве. Всег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было издано 20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летопись"/>
          <p:cNvPicPr/>
          <p:nvPr/>
        </p:nvPicPr>
        <p:blipFill>
          <a:blip r:embed="rId1"/>
          <a:stretch/>
        </p:blipFill>
        <p:spPr>
          <a:xfrm>
            <a:off x="324000" y="3500280"/>
            <a:ext cx="237168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808200" y="712800"/>
            <a:ext cx="585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пис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Лицевой летопис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иконовская летопись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нограф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ие повести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занско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зяти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 хождении Стефана Батория на град Пско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цис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ани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умена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илофе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му княз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окончательно сформулирован тез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«Москва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— 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ретий Рим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771640" y="364500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 Пересветов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деал государственного устройства -  си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державная власть, опирающаяся на дворя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яз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дрей Курбски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и царя (вёл переписку с Иваном Грозным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ик Ермолай: выступал за устано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ёрдых норм крестьянских пови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одосий Косой: высказывался о равенстве все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рукописные книги"/>
          <p:cNvPicPr/>
          <p:nvPr/>
        </p:nvPicPr>
        <p:blipFill>
          <a:blip r:embed="rId2"/>
          <a:stretch/>
        </p:blipFill>
        <p:spPr>
          <a:xfrm>
            <a:off x="6804000" y="333360"/>
            <a:ext cx="214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Домострой"/>
          <p:cNvPicPr/>
          <p:nvPr/>
        </p:nvPicPr>
        <p:blipFill>
          <a:blip r:embed="rId1"/>
          <a:stretch/>
        </p:blipFill>
        <p:spPr>
          <a:xfrm>
            <a:off x="5651640" y="189000"/>
            <a:ext cx="2589120" cy="4105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435640" y="4292640"/>
            <a:ext cx="37083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ДОМОСТР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священник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ильвес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V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 житейских правил и наставлений на основе патриархальных порядков с беспрекословным подчинением главе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3141720"/>
            <a:ext cx="51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МИНЕИ ЧЕТЬ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реч - ежедневные  чт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брание жизнеописаний отцов церкв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ий святых для ежедневного ч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о под руководством митроп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Макария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30—40-е гг.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в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12 томов, каждый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определенно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 месяцу и разбит по дн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инеи Четьи» имеют 27 тыс. стран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 текста, украшенных орна­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Житие Сергия Радонежского"/>
          <p:cNvPicPr/>
          <p:nvPr/>
        </p:nvPicPr>
        <p:blipFill>
          <a:blip r:embed="rId2"/>
          <a:stretch/>
        </p:blipFill>
        <p:spPr>
          <a:xfrm>
            <a:off x="395280" y="404640"/>
            <a:ext cx="45450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АРХИТЕК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6160" y="692280"/>
            <a:ext cx="68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строитель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самбл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Московского Крем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ремль 2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3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651640" y="3068640"/>
            <a:ext cx="316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го создании приняли участие не только лучшие отечественные, но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альянские мастера: Пьетро Антонио Солари, Аристотель Фиораванти, Марк Фрязин (Руффо), Алевиз Н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 время сложился архитектурный ансамбль 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Соборной площади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Соборная площадь"/>
          <p:cNvPicPr/>
          <p:nvPr/>
        </p:nvPicPr>
        <p:blipFill>
          <a:blip r:embed="rId2"/>
          <a:stretch/>
        </p:blipFill>
        <p:spPr>
          <a:xfrm>
            <a:off x="250920" y="3429000"/>
            <a:ext cx="5286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рхангельский собор  1505-15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71280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 до 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усыпальницей московских князей и цар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т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левиз Н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Архангельский собор"/>
          <p:cNvPicPr/>
          <p:nvPr/>
        </p:nvPicPr>
        <p:blipFill>
          <a:blip r:embed="rId1"/>
          <a:stretch/>
        </p:blipFill>
        <p:spPr>
          <a:xfrm>
            <a:off x="3708360" y="549360"/>
            <a:ext cx="4938840" cy="349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Арханг собор внутр вид"/>
          <p:cNvPicPr/>
          <p:nvPr/>
        </p:nvPicPr>
        <p:blipFill>
          <a:blip r:embed="rId2"/>
          <a:stretch/>
        </p:blipFill>
        <p:spPr>
          <a:xfrm>
            <a:off x="250920" y="3284640"/>
            <a:ext cx="4105080" cy="327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4572000" y="414972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покоятся великие князья Иван Калита, Дмитрий Донской, Иван III, Иван Грозный, цари Михаил и Алексей Романовы. В раках хранятся мощи святых - князя Михаила Черниговского и святого царевича Дмитрия, младшего сына Ивана Грозного, убитого в Углич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rchangel_cathedral5"/>
          <p:cNvPicPr/>
          <p:nvPr/>
        </p:nvPicPr>
        <p:blipFill>
          <a:blip r:embed="rId3"/>
          <a:stretch/>
        </p:blipFill>
        <p:spPr>
          <a:xfrm>
            <a:off x="2268360" y="1773360"/>
            <a:ext cx="13669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0:21Z</dcterms:created>
  <dc:creator>Администратор</dc:creator>
  <dc:description/>
  <dc:language>en-US</dc:language>
  <cp:lastModifiedBy>1</cp:lastModifiedBy>
  <dcterms:modified xsi:type="dcterms:W3CDTF">2014-05-12T14:22:58Z</dcterms:modified>
  <cp:revision>12</cp:revision>
  <dc:subject/>
  <dc:title>Слайд 1</dc:title>
</cp:coreProperties>
</file>