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6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9DFD-1BCF-4E3D-ACE8-870387CA5C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EA63-2027-44D3-8614-3EE659463A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5159-F714-4EDD-9EB0-BD2FF58E3C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BA31-75E0-4917-B4AD-4095EF5FE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5A26-27B1-40CA-B777-5CC5C0BB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6653-9EE6-45C6-877E-7F87327B3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14D6-5575-4D9D-BB77-18A32A67B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7AC4-533D-44DA-8969-53BBC73C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3895-A9A8-484D-9B53-17F774B7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1925-E28B-4763-938D-818B6A54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3F17-5554-4404-90E1-CAF51A15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9589-092D-443A-9E4D-2390DADA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8E62-CC76-4378-A458-31185812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35CE-E8C4-462B-A697-C74A6EE1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3964-808F-41B3-9DC0-00DF4B04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яшова И.П. учитель истории МОУ-СОШ №3 г. Красноуфим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2B1A-D929-4084-9D7F-DD2CBEF140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яшова И.П. учитель истории МОУ-СОШ №3 г. Красноуфим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826920" y="765000"/>
            <a:ext cx="7388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КУЛЬТУР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РОССИИ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XVI </a:t>
            </a: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век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яшова И.П. учитель истории МОУ-СОШ №3 г. Красноуфим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колокольня Ивана Велик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1505-1508 г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0" y="1268280"/>
            <a:ext cx="835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хитектор Бон Фрязин. Высокий стройный столп из двух поставленных один на один восьмигранников (походила на русские сторожевые башни). 1624 – Филаретовская пристройка арх. Бажен Огурц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532 – звонница для тяжёлых колоколов. Арх. Петрок Мал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Рисунок2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95280" y="2924280"/>
            <a:ext cx="2889360" cy="37447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pic>
        <p:nvPicPr>
          <p:cNvPr id="97" name="Picture 6" descr="bell_tower2"/>
          <p:cNvPicPr/>
          <p:nvPr/>
        </p:nvPicPr>
        <p:blipFill>
          <a:blip r:embed="rId2"/>
          <a:stretch/>
        </p:blipFill>
        <p:spPr>
          <a:xfrm>
            <a:off x="7524720" y="189000"/>
            <a:ext cx="1324080" cy="1323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100A1449"/>
          <p:cNvPicPr/>
          <p:nvPr/>
        </p:nvPicPr>
        <p:blipFill>
          <a:blip r:embed="rId3"/>
          <a:srcRect l="32972" t="0" r="0" b="17534"/>
          <a:stretch/>
        </p:blipFill>
        <p:spPr>
          <a:xfrm>
            <a:off x="4284720" y="2881440"/>
            <a:ext cx="38685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яшова И.П. учитель истории МОУ-СОШ №3 г. Красноуфим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явился 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шатровый  стиль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амы венчались шатром. Шатёр – завершение центрических сооружений (колоколен, башен, храмов, крылец, ворот) в виде четырёхгранной пирамиды либо конус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Церковь Вознесения в селе Коломенс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324000" y="2349360"/>
            <a:ext cx="5111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ена в 1532 г., в честь рождения наследника Василия III - будущего царя Ивана Грозн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та около 62 м с крес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ание выстроено из кирпича, почти все архитектурные детали выполнены из белого камн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тер выложен из кирпича, с незначительным отступом каждого последующего ряда по отношению к предыдущему. </a:t>
            </a:r>
            <a:br>
              <a:rPr sz="1800"/>
            </a:b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«… Бе же та велми чюдна высоьою и светлостью, такова не бывала прежде того на Руси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писал летописе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Рисунок3"/>
          <p:cNvPicPr/>
          <p:nvPr/>
        </p:nvPicPr>
        <p:blipFill>
          <a:blip r:embed="rId1"/>
          <a:stretch/>
        </p:blipFill>
        <p:spPr>
          <a:xfrm>
            <a:off x="5981760" y="2349360"/>
            <a:ext cx="2800440" cy="41054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яшова И.П. учитель истории МОУ-СОШ №3 г. Красноуфим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0" y="1268280"/>
            <a:ext cx="363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Собор Василия Блаженного"/>
          <p:cNvPicPr/>
          <p:nvPr/>
        </p:nvPicPr>
        <p:blipFill>
          <a:blip r:embed="rId1"/>
          <a:stretch/>
        </p:blipFill>
        <p:spPr>
          <a:xfrm>
            <a:off x="2268360" y="0"/>
            <a:ext cx="448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яшова И.П. учитель истории МОУ-СОШ №3 г. Красноуфим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Храм Василия Блажен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(Покровский собор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1555—156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0" y="126828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239840" y="294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внутр вид Покровского собора"/>
          <p:cNvPicPr/>
          <p:nvPr/>
        </p:nvPicPr>
        <p:blipFill>
          <a:blip r:embed="rId1"/>
          <a:stretch/>
        </p:blipFill>
        <p:spPr>
          <a:xfrm>
            <a:off x="6804000" y="836640"/>
            <a:ext cx="1905120" cy="24098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3327480" y="5753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0" descr="внутр вид Покр соб 2"/>
          <p:cNvPicPr/>
          <p:nvPr/>
        </p:nvPicPr>
        <p:blipFill>
          <a:blip r:embed="rId2"/>
          <a:stretch/>
        </p:blipFill>
        <p:spPr>
          <a:xfrm>
            <a:off x="6804000" y="3645000"/>
            <a:ext cx="1905120" cy="2638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Покровский собор"/>
          <p:cNvPicPr/>
          <p:nvPr/>
        </p:nvPicPr>
        <p:blipFill>
          <a:blip r:embed="rId3"/>
          <a:stretch/>
        </p:blipFill>
        <p:spPr>
          <a:xfrm>
            <a:off x="179280" y="1052640"/>
            <a:ext cx="2995560" cy="37447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2"/>
          <p:cNvSpPr/>
          <p:nvPr/>
        </p:nvSpPr>
        <p:spPr>
          <a:xfrm>
            <a:off x="3348000" y="1844640"/>
            <a:ext cx="3240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одчи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арм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с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строен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честь взятия русскими войсками Каза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начала собор был окрашен в белый цвет, и только 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получил пёструю окрас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179280" y="4941720"/>
            <a:ext cx="61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единение переходами, галереями девяти различных столпообразных храмов символизировало объединение земель и княжеств в единое русское государ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яшова И.П. учитель истории МОУ-СОШ №3 г. Красноуфим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Смоленский Кремль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V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архитектор Фёдор Ко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0" y="126828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018"/>
          <p:cNvPicPr/>
          <p:nvPr/>
        </p:nvPicPr>
        <p:blipFill>
          <a:blip r:embed="rId1"/>
          <a:stretch/>
        </p:blipFill>
        <p:spPr>
          <a:xfrm>
            <a:off x="0" y="907920"/>
            <a:ext cx="3457440" cy="4824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Смоленский Кремль"/>
          <p:cNvPicPr/>
          <p:nvPr/>
        </p:nvPicPr>
        <p:blipFill>
          <a:blip r:embed="rId2"/>
          <a:stretch/>
        </p:blipFill>
        <p:spPr>
          <a:xfrm>
            <a:off x="2484360" y="3463920"/>
            <a:ext cx="4788000" cy="3394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3419640" y="2055960"/>
            <a:ext cx="2232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«ожерелье земли русской»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Фёдор Конь"/>
          <p:cNvPicPr/>
          <p:nvPr/>
        </p:nvPicPr>
        <p:blipFill>
          <a:blip r:embed="rId3"/>
          <a:stretch/>
        </p:blipFill>
        <p:spPr>
          <a:xfrm>
            <a:off x="5724360" y="1125360"/>
            <a:ext cx="327024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яшова И.П. учитель истории МОУ-СОШ №3 г. Красноуфим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ЖИВОП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664200" y="566640"/>
            <a:ext cx="20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конопис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Рисунок2"/>
          <p:cNvPicPr/>
          <p:nvPr/>
        </p:nvPicPr>
        <p:blipFill>
          <a:blip r:embed="rId1"/>
          <a:stretch/>
        </p:blipFill>
        <p:spPr>
          <a:xfrm>
            <a:off x="539640" y="1268280"/>
            <a:ext cx="4537080" cy="30592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28" name="Text Box 6"/>
          <p:cNvSpPr/>
          <p:nvPr/>
        </p:nvSpPr>
        <p:spPr>
          <a:xfrm>
            <a:off x="324000" y="4456080"/>
            <a:ext cx="47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кона-картина «Церковь воинствующа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4 метра. Цель: увековеч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искусстве покорение Казанского хан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5292720" y="62064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нижная миниатюр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4"/>
          <p:cNvPicPr/>
          <p:nvPr/>
        </p:nvPicPr>
        <p:blipFill>
          <a:blip r:embed="rId2"/>
          <a:stretch/>
        </p:blipFill>
        <p:spPr>
          <a:xfrm>
            <a:off x="5651640" y="1197000"/>
            <a:ext cx="2554200" cy="34560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31" name="Text Box 9"/>
          <p:cNvSpPr/>
          <p:nvPr/>
        </p:nvSpPr>
        <p:spPr>
          <a:xfrm>
            <a:off x="5435640" y="5229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ев Со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атю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яшова И.П. учитель истории МОУ-СОШ №3 г. Красноуфим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ЖИВОП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665280" y="566640"/>
            <a:ext cx="319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ресковая рос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250920" y="1341360"/>
            <a:ext cx="461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ески Благовещенского собора Московского кремля, выполненные артелью художников во главе с Феодос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0" descr="803_76"/>
          <p:cNvPicPr/>
          <p:nvPr/>
        </p:nvPicPr>
        <p:blipFill>
          <a:blip r:embed="rId1"/>
          <a:stretch/>
        </p:blipFill>
        <p:spPr>
          <a:xfrm>
            <a:off x="5073480" y="1197000"/>
            <a:ext cx="3684600" cy="54165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1"/>
          <p:cNvSpPr/>
          <p:nvPr/>
        </p:nvSpPr>
        <p:spPr>
          <a:xfrm>
            <a:off x="253800" y="6491160"/>
            <a:ext cx="57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ашный Суд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рес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аговещенск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б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яшова И.П. учитель истории МОУ-СОШ №3 г. Красноуфим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ЖИВОП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65280" y="566640"/>
            <a:ext cx="319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ресковая рос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250920" y="119700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аговеще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б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рес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"Тро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1101"/>
          <p:cNvPicPr/>
          <p:nvPr/>
        </p:nvPicPr>
        <p:blipFill>
          <a:blip r:embed="rId1"/>
          <a:stretch/>
        </p:blipFill>
        <p:spPr>
          <a:xfrm>
            <a:off x="1332000" y="1700280"/>
            <a:ext cx="7458120" cy="49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яшова И.П. учитель истории МОУ-СОШ №3 г. Красноуфим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-252720" y="-316080"/>
            <a:ext cx="9396360" cy="71740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памятник русского меднолитейного де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Царь-пушка – 1594 г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0" y="1268280"/>
            <a:ext cx="3419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тер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дрей Чох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ая большая пушка в ми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 - 40 тонн, калибр пушки -89 см, диаметр ствола - 120 с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на пушки - 5,5 мет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гигантское оружие могло стрелять каменными ядрами весом более 800 килогра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дрей Чохов, называл её  "пушкой", в старину это орудие часто называли "Дробовиком российским", потому что стрелять оно должно было "дробом" (картечью)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100A1439"/>
          <p:cNvPicPr/>
          <p:nvPr/>
        </p:nvPicPr>
        <p:blipFill>
          <a:blip r:embed="rId1"/>
          <a:stretch/>
        </p:blipFill>
        <p:spPr>
          <a:xfrm>
            <a:off x="3348000" y="1650960"/>
            <a:ext cx="54720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яшова И.П. учитель истории МОУ-СОШ №3 г. Красноуфим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ОБЕННОСТИ РУССКОЙ КУЛЬТУРЫ XVI 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826920" y="765000"/>
            <a:ext cx="738828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76200" y="1000080"/>
            <a:ext cx="8516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кратили свое существование некогда могущественные культурные центры и школ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Это стало результатом завершившегося процесса складывания единого государ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сква, став общерусским центром культу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обрала лучших мастеров со всех зем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лигиозное мировоззрение продолжало оставаться единствен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потому определяло направление духовной жизни общества в XVI столет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XVI в. формировалась общенациональная культу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кладывавшаяся на базе тех традиций, которые развивались и совершенствовались в традиционных центрах, сохранивших самобытность, характерную для каждой мест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яшова И.П. учитель истории МОУ-СОШ №3 г. Красноуфим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ПИСЬМЕННОСТЬ И КНИГОПЕЧАТАНИЕ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395280" y="83664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ой  материал для письма –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ума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ивозили ее из Италии, Франции, Германских государств, Поль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тры книгописания – монастыр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явились письменные докумен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олжается летопис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101A3204"/>
          <p:cNvPicPr/>
          <p:nvPr/>
        </p:nvPicPr>
        <p:blipFill>
          <a:blip r:embed="rId1"/>
          <a:srcRect l="0" t="17572" r="0" b="0"/>
          <a:stretch/>
        </p:blipFill>
        <p:spPr>
          <a:xfrm>
            <a:off x="179280" y="2384280"/>
            <a:ext cx="820908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яшова И.П. учитель истории МОУ-СОШ №3 г. Красноуфим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1563 г –первая типография в Моск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gut3"/>
          <p:cNvPicPr/>
          <p:nvPr/>
        </p:nvPicPr>
        <p:blipFill>
          <a:blip r:embed="rId1"/>
          <a:stretch/>
        </p:blipFill>
        <p:spPr>
          <a:xfrm>
            <a:off x="468360" y="692280"/>
            <a:ext cx="8051760" cy="56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яшова И.П. учитель истории МОУ-СОШ №3 г. Красноуфим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Первопечатник в России – Иван Фёдо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1564 – начало книгопечатания на Ру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памятник ив фёд"/>
          <p:cNvPicPr/>
          <p:nvPr/>
        </p:nvPicPr>
        <p:blipFill>
          <a:blip r:embed="rId1"/>
          <a:stretch/>
        </p:blipFill>
        <p:spPr>
          <a:xfrm>
            <a:off x="5479920" y="1143000"/>
            <a:ext cx="3476880" cy="4734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АПостол 1574"/>
          <p:cNvPicPr/>
          <p:nvPr/>
        </p:nvPicPr>
        <p:blipFill>
          <a:blip r:embed="rId2"/>
          <a:stretch/>
        </p:blipFill>
        <p:spPr>
          <a:xfrm>
            <a:off x="324000" y="1197000"/>
            <a:ext cx="25174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2843280" y="1557360"/>
            <a:ext cx="232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ощник –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Пётр Мстиславе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ая печатная книга, вышедшая в России,— 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«Апостол»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156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58760" y="5032440"/>
            <a:ext cx="484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565 г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«Часослов» - сборник ежедневных моли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сский букварь был напечатан в 1574 г в Литве. Всего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было издано 20 кни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яшова И.П. учитель истории МОУ-СОШ №3 г. Красноуфим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Литерату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летопись"/>
          <p:cNvPicPr/>
          <p:nvPr/>
        </p:nvPicPr>
        <p:blipFill>
          <a:blip r:embed="rId1"/>
          <a:stretch/>
        </p:blipFill>
        <p:spPr>
          <a:xfrm>
            <a:off x="324000" y="3500280"/>
            <a:ext cx="2371680" cy="31244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808200" y="712800"/>
            <a:ext cx="585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топис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Лицевой летописны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д»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Никоновская летопись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онограф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рические повести: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занско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зятие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О хождении Стефана Батория на град Псков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блицисти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 в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сланиях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умена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Филофея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кому княз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силию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 окончательно сформулирован тези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«Москва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— </a:t>
            </a: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третий Рим»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2771640" y="3645000"/>
            <a:ext cx="637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ван Пересветов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деал государственного устройства -  силь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державная власть, опирающаяся на дворянст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яз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ндрей Курбский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тупал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з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рани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сти царя (вёл переписку с Иваном Грозным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щенник Ермолай: выступал за установ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ёрдых норм крестьянских повин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одосий Косой: высказывался о равенстве всех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рукописные книги"/>
          <p:cNvPicPr/>
          <p:nvPr/>
        </p:nvPicPr>
        <p:blipFill>
          <a:blip r:embed="rId2"/>
          <a:stretch/>
        </p:blipFill>
        <p:spPr>
          <a:xfrm>
            <a:off x="6804000" y="333360"/>
            <a:ext cx="2141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яшова И.П. учитель истории МОУ-СОШ №3 г. Красноуфим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Домострой"/>
          <p:cNvPicPr/>
          <p:nvPr/>
        </p:nvPicPr>
        <p:blipFill>
          <a:blip r:embed="rId1"/>
          <a:stretch/>
        </p:blipFill>
        <p:spPr>
          <a:xfrm>
            <a:off x="5651640" y="189000"/>
            <a:ext cx="2589120" cy="41050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5435640" y="4292640"/>
            <a:ext cx="370836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«ДОМОСТР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священник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Сильвест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еди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V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д житейских правил и наставлений на основе патриархальных порядков с беспрекословным подчинением главе семь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79280" y="3141720"/>
            <a:ext cx="51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«МИНЕИ ЧЕТЬИ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греч - ежедневные  чт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обрание жизнеописаний отцов церкв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тий святых для ежедневного чт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ено под руководством митропол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Макария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в 30—40-е гг.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XVI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в.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ет 12 томов, каждый из котор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ует определенно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 месяцу и разбит по дня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инеи Четьи» имеют 27 тыс. страни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писного текста, украшенных орна­мен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Житие Сергия Радонежского"/>
          <p:cNvPicPr/>
          <p:nvPr/>
        </p:nvPicPr>
        <p:blipFill>
          <a:blip r:embed="rId2"/>
          <a:stretch/>
        </p:blipFill>
        <p:spPr>
          <a:xfrm>
            <a:off x="395280" y="404640"/>
            <a:ext cx="454500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яшова И.П. учитель истории МОУ-СОШ №3 г. Красноуфим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АРХИТЕКТУ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26160" y="692280"/>
            <a:ext cx="68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ершение строительств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самбля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Московского Крем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Кремль 2"/>
          <p:cNvPicPr/>
          <p:nvPr/>
        </p:nvPicPr>
        <p:blipFill>
          <a:blip r:embed="rId1"/>
          <a:stretch/>
        </p:blipFill>
        <p:spPr>
          <a:xfrm>
            <a:off x="250920" y="1268280"/>
            <a:ext cx="8642160" cy="17305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5651640" y="3068640"/>
            <a:ext cx="316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его создании приняли участие не только лучшие отечественные, но 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тальянские мастера: Пьетро Антонио Солари, Аристотель Фиораванти, Марк Фрязин (Руффо), Алевиз Нов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это время сложился архитектурный ансамбль </a:t>
            </a:r>
            <a:r>
              <a:rPr b="0" i="1" lang="ru-RU" sz="1800" spc="-1" strike="noStrike">
                <a:solidFill>
                  <a:srgbClr val="cc3300"/>
                </a:solidFill>
                <a:latin typeface="Arial"/>
              </a:rPr>
              <a:t>Соборной площади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Соборная площадь"/>
          <p:cNvPicPr/>
          <p:nvPr/>
        </p:nvPicPr>
        <p:blipFill>
          <a:blip r:embed="rId2"/>
          <a:stretch/>
        </p:blipFill>
        <p:spPr>
          <a:xfrm>
            <a:off x="250920" y="3429000"/>
            <a:ext cx="52862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яшова И.П. учитель истории МОУ-СОШ №3 г. Красноуфим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Архангельский собор  1505-15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50920" y="712800"/>
            <a:ext cx="3025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  до начал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усыпальницей московских князей и царе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хитекто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Алевиз Нов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Архангельский собор"/>
          <p:cNvPicPr/>
          <p:nvPr/>
        </p:nvPicPr>
        <p:blipFill>
          <a:blip r:embed="rId1"/>
          <a:stretch/>
        </p:blipFill>
        <p:spPr>
          <a:xfrm>
            <a:off x="3708360" y="549360"/>
            <a:ext cx="4938840" cy="3494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Арханг собор внутр вид"/>
          <p:cNvPicPr/>
          <p:nvPr/>
        </p:nvPicPr>
        <p:blipFill>
          <a:blip r:embed="rId2"/>
          <a:stretch/>
        </p:blipFill>
        <p:spPr>
          <a:xfrm>
            <a:off x="250920" y="3284640"/>
            <a:ext cx="4105080" cy="3276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7"/>
          <p:cNvSpPr/>
          <p:nvPr/>
        </p:nvSpPr>
        <p:spPr>
          <a:xfrm>
            <a:off x="4572000" y="4149720"/>
            <a:ext cx="432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есь покоятся великие князья Иван Калита, Дмитрий Донской, Иван III, Иван Грозный, цари Михаил и Алексей Романовы. В раках хранятся мощи святых - князя Михаила Черниговского и святого царевича Дмитрия, младшего сына Ивана Грозного, убитого в Углич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archangel_cathedral5"/>
          <p:cNvPicPr/>
          <p:nvPr/>
        </p:nvPicPr>
        <p:blipFill>
          <a:blip r:embed="rId3"/>
          <a:stretch/>
        </p:blipFill>
        <p:spPr>
          <a:xfrm>
            <a:off x="2268360" y="1773360"/>
            <a:ext cx="1366920" cy="13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1T14:30:21Z</dcterms:created>
  <dc:creator>Администратор</dc:creator>
  <dc:description/>
  <dc:language>en-US</dc:language>
  <cp:lastModifiedBy>1</cp:lastModifiedBy>
  <dcterms:modified xsi:type="dcterms:W3CDTF">2014-05-12T14:22:58Z</dcterms:modified>
  <cp:revision>12</cp:revision>
  <dc:subject/>
  <dc:title>Слайд 1</dc:title>
</cp:coreProperties>
</file>