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623-1E3B-4863-B883-02BD31D1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D85-7E2A-4326-8C91-2356BE9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BCE-D394-46C0-804B-F693EA36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2DC-D7E5-467D-B403-ACEEC3FC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032-5BE6-4C1E-AA7B-A7756D9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7CC-5D3B-4FF7-99EC-E9346FD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FF0-5A81-461E-817F-EF04002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AFB-7591-414F-BAA0-61D3E0E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F8C-09AE-4047-82D2-95E6AFD8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5F7-EEE1-44DF-94C6-A863104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21A-41E9-4F81-9724-0663C18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1C9-98D6-4472-83A0-CF0CB20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5E2F-5F9C-419E-8B1C-A648C9196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276640"/>
            <a:ext cx="727380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Золотое сечени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в живопис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4643280" y="1916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Морщакин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555640" cy="5111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064040" y="1243080"/>
            <a:ext cx="38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 презентацией работ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Золотое сечение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gold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431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7" name="Rectangle 5"/>
          <p:cNvSpPr/>
          <p:nvPr/>
        </p:nvSpPr>
        <p:spPr>
          <a:xfrm>
            <a:off x="395280" y="5920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олотое сечение и зрительные цен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Леонардо да Винчи говорил: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“Пусть никто, не будучи математиком, не дерзнёт читать мои труд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21"/>
          <p:cNvPicPr/>
          <p:nvPr/>
        </p:nvPicPr>
        <p:blipFill>
          <a:blip r:embed="rId1"/>
          <a:stretch/>
        </p:blipFill>
        <p:spPr>
          <a:xfrm>
            <a:off x="611280" y="1844640"/>
            <a:ext cx="2322360" cy="3218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0" name="Picture 5" descr="img23"/>
          <p:cNvPicPr/>
          <p:nvPr/>
        </p:nvPicPr>
        <p:blipFill>
          <a:blip r:embed="rId2"/>
          <a:stretch/>
        </p:blipFill>
        <p:spPr>
          <a:xfrm>
            <a:off x="3276720" y="1844640"/>
            <a:ext cx="2355840" cy="3202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2386080" cy="324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684360" y="5229360"/>
            <a:ext cx="77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Портрет Мони Лизы привлекает тем, что композиция рисунка построена на"золотых треугольниках" (точнее на треугольниках, являющихся кусками правильного звездчатого пяти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35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890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Картина</a:t>
            </a:r>
            <a:r>
              <a:rPr b="0" lang="ru-RU" sz="2000" spc="-1" strike="noStrike">
                <a:solidFill>
                  <a:srgbClr val="1f1fd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"Александр Сергеевич 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в селе Михайловском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256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mage34291"/>
          <p:cNvPicPr/>
          <p:nvPr/>
        </p:nvPicPr>
        <p:blipFill>
          <a:blip r:embed="rId1"/>
          <a:srcRect l="3320" t="4724" r="1660" b="0"/>
          <a:stretch/>
        </p:blipFill>
        <p:spPr>
          <a:xfrm>
            <a:off x="4932360" y="262080"/>
            <a:ext cx="3889440" cy="2950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0" y="981000"/>
            <a:ext cx="44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В этой картине фигура Пушкина  поставлена художн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слева на линии золотого с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Голова военного, с восторгом слушающего чтение поэ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находится на другой вертикальной линии золотого 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0" y="3448080"/>
            <a:ext cx="88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Широко использовал золотое сечение в своем творчестве талантливый русский художник </a:t>
            </a: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Константин Васильев</a:t>
            </a: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Ярким примером карт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построенной "по золотому сечению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является кар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"У ок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04820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805004"/>
          <p:cNvPicPr/>
          <p:nvPr/>
        </p:nvPicPr>
        <p:blipFill>
          <a:blip r:embed="rId2"/>
          <a:stretch/>
        </p:blipFill>
        <p:spPr>
          <a:xfrm>
            <a:off x="5076720" y="4076640"/>
            <a:ext cx="3743280" cy="244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p:transition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 flipV="1" rot="10800000">
            <a:off x="323640" y="623700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.И.Шишкин “Сосновая   рощ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Ярко освещённая солнцем сосна на       переднем плане делит картину по золотому      сечению. Справа от сосны - освещённый          солнцем пригорок. Он делит по золотому сечению правую часть картины по горизонтали. Наличие в картине ярких вертикалей и горизонталей, делящих её в золотых отношениях, придают ей характер уравновешенности и споко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hisch1"/>
          <p:cNvPicPr/>
          <p:nvPr/>
        </p:nvPicPr>
        <p:blipFill>
          <a:blip r:embed="rId1"/>
          <a:stretch/>
        </p:blipFill>
        <p:spPr>
          <a:xfrm>
            <a:off x="1763640" y="2276640"/>
            <a:ext cx="5329440" cy="3313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живописи более поэтичной, чем живопись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андро Боттичелли(1445-151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- знаменитого итальянского художника раннего Возрождения. И нет у великого Сандро картины более знаменитой, чем его “Венера”. Для Боттичелли его Венера – это воплощение идеи универсальной гармонии «золотого сечения», господствующего в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4"/>
          <p:cNvPicPr/>
          <p:nvPr/>
        </p:nvPicPr>
        <p:blipFill>
          <a:blip r:embed="rId1"/>
          <a:stretch/>
        </p:blipFill>
        <p:spPr>
          <a:xfrm>
            <a:off x="324000" y="2565360"/>
            <a:ext cx="5221080" cy="3672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67" name="Picture 5" descr="img25"/>
          <p:cNvPicPr/>
          <p:nvPr/>
        </p:nvPicPr>
        <p:blipFill>
          <a:blip r:embed="rId2"/>
          <a:stretch/>
        </p:blipFill>
        <p:spPr>
          <a:xfrm>
            <a:off x="5796000" y="2565360"/>
            <a:ext cx="3066840" cy="3672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18456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5912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f5"/>
          <p:cNvPicPr/>
          <p:nvPr/>
        </p:nvPicPr>
        <p:blipFill>
          <a:blip r:embed="rId1"/>
          <a:stretch/>
        </p:blipFill>
        <p:spPr>
          <a:xfrm>
            <a:off x="4211640" y="189000"/>
            <a:ext cx="4753080" cy="3276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250920" y="544500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31112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C:\Documents and Settings\admin\Рабочий стол\сечение\Кингисеппская школа №3_ Код да Винчи  и числа  Фибоначчи.files\image015.gif"/>
          <p:cNvPicPr/>
          <p:nvPr/>
        </p:nvPicPr>
        <p:blipFill>
          <a:blip r:embed="rId2"/>
          <a:stretch/>
        </p:blipFill>
        <p:spPr>
          <a:xfrm>
            <a:off x="250920" y="1484280"/>
            <a:ext cx="3203640" cy="2637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68360" y="450864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пираль Архим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211640" y="366552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лотая спираль в картине Рафаэля"Избиение младенцев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38480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ногофигурная композиция, выполненная в       1509 - 1510 годах Рафаэ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048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86000" y="404640"/>
            <a:ext cx="4572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06b6"/>
                </a:solidFill>
                <a:latin typeface="Arial"/>
              </a:rPr>
              <a:t>Интернет –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thematik.boom.ru/ZOL_SEC/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sashatelishev.narod.ru/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sechenie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revolution.allbe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ww.zaitseva-irina.ru/html/f110345489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0:18:06Z</dcterms:created>
  <dc:creator>Admin</dc:creator>
  <dc:description/>
  <dc:language>en-US</dc:language>
  <cp:lastModifiedBy>User</cp:lastModifiedBy>
  <dcterms:modified xsi:type="dcterms:W3CDTF">2015-02-07T18:10:38Z</dcterms:modified>
  <cp:revision>11</cp:revision>
  <dc:subject/>
  <dc:title>Слайд 1</dc:title>
</cp:coreProperties>
</file>