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A99-5942-4F65-8E14-1200978D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E4B-0BE0-4580-80D9-2C854F74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686-6E8F-4EE9-B522-E82A527F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588-7735-4F45-84D7-029DCB29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626-117C-4FEF-BD5B-55371133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90A-B3E1-4274-B529-D9C32898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F57-B344-4E92-B081-F776EE0E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1EC-4428-4276-BC5E-D1370D75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26B-2B92-4C4C-B952-C0876633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FD7-75B6-45F8-B7A3-5CBB128B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2FE-2BDC-4A14-811C-AC89D70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FE6-7518-41D3-86FA-57988E01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E55A-6B79-43FA-B66F-A89780E22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2276640"/>
            <a:ext cx="727380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erdana"/>
              </a:rPr>
              <a:t>Золотое сечение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erdana"/>
              </a:rPr>
              <a:t> 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erdana"/>
              </a:rPr>
              <a:t>в живопис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4643280" y="191628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d3"/>
                </a:solidFill>
                <a:latin typeface="Arial"/>
              </a:rPr>
              <a:t>Морщакина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2555640" cy="5111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064040" y="1243080"/>
            <a:ext cx="38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д презентацией работ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Золотое сечение кар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gold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431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7" name="Rectangle 5"/>
          <p:cNvSpPr/>
          <p:nvPr/>
        </p:nvSpPr>
        <p:spPr>
          <a:xfrm>
            <a:off x="395280" y="59202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олотое сечение и зрительные цен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Леонардо да Винчи говорил: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“Пусть никто, не будучи математиком, не дерзнёт читать мои труд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21"/>
          <p:cNvPicPr/>
          <p:nvPr/>
        </p:nvPicPr>
        <p:blipFill>
          <a:blip r:embed="rId1"/>
          <a:stretch/>
        </p:blipFill>
        <p:spPr>
          <a:xfrm>
            <a:off x="611280" y="1844640"/>
            <a:ext cx="2322360" cy="32180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0" name="Picture 5" descr="img23"/>
          <p:cNvPicPr/>
          <p:nvPr/>
        </p:nvPicPr>
        <p:blipFill>
          <a:blip r:embed="rId2"/>
          <a:stretch/>
        </p:blipFill>
        <p:spPr>
          <a:xfrm>
            <a:off x="3276720" y="1844640"/>
            <a:ext cx="2355840" cy="32022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5940360" y="1844640"/>
            <a:ext cx="2386080" cy="3240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684360" y="5229360"/>
            <a:ext cx="77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d3"/>
                </a:solidFill>
                <a:latin typeface="Arial"/>
              </a:rPr>
              <a:t>Портрет Мони Лизы привлекает тем, что композиция рисунка построена на"золотых треугольниках" (точнее на треугольниках, являющихся кусками правильного звездчатого пятиуголь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3512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1890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d3"/>
                </a:solidFill>
                <a:latin typeface="Times New Roman"/>
              </a:rPr>
              <a:t>Картина</a:t>
            </a:r>
            <a:r>
              <a:rPr b="0" lang="ru-RU" sz="2000" spc="-1" strike="noStrike">
                <a:solidFill>
                  <a:srgbClr val="1f1fd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f1fd3"/>
                </a:solidFill>
                <a:latin typeface="Times New Roman"/>
              </a:rPr>
              <a:t>"Александр Сергеевич 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d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f1fd3"/>
                </a:solidFill>
                <a:latin typeface="Times New Roman"/>
              </a:rPr>
              <a:t>в селе Михайловском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3256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mage34291"/>
          <p:cNvPicPr/>
          <p:nvPr/>
        </p:nvPicPr>
        <p:blipFill>
          <a:blip r:embed="rId1"/>
          <a:srcRect l="3320" t="4724" r="1660" b="0"/>
          <a:stretch/>
        </p:blipFill>
        <p:spPr>
          <a:xfrm>
            <a:off x="4932360" y="262080"/>
            <a:ext cx="3889440" cy="2950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0" y="981000"/>
            <a:ext cx="446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В этой картине фигура Пушкина  поставлена художн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слева на линии золотого се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Голова военного, с восторгом слушающего чтение поэ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находится на другой вертикальной линии золотого с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0" y="3448080"/>
            <a:ext cx="88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Широко использовал золотое сечение в своем творчестве талантливый русский художник </a:t>
            </a:r>
            <a:r>
              <a:rPr b="1" lang="ru-RU" sz="2000" spc="-1" strike="noStrike">
                <a:solidFill>
                  <a:srgbClr val="1f1fd3"/>
                </a:solidFill>
                <a:latin typeface="Arial"/>
              </a:rPr>
              <a:t>Константин Васильев</a:t>
            </a: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Ярким примером карти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построенной "по золотому сечению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d3"/>
                </a:solidFill>
                <a:latin typeface="Arial"/>
              </a:rPr>
              <a:t>является карт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d3"/>
                </a:solidFill>
                <a:latin typeface="Arial"/>
              </a:rPr>
              <a:t>"У окн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04820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0805004"/>
          <p:cNvPicPr/>
          <p:nvPr/>
        </p:nvPicPr>
        <p:blipFill>
          <a:blip r:embed="rId2"/>
          <a:stretch/>
        </p:blipFill>
        <p:spPr>
          <a:xfrm>
            <a:off x="5076720" y="4076640"/>
            <a:ext cx="3743280" cy="24480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p:transition>
    <p:plus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 flipV="1" rot="10800000">
            <a:off x="323640" y="623700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.И.Шишкин “Сосновая   роща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Ярко освещённая солнцем сосна на       переднем плане делит картину по золотому      сечению. Справа от сосны - освещённый          солнцем пригорок. Он делит по золотому сечению правую часть картины по горизонтали. Наличие в картине ярких вертикалей и горизонталей, делящих её в золотых отношениях, придают ей характер уравновешенности и споко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shisch1"/>
          <p:cNvPicPr/>
          <p:nvPr/>
        </p:nvPicPr>
        <p:blipFill>
          <a:blip r:embed="rId1"/>
          <a:stretch/>
        </p:blipFill>
        <p:spPr>
          <a:xfrm>
            <a:off x="1763640" y="2276640"/>
            <a:ext cx="5329440" cy="3313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т живописи более поэтичной, чем живопись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андро Боттичелли(1445-1510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)- знаменитого итальянского художника раннего Возрождения. И нет у великого Сандро картины более знаменитой, чем его “Венера”. Для Боттичелли его Венера – это воплощение идеи универсальной гармонии «золотого сечения», господствующего в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4"/>
          <p:cNvPicPr/>
          <p:nvPr/>
        </p:nvPicPr>
        <p:blipFill>
          <a:blip r:embed="rId1"/>
          <a:stretch/>
        </p:blipFill>
        <p:spPr>
          <a:xfrm>
            <a:off x="324000" y="2565360"/>
            <a:ext cx="5221080" cy="3672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67" name="Picture 5" descr="img25"/>
          <p:cNvPicPr/>
          <p:nvPr/>
        </p:nvPicPr>
        <p:blipFill>
          <a:blip r:embed="rId2"/>
          <a:stretch/>
        </p:blipFill>
        <p:spPr>
          <a:xfrm>
            <a:off x="5796000" y="2565360"/>
            <a:ext cx="3066840" cy="3672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184560" y="215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959120" y="215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f5"/>
          <p:cNvPicPr/>
          <p:nvPr/>
        </p:nvPicPr>
        <p:blipFill>
          <a:blip r:embed="rId1"/>
          <a:stretch/>
        </p:blipFill>
        <p:spPr>
          <a:xfrm>
            <a:off x="4211640" y="189000"/>
            <a:ext cx="4753080" cy="3276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74" name="Rectangle 6"/>
          <p:cNvSpPr/>
          <p:nvPr/>
        </p:nvSpPr>
        <p:spPr>
          <a:xfrm>
            <a:off x="250920" y="544500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31112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C:\Documents and Settings\admin\Рабочий стол\сечение\Кингисеппская школа №3_ Код да Винчи  и числа  Фибоначчи.files\image015.gif"/>
          <p:cNvPicPr/>
          <p:nvPr/>
        </p:nvPicPr>
        <p:blipFill>
          <a:blip r:embed="rId2"/>
          <a:stretch/>
        </p:blipFill>
        <p:spPr>
          <a:xfrm>
            <a:off x="250920" y="1484280"/>
            <a:ext cx="3203640" cy="2637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68360" y="450864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пираль Архим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211640" y="3665520"/>
            <a:ext cx="47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олотая спираль в картине Рафаэля"Избиение младенцев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38480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ногофигурная композиция, выполненная в       1509 - 1510 годах Рафаэ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4048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86000" y="404640"/>
            <a:ext cx="4572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906b6"/>
                </a:solidFill>
                <a:latin typeface="Arial"/>
              </a:rPr>
              <a:t>Интернет –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athematik.boom.ru/ZOL_SEC/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sashatelishev.narod.ru/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sechenie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revolution.allbest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ww.zaitseva-irina.ru/html/f110345489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0:18:06Z</dcterms:created>
  <dc:creator>Admin</dc:creator>
  <dc:description/>
  <dc:language>en-US</dc:language>
  <cp:lastModifiedBy>User</cp:lastModifiedBy>
  <dcterms:modified xsi:type="dcterms:W3CDTF">2015-02-07T18:10:38Z</dcterms:modified>
  <cp:revision>11</cp:revision>
  <dc:subject/>
  <dc:title>Слайд 1</dc:title>
</cp:coreProperties>
</file>