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BBA-0A73-444F-82DA-5C4E6019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85E-FE1C-499A-816E-2D03C619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DA5-CFF0-4542-A0FE-15EFCAE2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7E4-9838-4126-B897-8D6340D0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B32-EF7F-4540-A844-43AAB0C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F56-F2BF-41AD-8596-48CC8C2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162E-95DC-42CB-8E1E-454DD67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5B4E-840D-4420-93E4-CCA1D99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CE39-0229-4AC5-9DBD-BA264A09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2FD9-A7C3-46AC-8F0C-D6B80E1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5A24-1DEB-41F7-8112-9B7EC1A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7BB-308C-46C3-A2EA-92664EC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D622-6AEF-4FAD-B1BF-393EB26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531-1ACE-4ECE-AC34-0F69924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86A-7715-47E5-83AE-A34986D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CC1-3350-46FC-A082-4462C504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2B73-BE8F-4C13-8573-A9688782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C9C-F9DC-4E5B-9555-DD4EF45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9F5-F45A-4974-BB48-49C542B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436-2518-4079-B61E-2562557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53A-DB89-4FCE-8BA1-3889952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8CC-B55D-4DAB-996F-2FB8EA6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646-7054-49AC-AA2F-677D6FA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EB6-B718-443D-8F7C-52ED485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EB1-86B2-4132-A3B8-D508B56F87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AE6-1962-414A-B34C-191A03F515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ерестанов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ейшими комбинациями, которые можно составить из элементов конечного множества, являю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естанов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пример. Пусть имеются три книги. Обозначим их буквам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 б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книги можно расставить на полке по-разн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ервой поставить книгу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, то возможны расположения книг :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 Б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 С 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остави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 Б С 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 А 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Если первой постави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А Б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и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Б А .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80200" y="430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е из этих расположений называю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естановко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трёх элементов. Перестановкой и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ов называются каждое расположение этих элементов в определен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 перестановок и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элементов обозначают символом 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ведем формулу числа перестаново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лемен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усть мы имеем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лементов. На первое место можно поставить любой из них. Для каждого выбора первого элемента на второе место можно поставить один из оставшихс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1 элементов. Для каждого выбора первых двух элементов на третье место можно поставить один из оставшихс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-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ов и т.д. В результате получим, чт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(n-1)(n-2)*...*3*2*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оложив множители в порядке возрастания, получи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=1*2*3*...*(N-2)(N-1)*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роизведения первы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туральных чисел используют специальное обозначение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!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тается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ориал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2!=1*2=2;  5!=1*2*3*4*5=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читают, что 1!=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число всевозможных перестановок из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лементов вычисляется по формул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=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ими способами 4 человека могут разместиться на четырехместной скамей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ьер должен разнести пакеты в семь различных учреждений. Сколько маршрутов он может выбр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</cp:lastModifiedBy>
  <dcterms:modified xsi:type="dcterms:W3CDTF">2006-10-28T13:46:31Z</dcterms:modified>
  <cp:revision>2</cp:revision>
  <dc:subject/>
  <dc:title>PowerPoint Presentation</dc:title>
</cp:coreProperties>
</file>