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A8E-3F85-429C-AA9E-5B343E09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5FF-C8D6-483A-B187-BB1846C6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306-B9C0-471D-9F18-A7B8D4BA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29A-04C0-4DB5-A786-143EC0FC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CCE6-C6AB-4534-8E85-8B9E5CE2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9E3F-6B4E-433F-9A36-9BEA643C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9CF9-AACC-4545-899B-1651D799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D32A-5073-4333-8929-83CDFBFE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8023-63F2-42B3-8970-3B554939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5ADC-5876-4899-BBCB-DDB7053B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3AE3-C7F1-4D06-81B4-857CDB3C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A60-AB84-4160-AFA1-52793329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9927-50C6-409C-8602-E98152D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6F58-B237-4617-8CA1-D0EB659E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D9A6-918F-4557-8F15-92C56E62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A711-4BBC-4B09-A3E0-97BBE538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4284-9E9D-4FBC-8DBC-83A3AD27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8BE-6A7F-4ADB-8447-2FF9F399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720-3811-4571-A000-79C527CE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817-48B9-44E4-A95F-98E5CBCA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B02-2215-4CCD-A352-2D233D28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07F-B35B-4D01-8C9B-6C567295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BFE-CC00-4E6A-A426-04787372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E22-B7D1-43E1-B0B6-A9B5CD24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7B7B-C9BA-4C8B-B99F-C1CD456669C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2050-46B8-4AEC-A5D4-19D97AC8742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ерестанов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ейшими комбинациями, которые можно составить из элементов конечного множества, являютс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естанов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м пример. Пусть имеются три книги. Обозначим их буквам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 б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 книги можно расставить на полке по-разно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ервой поставить книгу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, то возможны расположения книг :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 Б 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 С Б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сли постави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б Б С 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Б А С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Если первой постави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 А Б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и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 Б А .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280200" y="430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ое из этих расположений называют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рестановкой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трёх элементов. Перестановкой и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ментов называются каждое расположение этих элементов в определен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о перестановок и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элементов обозначают символом 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ведем формулу числа перестаново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лемен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усть мы имеем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лементов. На первое место можно поставить любой из них. Для каждого выбора первого элемента на второе место можно поставить один из оставшихс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1 элементов. Для каждого выбора первых двух элементов на третье место можно поставить один из оставшихс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-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ов и т.д. В результате получим, чт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(n-1)(n-2)*...*3*2*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оложив множители в порядке возрастания, получи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=1*2*3*...*(N-2)(N-1)*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произведения первы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туральных чисел используют специальное обозначение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!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тается «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акториал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, 2!=1*2=2;  5!=1*2*3*4*5=1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читают, что 1!=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м образом, число всевозможных перестановок из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лементов вычисляется по формуле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Р=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ими способами 4 человека могут разместиться на четырехместной скамей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ьер должен разнести пакеты в семь различных учреждений. Сколько маршрутов он может выбр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н</cp:lastModifiedBy>
  <dcterms:modified xsi:type="dcterms:W3CDTF">2006-10-28T13:46:31Z</dcterms:modified>
  <cp:revision>2</cp:revision>
  <dc:subject/>
  <dc:title>PowerPoint Presentation</dc:title>
</cp:coreProperties>
</file>