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28EA-F905-41B7-97A8-7628EB406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8BBB-8449-461F-92F1-6AE68010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7704-DCBF-45B3-AA74-FB1CFF04B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479F-B9E6-47B6-96D5-3E9213C6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7D04-B3FF-461F-B6E3-D3F92BF0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0877-AD39-4CC7-B23F-88170510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A7EB-E212-4E4C-A559-84F463F6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6B29-D629-407C-9042-26CD6931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0996-B1DA-42A3-A3CA-68333AC9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2CE0-D3CA-4961-9EC7-48D77E41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78DD-E128-40F3-993E-754C329F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7855-4D4A-453D-9292-E1F714A0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4BAA-A77C-4AFC-BE01-B2C646F3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4DED-E712-45EE-9113-DF765A2A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C1E4-7DB8-49CF-ABB8-4828BF74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E04A-073F-4440-A568-62159CCB3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506B-DAB9-4CC7-BEE2-2FBBC207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A4F5-9F67-4E70-B7D1-A8AF5F47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C3E6-33C1-41D6-A1AF-2DDB8E78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0E44-C4D4-4B46-BE5A-32D84772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D1E5-93D8-46B1-990B-986884FF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F637-3302-4264-A796-528CBB11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5F41-B9AF-4C82-A7B4-9D06D7A9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939F-571E-4BF6-864F-17674AB4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8A4E-DC3C-484A-A9A7-EC0CFB855DC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C8E1-631E-47CE-8481-AE90C6C6A8C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8147160" cy="33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«Смысловое чтение и работа с текстом в условиях введения ФГОС</a:t>
            </a:r>
            <a:r>
              <a:rPr b="0" lang="ru-RU" sz="4200" spc="-1" strike="noStrike">
                <a:solidFill>
                  <a:srgbClr val="330033"/>
                </a:solidFill>
                <a:latin typeface="Arial"/>
              </a:rPr>
              <a:t>»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.Технологический.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( 4 модул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ение уровня читательской компетентности педагогов и библиотекарей ОУ, переподготовка по использованию технологий обучения чтению в контекстах всех учебных дисципли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 организация в школе образовательных курсов и консультаций для родителей, с тем чтобы они могли помогать детям в повышении уровня общей читательской компетентности и с чтением при подготовке домашних за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чение должно осуществляться на основе деятельностного подх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предметная интегр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Основные этапы формирования общей стратегии смыслового чтения и работы с текстом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Основные этапы формирования общей стратегии смыслового чтения и работы с текстом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71640" y="1412640"/>
            <a:ext cx="77724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дуль1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риёмы техники смыслового чтения в разных предметных областя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еоретическая часть: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еализация междисциплинарной программы «Смысловое чтение». Понятие «смысловое чтение», педтехнологии по развитию смыслового чтения, особенности и структура междисциплинарной программ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ающий семинар  «Методы и приемы смыслового чте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ния для творческих груп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ть или представить один из приёмов техники смыслового чтения, используемого на уроках своей предметн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ать задания с несплошным  текстом на основе дидактического конструктора задач Л.С. Илюшина и таксономии Б.Блу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Рефлексив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ть результаты деятельности, а также соотнести эти результаты с прогнозируемыми результатам (с идеальным образом читателя-школьника) по формированию читательской культу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Основные этапы формирования общей стратегии смыслового чтения и работы с текстом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здан банк учебно-методических материалов педагогов в рамках реализации междисциплинарной программы смыслового чтения и работы с текстом (в электронном вид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работаны критерии оценки достижения планируемых результатов в рамках реализации технологии смыслового чтения и работы с текс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330033"/>
                </a:solidFill>
                <a:uFillTx/>
                <a:latin typeface="Times New Roman"/>
              </a:rPr>
              <a:t>Планируемые результа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-214200"/>
            <a:ext cx="80154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ОО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330033"/>
                </a:solidFill>
                <a:uFillTx/>
                <a:latin typeface="Times New Roman"/>
              </a:rPr>
              <a:t>Планируемые результаты</a:t>
            </a:r>
            <a:br>
              <a:rPr sz="3200"/>
            </a:br>
            <a:r>
              <a:rPr b="1" lang="ru-RU" sz="3200" spc="-1" strike="noStrike" u="sng">
                <a:solidFill>
                  <a:srgbClr val="330033"/>
                </a:solidFill>
                <a:uFillTx/>
                <a:latin typeface="Times New Roman"/>
              </a:rPr>
              <a:t>            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Выпускник научится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8760" y="1557000"/>
            <a:ext cx="828648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иентироваться в содержании текста и понимать его  целостный смыс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формулировать тезис, выражающий общий смысл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редвосхищать содержание предметного плана текста по заголовку и с опорой на предыдущий опыт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ходить в тексте требуемую  информац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ать учебно-познавательные и учебно-практические задачи, требующие полного и критического понимания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Читай не затем, чтобы противоречить и опровергать, не затем, чтобы принимать на веру, и не затем, чтобы найти предмет для беседы; но чтобы мыслить и рассуж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                                                           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Бэкон 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14400" y="620640"/>
            <a:ext cx="77724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99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Читающий человек – это другой человек, отличающийся в интеллектуальном развитии от нечит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Читатели способны мыслить проблемно, схватывать целое и выявлять противоречивые  взаимосвязи явлений, наиболее адекватно оценивать ситуацию и быстрее находить новые, верные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Прямоугольник 3" descr=""/>
          <p:cNvPicPr/>
          <p:nvPr/>
        </p:nvPicPr>
        <p:blipFill>
          <a:blip r:embed="rId1"/>
          <a:stretch/>
        </p:blipFill>
        <p:spPr>
          <a:xfrm>
            <a:off x="96840" y="-36360"/>
            <a:ext cx="8761320" cy="151128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7" descr="PIC_0221.JPG"/>
          <p:cNvPicPr/>
          <p:nvPr/>
        </p:nvPicPr>
        <p:blipFill>
          <a:blip r:embed="rId2"/>
          <a:stretch/>
        </p:blipFill>
        <p:spPr>
          <a:xfrm>
            <a:off x="1928880" y="1285920"/>
            <a:ext cx="5429160" cy="3714840"/>
          </a:xfrm>
          <a:prstGeom prst="rect">
            <a:avLst/>
          </a:prstGeom>
          <a:ln w="0">
            <a:noFill/>
          </a:ln>
        </p:spPr>
      </p:pic>
      <p:sp>
        <p:nvSpPr>
          <p:cNvPr id="133" name="WordArt 2"/>
          <p:cNvSpPr txBox="1"/>
          <p:nvPr/>
        </p:nvSpPr>
        <p:spPr>
          <a:xfrm>
            <a:off x="714240" y="4500720"/>
            <a:ext cx="7715520" cy="14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Monotype Corsiva"/>
              </a:rPr>
              <a:t>Творческих вам успехов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Monotype Corsiva"/>
              <a:ea typeface="Monotype Corsiv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ижение интереса к чт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граниченность круга чтения подростков с преобладанием учебной и развлекательной литерату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зкий уровень читательской компетентности: неумение находить необходимые источники письменной информации, отбирать, оценивать, анализировать тексты; обрабатывать информацию в письменн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Основные проблемы, связанными с чтением подростков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400" y="404640"/>
            <a:ext cx="77724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обществе доминирует ориентация на «легкое» чтение, и школьные программы оказываются содержательнее, чем познания взрослых. Соответственно, семья, как правило, не может обеспечить младшим поколениям базу для приобщения к книжной культуре, нужный уровень читательской компетентности. И в их обыденной внешкольной жизни отсутствуют стимулы приобщения к серьезному чтению. Не выполняет стимулирующих функций и современная шк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5% учащихся – пятиклассников испытывают трудности при выполнении заданий, связанных с интерпретацией и обобщением информац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7% неверно выполняют задания на анализ и оценку содержания, языковых и структурных особенностей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блюдается отрицательная динамика по показателям «извлечение первичной и вторичной информации», «способы обработки информации», «представление полученной информации в форме, соответствующей коммуникативному замыслу» у учащихся 9 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Результаты исследования «грамотности чтения» в МОУ Белореченской СОШ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2160" y="1557360"/>
            <a:ext cx="7772400" cy="295128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 современной школе наблюдается кричащее противоречие: между высокими требованиями к продукту образовательной деятельности, который должен обладать функциональной грамотностью, и старой методологией обучения, отсутствием системного подхода в обучении чтению.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Чтени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фундамент всех обозначенных в стандарте компетен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fgosf1"/>
          <p:cNvPicPr/>
          <p:nvPr/>
        </p:nvPicPr>
        <p:blipFill>
          <a:blip r:embed="rId1"/>
          <a:stretch/>
        </p:blipFill>
        <p:spPr>
          <a:xfrm>
            <a:off x="4643280" y="3573360"/>
            <a:ext cx="3907080" cy="29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работка согласованных действий учителей отдельных предметов (русский язык, литература, иностранный язык, история, обществознание, география, биология) по формированию общей стратегии смыслового чтения и работы с текстом обучающихся на всех ступенях обучен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омплексное решение проблемы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2920" y="0"/>
            <a:ext cx="6084720" cy="57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мысловое чтение 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09" name="Diagram 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10" name="Oval 52"/>
          <p:cNvSpPr/>
          <p:nvPr/>
        </p:nvSpPr>
        <p:spPr>
          <a:xfrm>
            <a:off x="1500120" y="642960"/>
            <a:ext cx="1857600" cy="928800"/>
          </a:xfrm>
          <a:prstGeom prst="ellipse">
            <a:avLst/>
          </a:prstGeom>
          <a:solidFill>
            <a:srgbClr val="1cec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54"/>
          <p:cNvSpPr/>
          <p:nvPr/>
        </p:nvSpPr>
        <p:spPr>
          <a:xfrm>
            <a:off x="4572000" y="1357200"/>
            <a:ext cx="4572000" cy="2357640"/>
          </a:xfrm>
          <a:prstGeom prst="ellipse">
            <a:avLst/>
          </a:prstGeom>
          <a:solidFill>
            <a:srgbClr val="11ff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тратег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мыслового чт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абота с текстом.</a:t>
            </a:r>
            <a:r>
              <a:rPr b="0" lang="ru-RU" sz="3200" spc="-1" strike="noStrike">
                <a:solidFill>
                  <a:srgbClr val="330033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55"/>
          <p:cNvSpPr/>
          <p:nvPr/>
        </p:nvSpPr>
        <p:spPr>
          <a:xfrm>
            <a:off x="285840" y="3786120"/>
            <a:ext cx="8715240" cy="1000080"/>
          </a:xfrm>
          <a:prstGeom prst="ellipse">
            <a:avLst/>
          </a:prstGeom>
          <a:solidFill>
            <a:srgbClr val="75ff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бота с текст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иск информации и понимание прочита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6"/>
          <p:cNvSpPr/>
          <p:nvPr/>
        </p:nvSpPr>
        <p:spPr>
          <a:xfrm>
            <a:off x="0" y="1428840"/>
            <a:ext cx="4643280" cy="2286000"/>
          </a:xfrm>
          <a:prstGeom prst="ellipse">
            <a:avLst/>
          </a:prstGeom>
          <a:solidFill>
            <a:srgbClr val="1cec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т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абота с текст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метапредмет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5"/>
          <p:cNvSpPr/>
          <p:nvPr/>
        </p:nvSpPr>
        <p:spPr>
          <a:xfrm>
            <a:off x="5857920" y="642960"/>
            <a:ext cx="1643040" cy="928800"/>
          </a:xfrm>
          <a:prstGeom prst="ellipse">
            <a:avLst/>
          </a:prstGeom>
          <a:solidFill>
            <a:srgbClr val="75ff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52"/>
          <p:cNvSpPr/>
          <p:nvPr/>
        </p:nvSpPr>
        <p:spPr>
          <a:xfrm>
            <a:off x="571680" y="4857840"/>
            <a:ext cx="8143560" cy="1000080"/>
          </a:xfrm>
          <a:prstGeom prst="ellipse">
            <a:avLst/>
          </a:prstGeom>
          <a:solidFill>
            <a:srgbClr val="1cec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бота с текст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образование и интерпре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55"/>
          <p:cNvSpPr/>
          <p:nvPr/>
        </p:nvSpPr>
        <p:spPr>
          <a:xfrm>
            <a:off x="428760" y="5929200"/>
            <a:ext cx="8358120" cy="928800"/>
          </a:xfrm>
          <a:prstGeom prst="ellipse">
            <a:avLst/>
          </a:prstGeom>
          <a:solidFill>
            <a:srgbClr val="75ff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бота с текст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ценка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.Проектировочный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комство с проблемой, её изучение, осознание необходимости введения единого режима работы школы с текстовой информаци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оценку состояния проблемы в данном образовательном учреждении, для чего необходимо проведение первичного мониторинга-диагностики навыков осмысленного чт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роблемный анализ результатов независимого оценивания учебных достижений школь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- мониторинг читательских интересов школьников и посещаемости школьной библиотеки, а также анализ социальных факторов, влияющих на интерес и качество чт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формулирование цели и создание модели идеального читателя-шк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Основные этапы формирования общей стратегии смыслового чтения и работы с текстом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12:57:26Z</dcterms:created>
  <dc:creator>Анна</dc:creator>
  <dc:description/>
  <dc:language>en-US</dc:language>
  <cp:lastModifiedBy>Татьяна Викторовна</cp:lastModifiedBy>
  <dcterms:modified xsi:type="dcterms:W3CDTF">2015-02-07T01:48:55Z</dcterms:modified>
  <cp:revision>19</cp:revision>
  <dc:subject/>
  <dc:title>«Реализация междисциплинарной программы смыслового чтения и работа с текстом в условиях введения ФГОС»</dc:title>
</cp:coreProperties>
</file>