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9A5-BBF2-4251-987E-55CE490D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E38-BA01-4331-9EC1-2BABEC61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976-2998-44D9-B14D-9F29A2BB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15A-E0B0-4C54-951A-35DC1056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E562-948F-48E2-AC27-17C9343E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3133-6A0A-4197-B7FC-5C96ADA5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A5CA-E483-4627-B41E-B40AE067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7231-1DC2-44B8-8E9A-89D284F5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CFC3-EB7E-4DBF-8904-1956BA04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3B5F-512D-44E2-8652-9FA5071C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D06D-3A86-4945-89E2-019D4975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224-AACD-435B-80B0-260FF94C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3848-D7C4-433D-A488-E9B4785E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00E8-8658-4E34-B2D3-B5CE77CC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E7BE-CA27-4CB6-B1A3-0D6E4F98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843B-9B29-4FF1-97EA-45216700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6969-CEDF-434B-A170-B6270BED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29B-721A-4049-A90B-66B4B80A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872-5858-4CFA-A6A3-D8963CF8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5F8-C030-46C0-AA69-860D9DDB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93F-AD38-40BB-8CC5-5BEF2BB8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CC0-CA31-4705-B57A-E36B5B0F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8C2-A100-4E66-9B56-3F06A951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3FB-6BBF-4233-9C65-0E45EBA2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2A1C-21C4-4159-BEDD-10BF892657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4523-C78A-4EB3-8633-5B30E73649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814716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«Смысловое чтение и работа с текстом в условиях введения ФГОС</a:t>
            </a:r>
            <a:r>
              <a:rPr b="0" lang="ru-RU" sz="4200" spc="-1" strike="noStrike">
                <a:solidFill>
                  <a:srgbClr val="330033"/>
                </a:solidFill>
                <a:latin typeface="Arial"/>
              </a:rPr>
              <a:t>»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Технологический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( 4 моду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уровня читательской компетентности педагогов и библиотекарей ОУ, переподготовка по использованию технологий обучения чтению в контекстах всех учебных дисципл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организация в школе образовательных курсов и консультаций для родителей, с тем чтобы они могли помогать детям в повышении уровня общей читательской компетентности и с чтением при подготовке домашни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должно осуществляться на основе деятельностного под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предметная интег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сновные этапы формирования общей стратегии смыслового чтения и работы с текстом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Основные этапы формирования общей стратегии смыслового чтения и работы с текстом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7164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ёмы техники смыслового чтения в разных предметных област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тическая часть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еализация междисциплинарной программы «Смысловое чтение». Понятие «смысловое чтение», педтехнологии по развитию смыслового чтения, особенности и структура междисциплинарной програм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 семинар  «Методы и приемы смыслового чт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ния для творче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ть или представить один из приёмов техники смыслового чтения, используемого на уроках своей предметн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задания с несплошным  текстом на основе дидактического конструктора задач Л.С. Илюшина и таксономии Б.Бл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Рефлекс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результаты деятельности, а также соотнести эти результаты с прогнозируемыми результатам (с идеальным образом читателя-школьника) по формированию читательской куль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сновные этапы формирования общей стратегии смыслового чтения и работы с текстом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 банк учебно-методических материалов педагогов в рамках реализации междисциплинарной программы смыслового чтения и работы с текстом (в электронном вид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аны критерии оценки достижения планируемых результатов в рамках реализации технологии смыслового чтения и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ланируемые результа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-214200"/>
            <a:ext cx="8015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О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330033"/>
                </a:solidFill>
                <a:uFillTx/>
                <a:latin typeface="Times New Roman"/>
              </a:rPr>
              <a:t>Планируемые результаты</a:t>
            </a:r>
            <a:br>
              <a:rPr sz="3200"/>
            </a:br>
            <a:r>
              <a:rPr b="1" lang="ru-RU" sz="3200" spc="-1" strike="noStrike" u="sng">
                <a:solidFill>
                  <a:srgbClr val="330033"/>
                </a:solidFill>
                <a:uFillTx/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Выпускник научится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760" y="1557000"/>
            <a:ext cx="82864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держании текста и понимать его  целост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формулировать тезис, выражающий общий смысл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восхищать содержание предметного плана текста по заголовку и с опорой на предыдущий опыт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ходить в тексте требуемую  информ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ть учебно-познавательные и учебно-практические задачи, требующие полного и критического понимания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итай не затем, чтобы противоречить и опровергать, не затем, чтобы принимать на веру, и не затем, чтобы найти предмет для беседы; но чтобы мыслить и рассу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Бэкон 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620640"/>
            <a:ext cx="77724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итающий человек – это другой человек, отличающийся в интеллектуальном развитии от нечит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итатели способны мыслить проблемно, схватывать целое и выявлять противоречивые  взаимосвязи явлений, наиболее адекватно оценивать ситуацию и быстрее находить новые, верн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96840" y="-36360"/>
            <a:ext cx="876132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PIC_0221.JPG"/>
          <p:cNvPicPr/>
          <p:nvPr/>
        </p:nvPicPr>
        <p:blipFill>
          <a:blip r:embed="rId2"/>
          <a:stretch/>
        </p:blipFill>
        <p:spPr>
          <a:xfrm>
            <a:off x="1928880" y="1285920"/>
            <a:ext cx="5429160" cy="3714840"/>
          </a:xfrm>
          <a:prstGeom prst="rect">
            <a:avLst/>
          </a:prstGeom>
          <a:ln w="0">
            <a:noFill/>
          </a:ln>
        </p:spPr>
      </p:pic>
      <p:sp>
        <p:nvSpPr>
          <p:cNvPr id="133" name="WordArt 2"/>
          <p:cNvSpPr txBox="1"/>
          <p:nvPr/>
        </p:nvSpPr>
        <p:spPr>
          <a:xfrm>
            <a:off x="714240" y="4500720"/>
            <a:ext cx="771552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Творческих вам успехов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интереса к чт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енность круга чтения подростков с преобладанием учебной и развлекательной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зкий уровень читательской компетентности: неумение находить необходимые источники письменной информации, отбирать, оценивать, анализировать тексты; обрабатывать информацию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сновные проблемы, связанными с чтением подростк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бществе доминирует ориентация на «легкое» чтение, и школьные программы оказываются содержательнее, чем познания взрослых. Соответственно, семья, как правило, не может обеспечить младшим поколениям базу для приобщения к книжной культуре, нужный уровень читательской компетентности. И в их обыденной внешкольной жизни отсутствуют стимулы приобщения к серьезному чтению. Не выполняет стимулирующих функций и современная ш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5% учащихся – пятиклассников испытывают трудности при выполнении заданий, связанных с интерпретацией и обобщением информ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7% неверно выполняют задания на анализ и оценку содержания, языковых и структурных особенностей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ается отрицательная динамика по показателям «извлечение первичной и вторичной информации», «способы обработки информации», «представление полученной информации в форме, соответствующей коммуникативному замыслу» у учащихся 9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Результаты исследования «грамотности чтения» в МОУ Белореченской СОШ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1557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овременной школе наблюдается кричащее противоречие: между высокими требованиями к продукту образовательной деятельности, который должен обладать функциональной грамотностью, и старой методологией обучения, отсутствием системного подхода в обучении чтению.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ени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фундамент всех обозначенных в стандарте компетен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gosf1"/>
          <p:cNvPicPr/>
          <p:nvPr/>
        </p:nvPicPr>
        <p:blipFill>
          <a:blip r:embed="rId1"/>
          <a:stretch/>
        </p:blipFill>
        <p:spPr>
          <a:xfrm>
            <a:off x="4643280" y="3573360"/>
            <a:ext cx="390708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ка согласованных действий учителей отдельных предметов (русский язык, литература, иностранный язык, история, обществознание, география, биология) по формированию общей стратегии смыслового чтения и работы с текстом обучающихся на всех ступенях обуч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мплексное решение проблем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6084720" cy="57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ысловое чтение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9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0" name="Oval 52"/>
          <p:cNvSpPr/>
          <p:nvPr/>
        </p:nvSpPr>
        <p:spPr>
          <a:xfrm>
            <a:off x="1500120" y="642960"/>
            <a:ext cx="1857600" cy="928800"/>
          </a:xfrm>
          <a:prstGeom prst="ellipse">
            <a:avLst/>
          </a:prstGeom>
          <a:solidFill>
            <a:srgbClr val="1ce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4"/>
          <p:cNvSpPr/>
          <p:nvPr/>
        </p:nvSpPr>
        <p:spPr>
          <a:xfrm>
            <a:off x="4572000" y="1357200"/>
            <a:ext cx="4572000" cy="2357640"/>
          </a:xfrm>
          <a:prstGeom prst="ellipse">
            <a:avLst/>
          </a:prstGeom>
          <a:solidFill>
            <a:srgbClr val="11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мыслового чт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.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5"/>
          <p:cNvSpPr/>
          <p:nvPr/>
        </p:nvSpPr>
        <p:spPr>
          <a:xfrm>
            <a:off x="285840" y="3786120"/>
            <a:ext cx="8715240" cy="1000080"/>
          </a:xfrm>
          <a:prstGeom prst="ellipse">
            <a:avLst/>
          </a:prstGeom>
          <a:solidFill>
            <a:srgbClr val="75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иск информации и понимание прочита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6"/>
          <p:cNvSpPr/>
          <p:nvPr/>
        </p:nvSpPr>
        <p:spPr>
          <a:xfrm>
            <a:off x="0" y="1428840"/>
            <a:ext cx="4643280" cy="2286000"/>
          </a:xfrm>
          <a:prstGeom prst="ellipse">
            <a:avLst/>
          </a:prstGeom>
          <a:solidFill>
            <a:srgbClr val="1ce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метапредме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5"/>
          <p:cNvSpPr/>
          <p:nvPr/>
        </p:nvSpPr>
        <p:spPr>
          <a:xfrm>
            <a:off x="5857920" y="642960"/>
            <a:ext cx="1643040" cy="928800"/>
          </a:xfrm>
          <a:prstGeom prst="ellipse">
            <a:avLst/>
          </a:prstGeom>
          <a:solidFill>
            <a:srgbClr val="75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2"/>
          <p:cNvSpPr/>
          <p:nvPr/>
        </p:nvSpPr>
        <p:spPr>
          <a:xfrm>
            <a:off x="571680" y="4857840"/>
            <a:ext cx="8143560" cy="1000080"/>
          </a:xfrm>
          <a:prstGeom prst="ellipse">
            <a:avLst/>
          </a:prstGeom>
          <a:solidFill>
            <a:srgbClr val="1ce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образование и интерпре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5"/>
          <p:cNvSpPr/>
          <p:nvPr/>
        </p:nvSpPr>
        <p:spPr>
          <a:xfrm>
            <a:off x="428760" y="5929200"/>
            <a:ext cx="8358120" cy="928800"/>
          </a:xfrm>
          <a:prstGeom prst="ellipse">
            <a:avLst/>
          </a:prstGeom>
          <a:solidFill>
            <a:srgbClr val="75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.Проектировочны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комство с проблемой, её изучение, осознание необходимости введения единого режима работы школы с текстовой информ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ценку состояния проблемы в данном образовательном учреждении, для чего необходимо проведение первичного мониторинга-диагностики навыков осмысленного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блемный анализ результатов независимого оценивания учебных достижений 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- мониторинг читательских интересов школьников и посещаемости школьной библиотеки, а также анализ социальных факторов, влияющих на интерес и качество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формулирование цели и создание модели идеального читателя-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сновные этапы формирования общей стратегии смыслового чтения и работы с текстом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2:57:26Z</dcterms:created>
  <dc:creator>Анна</dc:creator>
  <dc:description/>
  <dc:language>en-US</dc:language>
  <cp:lastModifiedBy>Татьяна Викторовна</cp:lastModifiedBy>
  <dcterms:modified xsi:type="dcterms:W3CDTF">2015-02-07T01:48:55Z</dcterms:modified>
  <cp:revision>19</cp:revision>
  <dc:subject/>
  <dc:title>«Реализация междисциплинарной программы смыслового чтения и работа с текстом в условиях введения ФГОС»</dc:title>
</cp:coreProperties>
</file>