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1A56-E96A-4039-A7E6-51B9F8992B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B4CC-F2B1-4977-BA00-9B63426832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13F4-2AB6-4719-92B7-65FBC22B2C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6D8E-5A80-4A57-9941-E9E1C696DB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1F3-C49E-47C4-ACC4-E817EE29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BF9-463A-4F76-9727-5E60F604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B58-2032-4442-B828-38998D83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34E-4F01-4B09-B315-5C9E4676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CC1B-23C9-47A7-B1CE-560E5E72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810D-4676-417A-93F6-91D18BFB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9047-0901-49B6-A703-F419BB92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7201-1B7F-40C9-996F-A728A1CA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8B0D-783E-49DE-8FA6-6AF0374A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AA99-38D3-4E23-BB94-31DC83F7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1A50-365F-4198-A2AF-6B337866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48E-B1E3-40D6-95E3-753319BF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4359-251E-4AFF-847E-B37BCDF8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A80E-EC65-4731-AFBC-41298FE0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030C-277F-4FE5-8024-A6305897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5EDA-CC56-443E-8C49-7A1DEEB6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2292-D94B-4806-8620-33BC9980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80B-E849-43E5-996E-79935A5D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E75-B3F9-4289-8F42-C12F6304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1F7-4CDE-4A2B-88B2-14F3E97D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DBB-E8C1-41E7-AA90-C7D15E0C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63E-FC6E-4E40-B9D3-A75FC07C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B0C-09EE-4825-9390-8C3060C0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2FC-A29D-4D5F-BA81-DDA58A83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42FA-5B7C-4C04-9618-83C73866DE2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69A9-54EC-42B1-8360-FE2B9BC9E8D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71800" y="356760"/>
            <a:ext cx="50004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ВНИМАНИЕ</a:t>
            </a: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,</a:t>
            </a: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 ПОДРОСТОК!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90" name="Рисунок 7" descr="Картинка 1095 из 8030"/>
          <p:cNvPicPr/>
          <p:nvPr/>
        </p:nvPicPr>
        <p:blipFill>
          <a:blip r:embed="rId2"/>
          <a:stretch/>
        </p:blipFill>
        <p:spPr>
          <a:xfrm>
            <a:off x="2225520" y="2365200"/>
            <a:ext cx="4596120" cy="32068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4143240" y="5072040"/>
            <a:ext cx="5000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04000" y="4869000"/>
            <a:ext cx="234000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Помните: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13880" y="1643040"/>
            <a:ext cx="79153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рные поступки не всегда являются отражением внутреннего мира подрост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переживайте, не высмеивайте и не отталкивайте в минуты откро-вен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42960" y="356760"/>
            <a:ext cx="812952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райтесь проводить время вместе. Только не сидите молча у телевизора, а займитесь интересным ему делом. Например, сыграйте в баскетбол или спойте под гита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вмешивайтесь в занятия, с которыми он справляется и без вас, не навязывайте свое мнение по любому вопросу, не критикуйте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71680" y="428760"/>
            <a:ext cx="791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гайте, когда он просит вас об э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держивайте даже самые ничтожные успехи во всем - в учебе, спорте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итесь своими чувствам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ешайте конфликты мирным путем. Не давайте волю слезам, крикам, угроз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13880" y="1071360"/>
            <a:ext cx="7844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ще используйте приветливые фразы. Например: "Мне хорошо с тобой", "Я рада тебя видеть", "Мне нравится, как ты...", "Я по тебе соскучилась", "Давай (посидим, поделаем...) вместе", "Ты, конечно, справишься", "Как хорошо, что ты у нас есть"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3" descr="\\MICROSOF-05BCCC\User (D)\Семейная\Ирина\Анимашки\64 (1).gif"/>
          <p:cNvPicPr/>
          <p:nvPr/>
        </p:nvPicPr>
        <p:blipFill>
          <a:blip r:embed="rId2"/>
          <a:stretch/>
        </p:blipFill>
        <p:spPr>
          <a:xfrm>
            <a:off x="3500280" y="4643280"/>
            <a:ext cx="219096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42600" y="1143000"/>
            <a:ext cx="82724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нимайтесь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менее четырех, а лучше восьми раз в день. В проявлениях родительской ласки "взрослые" подростки нуждаются порой отчаяннее, чем крохотные карапуз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\\MICROSOF-05BCCC\User (D)\Семейная\Ирина\Анимашки\0_1ac07_864c3346_S.gif"/>
          <p:cNvPicPr/>
          <p:nvPr/>
        </p:nvPicPr>
        <p:blipFill>
          <a:blip r:embed="rId2"/>
          <a:stretch/>
        </p:blipFill>
        <p:spPr>
          <a:xfrm>
            <a:off x="3929040" y="4071960"/>
            <a:ext cx="164304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85880" y="2000160"/>
            <a:ext cx="769608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 Black"/>
              </a:rPr>
              <a:t>«И это пройдёт …»</a:t>
            </a:r>
            <a:endParaRPr b="0" lang="en-US" sz="5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14800" y="5500800"/>
            <a:ext cx="52718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\\MICROSOF-05BCCC\User (D)\Семейная\Ирина\Анимашки\155.gif"/>
          <p:cNvPicPr/>
          <p:nvPr/>
        </p:nvPicPr>
        <p:blipFill>
          <a:blip r:embed="rId2"/>
          <a:stretch/>
        </p:blipFill>
        <p:spPr>
          <a:xfrm>
            <a:off x="3500280" y="4572000"/>
            <a:ext cx="177660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28800" y="5000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градой вам буду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важение и любов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это так важ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5" descr="\\MICROSOF-05BCCC\User (D)\Семейная\Ирина\Анимашки\13 (1).gif"/>
          <p:cNvPicPr/>
          <p:nvPr/>
        </p:nvPicPr>
        <p:blipFill>
          <a:blip r:embed="rId2"/>
          <a:stretch/>
        </p:blipFill>
        <p:spPr>
          <a:xfrm>
            <a:off x="3571920" y="3286080"/>
            <a:ext cx="228600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Цель: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840" y="1928880"/>
            <a:ext cx="857232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 родителей с основными  особенностями подростков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судить проблемы  об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телей с деть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акомить с рекомендациями психолога по решению данных пробл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99680" y="2214720"/>
            <a:ext cx="7915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ологическое взросле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я в  характере и во взаимоотношениях с окружающими людьми и сверстник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ческое взросление меняет взгляды ребенка на жизнь, его ценностные ориенти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\\MICROSOF-05BCCC\User (D)\Семейная\Ирина\Анимашки\album_0908144057_7483.gif"/>
          <p:cNvPicPr/>
          <p:nvPr/>
        </p:nvPicPr>
        <p:blipFill>
          <a:blip r:embed="rId2"/>
          <a:stretch/>
        </p:blipFill>
        <p:spPr>
          <a:xfrm>
            <a:off x="7215120" y="514368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69608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Подростковый возраст: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период от 10 – до 13 лет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 «Оставьте меня в покое!»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56800" y="64296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Кто виноват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560" y="1857240"/>
            <a:ext cx="9001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ледует пересмотреть стиль собственного воспитания. Вероятно, вы упустили какой-то важный момент. Не заметили, когда ваш авторитет, ласка, строгость или просто внимание остро требовались ребенку..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14240" y="428760"/>
            <a:ext cx="8072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этот период ребёнок переживает  гормональную перестройку организм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стро утомляет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чет побыть оди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в это же время ему необходимо закрепить за собой авторитет, ведь от того, как он покажет себя, зависит его "статус" в среде сверст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6" descr="\\MICROSOF-05BCCC\User (D)\Семейная\Ирина\Анимашки\gallery_2_391_8617.gif"/>
          <p:cNvPicPr/>
          <p:nvPr/>
        </p:nvPicPr>
        <p:blipFill>
          <a:blip r:embed="rId2"/>
          <a:stretch/>
        </p:blipFill>
        <p:spPr>
          <a:xfrm>
            <a:off x="0" y="4933800"/>
            <a:ext cx="1428840" cy="1924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71320" y="428760"/>
            <a:ext cx="783900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ние одиночества и невозможность этого приводит к конфликту в душе подростка - он капризничает, становится раздражительным, может обронить резкое словцо. Свободное время он проводит не как раньше - с родителями, а в компании друзей. Авторитет друга Коли становится важнее, чем мнение от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Типичная ошибка родителей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5" name="Picture 10" descr="\\MICROSOF-05BCCC\User (D)\Семейная\Ирина\Анимашки\gallery_2_391_169.gif"/>
          <p:cNvPicPr/>
          <p:nvPr/>
        </p:nvPicPr>
        <p:blipFill>
          <a:blip r:embed="rId2"/>
          <a:stretch/>
        </p:blipFill>
        <p:spPr>
          <a:xfrm>
            <a:off x="-612720" y="620640"/>
            <a:ext cx="1957320" cy="2571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547640" y="1773360"/>
            <a:ext cx="5934240" cy="42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228600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 Black"/>
              </a:rPr>
              <a:t>Что делать?</a:t>
            </a:r>
            <a:endParaRPr b="0" lang="en-US" sz="6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 Black"/>
              </a:rPr>
              <a:t>Внимание, только внимание!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7120" y="1285560"/>
            <a:ext cx="83440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ниверсальные сове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 каждый ден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ая главная ошибка родител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, к сожалению, самая типичная) - усматривать в "недопустимом" поведении повзрослевших чад исключительно злой умысе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йне вредное заблужде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\\MICROSOF-05BCCC\User (D)\Семейная\Ирина\Анимашки\c6ece0df89c8.gif"/>
          <p:cNvPicPr/>
          <p:nvPr/>
        </p:nvPicPr>
        <p:blipFill>
          <a:blip r:embed="rId2"/>
          <a:stretch/>
        </p:blipFill>
        <p:spPr>
          <a:xfrm>
            <a:off x="7215120" y="5181480"/>
            <a:ext cx="164304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1:02:16Z</dcterms:created>
  <dc:creator>Zver</dc:creator>
  <dc:description/>
  <dc:language>en-US</dc:language>
  <cp:lastModifiedBy>.</cp:lastModifiedBy>
  <dcterms:modified xsi:type="dcterms:W3CDTF">2012-12-25T15:06:16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