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1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media/image9.png" ContentType="image/png"/>
  <Override PartName="/ppt/media/image10.gif" ContentType="image/gif"/>
  <Override PartName="/ppt/media/image6.png" ContentType="image/png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B086B-83A2-416E-9686-CCC9BBDCEE3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A161B-D780-4CAA-8C8F-47D4ED909C0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9B4EE-6884-4D6B-A7C0-C87CBDFC5B6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5A1C4-1CA8-4686-9B06-D21B1BF89BD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58FE-C94C-4D96-A2B0-323AAD229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19320" y="435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A230-BB5E-45D6-B227-40CBA8CB9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31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A253-9153-4029-A032-9178BA893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2140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2348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1932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2140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2348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2A4E-D26A-4899-959C-9DA3A8D9C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BB982-2BA8-4AA5-94F0-07A3FC77F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7ECF7-8E9D-4E11-914E-6B896F52C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8F199-7E89-4152-954A-F3B5C8CBA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0AB94-B508-40D9-A967-6A01034FC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E5F9A-34C8-4E0A-927E-D0706F2E1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19320" y="1295280"/>
            <a:ext cx="7696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C1C10-B588-4050-B66D-9E184622A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5E560-93DB-4745-A773-242AA3DE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6566-BCC6-41FB-9886-2447A40D4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631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B59BD-D0D6-471F-838E-87264442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1DEE0-DC3C-488B-9823-4A5DDE072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9320" y="435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A7E16-0F10-4094-9070-0A897AF02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631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02787-9CF3-4ABC-B71E-9D0FE52B9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2140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2348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932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2140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2348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EF172-2DF0-4EA2-BF1C-D715806E4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BC66-02A6-4A85-9804-00D5D3373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0EBD-2B05-425D-AF88-46D20E2E7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DB88-E64F-423B-A306-E7B6F9167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9320" y="1295280"/>
            <a:ext cx="7696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0D67-0237-467D-A725-EA37E5DD8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D426-8A63-475D-8A3A-B7894584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31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77C8-7247-454C-9194-CBE3CBBE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3AF7-995F-42FF-A3AE-46CB86B74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324120"/>
            <a:ext cx="1904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5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9C360-D418-4078-B91C-7FEECFBA22F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9552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DEE81-A3FD-493A-B1B0-EBF07D04BFA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gi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071800" y="356760"/>
            <a:ext cx="5000400" cy="23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 Black"/>
              </a:rPr>
              <a:t>ВНИМАНИЕ</a:t>
            </a: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,</a:t>
            </a:r>
            <a:r>
              <a:rPr b="0" lang="ru-RU" sz="4400" spc="-1" strike="noStrike">
                <a:solidFill>
                  <a:srgbClr val="ccecff"/>
                </a:solidFill>
                <a:latin typeface="Arial Black"/>
              </a:rPr>
              <a:t> ПОДРОСТОК!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pic>
        <p:nvPicPr>
          <p:cNvPr id="90" name="Рисунок 7" descr="Картинка 1095 из 8030"/>
          <p:cNvPicPr/>
          <p:nvPr/>
        </p:nvPicPr>
        <p:blipFill>
          <a:blip r:embed="rId2"/>
          <a:stretch/>
        </p:blipFill>
        <p:spPr>
          <a:xfrm>
            <a:off x="2225520" y="2365200"/>
            <a:ext cx="4596120" cy="32068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2"/>
          <p:cNvSpPr/>
          <p:nvPr/>
        </p:nvSpPr>
        <p:spPr>
          <a:xfrm>
            <a:off x="4143240" y="5072040"/>
            <a:ext cx="5000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6804000" y="4869000"/>
            <a:ext cx="2340000" cy="1989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2880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 Black"/>
              </a:rPr>
              <a:t>Помните: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13880" y="1643040"/>
            <a:ext cx="791532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урные поступки не всегда являются отражением внутреннего мира подрост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переживайте, не высмеивайте и не отталкивайте в минуты откро-вен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42960" y="356760"/>
            <a:ext cx="8129520" cy="589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арайтесь проводить время вместе. Только не сидите молча у телевизора, а займитесь интересным ему делом. Например, сыграйте в баскетбол или спойте под гитар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 вмешивайтесь в занятия, с которыми он справляется и без вас, не навязывайте свое мнение по любому вопросу, не критикуйте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571680" y="428760"/>
            <a:ext cx="79149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могайте, когда он просит вас об эт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ддерживайте даже самые ничтожные успехи во всем - в учебе, спорте и т.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литесь своими чувствами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решайте конфликты мирным путем. Не давайте волю слезам, крикам, угроза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713880" y="1071360"/>
            <a:ext cx="78440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аще используйте приветливые фразы. Например: "Мне хорошо с тобой", "Я рада тебя видеть", "Мне нравится, как ты...", "Я по тебе соскучилась", "Давай (посидим, поделаем...) вместе", "Ты, конечно, справишься", "Как хорошо, что ты у нас есть"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23" descr="\\MICROSOF-05BCCC\User (D)\Семейная\Ирина\Анимашки\64 (1).gif"/>
          <p:cNvPicPr/>
          <p:nvPr/>
        </p:nvPicPr>
        <p:blipFill>
          <a:blip r:embed="rId2"/>
          <a:stretch/>
        </p:blipFill>
        <p:spPr>
          <a:xfrm>
            <a:off x="3500280" y="4643280"/>
            <a:ext cx="2190960" cy="19288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642600" y="1143000"/>
            <a:ext cx="827244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бнимайтесь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 менее четырех, а лучше восьми раз в день. В проявлениях родительской ласки "взрослые" подростки нуждаются порой отчаяннее, чем крохотные карапуз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2" descr="\\MICROSOF-05BCCC\User (D)\Семейная\Ирина\Анимашки\0_1ac07_864c3346_S.gif"/>
          <p:cNvPicPr/>
          <p:nvPr/>
        </p:nvPicPr>
        <p:blipFill>
          <a:blip r:embed="rId2"/>
          <a:stretch/>
        </p:blipFill>
        <p:spPr>
          <a:xfrm>
            <a:off x="3929040" y="4071960"/>
            <a:ext cx="1643040" cy="20001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85880" y="2000160"/>
            <a:ext cx="769608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 Black"/>
              </a:rPr>
              <a:t>«И это пройдёт …»</a:t>
            </a:r>
            <a:endParaRPr b="0" lang="en-US" sz="5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214800" y="5500800"/>
            <a:ext cx="527184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2" descr="\\MICROSOF-05BCCC\User (D)\Семейная\Ирина\Анимашки\155.gif"/>
          <p:cNvPicPr/>
          <p:nvPr/>
        </p:nvPicPr>
        <p:blipFill>
          <a:blip r:embed="rId2"/>
          <a:stretch/>
        </p:blipFill>
        <p:spPr>
          <a:xfrm>
            <a:off x="3500280" y="4572000"/>
            <a:ext cx="1776600" cy="17859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928800" y="5000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градой вам буду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верие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важение и любов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 это так важно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15" descr="\\MICROSOF-05BCCC\User (D)\Семейная\Ирина\Анимашки\13 (1).gif"/>
          <p:cNvPicPr/>
          <p:nvPr/>
        </p:nvPicPr>
        <p:blipFill>
          <a:blip r:embed="rId2"/>
          <a:stretch/>
        </p:blipFill>
        <p:spPr>
          <a:xfrm>
            <a:off x="3571920" y="3286080"/>
            <a:ext cx="2286000" cy="27147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2880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 Black"/>
              </a:rPr>
              <a:t>Цель: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85840" y="1928880"/>
            <a:ext cx="8572320" cy="33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знакомить родителей с основными  особенностями подросткового возрас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судить проблемы  общ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одителей с деть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знакомить с рекомендациями психолога по решению данных пробле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99680" y="2214720"/>
            <a:ext cx="79153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изиологическое взросления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•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менения в  характере и во взаимоотношениях с окружающими людьми и сверстникам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•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изическое взросление меняет взгляды ребенка на жизнь, его ценностные ориентир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\\MICROSOF-05BCCC\User (D)\Семейная\Ирина\Анимашки\album_0908144057_7483.gif"/>
          <p:cNvPicPr/>
          <p:nvPr/>
        </p:nvPicPr>
        <p:blipFill>
          <a:blip r:embed="rId2"/>
          <a:stretch/>
        </p:blipFill>
        <p:spPr>
          <a:xfrm>
            <a:off x="7215120" y="5143680"/>
            <a:ext cx="1714680" cy="17143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7696080" cy="27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 Black"/>
              </a:rPr>
              <a:t>Подростковый возраст: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 Black"/>
              </a:rPr>
              <a:t>период от 10 – до 13 лет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 Black"/>
              </a:rPr>
              <a:t> «Оставьте меня в покое!»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56800" y="64296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 Black"/>
              </a:rPr>
              <a:t>Кто виноват?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42560" y="1857240"/>
            <a:ext cx="9001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следует пересмотреть стиль собственного воспитания. Вероятно, вы упустили какой-то важный момент. Не заметили, когда ваш авторитет, ласка, строгость или просто внимание остро требовались ребенку..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820880" cy="24922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714240" y="428760"/>
            <a:ext cx="807264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этот период ребёнок переживает  гормональную перестройку организм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•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ыстро утомляется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очет побыть один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о в это же время ему необходимо закрепить за собой авторитет, ведь от того, как он покажет себя, зависит его "статус" в среде сверстников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16" descr="\\MICROSOF-05BCCC\User (D)\Семейная\Ирина\Анимашки\gallery_2_391_8617.gif"/>
          <p:cNvPicPr/>
          <p:nvPr/>
        </p:nvPicPr>
        <p:blipFill>
          <a:blip r:embed="rId2"/>
          <a:stretch/>
        </p:blipFill>
        <p:spPr>
          <a:xfrm>
            <a:off x="0" y="4933800"/>
            <a:ext cx="1428840" cy="19242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571320" y="428760"/>
            <a:ext cx="7839000" cy="58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Желание одиночества и невозможность этого приводит к конфликту в душе подростка - он капризничает, становится раздражительным, может обронить резкое словцо. Свободное время он проводит не как раньше - с родителями, а в компании друзей. Авторитет друга Коли становится важнее, чем мнение отц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56760" y="642960"/>
            <a:ext cx="8572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 Black"/>
              </a:rPr>
              <a:t>Типичная ошибка родителей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pic>
        <p:nvPicPr>
          <p:cNvPr id="105" name="Picture 10" descr="\\MICROSOF-05BCCC\User (D)\Семейная\Ирина\Анимашки\gallery_2_391_169.gif"/>
          <p:cNvPicPr/>
          <p:nvPr/>
        </p:nvPicPr>
        <p:blipFill>
          <a:blip r:embed="rId2"/>
          <a:stretch/>
        </p:blipFill>
        <p:spPr>
          <a:xfrm>
            <a:off x="-612720" y="620640"/>
            <a:ext cx="1957320" cy="25718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1547640" y="1773360"/>
            <a:ext cx="5934240" cy="4228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85880" y="2286000"/>
            <a:ext cx="76960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ecff"/>
                </a:solidFill>
                <a:latin typeface="Arial Black"/>
              </a:rPr>
              <a:t>Что делать?</a:t>
            </a:r>
            <a:endParaRPr b="0" lang="en-US" sz="6000" spc="-1" strike="noStrike">
              <a:solidFill>
                <a:srgbClr val="ccecff"/>
              </a:solidFill>
              <a:latin typeface="Arial Black"/>
            </a:endParaRPr>
          </a:p>
        </p:txBody>
      </p:sp>
    </p:spTree>
  </p:cSld>
  <p:transition spd="slow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5480" y="214200"/>
            <a:ext cx="8629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cecff"/>
                </a:solidFill>
                <a:latin typeface="Arial Black"/>
              </a:rPr>
              <a:t>Внимание, только внимание!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57120" y="1285560"/>
            <a:ext cx="83440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Универсальные совет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на каждый день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амая главная ошибка родителе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и, к сожалению, самая типичная) - усматривать в "недопустимом" поведении повзрослевших чад исключительно злой умысел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райне вредное заблуждение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6" descr="\\MICROSOF-05BCCC\User (D)\Семейная\Ирина\Анимашки\c6ece0df89c8.gif"/>
          <p:cNvPicPr/>
          <p:nvPr/>
        </p:nvPicPr>
        <p:blipFill>
          <a:blip r:embed="rId2"/>
          <a:stretch/>
        </p:blipFill>
        <p:spPr>
          <a:xfrm>
            <a:off x="7215120" y="5181480"/>
            <a:ext cx="1643040" cy="16765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11:02:16Z</dcterms:created>
  <dc:creator>Zver</dc:creator>
  <dc:description/>
  <dc:language>en-US</dc:language>
  <cp:lastModifiedBy>.</cp:lastModifiedBy>
  <dcterms:modified xsi:type="dcterms:W3CDTF">2012-12-25T15:06:16Z</dcterms:modified>
  <cp:revision>3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191049</vt:lpwstr>
  </property>
</Properties>
</file>