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9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11.png" ContentType="image/png"/>
  <Override PartName="/ppt/media/image7.png" ContentType="image/png"/>
  <Override PartName="/ppt/media/image13.png" ContentType="image/png"/>
  <Override PartName="/ppt/media/image31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14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34E0-A353-4826-94A4-F86DE2D664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B759-B3AC-453E-B31B-EAD1AA8342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днажды он сказал, что смерть ничем не отличается от жизни. Почему же, спросили его, ты не умираешь. Он ответил: именно потому, что разницы нет ника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6AC9-B4BC-409A-9846-E73E1C98F5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в его сочинения, другой философ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кр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казал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“То, что я понял – прекрасно, думаю, что таково и то, что я не понял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D89-16D2-4F96-9437-4F74510F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676-CBC3-4775-A7DC-B87E2959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59C-DB1E-45E1-93C6-B3DE5240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9BC-2236-4AF1-A8BF-0DC775F3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B78-7F21-4E6F-AED2-C3FEEF33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E9F-1175-42D8-A2A3-771830A5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B89-15EB-4C85-96E0-E167CAC8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596-6A57-4A8F-B62F-96B1C4A4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A74-3BC2-42AF-A888-ECB65B5C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6D2-6B05-4E11-B4AD-CA514A82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A3E-9EB6-474D-B0EF-4EB805E5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22F-C625-4DDD-97C9-1F764956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D6E8-C5A2-424D-AE03-A3E3DC1FB9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f801a"/>
                </a:solidFill>
                <a:latin typeface="Arial"/>
              </a:rPr>
              <a:t>Философия Древней Греции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49" name="Picture 4" descr="Парфенон1"/>
          <p:cNvPicPr/>
          <p:nvPr/>
        </p:nvPicPr>
        <p:blipFill>
          <a:blip r:embed="rId1"/>
          <a:stretch/>
        </p:blipFill>
        <p:spPr>
          <a:xfrm>
            <a:off x="1981080" y="2666880"/>
            <a:ext cx="4534200" cy="36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16292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Космоцентризм античной философии</a:t>
            </a:r>
            <a:endParaRPr b="0" lang="en-US" sz="28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</a:rPr>
              <a:t>Космоцентриз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вляется основной характерной чертой античной философии (особенно на первом этапе её развития). Все силы эллинской философии направлены на постижение космоса и включённых в него явл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я эволюция мироздания представлялась переходом от хаоса как неупорядоченного состояния вселенной к космосу. Космос понимался в качестве некоего упорядоченного мирового целого, противоположного бесформенному доисторическому хаос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смос мыслился как абсолют, включающий в себя всё мироздание. Боги также входили в состав космоса, фюзиса подчинялись его законам. Считалось, что человеческое общество также подчиняется законам космоса, не отделяется от природы - источника нравственных нор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смос представлялся высшим эстетическим совершенством, воплощением наивысшей красоты. Космос, по представлениям античных философов, был конечным, обладая самой совершенной формой - сферичес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космоцентризмом связан и глубинный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</a:rPr>
              <a:t>онтологиз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нтичной философии. Это прежде всего признание бытия мира независимого от нашего сознания в качестве предпосылки нашего мышления об этом мире</a:t>
            </a:r>
            <a:r>
              <a:rPr b="0" lang="ru-RU" sz="1800" spc="-1" strike="noStrike">
                <a:solidFill>
                  <a:srgbClr val="005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ceaae"/>
                </a:solidFill>
                <a:latin typeface="Arial"/>
              </a:rPr>
              <a:t>Милетская школа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еческая философия зарождается в торговом городе Милете, на западном побережье Малой Аз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этом городе появляются философ </a:t>
            </a:r>
            <a:r>
              <a:rPr b="0" i="1" lang="ru-RU" sz="3200" spc="-1" strike="noStrike">
                <a:solidFill>
                  <a:srgbClr val="ffffcc"/>
                </a:solidFill>
                <a:latin typeface="Arial"/>
              </a:rPr>
              <a:t>Фале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затем </a:t>
            </a:r>
            <a:r>
              <a:rPr b="0" i="1" lang="ru-RU" sz="3200" spc="-1" strike="noStrike">
                <a:solidFill>
                  <a:srgbClr val="ffffcc"/>
                </a:solidFill>
                <a:latin typeface="Arial"/>
              </a:rPr>
              <a:t>Анаксимандр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3200" spc="-1" strike="noStrike">
                <a:solidFill>
                  <a:srgbClr val="ffffcc"/>
                </a:solidFill>
                <a:latin typeface="Arial"/>
              </a:rPr>
              <a:t>Анаксим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их трех философов обычно объединяют под общим названием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илетской школ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193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алес</a:t>
            </a: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илетский</a:t>
            </a: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7 - 6 вв. до н. 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62520" y="1752480"/>
            <a:ext cx="4952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оположник милетской школы философии; стихийный материалист, включался античными авторами в число знаменитых семи мудрец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читается первым греческим философом, поскольку первым начал размышлять о природе (фюзисе) и прибегать к доказательству своих полож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м поставил проблему архе (первоначала), из которого всё происходит; Фалес таким началом считал в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тверждал, что всё имеет душу, приводящую тела в дви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м из греков предсказал солнечное затмение 585 г. до . н. 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1295280" y="1828800"/>
          <a:ext cx="2660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2660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Фалес Милетский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лес был не только первым философом, но и первым уче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н первы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 доказывать геометрические положения в качестве теорем, логически выводя их из исходных допущений. Многие геометрические положения были уже известны, но они воспринимались больше как правила для решения задач по измерению участков. Они не доказывались и не обосновывались умозрительным путем. Фалес же начал впервые логически их доказы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 точно определять время по солнечным час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рил египетские пирамиды по их тени, определив момент, когда наша тень равна нашему рост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Философия Фалеса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Фалеса начинается поиск первоосновы всего, что существует. Эта первооснова по-гречески называлась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архé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поиск архе? Высшая цель – познание окружающего мира. Но познать можно лишь что-то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остоянное и неизменно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Невозможно познавать то, что постоянно меняется и становится другим. Но окружающий мир и есть то, что постоянно становится другим. Все изменяется во времени и в пространстве, один и тот же предмет различными людьми воспринимается по-разному, даже один и тот же человек в разное время воспринимает один и тот же предмет различным способом. Как же вообще можно что-то позн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лес приходит к выводу, что, конечно же, мир постоянно меняется и становится другим, но в своей первооснове остается тем же самым. И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в качестве сохраняющейся первоосновы мира он назвал </a:t>
            </a:r>
            <a:r>
              <a:rPr b="0" i="1" lang="ru-RU" sz="1800" spc="-1" strike="noStrike">
                <a:solidFill>
                  <a:srgbClr val="ffffcc"/>
                </a:solidFill>
                <a:latin typeface="Arial"/>
              </a:rPr>
              <a:t>воду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леса: “Все есть вода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лес считал, что вода является не только носителем жизни, но и носителем одушевленности.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Вода все одухотворяет, являясь душой всего сущ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Философия Фалеса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ение Фалеса о воде как первоначале выражает 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три важнейшие иде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-первых, оно подчеркивает материальную основу всех вещ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-вторых, оно есть попытка рационального решения вопроса о первооснове всего без ссылок на мифы и мистические представ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-третьих, оно означает возможность понять мир на основе одного исходного принцип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ceaae"/>
                </a:solidFill>
                <a:latin typeface="Georgia"/>
              </a:rPr>
              <a:t>Анаксимандр</a:t>
            </a: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 (610 - 546 гг. до н. 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914400" y="1600200"/>
          <a:ext cx="35593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3559320" cy="4876920"/>
                  </a:xfrm>
                  <a:prstGeom prst="rect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76560" y="1676520"/>
            <a:ext cx="380988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Анаксимандр Милетск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представитель милетской школы. Ученик Фалеса, автор сочинения "О природе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ащее в основе всех вещей первоначало не сводил ни к одной из стихий.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н назвал его «апейрон» (беспредельное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 некое бескачественное начало мироздания порождает стихии, из которых в свою очередь образуются ве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 объекты возникли из апейрона (материи) и должны рано или поздно в него верну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ксимандр первый предположил, что человек появился в результате эволюции от органических существ другого ви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Апейрон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Анаксимандр вводит в качестве архе </a:t>
            </a:r>
            <a:r>
              <a:rPr b="1" i="1" lang="ru-RU" sz="1600" spc="-1" strike="noStrike">
                <a:solidFill>
                  <a:srgbClr val="ffffcc"/>
                </a:solidFill>
                <a:latin typeface="Arial"/>
              </a:rPr>
              <a:t>апейро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Апейрон переводится буквально как неопределенное, безграничное, бесконечное, т.е. отрицание всего определенного. Эту чистую неопределенность и, следовательно, отсутствие каких-либо конкретных свойств невозможно воспринять органами чувств – увидеть, услышать, ощутить, ее можно лишь мыслит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пейрон есть не чувственная, но умопостигаемая реальность. Из этой умопостигаемой реальности возникают все конкретные чувственные вещи и явл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 работ Анаксимандра сохранилась фраза: </a:t>
            </a: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“Из каких начал вещам рождение, в те же самые и гибель совершается по роковой задолженности, ибо они выплачивают друг другу возмещение ущерба в назначенный срок времени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этом фрагменте можно выделить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ве мысл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ctr">
              <a:spcBef>
                <a:spcPts val="400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ая – все вещи порождаются из того же начала, в которое затем обратно переходя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ctr">
              <a:spcBef>
                <a:spcPts val="400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торое – гибель вещей есть наказание за тот ущерб, который они причинили своим рождением. Здесь интересно соединение природного и морального: возникновение вещей из первоначала влечет наказание через их гибель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ождение есть причина гибел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Анаксимен (6 в. до н. э.)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к Анаксимандра, автор сочинения «О природе», последний известный представитель милетской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тказался от идеи апейрона и рассматривал в качестве первоначала воздух, который сгущаясь, образует все объект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читал, что воздух не создан богами, а сами боги состоят из воздух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ышлял по проблемам астрономии и метеорологии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На первый взгляд, философия милетцев давала удовлетворительное объяснение явлений окружающего мира через изменение архе – воды, или апейрона, или воздуха. Но вскоре в ней были обнаружены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противоречия.</a:t>
            </a:r>
            <a:endParaRPr b="0" lang="en-US" sz="2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хе, или первоначало, есть нечто неизменное и постоянное.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И в то же время оно превращается в разнообразные вещи, следовательно, меняетс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же оно в таком случае отличается от обычных вещей и явлений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начит, не такое уж оно первоначал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другой стороны, что же заставляет архе порождать из себя вещи окружающего мир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очему возникают именно эти вещи, а не други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овательно, должно существовать еще одно начало, которое воздействует на архе и заставляет его изменять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Содержание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новление Античной философ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иодизация античной филосо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сократический пери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ннегреческая натурфилософ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ом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ический пери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ятивизм софис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ический идеализм Сокр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ратические шк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лософская система Плат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лософская система Аристо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ллинистический пери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пикуре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оиц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Чтобы устранить эти противоречия, необходимо было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бо признать, что нет вообще ничего постоянного и неизменного в мире, а есть лишь текучий, вечно изменяющийся мир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остоянное архе есть порождение человеческого у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первому пути пошел философ из города Эфеса – Геракл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бо признать истинной реальностью постоянное и неизменное архе, а изменчивость мира объявить иллюзией, порождаемой человеческими органами чув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второму пути пошли так называемые элейцы, философы из греческого города-колонии Элея в южной Италии, среди них мы рассмотрим идеи Парменида и Зен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Гераклит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Эфесский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(6 в. до н. 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0" y="1981080"/>
          <a:ext cx="3697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3697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33920" y="0"/>
            <a:ext cx="5410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Стихийный материалист и диалектик. Жил в ионийском городе Эфесе. Происходил из царского рода, но отказался стать правите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Написал сочинение «О природ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За неясность изложения прозван «Тёмным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Считал, что всё произошло из огня и что мир не создан никем из богов и никем из людей. Мир есть вечно живой огонь мерами разгорающийся и мерами угасающ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вёл понятие «логос», обозначив им космический закон, управляющий мирозданием. Гераклит мыслил логос как чистейший, беспримесный огонь, пронизывающий все мироздание и придающий ему разумность. Души людей разумны, поскольку состоят из чистого огн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Является создателем первой диалектической картины мироздания, согласно которой «всё течёт», непрерывно изменяется. Движущей силой развития считал противоречия (войну, раздор). Утверждал относительность всех качест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ОГОНЬ               ЛОГОС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 качестве арх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Гераклит рассматривал </a:t>
            </a:r>
            <a:r>
              <a:rPr b="0" i="1" lang="ru-RU" sz="2000" spc="-1" strike="noStrike">
                <a:solidFill>
                  <a:srgbClr val="ffffcc"/>
                </a:solidFill>
                <a:latin typeface="Arial"/>
              </a:rPr>
              <a:t>огон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существует лишь в изменени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в конце концов превращается в огонь, и все возникает из огня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выдвинул знаменитое положение: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“Все течет”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тверждал, что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нельзя дважды войти в одну и ту же реку. В ту же реку вступаем и не вступае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дно и то же противоположно самому себ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так, мир изменчив, в его основе лежит огонь, как нечто текучее и непостоя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о же время Гераклит говорит и о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постоянств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р есть огонь, который вспыхивает и угасает, но в этих вспышках мирового огня есть мера и ритм, есть зак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т ритм, меру, закон Гераклит называет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Логос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юди занимаются своими делами, думая, что от них что-то зависит; они не понимают, что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миром правит Логос, который не зависит ни от чьей воли </a:t>
            </a:r>
            <a:r>
              <a:rPr b="0" lang="ru-RU" sz="2000" spc="-1" strike="noStrike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ни человеческой, ни божеств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Все течет все изменяется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изменный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Логос проступает через изменчивость ми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тавим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Мор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 одна капля в этих струях воды не находится в покое, и само оно постоянно меняет свою форм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этот ритм изменений постоянен и неизмене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мир в целом, мировой огонь мерами вспыхивает и угасает по объективному закону-Логос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И назначение философа состоит в том, чтобы постигать Логос и через это знать истин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53330346"/>
          <p:cNvPicPr/>
          <p:nvPr/>
        </p:nvPicPr>
        <p:blipFill>
          <a:blip r:embed="rId1"/>
          <a:stretch/>
        </p:blipFill>
        <p:spPr>
          <a:xfrm>
            <a:off x="380880" y="2514600"/>
            <a:ext cx="4194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Гераклита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меняется само понимание того, что остается тем же самым при всех изменениях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ечь идет уже не о той или иной вещественной субстанции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ода, воздух и т.д., но о мере, закономерности, ритме, т.е. количественном соотнош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просматривается связь с 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ифагорейц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оторые усматривали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снову мира в числовых закономерностя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228960" y="304560"/>
            <a:ext cx="4800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Пифагор Самосский</a:t>
            </a:r>
            <a:br>
              <a:rPr sz="3600"/>
            </a:b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 (6 в. до н. 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808440" cy="4116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66720" y="0"/>
            <a:ext cx="487692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евнегреческий философ и математик, основоположник пифагореизма; по преданию, изобрёл слово «философи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л в южной Италии, там основывает свою школу и «Пифагорейский союз», активно участвующий в духовной и политической жизни городов «Великой Гре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читал, что в основе мироздания лежат числа, определяющие структуру и качества вещей. Обожествляя числа, приписывал им магическую силу. Вещи же есть подражания числ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л о гармонии небесных сфер, музыку которой он якобы слыша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агал, что в мире происходит взаимодействие противоположных нача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ил в бессмертие души и её посмертное переселение в другие тел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ceaae"/>
                </a:solidFill>
                <a:latin typeface="Arial"/>
              </a:rPr>
              <a:t>Ксенофан Колофонский (570 - 478 гг. до н. э.)</a:t>
            </a: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сходил из Ионии, но затем переехал в южную Италию, был странствующим певцом-поэтом, аккомпанирующем себе на лире (рапсодом). Сочинения были написаны в художественной стихотворной форме. Считается основоположником элейской школы философии и учителем Пармени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м из греческих мыслителей развернул острую критику антропоморфизма традиционной эллинской религии. Все изображённые в поэмах Гомера и Гесиода «боги» изобретены людьми, которые приписали им свои физические черты и нравственные поро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им образом, Ксенофан первым выдвинул мысль о том, что сами люди творят богов по своему образу и подобию. Развивая эту мысль, он заявляет, что если бы животные имели руки и могли бы рисовать, они изобразили бы своих богов в свойственном себе обли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сенофан также является первым в европейской философии монотеистом и пантеистом. Он утверждает, что Бог один и этот Бог совпадает с космосом, природой. Бог имеет сферическую форму. Этот шарообразный Бог чувствует и мысл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щее, совпадающее с Богом, едино, вечно и неизменяемо. Позже эти идеи были развиты другими философами элейской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ceaae"/>
                </a:solidFill>
                <a:latin typeface="Arial"/>
              </a:rPr>
              <a:t>Парменид (кон. 6 - нач. 5 вв. до н. э.)</a:t>
            </a:r>
            <a:endParaRPr b="0" lang="en-US" sz="32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0" y="1905120"/>
          <a:ext cx="3057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3057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23720" y="914400"/>
            <a:ext cx="5915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сновоположник элейской школы филосо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исал поэму «О природ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первые в европейской философии поставил проблему бытия. Утверждал, что бытие существует, но никакого небытия нет, так как его нельзя помыслить и выразить в язы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й высказал предположение, что картина мира, открывающаяся чувствам, не тождественна имеющемуся в объективной действительности. С помощью чувств можно составить лишь мнение, истинное же знание мы получаем с помощью разума. Таким образом,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арменид - первый рационал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ижение и множественность вещей есть лишь иллюзия наших чувств, в мире «по истине» нет никакого движения и множественности. Всё едино и неподвижно. Бытие представлял в виде гигантского шара. Утверждая неподвижность бытия,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арменид является основоположником метафизики как противоположности диалектик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“</a:t>
            </a: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Бытие есть и не может не быть; небытия нет и не может быть”. 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ктически - это тавтологии, если под бытием понимать существование: существует только существующее, а несуществующее не существу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Но небытие означает отсутствие чего-либо, т.е. ничто, или пустот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Следовательно, необходимо признать, что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уществование пустоты невозмож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 только одно сплошное неподвижное бытие. Сплошное, потому что нет пустоты. И неподвижное, потому что для перемещения чего-либо необходима опять же пустота, ведь переместиться можно лишь туда, где место не занято, но пустоты же, как доказано, н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овательно,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нет и не может быть никаких различий, в том числе и между мыслью и тем, о чем эта мысл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менид : “Одно и то же: мышление и то, о чем мысль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Бытие не имеет прошедшего, ибо прошлое – то, чего уже нет, бытие не имеет и будущего, ибо его еще нет, бытие есть вечное настоящее без начала и конц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eaae"/>
                </a:solidFill>
                <a:latin typeface="Arial"/>
              </a:rPr>
              <a:t>нельзя говорить о мире как о многообразии отличающихся друг от друга явлений и вещей в пространстве и во времени. </a:t>
            </a:r>
            <a:br>
              <a:rPr sz="1600"/>
            </a:br>
            <a:r>
              <a:rPr b="1" lang="ru-RU" sz="2000" spc="-1" strike="noStrike">
                <a:solidFill>
                  <a:srgbClr val="dceaae"/>
                </a:solidFill>
                <a:latin typeface="Arial"/>
              </a:rPr>
              <a:t>Мир есть единое, сплошное, неподвижное</a:t>
            </a:r>
            <a:br>
              <a:rPr sz="2000"/>
            </a:b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разнокачественное многообразие движущегося мира, который перед нами, есть иллюзия, порожденная нашими органами чувств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dceaae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уждения Парменида ввергли его современников в недоумение, так как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авили под вопрос их собственное существование как конкретных, отличающихся друг от друга людей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живущих во времени в конкретном месте.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ни не могли согласиться быть иллюзией собственных органов чувст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азательство должно опираться на логику, так как чувства нас могут обманывать.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Мало ли что мы видим с очевидностью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пример, мы с очевидностью видим, что солнце движется по небу вокруг земли, но на самом-то деле земля движется вокруг солнца, а это противоречит тому, что мы видим с очевидност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ceaae"/>
                </a:solidFill>
                <a:latin typeface="Arial"/>
              </a:rPr>
              <a:t>Возникновение греческой философии.</a:t>
            </a: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реческая философия как особое духовное явление возникает в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толетиях до н. э. в греческих городах-колониях на побережье Малой Азии. Это города Милет, Эфес, Клазомены. Эти города были перекрестками морских торговых путей и точками, в которых соприкасались различные культуры того период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рода богатели, и появились люди, свободные от повседневных нужд. А известно, что наличие свободного времени у достаточно большого слоя людей является одним из условий развития искусства, науки и философ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другой стороны, была возможность сравнивать мировоззрения, традиции и обычаи, религиозные верования различных культу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зникал вопрос, какими же должны быть истинные верования и нормы? И можно ли вообще говорить об истинных и ложных ценностях? Все это приводило к вопросу, с которого начинается философия, – что есть истин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прос об истине и, следовательно, философия возникают тогда, когда обнаруживается, что можно мыслить иначе и верить в ино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02"/>
          <p:cNvPicPr/>
          <p:nvPr/>
        </p:nvPicPr>
        <p:blipFill>
          <a:blip r:embed="rId1"/>
          <a:srcRect l="0" t="10651" r="0" b="0"/>
          <a:stretch/>
        </p:blipFill>
        <p:spPr>
          <a:xfrm>
            <a:off x="301680" y="2647800"/>
            <a:ext cx="4194000" cy="2814840"/>
          </a:xfrm>
          <a:prstGeom prst="rect">
            <a:avLst/>
          </a:prstGeom>
          <a:ln w="38160">
            <a:solidFill>
              <a:srgbClr val="005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Зенон Элейский (нач. 5 в. до н. 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1676520"/>
          <a:ext cx="403056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0305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266720" y="1066320"/>
            <a:ext cx="4876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к Парменида,  от его сочинений сохранились лишь отдельные фрагмен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читается основоположником субъективной диалектики как искусства доказательства и сп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ои доказательства строил «от противног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тель знаменитых апорий, направленных на опровержение возможности помыслить движение и множественность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амые известные из них: «Дихотомия» (деление пополам), «Летящая стрела», «Стадион», «Ахиллес и черепах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гиб в борьбе с тиранией, проявив личное муже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ceaae"/>
                </a:solidFill>
                <a:latin typeface="Arial"/>
              </a:rPr>
              <a:t>Философия Зенона</a:t>
            </a:r>
            <a:endParaRPr b="0" lang="en-US" sz="2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Зено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строил целую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истему логических доказательств того, что движение невозможно мыслить как что-то реаль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доказывал, что допущение реальности движения приводит к противоречиям, а противоречие есть признак заблуждения. В логике такой ход мысли называется опровержением через сведение к абсур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нон выдвигает так называемые апории, т.е. затруднения, в которые мы попадаем, допустив, что движение е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Три апории Зенона: “стрела”, “Ахиллес и черепаха” и “дихотомия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eaae"/>
                </a:solidFill>
                <a:latin typeface="Arial"/>
              </a:rPr>
              <a:t>Философия Зенона</a:t>
            </a:r>
            <a:endParaRPr b="0" lang="en-US" sz="28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нон считал, что своими апориями он доказал немыслимость движения и, следовательно, его невозможность. На самом деле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н открыл противоречивую природу любого движения, которое включает в себя собственную противоположность, т.е. покой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рытия Зенона подтверждает современная квантовая механика, которая вынуждена приписывать элементарным частицам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электрону, протону, нейтрону и т.д.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заимоисключающие корпускулярные и волновые свой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еческая мысль не могла остановиться на утверждении иллюзорности конкретного, чувственного мира.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Необходимо было вернуть миру реальность и в то же время согласовать реальность чувственного мира с идеями элейцев о быти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анную проблему реши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мокрит учением об атомах и пусто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ceaae"/>
                </a:solidFill>
                <a:latin typeface="Arial"/>
              </a:rPr>
              <a:t>Демокрит</a:t>
            </a:r>
            <a:br>
              <a:rPr sz="3200"/>
            </a:br>
            <a:r>
              <a:rPr b="0" lang="ru-RU" sz="2800" spc="-1" strike="noStrike">
                <a:solidFill>
                  <a:srgbClr val="dceaae"/>
                </a:solidFill>
                <a:latin typeface="Arial"/>
              </a:rPr>
              <a:t>(460 - 370 гг. до н. э.)</a:t>
            </a:r>
            <a:endParaRPr b="0" lang="en-US" sz="28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57600" y="0"/>
            <a:ext cx="5486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евнегреческий философ, один из основоположников античного атомизма (наряду с Левкиппом). Родился в Абдер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му принадлежали сочинения «Большой мирострой» и «Малый мирострой». Впервые вводит понятия «микрокосм» (вселенная) и «макрокосм» (человек), которые подобны друг дру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л, что все тела составлены из мельчайших неделимых бескачественных частиц - атомов, различающихся формой, порядком и положением. Допускал наличие небытия в качестве пуст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первые ввёл проблему первичных (форма, объём) и вторичных (цвет, вкус, запах) качеств вещей. Считал, что вещам присущи лишь первичные качества, а вторичные возникают в субъекте под влиянием тех или иных первичных качеств объ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гносеологии отдавал предпочтение рациональному познанию, называя чувственное познание «тёмным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л о всеобщей причинной обусловленности, ведущей к фатализму; цель познания - дать причинное объяснение я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тверждал, что душа состоит из атомов; боги также не более чем видения, состоящие из лёгких атом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3571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eaae"/>
                </a:solidFill>
                <a:latin typeface="Arial"/>
              </a:rPr>
              <a:t>Демокриту характерна преданность научному познанию.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«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за познание одной причинной связи я отдал бы персидский престол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ть легенда, что в старости Демокрит велел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слепить себя, чтобы зрение не отвлекало его от умопостигаемой сути вещ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мокрита называли смеющимся философом, так как он не мог выйти из дому без смеха,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глядя, какими пустяками на полном серьезе занимаются люд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ьший интерес представляет е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учение об атомах и пустот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учение о необходим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и теория позн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ceaae"/>
                </a:solidFill>
                <a:latin typeface="Arial"/>
              </a:rPr>
              <a:t>Учение об атомах и пустоте</a:t>
            </a: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крит соглашается с Парменидом, что мир есть единое и сплошное бытие. Но в то же время он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ризнает существование небытия в виде пустот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если существует пустота, то она должна как бы расколоть единое сплошное бытие на части.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оэтому существует множество единых, сплошных, неизменных мелких бытий, далее неделимых, т.е. атом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Атом на греческом языке означает ‘неделимое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омы отличаются формой, положением и величиной, они движутся вихреобразно в пустоте и соединяются в вещи и миры подобно тому, как буквы складываются в сл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зультате введения пустоты и атомов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Демокрит вернул реальность миру чувственных вещей: они оказываются так же реальны, как и атомы, из которых они состоя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оказательство того, что существуют атомы, Демокрит снова ссылается на факты. Монеты и каменные ступени истираются с годами, влажное пятно высыхает постепенно. Это говорит о том, что они состоят из мельчайших части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ceaae"/>
                </a:solidFill>
                <a:latin typeface="Arial"/>
              </a:rPr>
              <a:t>Учение о необходимости</a:t>
            </a: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Демокриту, атомы, двигаясь вихреобразно, складываются в миры, и на этом этапе действует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случа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о после того как мир возник, в нем начинают действовать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законы необходимости и причинные связ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 считаем, что нечто произошло случайно, лишь потому, что не знаем причин события. Поэтому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случайность на деле есть нечто кажущеес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днако признание, что существует только необходимость, а случайность лишь кажущаяся, приводит к трудностям. </a:t>
            </a: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Если все </a:t>
            </a:r>
            <a:r>
              <a:rPr b="1" i="1" lang="ru-RU" sz="1600" spc="-1" strike="noStrike">
                <a:solidFill>
                  <a:srgbClr val="ffffcc"/>
                </a:solidFill>
                <a:latin typeface="Arial"/>
              </a:rPr>
              <a:t>одинаково</a:t>
            </a: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 необходимо, то тем самым приравниваются по значимости события, которые заведомо неодинаково значимы и необходим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 пониманию того, что каждое событие есть единство необходимости и случайности и что случайность так же объективна, как необходимость, философия придет лишь в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веке, т.е. через два с лишним тысячелетия после Демокри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ceaae"/>
                </a:solidFill>
                <a:latin typeface="Arial"/>
              </a:rPr>
              <a:t>Теория познания</a:t>
            </a:r>
            <a:r>
              <a:rPr b="1" lang="ru-RU" sz="3200" spc="-1" strike="noStrike">
                <a:solidFill>
                  <a:srgbClr val="dceaae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dceaae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000" spc="-1" strike="noStrike">
                <a:solidFill>
                  <a:srgbClr val="dceaae"/>
                </a:solidFill>
                <a:latin typeface="Arial"/>
              </a:rPr>
              <a:t>Демокрит различает два вида знания: 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знание-мнение  и знание - истину </a:t>
            </a:r>
            <a:br>
              <a:rPr sz="2000"/>
            </a:br>
            <a:endParaRPr b="0" lang="en-US" sz="2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знание-м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ние-мнение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это знание о мире,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которое мы получаем на основе органов чувств: зрения, слуха, обоняния, осязания и т.д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Это знание зависит не только от свойств вещей, но и от устройства наших органов чувст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знание – исти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ние-истина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это знание о мире,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которое мы получаем на основе ума, логики, рассуждений. Это умопостигаемое знание о мире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Ум у всех людей один, и он дает знание того, что есть в действительности, т.е. истину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ceaae"/>
                </a:solidFill>
                <a:latin typeface="Arial"/>
              </a:rPr>
              <a:t>Демокрит: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“Только во мнении существуют цвета, звуки, сладкое и т.п., по истине же существуют лишь атомы и пустота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”.</a:t>
            </a: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мокрит закладывает основы научного познания мира, которое сводит все качества мира к свойствам атомов, к тому, что можно измерить, выразить через количество и геометрическую форм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ир обесцвечивается, становится менее человеческим. Но это как раз и отличает научное описание мира, которое радугу сводит к преломлению света в невидимых мельчайших каплях воды, взвешенных в атмосфере, а видимое движение солнца по небосклону 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 неощутимому вращению земли вокруг ос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ceaae"/>
                </a:solidFill>
                <a:latin typeface="Arial"/>
              </a:rPr>
              <a:t>Гиппократ (ок. 460 - ок. 370 гг. до н. э.)</a:t>
            </a:r>
            <a:endParaRPr b="0" lang="en-US" sz="32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еческий врач из семьи потомственных врачей, ведущих своё происхождение от бога врачевания Асклепия. Считается основоположником научной медицины. Ему приписывается так наз. «Корпус Гиппократа», состоящий из 58 сочинений, однако нельзя в точности установить, какие сочинения написаны самим Гиппократом, а какие - его последова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деятельностью Гиппократа связывается переход от религиозно-мистических представлений о процессах, связанных со здоровьем и болезнями человека к их рациональному объяснению. Гиппократ считал, что болезни не посланы богами, а обусловлены естественными причинами, влиянием окружающего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ье человека покоится на правильном сочетании 4 телесных соков (крови, мокроты, жёлтой и чёрной желчи), соответствующих 4 стихиям. Нарушение этого сочетания означает болезнь, по прошествии которой благодаря процессам в крови восстанавливается правильное сочетание соков (здоровье). Медицина Гиппократа основывается на понимании аналогии и параллелизма процессов в макрокосме (вселенной) и микрокосме (человек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а необходимо лечить естественным путём, мобилизацией сил организма больного для восстановления здоровья (диета, физические нагрузки и естественные снадобь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пократом были разработаны начала врачебной этики в отношении пациентов, принятой и в наши дни в качестве основы поведения врача. Всё это находит отражение в так называемой «клятве Гиппократа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dcea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В отличие от других культур в Греции формируется особая установка или особый тип отношения к знанию. Другие народы в своем познании окружающего мира преследовали прежде всего </a:t>
            </a:r>
            <a:r>
              <a:rPr b="0" lang="ru-RU" sz="2000" spc="-1" strike="noStrike">
                <a:solidFill>
                  <a:srgbClr val="6f801a"/>
                </a:solidFill>
                <a:latin typeface="Arial"/>
              </a:rPr>
              <a:t>практические цели</a:t>
            </a: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6f801a"/>
                </a:solidFill>
                <a:latin typeface="Arial"/>
              </a:rPr>
              <a:t>Познавали ради жизненных потребностей</a:t>
            </a: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Кита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знание было подчинено обслуживанию государственных интерес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авилон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нание обслуживало интересы религиозного куль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Древнем Египт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а очень развита геометрия, но и здесь знание было подчинено сугубо практическим целя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000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в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Гре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чали познавать ради самого позн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о время как другие народы познавали, чтобы жить, греки жили, чтобы познав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ние было самоцел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лософия возникает не из нужды, а из удивл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d9eca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Софисты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оначально словом «софист» («мудрец») в Греции обозначали людей, сведущих в какой-либо области знания, мастерстве. С середины 5 в. до н.э. софистами стали называть учителей красноречия и философии, зарабатывавших преподаванием и изготовлением речей на зак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фистов подразделяют на старших (Протагор, Горгий, Продик и др.) и младших (Критий, Фрасимах и др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Софист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ояли у истока антропологического поворота в античной философии. Главным объектом исследования софистов стал мир человека, общества и культуры, который начал ими выделяться из мира природы. Софисты вводят противопоставление того, что существует «по природе» (и, следовательно, не может быть произвольно изменено человеком) , и существующего «по установлению», договору между людь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софистов характерно критическое отношение к традиционному укладу жизни, традициям, обычаям, религии. Всё это может быть изменено в соответствии с новыми потребностями лю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учи первыми последовательными представителями субъективного идеализма, софисты отрицали наличие объективного бытия и возможность его познания. Софисты также настаивали на относительности (релятивизме) нравственных и эстетических оце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воей устной деятельности и сочинениях софисты, стремясь не к истине, а к убедительности, использовали софизмы - эффектные, но логически неправильные умозаклю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фисты внесли значительный вклад в развитие гуманитарных наук: риторики, филологии, учения об обществе и т. д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000"/>
                </a:solidFill>
                <a:latin typeface="Arial"/>
              </a:rPr>
              <a:t>Протагор (480 - 410 гг. до н.э.)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244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ин из самых известных софистов. Из его сочинений «Ниспровергающие речи» и «О богах» до нас дошли лишь фрагмен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Первый яркий представитель субъективного идеализма в истории философ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Знаменито высказывание Протагора: </a:t>
            </a:r>
            <a:r>
              <a:rPr b="1" lang="ru-RU" sz="1800" spc="-1" strike="noStrike">
                <a:solidFill>
                  <a:srgbClr val="dceaae"/>
                </a:solidFill>
                <a:latin typeface="Arial"/>
              </a:rPr>
              <a:t>«Человек есть мера всех вещей: существующих, что они существуют, и не существующих, что они не существуют»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аким образом, именно человек (субъект) является критерием достоверности всех явлений и каче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ё являющееся человеку истинно. Из двух противоположных мнений истинными являются оба, но лишь в отношении к породившему их сознанию. То есть все воззрения следует считать истинными и относительными. </a:t>
            </a: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Объективное познание мира недостижимо, возможно лишь мнение. Вся действительность зависит от чувственного восприятия человеком. Таким образом воззрения Протагора близки к агностициз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тношении к бытию богов Протагор проявлял скептицизм: «О богах я не могу знать, есть ли они, нет ли их, потому что слишком многое препятствует такому знанию - и неясность вопроса и краткость жизни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чинение Протагора «О богах» было осуждено афинским ареопагом к сожжению, а сам Протагор изгнан из Афин и погиб при кораблекрушени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крат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470 - 399 гг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о н. 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0" y="2895480"/>
            <a:ext cx="3174840" cy="3429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00400" y="0"/>
            <a:ext cx="5943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евнегреческий философ, жил в Афинах; не оставил после себя ни одного сочинения.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 жизни и взглядах Сократа известно из произведений его учеников Платона и Ксенофон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читал бесполезными занятия естествознанием, поскольку природа ничему не может научить;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человек - главный предмет философствования Сокр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вые высказал мысль о том, что наиболее точное знание есть знание, выраженное в понят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тличие от софистов отрицал относительный характер истины и других духовных ценностей. Верил, что зло есть лишь результат незнания сущности благ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ою деятельность сравнивал с ремеслом повитухи, помогающей родить (в данном случае - родить истину). Для философствования Сократа также характерна иронич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т сказал о себе: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«Я знаю только то, что ничего не знаю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 осуждён афинским судом за развращение молодёжи и придумывание новых богов. По приговору суда выпил чашу с я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ын скульптора. Был оригинальной личностью. Ходил и зимой и летом босиком в драном плаще, не занимался хозяйством, был безразличен к богатству. Не оставил письменных трактатов по философии, так как считал, что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философия существует в живом диалоге, непосредственно в реч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мог остановить человека посреди площади и спросить: скажи, о Гиппий, что такое прекрасное как таковое? Начиналась беседа, в которой выяснялось, что прекрасное как таковое отличается от прекрасной девушки, прекрасной кобылицы, прекрасных похорон родителей, прекрасной статуи из золота и т.д.,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но есть отвлеченная идея, сопричастность к которой делает конкретную вещь прекрасн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сто эти диалоги не приводили ни к чему определенному, однако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ни подготавливали открытие реальности, которой, начиная с Платона, будет заниматься вся последующая философ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круг Сократа сложился круг блестящих молодых людей, влюбленных в беседы с ним, он приобрел большую известность и духовный авторитет. Власти обвинили его в выдумывании новых религий и развращении молодежи новыми идеями. Сократ был приговорен к смертной казни, выпил чашу с цикуто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крат произвел так называемый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нтропоцентристк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воро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греческой философ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поставил в центр философии человека и человеческие проблемы. Непосредственно мы воспринимаем лишь самих себя, свой внутренний мир, свои мысли, свои идеи. Поэтому мы должны познавать прежде всего самих себя. Сократ выдвигает принцип “Познай самого себя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Платон в диалоге “Федон” описывает последний день Сократа в тюрьме. Сократ в окружении друзей с утра до вечера непринужденно излагает аргументы в пользу бессмертия души и разъясняет, что жизнь философа состоит в подготовке к смерти.</a:t>
            </a:r>
            <a:endParaRPr b="0" lang="en-US" sz="2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57800" y="1676160"/>
            <a:ext cx="36482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рть Сократа (Давид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Настоящий философ должен радоваться смерти, потому что после смерти душа, освободившись от чувственности, искажающей познание мира, может наконец-то насладиться созерцанием чистой ист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14" descr="nb_pinacoteca_david_the_death_of_socrates"/>
          <p:cNvPicPr/>
          <p:nvPr/>
        </p:nvPicPr>
        <p:blipFill>
          <a:blip r:embed="rId1"/>
          <a:stretch/>
        </p:blipFill>
        <p:spPr>
          <a:xfrm>
            <a:off x="152280" y="1752480"/>
            <a:ext cx="4954680" cy="3229200"/>
          </a:xfrm>
          <a:prstGeom prst="rect">
            <a:avLst/>
          </a:prstGeom>
          <a:ln w="50760">
            <a:solidFill>
              <a:srgbClr val="005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е: Сократ выдвигает принцип, который позднее получил название </a:t>
            </a: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рационалистической эти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.е. этики, основанной на рацио, разуме. Согласно ему, люди поступают несправедливо не сознательно, но по незнанию того, что такое истинная справедливость. Люди совершают злые поступки, так как не знают, в чем состоит истинное добро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</a:t>
            </a: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нание добра тождественно быть добрым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этом состоит рационализм сократовской эт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лько 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е философия открывает, что человек сознательно может хотеть зла, даже зная, в чем заключается добр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 хочет жить по собственному капризу, а не по таблице умножения. С этого открытия начинается неклассическая философия (Серен Киркегор, Фридрих Ницше, Федор Достоевск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е. Выработка </a:t>
            </a:r>
            <a:r>
              <a:rPr b="0" i="1" lang="ru-RU" sz="2000" spc="-1" strike="noStrike">
                <a:solidFill>
                  <a:srgbClr val="ffffcc"/>
                </a:solidFill>
                <a:latin typeface="Arial"/>
              </a:rPr>
              <a:t>метода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получения </a:t>
            </a:r>
            <a:r>
              <a:rPr b="0" i="1" lang="ru-RU" sz="2000" spc="-1" strike="noStrike">
                <a:solidFill>
                  <a:srgbClr val="ffffcc"/>
                </a:solidFill>
                <a:latin typeface="Arial"/>
              </a:rPr>
              <a:t>общезначимого, объективного знания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людей о самих себ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юди заблуждаются относительно самих себя, потому что руководствуются знанием-мнением. Мнения же всегда случайны, они зависят от обстоятельст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о же время в каждом человеке имеется некое ядро, одинаковое у всех; люди в глубине своей тождественны, и любой человек на этой глубине обладает объективным знанием-исти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Я знаю, что я ничего не знаю”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т выдвигает метод выхода на Я, знающее истину, в каждом человеке. Этот метод – диалог, который состоит из двух моментов или составляющих: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провержение и майевт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ысл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провержени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оял в очищении собеседника от невежес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тиворечие заставляет собеседника задумываться и переходить к более глубоким определениям. Таким образом, совершается переход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 майевтике, которую можно понять как роды исти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Сам Сократ ничего не знает, он и не должен знать, его задача </a:t>
            </a:r>
            <a:r>
              <a:rPr b="0" lang="ru-RU" sz="2000" spc="-1" strike="noStrike">
                <a:solidFill>
                  <a:srgbClr val="dceaae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 не мешать родам истины своим случайным знанием.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ог вынуждает меня заниматься повивальным делом, запрещая рожать самому, говорит Сократ.</a:t>
            </a:r>
            <a:br>
              <a:rPr sz="2000"/>
            </a:br>
            <a:endParaRPr b="0" lang="en-US" sz="2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жная мысль, которую затем разовьет Платон: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ы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можем понять и познать лишь то, что знали до этого. Познание есть своего рода припоминание уже известног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роды того, чем уже беремен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Кинизм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0" y="2362320"/>
            <a:ext cx="3105000" cy="3352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124080" y="0"/>
            <a:ext cx="6019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лософское учение. Основоположником кинизма был Антисфен, который будучи учеником Сократа, сделал акцент на отрешении от всех благ и удовольств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еоретическом плане кинизм малоинтересен. Киники утверждали, что существует лишь единичное и отрицали бытие общего. В этом они противостояли Платон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более знаменит ученик Антисфена - Диоген Синопский, о жизни и поведении которого сохранилось множество анекдо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ники (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обаки - греч.) получили такое прозвище за образ жизни, сходный с тем, какой ведут собаки на городских улиц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Своим эпатажным поведением, далёким от норм благопристойности, киники на практике стремились показать преимущества простой жизни, которую вели предки, не развращённые роскошью и культурой. Идеалом для киников был Геракл, Прометея же они признавали виновником того, что человечество пошло по неправильному пу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тремление к максимальному опрощению - главная характерная черта кинизма. Аскетизм, автаркия (самодостаточность) и невозмутимость выделялись как основные качества лич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тличие от Сократа киники не стремились к активному участию в общественной жизни, они считали себя гражданами мира (космополитам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Греции появляются люди, которые были не только свободны от повседневных нужд, но отваживались мыслить на свой страх и риск, т.е. свобод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сомневаясь в справедливости обычаев и правильности веры в богов своего народа, они хотели обосновать эти обычаи и веру на началах разума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и люди не только верили в богов своего народа, но хотели еще и понять, почему необходимо верить именно в этих богов, а не в других. Ведь существовали народы, у которых были другие боги и обыча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обходимо было обосновать правильность веры в богов своего на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личительной чертой греческой культуры вплоть д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а до н. э. было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познание как самоц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Платон</a:t>
            </a:r>
            <a:br>
              <a:rPr sz="3600"/>
            </a:b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(428 - 348 г. до н.э.)</a:t>
            </a:r>
            <a:endParaRPr b="0" lang="en-US" sz="20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0" y="1447920"/>
          <a:ext cx="39844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39844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62160" y="0"/>
            <a:ext cx="5181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оящее имя - Аристокл, Платоном (широким) прозван за атлетическое телосло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большее воздействие на воззрения Платона оказал Сократ, ближайшим учеником которого и являлся Плат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смерти Сократа Платон уезжает из Афин, путешествуя по культурным центрам Средиземноморь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сколько раз Платон приезжал на Сицилию, пытаясь смягчить нрав сиракузского тирана Дионис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увшись в Афины, Платон основывает свою философскую школу -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Академию, просуществовавшую около 1000 лет. На стене Академии было начертано: «Да не войдёт сюда никто не знающий геометр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он - первый философ, от которого дошли почти все сочинения. Сочинения Платона написаны в художественной форме диал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сочинения: «Пир», «Государство», «Закон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Главное действующее лицо диалогов - Сократ, от имени которого Платон выражает свои взгляд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азал огромное влияние на развитие философии. По мнению А. Уайтхеда, вся последующая философия есть лишь примечания к Плато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Афинские школы (Рафаэль)"/>
          <p:cNvPicPr/>
          <p:nvPr/>
        </p:nvPicPr>
        <p:blipFill>
          <a:blip r:embed="rId1"/>
          <a:stretch/>
        </p:blipFill>
        <p:spPr>
          <a:xfrm>
            <a:off x="990720" y="1905120"/>
            <a:ext cx="6864120" cy="4848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Платон (фрагмент Рафаэля)"/>
          <p:cNvPicPr/>
          <p:nvPr/>
        </p:nvPicPr>
        <p:blipFill>
          <a:blip r:embed="rId2"/>
          <a:stretch/>
        </p:blipFill>
        <p:spPr>
          <a:xfrm>
            <a:off x="3505320" y="380880"/>
            <a:ext cx="18828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Учение Платона о бытии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тон является создателем первой последовательной системы объективного идеализма, учения, утверждающего, что первичным является духовное начало, существующее независимо от нашего созн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тинное, подлинное бытие не содержит никакой примеси не6ытия. Оно вечно, неизменно, неуничтожимо. Таким  бытием Платон объявляет нематериальные идеи (эйдосы). Мир идей статич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р идей помещается Платоном за небесным сводом. Мир идей устроен иерархически: частные идеи подчиняются более общим. Высшей идеей Платон называет идею бла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риальный мир производен от идей, вторичен, зависим от них. Всё материальное является синтезом бытия и небытия, благодаря чему вещи всегда изменчивы, возникают и уничтожаю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щность материальной вещи определяется её причастностью к той или иной идее. Материальная вещь является подражанием свой ид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р был создан неким Творцом (Демиургом), устроившим его наилучшим образом, сообразно математическим пропорция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Устройство мироздания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арство иде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подлинное быт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р веще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иллюзорное быт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тер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быт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 rot="5400000">
            <a:off x="4248360" y="2239200"/>
            <a:ext cx="395280" cy="4933800"/>
          </a:xfrm>
          <a:custGeom>
            <a:avLst/>
            <a:gdLst>
              <a:gd name="textAreaLeft" fmla="*/ 116280 w 395280"/>
              <a:gd name="textAreaRight" fmla="*/ 395640 w 395280"/>
              <a:gd name="textAreaTop" fmla="*/ 205560 h 4933800"/>
              <a:gd name="textAreaBottom" fmla="*/ 4728240 h 493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 rot="16200000">
            <a:off x="4248720" y="79920"/>
            <a:ext cx="395280" cy="4933800"/>
          </a:xfrm>
          <a:custGeom>
            <a:avLst/>
            <a:gdLst>
              <a:gd name="textAreaLeft" fmla="*/ 116280 w 395280"/>
              <a:gd name="textAreaRight" fmla="*/ 395640 w 395280"/>
              <a:gd name="textAreaTop" fmla="*/ 205560 h 4933800"/>
              <a:gd name="textAreaBottom" fmla="*/ 4728240 h 493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Миф о пещере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522900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ш мир есть лишь тень другой, высшей реальности – царства ид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PlatosCave"/>
          <p:cNvPicPr/>
          <p:nvPr/>
        </p:nvPicPr>
        <p:blipFill>
          <a:blip r:embed="rId1"/>
          <a:stretch/>
        </p:blipFill>
        <p:spPr>
          <a:xfrm>
            <a:off x="900000" y="1341360"/>
            <a:ext cx="720108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Учение Платона о душе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 состоит из двух начал: материального тела и души, являющейся представителем мира идей. Подобно всем материальным вещам тело рождается, развивается и разрушается. Душа же как идеальное начало вечна, бессмертна. Платон в диалоге «Федон» выдвигает ряд доводов в пользу бессмертия душ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ло и душа противопоставляются Платоном. Тело является для души темницей, из которой она пытается освободиться. Душа желает смерти тела и занятия философией - подготовка к смерти, поскольку они отвлекают душу от всего телес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он верил в теорию метемпсихоза (переселения душ). После смерти тела душа возносится в мир идей, а затем вселяется в новое те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он впервые выделяет три части души 1. Вожделеющая - отвечающая за питание и продолжение рода. Она пребывает в брюшной полости. 2. Страстная - порождающая эмоции: страх, гнев, любовь и др. Она находится в грудной клетке. 3. Разумная, размещающаяся в голове. Преимущество должно быть у разумной части душ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Переселение душ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183" name="Picture 3" descr="метемпсихоз"/>
          <p:cNvPicPr/>
          <p:nvPr/>
        </p:nvPicPr>
        <p:blipFill>
          <a:blip r:embed="rId1"/>
          <a:stretch/>
        </p:blipFill>
        <p:spPr>
          <a:xfrm>
            <a:off x="762120" y="1523880"/>
            <a:ext cx="770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Учение об идеях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489564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дея (эйдос) – это внутренний принцип, суть вещ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деи вечны, неделимы, неуничтожимы – они всегда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щи текучи, непостоянны – они всегда СТАНОВЯ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Платон3"/>
          <p:cNvPicPr/>
          <p:nvPr/>
        </p:nvPicPr>
        <p:blipFill>
          <a:blip r:embed="rId1"/>
          <a:stretch/>
        </p:blipFill>
        <p:spPr>
          <a:xfrm>
            <a:off x="395280" y="1700280"/>
            <a:ext cx="3430440" cy="38163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539640" y="57340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дея – это ПРЕДЕЛ СТАНОВЛЕНИЯ вещ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Учение Платона о познании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нание вечно текучей, непостоянной материи даёт лишь мнение; достоверное, твёрдое знание мы можем получить лишь изучая иде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увствами можно познать лишь материальные вещи, идеи же доступны лишь оторванному от чувств, умозрительному познанию. Чтобы достичь знания, следует отрешиться от чувств. Таким образом, Платон - последовательный рационали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тоящее знание не есть ни ощущение, ни даже правильное мнение с определением («Теэтет»). Познавать следует не единичные объекты, а общ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якое знание есть припоминание (анамнезис) того, что душа видела в мире идей. Основное правило познания: «Найти знание в самом себе», припомнить. Познание доопытно, априор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ачестве главного метода познания у Платона выступает субъективная диалектика понятий. Диалектику Платон называет вершиной всех на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ки должны служить познанию мира идей и носить теоретический характер, практическое применение результатов научной деятельности принижает нау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«Анамнезис»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ша – идея человека; тело – его мате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ло рождается и умирает, душа – н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 рождения душа находится в царстве идей и созерцает вечные ист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сякое позна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лишь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поминание того, что ты всегда уже зн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Гомер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2819520"/>
            <a:ext cx="2751120" cy="2971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0"/>
            <a:ext cx="6400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гендарный древнегреческий поэт-сказитель (аэд), автор эпических поэм «Илиада» и «Одиссея», имеющих большую ценность и в качестве источника наших знаний о предфилософском мировоззрении древних гре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ртина мира у Гомера ещё мифологична. Мир делится на три части: «многомедное» небо, земля и «сумрачный тартар», отстоящие на равном расстоянии друг от друга. В качестве прародителя богов Гомер называет Океана и Теф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ги имеют человеческий облик (антропоморфны). Это касается как телесных черт, так и душевных качеств. Боги проявляют такие же добродетели и пороки, что и люди. Боги в поэмах Гомера являются эстетическим, а отнюдь не этическим идеа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мы Гомера прославляют такие качества человека как верность долгу, мужество, дружба, хитрость, сметлив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зрения Гомера на природу человека безрадостны: «Меж всевозможных существ, которые дышат и ходят, здесь на нашей земле, человек наиболее жалок». Гомер сравнивает смену поколений людей с опадающими осенью и вновь появляющимися весной листьями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Учение Платона о государстве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щество и государство имеют не божественное, а земное происхождение. Люди, испытывая во многом нужду и недостаток, стремятся селиться вместе и путём обмена продуктами труда удовлетворять потребности друг дру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ая реально существовавшие в Греции формы государственного устройства, Платон выделил аристократию (власть родовитых), тимократию (власть честолюбцев), олигархию (власть богатых), демократию (власть народа), тиранию. Эти формы правления циклически сменяют одна другую в данной последовательности. Лучшей формой правления Платон считал аристократию, худшей - тиранию. Демократия также резко критикуется Плато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рактатах «Государство» и «Законы» Платон создаёт проект идеального государства. Всё население делится на три группы: правители, воины, крестьяне и ремесленники - в соответствии с преобладающей частью души. Правителями в государстве должны стать философы. Они правят и издают законы, воины охраняют государство, а работники в награду за это обеспечивают их плодами своего труда. В идеальном государстве нет раб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правителей и воинов (в отличие от работников) нет частной собственности, они проводят время в совместных занятиях науками и физическими упражнен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щество находится под жёстким контролем государства, жизнь всех людей подчинена интересам целого. В целях надлежащего воспитания молодёжи допускаются лишь «правильные», одобренные правителями мифы. Гомер был бы из платоновского государства изгнан. Государство Платона - первый проект тоталитарного общества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Биологическая и медицинская проблематика в произведениях Платона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он является одним из зачинателей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телеологического подхода к исследованию организмо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Устами Сократа Платон в диалогах много рассуждает о целесообразности различных органов животного и человеческого тела. Основной вопрос, который должен ставиться исследователем: «Для чего существует орган?». Отсюда приоритет телеологического (целевого) принципа над каузальным (причинным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ие места из диалогов Платона посвящены попыткам объяснения явлений, физиологии, ботаники, зоологии и анатомии человека. При этом проявляется стремление согласовать математически умозрительные и эмпирические способы объяснения, а также показать, ради какой цели всё устроено именно таким образ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заключительной части диалога «Тимей» Платон рисует мифическую картину происхождения животных видов как регресса, перехода от высших форм к низшим в наказание за проступки, неправильное поведение и греховные помысл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иалоге «Законы» содержатся размышления Платона о медицине. Существует два вида медицины: для рабов и для свободных. Они различаются отношением врача к пациенту. Врач, лечащий рабов, не должен осведомлять их о болезни, а только заставлять их принимать лекарства.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Врач же, лечащий свободных, должен беседовать с больным и его друзьями, убеждая их в пользе лечения. Только после этого они вправе с согласия больного начать леч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Аристотель</a:t>
            </a:r>
            <a:br>
              <a:rPr sz="4000"/>
            </a:br>
            <a:r>
              <a:rPr b="0" lang="ru-RU" sz="2800" spc="-1" strike="noStrike">
                <a:solidFill>
                  <a:srgbClr val="dceaae"/>
                </a:solidFill>
                <a:latin typeface="Arial"/>
              </a:rPr>
              <a:t>(384 -</a:t>
            </a:r>
            <a:br>
              <a:rPr sz="2800"/>
            </a:br>
            <a:r>
              <a:rPr b="0" lang="ru-RU" sz="2800" spc="-1" strike="noStrike">
                <a:solidFill>
                  <a:srgbClr val="dceaae"/>
                </a:solidFill>
                <a:latin typeface="Arial"/>
              </a:rPr>
              <a:t>322 гг. до н.э.)</a:t>
            </a:r>
            <a:endParaRPr b="0" lang="en-US" sz="28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0" y="2133720"/>
          <a:ext cx="335592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335592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28640" y="0"/>
            <a:ext cx="5715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ающийся древнегреческий мыслитель-энциклопедист, занимавшийся всеми существовавшими в античности научными и философскими дисциплин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ился в семье врача в городе Стагиры (поэтому часто Аристотеля называют Стагирит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лся в афинской Академии Платона, но вскоре разошёлся с учителем по многим вопросам и покинул Академию, сказав: «Платон мне друг, но истина ещё больший друг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 приглашён к македонскому двору, где занимался воспитанием наследника престола, будущего знаменитого завоевателя Александра Македонского. Позже из восточного похода Александр присылал учителю редкие камни, растения, живо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финах основывает свою философскую школу - Ликей. Учение Аристотеля получило название перипатетизм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смерти Александра Аристотель как сторонник македонской партии был вынужден уехать из Афин на остров Эвбею, где спустя год и скончал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чинения написаны в строгой форме тракта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cc"/>
                </a:solidFill>
                <a:uFillTx/>
                <a:latin typeface="PromtImperial"/>
              </a:rPr>
              <a:t>Учение Аристотеля о бытии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ое сочинение Аристотеля по вопросам онтологии - «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Метафизи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. Метафизика изучает первые причины и сущности мира; то, что находится за природным, физическ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Аристотель выступает против выделенного Платоном особого мира идей, утверждая, что не существует «чистых» идей, не связанных с материей. Кроме того, удвоение мира затрудняет, а не упрощает познани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гласно Аристотелю, существуют лишь единичные материальные вещи, а не иде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якое бытие выражается в категориях: 1. Количество, 2. Качество, 3. Место, 4. Время, 5. Отношение, 6. Положение, 7. Состояние, 8. Действие,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Страдание, 10. Сущ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деальное начало существует как форма каждой вещи.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Любая вещь есть синтез материи и формы. Именно форма определяет, чем является вещь, т. е. её сущность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атерия является пассивным началом, вечной возможностью, а форма активным началом, действительно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 выделяет первую материю - до воздействия на неё формы и вторую материю, являющуюся носителем определённой фор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е о четырёх видах причин: 1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Из чего состоит объект? 2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аль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Чем является объект? 3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Благодаря чему возник объект? 4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ев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Ради чего возник объект?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3995640" y="1989000"/>
            <a:ext cx="1152720" cy="4032360"/>
          </a:xfrm>
          <a:prstGeom prst="upArrow">
            <a:avLst>
              <a:gd name="adj1" fmla="val 50000"/>
              <a:gd name="adj2" fmla="val 8745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Иерархия бытия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водвигател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энтелехия разум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у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энтелехия душ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уш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энтелехия тел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л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Georgia"/>
              </a:rPr>
              <a:t>Учение Аристотеля о природе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 много внимания уделял изучению природы. Основные сочинения по натурфилософии - «Физика», «О возникновении и уничтожении», «О небе». Изучение природы должно носить теоретически-созерцательный  характ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ъекты, изучаемые физикой, материальны, изменчивы, подвижны (в отличие от неизменяемых и нематериальных объектов метафизи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ижение рассматривается Аристотелем посредством применения понятий возможности и действительности. Движение это любое изменение, благодаря чему возможность становится действительно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ка Аристотеля носит телеологический характер. Все процессы в мире неорганической и органической природы направлены к определённой цели, заключающейся в результате, итоге процесса. Например, целью падения камня является достижение им естественного места всех тяжёлых тел - центра Зем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смос представлялся Аристотелю конечным и сферическим. Мир делится на надлунный и подлунный. Надлунный мир заполнен эфиром, благодаря чему все движения имеют там правильную циклическую форму, по которой движутся небесные тела. Подлунный мир несовершенен, движения в нём носят неправильный характ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г понимался Аристотелем как высшая форма, «форма всех форм», бесконечная актуальность. Бог в космологии Аристотеля играет роль неподвижного перводвигателя, первопричины всего сущего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cc"/>
                </a:solidFill>
                <a:uFillTx/>
                <a:latin typeface="Arial"/>
              </a:rPr>
              <a:t>Аристотель как биолог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ин из основоположников биологии как науки. В качестве «отца зоологии» написал работу «О частях животных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воих сочинениях стремился привлечь внимание к биологической проблематике, доказывая, что растения и животные являются не менее интересным предметом изучения чем небесные тела. Изучение органической природы важнее неорганической, так как человек сам принадлежит органическому миру, он ему ближ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л одно из первых определений жизни: «Жизнью мы называем всякое питание, рост и упадок тела, имеющие основания в нём самом». Был сторонником теории самопроизвольного зарождения живого (низших животных) из нежив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держивался телеологического принципа объяснения устройства и действия организма. Каждый орган тела существует ради определённой цели. Именно целевое основание придаёт гармонию и совершенство живому. Различил орган и функцию, связывая орган с материальной причиной, а функцию с формальной и целев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ё живое может быть изображено в виде иерархической лестницы существ, восходящей к всё большему совершенству. Органические виды существуют вечно и не превращаются друг в друга, не эволюционирую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исал более 500 видов животных. Предложил первую классификацию животных, подразделив их на роды и виды. Именно они, а не отдельные особи должны интересовать исследова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ил ряд конкретных биологических открытий. Например, исследовал жевательный аппарат морских ежей («Аристотелев фонарь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Lucida Console"/>
              </a:rPr>
              <a:t>Учение Аристотеля о душе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сновоположник психологии как научной дисциплины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, автор первого психологического тракта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 душ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, содержащего обзор мнений и критику представлений своих предшественников о душе а также попытки решения многих психологических проб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уша есть осуществление возможности жизни 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энтелех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. Душа как энтелехия придаёт завершённость органическому совершенству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нимании души разошёлся с Платоном. Душа не представляет собой некоего отдельного и противоположного ему начала, она неразрывно связана с телом, хотя и не является сама телом. Здоровье тела обусловливает и нормальное функционирование душ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уша не может существовать вне тела, поэтому отвергается учение о посмертном бытии души и теория переселения душ. После смерти тела душа исчеза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личал три вида душ 1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ститель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отвечающая за питание, рост и размножение . . . (есть у всех одушевлённых существ) 2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Живот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придающая телу активность; основным критерием наличия животной души является осязание (есть у животных и людей) и 3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зумная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собная к рассуждению и размышлению (есть только у человека).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Arial"/>
              </a:rPr>
              <a:t>Учение Аристотеля о познании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борник работ Аристотеля, посвящённых гносеологии и логике, получил название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«Органон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емление к знанию - врождённое свойство людей и животных. Началом философии Аристотель считал удивл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Все науки делятся на теоретические и практическ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Теоретические (первая философия, математика, физика) существуют ради чистого познания; практические же (этика, политика) - ради последующего применения в жизни. Теоретические науки выше практических, так как в практических знания существуют как средство, а в теоретических являются це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 выступает против релятивистского скептицизма софистов, утверждая познаваемость объективно существующего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ргая односторонний рационализм Парменида и Платона, Аристотель не противопоставляет чувственное и рациональное познание, а доказывает их взаимообусловленность и дополняемость в отношении друг друга. Аристотель показывает большую роль чувств в позна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упени познания, выделяемые Аристотелем: 1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Чувственное восприят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2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пы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1 и 2 ступени имеют дело с единичным, изучаемым чувствами), 3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скус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технэ), 4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ау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на 3 и 4 ступенях постигается обще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Впервые сформулировал основные логические законы (тождества, недопущения противоречия) и разработал систему дедуктивных логических умозаключений (силлогизм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знание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ние – это восхождение от материально-телесного к формально-рациональ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ческая душа сама по себе – 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ula ras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» («чистая доска»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а этапа позн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увственный (единичные ощущ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циональный (общие понят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ее общие понятия – категор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Гесиод (7 в. до н.э.)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евнегреческий поэт, поэмы которого «Теогония» и «Труды и дни» содержат богатый материал по характеристике предфилософских воззрений ранней антич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эме «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еого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 («происхождение богов») Гесиод пытается систематизировать и осмыслить представления греков о происхождении мироздания, богов и людей. Первым во вселенной зарождается Хаос, затем Гея (Земля), Тартар, Эрос и т.д. Гея порождает Урана (небо) и от их брака рождается поколение титанов. Их глава Кронос свергает своего отца Урана. Затем она сам был свергнут одним из своих сыновей - Зевсом. Наступает время правления олимпийских богов, но и оно не будет ве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сиод первый предложил (в мифологизированной форме) регрессивную картину исторического развития человечества, характеризующуюся нарастающим ухудшением положения людей, усилением тягот жизни и болезней, забвением нравственных норм. Во времена «золотого века» люди жили счастливо, не зная горя и трудов, земля без всякой обработки давала обильный урожай. Сам Гесиод считал, что сейчас наступил пятый по счёту, «железный век», когда жизнь людей сопровождается тяжкими заботами, в отношениях между людьми нет чести, благородства и любв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эме «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руды и дн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 содержится житейский идеал трудолюбия и золотой середины, умеренности во всё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тегории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ущ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с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ло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л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ейств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рада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«Платон мне друг, но истина дороже»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546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существует «царства идей» – идеи заложены в самих вещ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бывает врожденных знаний – всякое познание начинается с чувственного опы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Аристотель1"/>
          <p:cNvPicPr/>
          <p:nvPr/>
        </p:nvPicPr>
        <p:blipFill>
          <a:blip r:embed="rId1"/>
          <a:stretch/>
        </p:blipFill>
        <p:spPr>
          <a:xfrm>
            <a:off x="460440" y="1676520"/>
            <a:ext cx="34783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Courier New"/>
              </a:rPr>
              <a:t>Учение Аристотеля о государстве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ое произведение по социальной философии - 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. Вместе с помощниками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оставил описания государственного устройства 158 греческих полис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Из них сохранилась лишь 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финская полит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Человек определяется как «политическое животное»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ремящееся жить в разумном общении с себе подобными. Вне общества может жить лишь бог или звер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сударство возникло из семьи, государственная власть - из власти отца. Этапы эволюции общества: 1. Семья, 2. Поселение, 3. Государст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Выделил 6 типов политического устройств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Правильные - монархия, аристократия, полития (демократия). Неправильные - тирания, олигархия, охлократия. Идеальное государственное устройство должно сочетать элементы монархии, аристократии и демократ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упал против предложенного Платоном проекта государства, утверждая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недопустимость чрезмерного вмешательства государства в частную жизнь гражд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необходимость и благотворность частной собственности для развития общ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упал с оправданием рабства, считая его обоснованным и полезным для самих рабов. Эллины по своей природе господа и должны заниматься умственным трудом, а «варвар и раб по природе одно и то же» и способны лишь к физическому труду, находясь в подчинении у эллинов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ceaae"/>
                </a:solidFill>
                <a:latin typeface="Arial"/>
              </a:rPr>
              <a:t>Эллинско - римская философия</a:t>
            </a: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ке до н.э. в греческом мире происходят важные политические и экономические события. Среди них можно назвать Пелопонесскую войну – войну Афин со Спартой, которая привела к поражению и ослаблению Афин; возникновение империи Александра Македонского, которая после его смерти распадается на ряд государств. В дальнейшем возникает Римская республика, которая превращается в Римскую импер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эти сдвиги в бытии античного мира приводят к тому, что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Греция теряет самостоятельное положение, она перестает быть культурным центром, превращается в провинцию античного ми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о же время ее образованность и культура из национальных стали всемирными.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Греческое культурное наследие стало господствующей силой в Римской импер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се пошло вширь, зато снизился общий уровень философствования.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Эта эпоха стала позднее называться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эллинизмом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, что буквально означало “подражание грекам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Две тенденции намечаются в развитии философии элинизма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Перва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стоит в том, что от философии </a:t>
            </a: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отделяются и становятся самостоятельными конкретные нау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нее философы были одновременно и учеными, они описывали также природу внешнюю и человеческую. Писали работы о сущности государства, по теории познания, логике, этике, эстетике, психологии, физике. Такими были 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Аристотель, Платон, Демокрит, Фалес, Пармени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перь же появляются люди, профессионально занимающиеся исключительно определенной наукой: 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Гиппократ, Архимед, Эвклид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Вторая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тенденция состои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 том, что сама философия меняет свою направленность.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Меняется стиль философствова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ньше считалось, что философия </a:t>
            </a: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амая прекрасная наука, потому что она самая бесполезная, существует для самой себя (Аристотель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перь же, в новую эпоху, возникает гигантское государство, необозримое для каждого отдельного человека, действующее по своим собственным закона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отдельный человек превращается в ничт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 философии ожидают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практической пользы,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что она будет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руководством к житейской мудрост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пикур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341 - 270 гг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 н. 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229" name="Object 3"/>
          <p:cNvGraphicFramePr/>
          <p:nvPr/>
        </p:nvGraphicFramePr>
        <p:xfrm>
          <a:off x="0" y="2209680"/>
          <a:ext cx="360828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36082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733920" y="0"/>
            <a:ext cx="5410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Древнегреческий философ-материалист, сторонник атомистического учения Демокрита, основал в Афинах школу, называвшуюся «Сад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Утверждал, что основной целью занятия философией и изучения природы является обретение душевного покоя. Изучение природы должно помочь людям избавиться от страхов и трево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Для доказательства наличия свободы воли допустил возможность произвольного отклонения атомов, что делает их поведение непредсказуем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Призывал не бояться смерти, утверждая, что она не имеет к нам никакого отношения; учил о смертности составленной из атомов душ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Боги обитают в междумириях и не вмешиваются в земные дела; их не следует бояться и о чём-то умоля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В теории познания был сенсуалистом, призывал безоговорочно доверять чувствам; считал, что ошибаться может лишь разу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Будучи гедонистом, полагал, что целью жизни является достижение удовольств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Выдвинул девиз: «Проживи незамет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ды жизни Эпикура: 341-270 до н.э., родился на острове Самос, в возрасте 35 лет переселился в Афины и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сновал свою школу на окраине Афин. Назвал ее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“Сад”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Школа просуществовала более восьми столетий, была центром античного материализма и атеизма. На воротах в Сад была надпись: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“Гость, тебе будет здесь хорошо, здесь удовольствие – высшее благо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пикур написал около 300 сочинений, но сохранились лишь 3 письма, в которых Эпикур излагает свои философские взгляды, и отдельные афориз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Эпикуру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философ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это размышления, обеспечивающие счастливую, безмятежную жизнь, свободную от страда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То есть философия понимается как способ достичь атараксии. Но нашей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езмятеж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мешает страх смер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рть есть отсутствие ощущений. Поэтому смерть невозможно ощутить, и, следовательно, невозможно встретиться со смертью. Поэтому смерть не имеет к нам отношения.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“Когда мы существуем, смерти еще нет, а когда она есть, тогда мы уже не существуем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ceaae"/>
                </a:solidFill>
                <a:latin typeface="Arial"/>
              </a:rPr>
              <a:t>В эпикурействе можно различать учение о бытии, или физику, теорию познания и этику.</a:t>
            </a:r>
            <a:endParaRPr b="0" lang="en-US" sz="32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Физи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пикур заимствует у Демокрита. Мир состоит из атомов и пустоты. Атомы неизменны, неуничтожимы, различаются видом, величиной и весом. Двигаясь вихреобразно, атомы сталкиваются и сочетаются в различные комбинации, образуя миры и отдельные ве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пикур вводит понятие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“клинемен”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самопроизвольное отклонение атома от прямой траектории в случайном месте и в случайное время. Это отклонение приводит снова к столкновению атомов, и поэтому в мире происходят событ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Тем самым Эпикур вводит в мир случайность, в отличие от Демокрита, согласно которому в мире господствует строгая, однозначная необходимость, а всякая случайность мним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нятие “клинемен”, или произвольное отклонение атомов, позволяет Эпикуру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босновать человеческую свободу как возможность ухода от рока, или судьб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ожно уклониться от неизбежн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пикур строит такую физику, где есть место человеческой свободе. Не случайно Эпикур свой Сад основал на окраине Афин, т.е. в стороне, чтобы все события катились мим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Теория позн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пикура. Эпикур допускает любое объяснение природных событий при выполнении двух услов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ое: объяснение должно позволять безмятежно, т.е. без страданий, существовать объясняющем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торое: объяснение не должно противоречить чувственному восприят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 познания – не знания того, каковы вещи сами по себе, но достижение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таракс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 процесс познания Эпикур объясняет через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теорию истеч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От предметов отделяются, истекают непрерывно и постоянно тончайшие образы, копирующие сами предметы. Он их называет идейками.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Эти идейки достигают наших органов чувств </a:t>
            </a:r>
            <a:r>
              <a:rPr b="0" lang="ru-RU" sz="1800" spc="-1" strike="noStrike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зрения, обоняния, слуха и т.д. </a:t>
            </a:r>
            <a:r>
              <a:rPr b="0" lang="ru-RU" sz="1800" spc="-1" strike="noStrike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и порождают в них восприятие предметов, совпадающие с самими предмет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Arial"/>
              </a:rPr>
              <a:t>Этика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Эпикура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343400" y="175248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ика есть путь к счастливой жизни. А счастье состоит в удовлетворении желаний. Сами же желания можно подразделить на естественные и надуманные, или вздорные. Идеал состоит в удовлетворении естественных желаний, среди которых нужно удовлетворять в первую очередь самые необходимые.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Удовлетворение желаний приводит к удовольствию, которое Эпикур определяет как отсутствие страда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Нравственность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стоит в соблюдении во всем меры. Справедливость состоит в том, чтобы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не вредить другим и не терпеть вреда от других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Дружба основана на взаимной личной выгоде, поэтому дружат в силу необходимос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Цель мудрости – исцелять от душевных страда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Важное условие счастья и безмятежности – не жить на виду у других. Жизнь философа – это жизнь скрывающегося. Правило философа – живи незаметн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8" descr="Фрагмент вазы"/>
          <p:cNvPicPr/>
          <p:nvPr/>
        </p:nvPicPr>
        <p:blipFill>
          <a:blip r:embed="rId1"/>
          <a:stretch/>
        </p:blipFill>
        <p:spPr>
          <a:xfrm>
            <a:off x="152280" y="1905120"/>
            <a:ext cx="37292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«7 мудрецов»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числу 7 мудрецов, живших в Греции в 7 - 6 веках до н.э., причислялись люди, прославившиеся своей мудростью, умом, политическими и другими талантами. Список 7 мудрецов не был единым, всего в различных вариациях в число мудрецов включалось до 17 человек. Чаще всего в списке мудрецов встречались афинский реформатор Солон, тиран Периандр, основоположник философии Фалес Милет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 мудрецам приписывались краткие изречения (гномы), содержащие образцы житейской, практической мудрости, послужившей наряду с мифологией одной из основ формирования философии. Изложенные в гномах пожелания во многом определяли этический идеал античности (в частности, приоритет меры во всём над излишеством, трудолюбие и т. д.). На протяжение всей античности изречения мудрецов были очень популярны и часто для лучшего запоминания объединялись в стихотворен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Семь мудрецов называю: их родину, имя, речен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Мера важнее всего!», - говаривал  </a:t>
            </a:r>
            <a:r>
              <a:rPr b="0" lang="ru-RU" sz="1800" spc="-1" strike="noStrike">
                <a:solidFill>
                  <a:srgbClr val="ff3300"/>
                </a:solidFill>
                <a:latin typeface="Bookman Old Style"/>
              </a:rPr>
              <a:t>Клеобул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Линдск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В Спарте, - «Познай себя самого!», - проповедовал </a:t>
            </a:r>
            <a:r>
              <a:rPr b="0" lang="ru-RU" sz="1800" spc="-1" strike="noStrike">
                <a:solidFill>
                  <a:srgbClr val="ff3300"/>
                </a:solidFill>
                <a:latin typeface="Bookman Old Style"/>
              </a:rPr>
              <a:t>Хилон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Сдерживай гнев!», - увещал </a:t>
            </a:r>
            <a:r>
              <a:rPr b="0" lang="ru-RU" sz="1800" spc="-1" strike="noStrike">
                <a:solidFill>
                  <a:srgbClr val="ff3300"/>
                </a:solidFill>
                <a:latin typeface="Bookman Old Style"/>
              </a:rPr>
              <a:t>Периандр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, уроженец Коринф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Лишку ни в чём!», - была поговорка митиленца </a:t>
            </a:r>
            <a:r>
              <a:rPr b="0" lang="ru-RU" sz="1800" spc="-1" strike="noStrike">
                <a:solidFill>
                  <a:srgbClr val="ff3300"/>
                </a:solidFill>
                <a:latin typeface="Bookman Old Style"/>
              </a:rPr>
              <a:t>Питтак</a:t>
            </a:r>
            <a:r>
              <a:rPr b="0" lang="ru-RU" sz="1800" spc="-1" strike="noStrike">
                <a:solidFill>
                  <a:srgbClr val="ff3399"/>
                </a:solidFill>
                <a:latin typeface="Bookman Old Style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Жизни конец наблюдай!», - повторялось </a:t>
            </a:r>
            <a:r>
              <a:rPr b="0" lang="ru-RU" sz="1800" spc="-1" strike="noStrike">
                <a:solidFill>
                  <a:srgbClr val="ff3300"/>
                </a:solidFill>
                <a:latin typeface="Bookman Old Style"/>
              </a:rPr>
              <a:t>Солон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ом Афински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Худших везде большинство», - говорилось </a:t>
            </a:r>
            <a:r>
              <a:rPr b="0" lang="ru-RU" sz="1800" spc="-1" strike="noStrike">
                <a:solidFill>
                  <a:srgbClr val="ff3300"/>
                </a:solidFill>
                <a:latin typeface="Bookman Old Style"/>
              </a:rPr>
              <a:t>Биант</a:t>
            </a:r>
            <a:r>
              <a:rPr b="0" lang="ru-RU" sz="1800" spc="-1" strike="noStrike">
                <a:solidFill>
                  <a:srgbClr val="ff3399"/>
                </a:solidFill>
                <a:latin typeface="Bookman Old Style"/>
              </a:rPr>
              <a:t>ом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Приенски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Ни за кого не ручайся!», - </a:t>
            </a:r>
            <a:r>
              <a:rPr b="0" lang="ru-RU" sz="1800" spc="-1" strike="noStrike">
                <a:solidFill>
                  <a:srgbClr val="ff3300"/>
                </a:solidFill>
                <a:latin typeface="Bookman Old Style"/>
              </a:rPr>
              <a:t>Фалес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а Милетского сло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Изречения Эпикура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Пусты слова того философа, которыми не излечивается никакое человеческое страдани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Нельзя жить приятно, не живя разумно, хорошо и праведно; и нельзя жить разумно, хорошо и праведно, не живя приятно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Кому мало немногого, тому мало всег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ceaae"/>
                </a:solidFill>
                <a:latin typeface="Arial"/>
              </a:rPr>
              <a:t>Эвдемон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шая цель – счастье, удовольствие (как телесное, так и духовно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кто не может осчастливить человека, кроме него сам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ждый человек изначально свободен, но его счастью мешает стр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д бог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д смер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д судьб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Стоицизм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0" y="2057400"/>
            <a:ext cx="2682720" cy="28954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66880" y="0"/>
            <a:ext cx="6477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о из основных направлений эллинистической философии. Название произошло от портика в котором собирались первые сто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оположник - </a:t>
            </a: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Зенон Китионск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на рисунке), самые знаменитые представители - Хрисипп, Эпиктет, Сенека, Марк Аврелий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или философию на три части: физику, логику и эт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«физике» эклектично сочетали элементы материализма и идеализма. Вслед за Гераклитом полагали, что мир состоит из огня и в конце космического цикла уничтожается пожаром. Весь мир наполнен огненной пневмой, содержащей разумные начала - семенные логосы, порождающие все вещ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ики - пантеисты: космос отождествляется ими с единым Бог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«логике» выдвинули учение о внутреннем (мышление) и внешнем (речь) логосе. Большое внимание уделяли исследованию диалектики и я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бласти этики выдвигали идеал бесстрастного мудреца, руководствующегося исключительно разумом, стойко исполняющего свой долг, несмотря на все испытания и несчасть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Философия 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стоиков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оицизм происходит от греч. слова ‘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</a:t>
            </a:r>
            <a:r>
              <a:rPr b="0" lang="ru-RU" sz="1600" spc="-1" strike="noStrike">
                <a:solidFill>
                  <a:srgbClr val="ffffff"/>
                </a:solidFill>
                <a:latin typeface="Century Schoolbook"/>
              </a:rPr>
              <a:t>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’(стоя). Так назывался зал с колоннами, где помещалась школа стоиков. Основатель стоицизма 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философ 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Зенон из Китион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не тот Зенон, который строил апории о стреле, Ахиллесе и т.п.). Годы жизни Зенона около 336-264 до н.э. Таким образом, стоицизм появляется на рубеже 3-2 веков до н.э. После Зенона можно назвать Хрисиппа – руководителя школы стоиков во 2 веке до н. э. В период Римской империи в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веке стоиками были писатель Люций Анней Сенека и римский император Марк Аврел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отличие от Эпикура, у которого в мире присутствует случайность и возможна свобода, </a:t>
            </a: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у стоиков в мире господствует строгая необходимость, закон, или судьба. Случайности нет, она лишь мним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этому в этике Эпикур и стоики противоположны. У Эпикура мудр тот, кто сумел уклониться от судьбы. </a:t>
            </a: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Для стоиков мудрец тот, кто любит свою судьбу и сознательно ей следует. Мы либо добровольно, либо вынужденно, но все равно следуем тому, что неизбежно и необходим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удьба ведет того, кто добровольно и беспечально ей повинуется, и тащит насильно тех, кто ей противи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смиренная и согласная с природой жизнь есть добродетель, которая обеспечивает безмятежность, т.е. атаракс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GreekPhilsopherBusts"/>
          <p:cNvPicPr/>
          <p:nvPr/>
        </p:nvPicPr>
        <p:blipFill>
          <a:blip r:embed="rId1"/>
          <a:stretch/>
        </p:blipFill>
        <p:spPr>
          <a:xfrm>
            <a:off x="1219320" y="152280"/>
            <a:ext cx="276048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ceaae"/>
                </a:solidFill>
                <a:latin typeface="Arial"/>
              </a:rPr>
              <a:t>Философия стоиков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р для стоиков предстает как единое мировое государство.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оэтому они считали себя гражданами мира, т.е. космополита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ледование судьбе для них означало подчинение своего личного блага благу государства, каким бы оно ни было. В случае необходимости нужно принести государству в жертву даже свою жизнь. Поэтому многие стоики шли на государственную службу, рассматривая ее как свою судьб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понимание мира как огромного государства соответствовало общественной ситуации, когда государство превратилось в необозримую, сверхчеловеческую машину, отчужденную от отдельной ли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логике стоики разрабатывали идеи, которые потом вошли в основу современной логики высказываний.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Стоики ввели и само слово “логика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Учение стоиков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ленной управляет разум (Бог, Судьб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, что происходит, является не только необходимым, но и благ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ловеческое счастье заключается в том, чтобы жить в согласии с природой и разум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урные поступки других не причиняют нам вреда, скорее нам вредят наши мнения об этих поступ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разумные существа подчиняются закону природы и тем самым являются гражданами всемирного государ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В чем заключается счастье?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о власти человек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азу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вобо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ужеств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о власти судьбы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огатств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доровь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ла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4038480"/>
            <a:ext cx="3352680" cy="28195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Луций Анней </a:t>
            </a:r>
            <a:br>
              <a:rPr sz="3600"/>
            </a:b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Сенека</a:t>
            </a:r>
            <a:br>
              <a:rPr sz="3600"/>
            </a:b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(4 г. до н.э.</a:t>
            </a:r>
            <a:br>
              <a:rPr sz="3600"/>
            </a:b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 - 65 г. н.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255" name="Object 3"/>
          <p:cNvGraphicFramePr/>
          <p:nvPr/>
        </p:nvGraphicFramePr>
        <p:xfrm>
          <a:off x="0" y="0"/>
          <a:ext cx="338940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3894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352320" y="0"/>
            <a:ext cx="5791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евнеримский философ-стоик и писатель, политический деятель. Некоторое время был воспитателем и приближённым императора Нерона. Был обвинён в заговоре против Нерона и по его приказу кончил жизнь самоубийств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е известные сочинения: «Нравственные письма к Луцилию», «О блаженной жизни», «Естественнонаучные вопрос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лософия служит не для познания мира, а для правильной жизни, помогающей выстоять среди превратностей судьбы и сохранить чистоту душ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нека отождествляет Бога и природу, утверждая разумность мироздания. В мире господствует судьба. Именно он сказал: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дьба желающего ведёт, а не желающего тащи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еляет представления стоиков об огненной природе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упал за смягчение нравов общества, призывал к милосердию, к гуманному отношению к рабам. Все мы являемся рабами своих страстей и этот вид рабства намного хуже юридического, поскольку у раба по закону в рабстве находится только тело, а у добровольного раба своих страстей - и тело и душа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Изречения Сенеки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705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корных судьба ведет, а непокорных тащит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Каждый несчастен настолько, насколько полагает себя несчастным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аибольшей властью обладает тот, кто имеет власть над собой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Марк Аврелий</a:t>
            </a:r>
            <a:br>
              <a:rPr sz="3600"/>
            </a:b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(121 - 180 гг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261" name="Object 3"/>
          <p:cNvGraphicFramePr/>
          <p:nvPr/>
        </p:nvGraphicFramePr>
        <p:xfrm>
          <a:off x="0" y="1523880"/>
          <a:ext cx="33544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33544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352320" y="0"/>
            <a:ext cx="5791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Древнеримский император, философ-стоик, автор сочинения «К самому себе». Время правления Марка Аврелия - один из последних периодов стабильности Римской импе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Для мировоззрения Марка Аврелия характерно ощущение непрочности, бренности земного существования. Все дела человека ничтожны перед течением вре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Воззрения Марка Аврелия проникнуты разочарованностью и пессимизмом. В мире не может быть ничего нового, всё «сущая сует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Однако человек (а тем более правитель) не должен предаваться отчаянию. Надо действовать в соответствии с твёрдой системой нравственных принципов. Только действия, опирающиеся на справедливость, истину, благоразумие и мужество, могут оказаться спасительными для личности и обще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Amor fati</a:t>
            </a: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» – любовь к своей судьбе 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546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– отнюдь не внешнее принуждение, а лишь наше собственное предназна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ть самим собой – значит осознать это предназначение, принять его спокойно и с благодарност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Марк Аврелий на коне"/>
          <p:cNvPicPr/>
          <p:nvPr/>
        </p:nvPicPr>
        <p:blipFill>
          <a:blip r:embed="rId1"/>
          <a:stretch/>
        </p:blipFill>
        <p:spPr>
          <a:xfrm>
            <a:off x="611280" y="1773360"/>
            <a:ext cx="3309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ceaae"/>
                </a:solidFill>
                <a:latin typeface="Arial"/>
              </a:rPr>
              <a:t>Периодизация античной философии</a:t>
            </a:r>
            <a:endParaRPr b="0" lang="en-US" sz="28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Философия «физиков» (6 - сер. 5 в. до н. э.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нтерес первых греческих философов был направлен на природу (фюзис). Их сочинения были стандартно озаглавлены «О природе». Природа, совпадая с космосом, включала в себя всё сущее, в том числе мир общества и культуры. Чрезвычайно значимой для физиков была проблема поиска архэ (первоначала) всего сущего. К числу представителей физической философии относятся философы ионийской и элейской школ, Пифагор и его последователи, родоначальники античного атомизма (Левкипп и Демокрит)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Классический период античной философии (сер. 5 в. - 4 в до н.э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начале этого периода происходит антропологический поворот в греческой философии, связанный с деятельностью софистов и Сократа. Главным предметом философии становится человек. Возникает наряду с физической и этическая философия. Подчёркивается, что мир общества и культуры развивается по иным принципам, чем природа, что многое в нём возникло «по установлению». Появляются чётко сформулированные учения субъективного и объективного идеализма. Платоном и Аристотелем создаются первые всеобъемлющие системы филосо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Философия поздней античности (эллинистическая философия 3 в. до н.э. - 6 в. н.э.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этот период разворачивается деятельность множества философских школ (стоики, скептики, киники, эпикурейцы и др.). На первое место выходит этическая проблематика; изучение природы должно лишь помогать изгонять страхи, содействовать исцелению души, её покою, невозмутимости. Философия воспринимается как искусство счастливой жизни, намечается расхождение философии и науки. Античная философия исчезает вместе с утверждением христианства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рк Туллий Цицерон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(106- 43 гг. до н.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268" name="Object 3"/>
          <p:cNvGraphicFramePr/>
          <p:nvPr/>
        </p:nvGraphicFramePr>
        <p:xfrm>
          <a:off x="228600" y="2286000"/>
          <a:ext cx="3697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3697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495320" y="456840"/>
            <a:ext cx="40388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Древнеримский философ, политический деятель, ора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Провёл большую работу по популяризации греческой философии в Риме, подобрал латинские аналоги многим греческим философским термин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Склонялся к эклектизму - сочетанию наиболее ценного из наследия всех философских шк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Основные философские работы: «Тускуланские беседы», «О природе бого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В качестве политического деятеля Цицерон был одним из последних приверженцев республики и погиб в ходе репрессий цезариан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ceaae"/>
                </a:solidFill>
                <a:latin typeface="Arial"/>
              </a:rPr>
              <a:t>Скептицизм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aae"/>
                </a:solidFill>
                <a:latin typeface="Arial"/>
              </a:rPr>
              <a:t>Субъективно-идеалистическое направление в философии поздней античности, утверждавшее непознаваемость мира и необходимость сомнения в любом утверждении о мир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«Скепсис» в переводе с греческого - «исследование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кептицизм возникает как течение на рубеже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веков до н.э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Опирается на учения первых философов о текучести и изменчивости окружающего мира и противоречивости чувственных явлений, т.е. на Гераклита и Зен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сновные представители античного скептицизма: Пиррон (3 в. до н. э.) и Секст Эмпирик (2 в. н. э.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втор труда «Против математиков». Последователи Пиррона – Тимон, Энисидем, Агрипп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ептики противопоставляли себя «догматическим философам» и утверждали, что суждения людей о вещах произвольны и недоказуемы, поэтому следует воздерживаться от всяких суждений вообще. Именно в воздержании от суждений заключается суть скептического «эпохэ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ептицизм развивался семь столетий, развитие шло по линии все более утонченной аргументации непознаваемости сути вещ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множестве примеров показывали ограниченность и релятивность всякого знания. Сформулировали 10 принципов (тропов), обосновывающих скептические воззрения. Каждый вид животных, каждый человек по-своему воспринимает окружающий мир, одни и те же вещи могут представляться по-разному. Тот же самый человек при различных обстоятельствах может по-разному судить об одной и той же вещи. Ни одному из возможных восприятий или суждений нельзя отдавать предпочтение перед друг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aae"/>
                </a:solidFill>
                <a:latin typeface="Arial"/>
              </a:rPr>
              <a:t>Основная цель скепсиса - достижение душевной невозмутимости (атараксии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кептик, воздерживаясь от суждений, будет следовать законам государства, в котором он проживает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5187960"/>
            <a:ext cx="2895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274" name="Object 3"/>
          <p:cNvGraphicFramePr/>
          <p:nvPr/>
        </p:nvGraphicFramePr>
        <p:xfrm>
          <a:off x="228600" y="2438280"/>
          <a:ext cx="2633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2633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1440" y="0"/>
            <a:ext cx="6172200" cy="6858000"/>
          </a:xfrm>
          <a:prstGeom prst="rect">
            <a:avLst/>
          </a:prstGeom>
          <a:solidFill>
            <a:srgbClr val="005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Древнегреческий философ поздней античности, основоположник неоплатонизма. Родился в Египте, в конце жизни переехал в Р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Написал ряд трактатов, объединённых после его смерти в 7 «эннеад»(девяток) по близости обсуждаемых в них вопро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Стремление к идеальному и презрение к материи доходило у Плотина до того, что он запрещал отмечать свой день рож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Исток мироздания - Единое, в котором пропадают все различия. О Едином невозможно ничего высказать, оно лишено всех качеств и недоступно рациональному постижению.Познать Единое можно только мистически, в состоянии экстаз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Появление всего остального представлял в качестве эманации (излияния) Единого в небытие. В результате образуются по мере ослабления потока Единого всё менее совершенные формы бытия: Ум, Душа, Материя. Материя для Плотина «не сущее», тьма, мра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Хотя в философии Плотина много общего с христианством, он его не принял. Вместе с тем неоплатонизм оказал значительное влияние на развитие средневековой философ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229320" y="685800"/>
            <a:ext cx="262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eaae"/>
                </a:solidFill>
                <a:latin typeface="Arial"/>
              </a:rPr>
              <a:t>Плотин</a:t>
            </a:r>
            <a:br>
              <a:rPr sz="3200"/>
            </a:br>
            <a:r>
              <a:rPr b="1" lang="ru-RU" sz="3200" spc="-1" strike="noStrike">
                <a:solidFill>
                  <a:srgbClr val="dceaae"/>
                </a:solidFill>
                <a:latin typeface="Arial"/>
              </a:rPr>
              <a:t>(205 - 270 г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тичная философия закончилась на неоплатонике Прокле, жившем 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е н.э. У этого философа громадное наследие, состоящее из комментариев к Платону и к “Началам” Эвклида. До сих пор оно мало изуче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Официально античная философия окончилась в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VI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веке, когда в 52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году декретом императора Юстина была закрыта платоновская Академия в Афинах. Таким образом,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античная философия просуществовала с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VII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VI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веков до н.э. по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VI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век, т.е. около 1000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1:48:08Z</dcterms:created>
  <dc:creator>someone</dc:creator>
  <dc:description/>
  <dc:language>en-US</dc:language>
  <cp:lastModifiedBy>BoSS</cp:lastModifiedBy>
  <dcterms:modified xsi:type="dcterms:W3CDTF">2015-02-06T06:07:26Z</dcterms:modified>
  <cp:revision>15</cp:revision>
  <dc:subject/>
  <dc:title>Тема 2. Античная философия</dc:title>
</cp:coreProperties>
</file>