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68D-B45E-4CF1-B970-4464B73E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C1E-A6D9-4547-9B03-EC6AF4F8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E8D-6438-4127-96E5-2BFD842F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1F0-F4C0-4F26-88EC-38363EC3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18E-5C61-4A63-8E41-F720BC5C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761-0229-46B5-B4D1-E83DEFFF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C14-FED9-49D4-BD01-CCB12A7B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7B6-5030-4ECE-8354-E0A1DD7D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57C-DCA8-49B8-92BD-962AA00C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9DB-EEB7-4E5D-8FC3-5DEF7B4E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30A-4D64-47D9-BD7A-F530E3B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AB6-E33E-4CA7-AD33-56EAD495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F9CB-9A8B-40DE-8DDA-46622C4AE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Нос и запах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дагог-психолог МБОУ СОШ №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сева В.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600" spc="-1" strike="noStrike">
                <a:solidFill>
                  <a:srgbClr val="009999"/>
                </a:solidFill>
                <a:latin typeface="Arial"/>
              </a:rPr>
              <a:t>Молодцы,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en-US" sz="9600" spc="-1" strike="noStrike">
                <a:solidFill>
                  <a:srgbClr val="009999"/>
                </a:solidFill>
                <a:latin typeface="Arial"/>
              </a:rPr>
              <a:t>ребята!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3399"/>
                </a:solidFill>
                <a:latin typeface="Arial"/>
              </a:rPr>
              <a:t>Отгадай загадку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Вот гора, а у г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Две глубокие н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В этих норах воздух бро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То заходит, то выходи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н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296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Угадай, чей но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" y="1219320"/>
            <a:ext cx="2895480" cy="180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705720" y="342900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733920" y="3352680"/>
            <a:ext cx="2666880" cy="238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733920" y="1219320"/>
            <a:ext cx="2590560" cy="186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Нюх собаки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юх собаки в 100 раз сильнее, чем у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обаки различают запахи людей, даже таких близких родственников, как близнецы, и могут идти по следам животных, даже если эти следы засып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4724280"/>
            <a:ext cx="3438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Arial"/>
              </a:rPr>
              <a:t>Правила ухода за носом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Беречь организм от просту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истить н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Иметь свой носовой пла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Не засовывать в нос пред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калять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Не ку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Запах- информация, получаемая носо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ахи быв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рият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еприят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733920" cy="2819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352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спомни, как пахн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ес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спомни, как пахн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320" y="118584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06:52:54Z</dcterms:created>
  <dc:creator>Железка</dc:creator>
  <dc:description/>
  <dc:language>en-US</dc:language>
  <cp:lastModifiedBy>Железка</cp:lastModifiedBy>
  <dcterms:modified xsi:type="dcterms:W3CDTF">2015-01-03T11:10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