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5433-535C-4B7F-8C68-CBCDE32E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A793-4DDB-4802-A621-97CA4BEE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4C33-91AA-45A5-BBF2-404E56D3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189B-D1FF-40A2-A07D-D106FBF1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45E7-2016-4926-B7FA-27041AC9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0B58-61D3-4A12-8326-F11D8081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0666-F215-4DFD-8556-25C3AA3F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FD5-0820-4F26-8126-7A9FA6F4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2E18-23C5-4C69-8993-B97FF1E4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1EC1-ED09-4509-95E3-B72C016E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D45A-1626-4EBA-8BC6-5AF422FD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16A8-5CAF-4552-A5CF-6F0C06E7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673D-DB5D-419C-BD5F-0A989B16A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Нос и запах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дагог-психолог МБОУ СОШ №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сева В.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8001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600" spc="-1" strike="noStrike">
                <a:solidFill>
                  <a:srgbClr val="009999"/>
                </a:solidFill>
                <a:latin typeface="Arial"/>
              </a:rPr>
              <a:t>Молодцы,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0" lang="en-US" sz="9600" spc="-1" strike="noStrike">
                <a:solidFill>
                  <a:srgbClr val="009999"/>
                </a:solidFill>
                <a:latin typeface="Arial"/>
              </a:rPr>
              <a:t>ребята!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333399"/>
                </a:solidFill>
                <a:latin typeface="Arial"/>
              </a:rPr>
              <a:t>Отгадай загадку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Вот гора, а у г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Две глубокие н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В этих норах воздух брод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То заходит, то выходит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ение н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52388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2296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Угадай, чей нос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57200" y="1219320"/>
            <a:ext cx="2895480" cy="1809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1219320"/>
            <a:ext cx="214308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705720" y="342900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733920" y="3352680"/>
            <a:ext cx="2666880" cy="2389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733920" y="1219320"/>
            <a:ext cx="2590560" cy="1861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Нюх собаки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Нюх собаки в 100 раз сильнее, чем у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Собаки различают запахи людей, даже таких близких родственников, как близнецы, и могут идти по следам животных, даже если эти следы засыпа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4120" y="4724280"/>
            <a:ext cx="34383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Arial"/>
              </a:rPr>
              <a:t>Правила ухода за носом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Беречь организм от просту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Чистить н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Иметь свой носовой пла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Не засовывать в нос предм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Закалять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Не кур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99"/>
                </a:solidFill>
                <a:latin typeface="Arial"/>
              </a:rPr>
              <a:t>Запах- информация, получаемая носом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пахи быва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Прият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Неприят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3733920" cy="2819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29200" y="3048120"/>
            <a:ext cx="33526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Вспомни, как пахн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Вес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Вспомни, как пахн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320" y="1185840"/>
            <a:ext cx="891540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3T06:52:54Z</dcterms:created>
  <dc:creator>Железка</dc:creator>
  <dc:description/>
  <dc:language>en-US</dc:language>
  <cp:lastModifiedBy>Железка</cp:lastModifiedBy>
  <dcterms:modified xsi:type="dcterms:W3CDTF">2015-01-03T11:10:3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