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F22-8E29-40CD-B07F-0A335569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6D7-1AFA-4534-97F6-D94D08AD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A92-88EA-40A8-AFFD-9A4606C7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703-FC16-477D-B2DF-6770F61A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337-B9C3-4095-B404-621103F8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C983-A38F-4603-9E6E-DA271979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F36-C702-4CCA-852C-73E9317E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413-D6D2-4702-BF2C-A8B69E39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2F9-E68F-43F8-A872-E1CBC26F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D89-0626-4CBF-A77A-B66D05B6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E22-140B-4626-BBE8-8927CF57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E67-FED1-4524-8CFD-A326B012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E208-198A-45F1-8A39-FBDB1247A4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background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1187280" y="491040"/>
            <a:ext cx="777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Есть такое понятие — национальное достоя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Мустай Карим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— это наше национальное достояние, достояние общечеловеческой культуры нашей большой многонациональной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66e716af1dd252a14bcb548c41707d41"/>
          <p:cNvPicPr/>
          <p:nvPr/>
        </p:nvPicPr>
        <p:blipFill>
          <a:blip r:embed="rId2"/>
          <a:stretch/>
        </p:blipFill>
        <p:spPr>
          <a:xfrm>
            <a:off x="3059280" y="2133720"/>
            <a:ext cx="4811400" cy="45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background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1187280" y="181944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692360" y="260280"/>
            <a:ext cx="62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…став учителем жизни, писатель не может перестать учиться у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ustayKarim"/>
          <p:cNvPicPr/>
          <p:nvPr/>
        </p:nvPicPr>
        <p:blipFill>
          <a:blip r:embed="rId2"/>
          <a:stretch/>
        </p:blipFill>
        <p:spPr>
          <a:xfrm>
            <a:off x="5648400" y="1773360"/>
            <a:ext cx="349560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ackground-2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background-2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mustaiKarim_big_ejw_1280"/>
          <p:cNvPicPr/>
          <p:nvPr/>
        </p:nvPicPr>
        <p:blipFill>
          <a:blip r:embed="rId3"/>
          <a:stretch/>
        </p:blipFill>
        <p:spPr>
          <a:xfrm>
            <a:off x="5143680" y="0"/>
            <a:ext cx="4000320" cy="55054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1475280" y="332280"/>
            <a:ext cx="3236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Мустай Карим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поэ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писате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философ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дипломат.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ackground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332000" y="1861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дороге - ноги. В песне - думы... Хоче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рислушайся!.. Я по земле и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И днём - по солнцу и по звёздам - 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вой путь определяю на х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24%20(2)"/>
          <p:cNvPicPr/>
          <p:nvPr/>
        </p:nvPicPr>
        <p:blipFill>
          <a:blip r:embed="rId2"/>
          <a:stretch/>
        </p:blipFill>
        <p:spPr>
          <a:xfrm>
            <a:off x="5796000" y="2421000"/>
            <a:ext cx="2714760" cy="42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ackground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ANd9GcTj5O7VeAptcgqDuxEGPxmRQjcH-2OJkzC6Lm5LuhEDBHzWINTBig"/>
          <p:cNvPicPr/>
          <p:nvPr/>
        </p:nvPicPr>
        <p:blipFill>
          <a:blip r:embed="rId2"/>
          <a:stretch/>
        </p:blipFill>
        <p:spPr>
          <a:xfrm>
            <a:off x="1476360" y="1484280"/>
            <a:ext cx="3384720" cy="338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ANd9GcROuehdFYn2zzNoeaQQMfnHzeVhpTVJm-ThrjieYbunsgesimno1w"/>
          <p:cNvPicPr/>
          <p:nvPr/>
        </p:nvPicPr>
        <p:blipFill>
          <a:blip r:embed="rId3"/>
          <a:stretch/>
        </p:blipFill>
        <p:spPr>
          <a:xfrm>
            <a:off x="2916360" y="2781360"/>
            <a:ext cx="4174920" cy="312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l_ac32b42d"/>
          <p:cNvPicPr/>
          <p:nvPr/>
        </p:nvPicPr>
        <p:blipFill>
          <a:blip r:embed="rId4"/>
          <a:stretch/>
        </p:blipFill>
        <p:spPr>
          <a:xfrm>
            <a:off x="5148360" y="3860640"/>
            <a:ext cx="3779640" cy="2835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1042920" y="33336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«Я просто стараюсь никогда не говорить глупости, и все думают, что я – мудр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background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IMG_0999"/>
          <p:cNvPicPr/>
          <p:nvPr/>
        </p:nvPicPr>
        <p:blipFill>
          <a:blip r:embed="rId2"/>
          <a:stretch/>
        </p:blipFill>
        <p:spPr>
          <a:xfrm>
            <a:off x="1908000" y="83664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background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2"/>
          <a:stretch/>
        </p:blipFill>
        <p:spPr>
          <a:xfrm>
            <a:off x="2556000" y="549360"/>
            <a:ext cx="640548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background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3203640" y="119700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Monotype Corsiva"/>
              </a:rPr>
              <a:t>Башкирия, я снова вдалеке</a:t>
            </a:r>
            <a:br>
              <a:rPr sz="3600"/>
            </a:br>
            <a:r>
              <a:rPr b="0" i="1" lang="en-US" sz="3600" spc="-1" strike="noStrike">
                <a:solidFill>
                  <a:srgbClr val="ff6600"/>
                </a:solidFill>
                <a:latin typeface="Monotype Corsiva"/>
              </a:rPr>
              <a:t>От звезд твоих, но не разлучен с ними.</a:t>
            </a:r>
            <a:br>
              <a:rPr sz="3600"/>
            </a:br>
            <a:r>
              <a:rPr b="0" i="1" lang="en-US" sz="3600" spc="-1" strike="noStrike">
                <a:solidFill>
                  <a:srgbClr val="ff6600"/>
                </a:solidFill>
                <a:latin typeface="Monotype Corsiva"/>
              </a:rPr>
              <a:t>Где б ни был, у меня на языке</a:t>
            </a:r>
            <a:br>
              <a:rPr sz="3600"/>
            </a:br>
            <a:r>
              <a:rPr b="0" i="1" lang="en-US" sz="3600" spc="-1" strike="noStrike">
                <a:solidFill>
                  <a:srgbClr val="ff6600"/>
                </a:solidFill>
                <a:latin typeface="Monotype Corsiva"/>
              </a:rPr>
              <a:t>Всегда твое единственное им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background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Nd9GcRKwf27gtmq0WNXcAj34wLY-rFgqorWuF_WqAbJLhb6vZ_-3x8S"/>
          <p:cNvPicPr/>
          <p:nvPr/>
        </p:nvPicPr>
        <p:blipFill>
          <a:blip r:embed="rId2"/>
          <a:stretch/>
        </p:blipFill>
        <p:spPr>
          <a:xfrm>
            <a:off x="1042920" y="692280"/>
            <a:ext cx="4032360" cy="268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65559046_Mustay_Kar_memdos"/>
          <p:cNvPicPr/>
          <p:nvPr/>
        </p:nvPicPr>
        <p:blipFill>
          <a:blip r:embed="rId3"/>
          <a:stretch/>
        </p:blipFill>
        <p:spPr>
          <a:xfrm>
            <a:off x="5651640" y="260280"/>
            <a:ext cx="3182760" cy="3889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img"/>
          <p:cNvPicPr/>
          <p:nvPr/>
        </p:nvPicPr>
        <p:blipFill>
          <a:blip r:embed="rId4"/>
          <a:stretch/>
        </p:blipFill>
        <p:spPr>
          <a:xfrm>
            <a:off x="3492360" y="3716280"/>
            <a:ext cx="3240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08:38:48Z</dcterms:created>
  <dc:creator>Администратор</dc:creator>
  <dc:description/>
  <dc:language>en-US</dc:language>
  <cp:lastModifiedBy>Администратор</cp:lastModifiedBy>
  <dcterms:modified xsi:type="dcterms:W3CDTF">2015-02-07T17:02:12Z</dcterms:modified>
  <cp:revision>12</cp:revision>
  <dc:subject/>
  <dc:title>Слайд 1</dc:title>
</cp:coreProperties>
</file>