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4C36-5AAB-4CA7-925C-76B5DD11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C9E3-8FB9-4A51-8295-83DF0A70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7E50-A0CD-4EBF-9C97-22F09C1B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A104-F03E-4299-A567-B50DDA654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8934-1119-43A3-BA18-EB27A202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7EB9-2633-4F11-96FD-3153ABA1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EE5A-CA06-4F0A-9AC0-8A791660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07F6-CF7F-42BA-A174-BD5CF46E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7AFB-CBC9-4255-8DAE-5175C2EF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696A-F4BF-4124-B233-E01918D9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66AE-BC21-4543-831A-CDBAFC3B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02E6-C0EB-45C5-8224-CA5C9AE5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BC72-C862-4055-868E-B48021E51A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background-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1187280" y="491040"/>
            <a:ext cx="7777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Есть такое понятие — национальное достоя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Мустай Карим 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— это наше национальное достояние, достояние общечеловеческой культуры нашей большой многонациональной стр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66e716af1dd252a14bcb548c41707d41"/>
          <p:cNvPicPr/>
          <p:nvPr/>
        </p:nvPicPr>
        <p:blipFill>
          <a:blip r:embed="rId2"/>
          <a:stretch/>
        </p:blipFill>
        <p:spPr>
          <a:xfrm>
            <a:off x="3059280" y="2133720"/>
            <a:ext cx="4811400" cy="45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background-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1187280" y="181944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1692360" y="260280"/>
            <a:ext cx="6264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«…став учителем жизни, писатель не может перестать учиться у ЖИЗН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MustayKarim"/>
          <p:cNvPicPr/>
          <p:nvPr/>
        </p:nvPicPr>
        <p:blipFill>
          <a:blip r:embed="rId2"/>
          <a:stretch/>
        </p:blipFill>
        <p:spPr>
          <a:xfrm>
            <a:off x="5648400" y="1773360"/>
            <a:ext cx="3495600" cy="50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background-27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background-2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mustaiKarim_big_ejw_1280"/>
          <p:cNvPicPr/>
          <p:nvPr/>
        </p:nvPicPr>
        <p:blipFill>
          <a:blip r:embed="rId3"/>
          <a:stretch/>
        </p:blipFill>
        <p:spPr>
          <a:xfrm>
            <a:off x="5143680" y="0"/>
            <a:ext cx="4000320" cy="55054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1475280" y="332280"/>
            <a:ext cx="3236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Мустай Карим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поэ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писател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философ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дипломат.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background-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1332000" y="18612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В дороге - ноги. В песне - думы... Хочеш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Прислушайся!.. Я по земле и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И днём - по солнцу и по звёздам - ноч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вой путь определяю на х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24%20(2)"/>
          <p:cNvPicPr/>
          <p:nvPr/>
        </p:nvPicPr>
        <p:blipFill>
          <a:blip r:embed="rId2"/>
          <a:stretch/>
        </p:blipFill>
        <p:spPr>
          <a:xfrm>
            <a:off x="5796000" y="2421000"/>
            <a:ext cx="2714760" cy="42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background-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ANd9GcTj5O7VeAptcgqDuxEGPxmRQjcH-2OJkzC6Lm5LuhEDBHzWINTBig"/>
          <p:cNvPicPr/>
          <p:nvPr/>
        </p:nvPicPr>
        <p:blipFill>
          <a:blip r:embed="rId2"/>
          <a:stretch/>
        </p:blipFill>
        <p:spPr>
          <a:xfrm>
            <a:off x="1476360" y="1484280"/>
            <a:ext cx="3384720" cy="3384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ANd9GcROuehdFYn2zzNoeaQQMfnHzeVhpTVJm-ThrjieYbunsgesimno1w"/>
          <p:cNvPicPr/>
          <p:nvPr/>
        </p:nvPicPr>
        <p:blipFill>
          <a:blip r:embed="rId3"/>
          <a:stretch/>
        </p:blipFill>
        <p:spPr>
          <a:xfrm>
            <a:off x="2916360" y="2781360"/>
            <a:ext cx="4174920" cy="3125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l_ac32b42d"/>
          <p:cNvPicPr/>
          <p:nvPr/>
        </p:nvPicPr>
        <p:blipFill>
          <a:blip r:embed="rId4"/>
          <a:stretch/>
        </p:blipFill>
        <p:spPr>
          <a:xfrm>
            <a:off x="5148360" y="3860640"/>
            <a:ext cx="3779640" cy="28353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1042920" y="33336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«Я просто стараюсь никогда не говорить глупости, и все думают, что я – мудры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background-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IMG_0999"/>
          <p:cNvPicPr/>
          <p:nvPr/>
        </p:nvPicPr>
        <p:blipFill>
          <a:blip r:embed="rId2"/>
          <a:stretch/>
        </p:blipFill>
        <p:spPr>
          <a:xfrm>
            <a:off x="1908000" y="83664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background-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"/>
          <p:cNvPicPr/>
          <p:nvPr/>
        </p:nvPicPr>
        <p:blipFill>
          <a:blip r:embed="rId2"/>
          <a:stretch/>
        </p:blipFill>
        <p:spPr>
          <a:xfrm>
            <a:off x="2556000" y="549360"/>
            <a:ext cx="6405480" cy="48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" descr="background-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9"/>
          <p:cNvSpPr/>
          <p:nvPr/>
        </p:nvSpPr>
        <p:spPr>
          <a:xfrm>
            <a:off x="3203640" y="1197000"/>
            <a:ext cx="496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Monotype Corsiva"/>
              </a:rPr>
              <a:t>Башкирия, я снова вдалеке</a:t>
            </a:r>
            <a:br>
              <a:rPr sz="3600"/>
            </a:br>
            <a:r>
              <a:rPr b="0" i="1" lang="en-US" sz="3600" spc="-1" strike="noStrike">
                <a:solidFill>
                  <a:srgbClr val="ff6600"/>
                </a:solidFill>
                <a:latin typeface="Monotype Corsiva"/>
              </a:rPr>
              <a:t>От звезд твоих, но не разлучен с ними.</a:t>
            </a:r>
            <a:br>
              <a:rPr sz="3600"/>
            </a:br>
            <a:r>
              <a:rPr b="0" i="1" lang="en-US" sz="3600" spc="-1" strike="noStrike">
                <a:solidFill>
                  <a:srgbClr val="ff6600"/>
                </a:solidFill>
                <a:latin typeface="Monotype Corsiva"/>
              </a:rPr>
              <a:t>Где б ни был, у меня на языке</a:t>
            </a:r>
            <a:br>
              <a:rPr sz="3600"/>
            </a:br>
            <a:r>
              <a:rPr b="0" i="1" lang="en-US" sz="3600" spc="-1" strike="noStrike">
                <a:solidFill>
                  <a:srgbClr val="ff6600"/>
                </a:solidFill>
                <a:latin typeface="Monotype Corsiva"/>
              </a:rPr>
              <a:t>Всегда твое единственное им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background-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ANd9GcRKwf27gtmq0WNXcAj34wLY-rFgqorWuF_WqAbJLhb6vZ_-3x8S"/>
          <p:cNvPicPr/>
          <p:nvPr/>
        </p:nvPicPr>
        <p:blipFill>
          <a:blip r:embed="rId2"/>
          <a:stretch/>
        </p:blipFill>
        <p:spPr>
          <a:xfrm>
            <a:off x="1042920" y="692280"/>
            <a:ext cx="4032360" cy="2682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65559046_Mustay_Kar_memdos"/>
          <p:cNvPicPr/>
          <p:nvPr/>
        </p:nvPicPr>
        <p:blipFill>
          <a:blip r:embed="rId3"/>
          <a:stretch/>
        </p:blipFill>
        <p:spPr>
          <a:xfrm>
            <a:off x="5651640" y="260280"/>
            <a:ext cx="3182760" cy="3889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img"/>
          <p:cNvPicPr/>
          <p:nvPr/>
        </p:nvPicPr>
        <p:blipFill>
          <a:blip r:embed="rId4"/>
          <a:stretch/>
        </p:blipFill>
        <p:spPr>
          <a:xfrm>
            <a:off x="3492360" y="3716280"/>
            <a:ext cx="32403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4T08:38:48Z</dcterms:created>
  <dc:creator>Администратор</dc:creator>
  <dc:description/>
  <dc:language>en-US</dc:language>
  <cp:lastModifiedBy>Администратор</cp:lastModifiedBy>
  <dcterms:modified xsi:type="dcterms:W3CDTF">2015-02-07T17:02:12Z</dcterms:modified>
  <cp:revision>12</cp:revision>
  <dc:subject/>
  <dc:title>Слайд 1</dc:title>
</cp:coreProperties>
</file>