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gif" ContentType="image/gif"/>
  <Override PartName="/ppt/media/image16.png" ContentType="image/png"/>
  <Override PartName="/ppt/media/image7.gif" ContentType="image/gif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D41-12E1-431A-8718-0307013A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A20-8F1E-4BD8-A93D-E6C8706E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51D-5C96-4241-91D2-FB2E0055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210-3B0D-4E57-A642-D10482DF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2C8B7-C2D9-4828-8C49-483110BF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63C28-3BFD-44E2-A8D0-F12A111B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48785-7D8B-420D-92DF-CF0ABCC3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53314-63D2-433B-9CC3-76802A4A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C36C8-3BBA-4F10-9543-57047C5B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1BFE1-88A3-498D-95EF-BA7FD922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40AF5-57EF-4F5A-BB62-6D56C538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449-609A-4124-9C68-3A51C04B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B01CF-5315-42BC-A9C1-E3D13756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1257A-AA41-41BA-BC3B-532A3504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A7766-266B-4E2A-808D-25F9A203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F2C60-F0EC-4979-AD8C-3B5FB571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9F32A-F0CA-4627-873A-0D974933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2F3-BEC8-4E14-BA57-F34CA7F7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2AF-D0D1-48E5-BB5F-05F99A66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B3F-14B1-4C8D-9712-E3482653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685-C88B-4CF1-B81C-BB591538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86D-B038-4B83-A2EF-10654A24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E4A-D346-4410-9BDC-6BB0856F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724-A914-467F-9B03-2CA88803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19E8-609B-41A3-BDFC-6B32C7657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3E95-9520-44C1-B598-19A8397787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6"/>
          <p:cNvSpPr txBox="1"/>
          <p:nvPr/>
        </p:nvSpPr>
        <p:spPr>
          <a:xfrm>
            <a:off x="0" y="1219320"/>
            <a:ext cx="89154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бро пожаловать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Лондон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80880" y="685800"/>
            <a:ext cx="8610840" cy="569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полнил учитель 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глийского языка  Зоря С. В.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Classic Russian"/>
              </a:rPr>
              <a:t>Гайд-парк (Hyde Park)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йд-парк стал Королевским парком в 1536 году, когда он был выкуплен королем Генри VIII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мыми известными достопримечательностями парка являются Серпантин, озеро для купания и катания на лодках, и Rotten Row, знаменитая на весь мир дорога для верховой езды, которая освещается по ноч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hyde_park2"/>
          <p:cNvPicPr/>
          <p:nvPr/>
        </p:nvPicPr>
        <p:blipFill>
          <a:blip r:embed="rId1"/>
          <a:stretch/>
        </p:blipFill>
        <p:spPr>
          <a:xfrm>
            <a:off x="4643280" y="1700280"/>
            <a:ext cx="4500720" cy="4968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9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56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14400" y="1600200"/>
            <a:ext cx="6477120" cy="32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Brigh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Bright"/>
              </a:rPr>
              <a:t>The En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Bright"/>
              <a:ea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ндо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Londo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-                 столица Великобритании - один из самых интересных городов ми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лощадь: 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72 кв. к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еление: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 млн. чел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dk"/>
          <p:cNvPicPr/>
          <p:nvPr/>
        </p:nvPicPr>
        <p:blipFill>
          <a:blip r:embed="rId1"/>
          <a:stretch/>
        </p:blipFill>
        <p:spPr>
          <a:xfrm>
            <a:off x="6664320" y="2894040"/>
            <a:ext cx="11160" cy="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карта"/>
          <p:cNvPicPr/>
          <p:nvPr/>
        </p:nvPicPr>
        <p:blipFill>
          <a:blip r:embed="rId2"/>
          <a:stretch/>
        </p:blipFill>
        <p:spPr>
          <a:xfrm>
            <a:off x="152280" y="1523880"/>
            <a:ext cx="4864320" cy="5029200"/>
          </a:xfrm>
          <a:prstGeom prst="rect">
            <a:avLst/>
          </a:prstGeom>
          <a:ln w="28440">
            <a:solidFill>
              <a:srgbClr val="010199"/>
            </a:solidFill>
            <a:miter/>
          </a:ln>
        </p:spPr>
      </p:pic>
      <p:sp>
        <p:nvSpPr>
          <p:cNvPr id="88" name="Line 6"/>
          <p:cNvSpPr/>
          <p:nvPr/>
        </p:nvSpPr>
        <p:spPr>
          <a:xfrm>
            <a:off x="7093080" y="5445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9" name="Line 7"/>
          <p:cNvSpPr/>
          <p:nvPr/>
        </p:nvSpPr>
        <p:spPr>
          <a:xfrm>
            <a:off x="7164360" y="5445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990720" y="152280"/>
            <a:ext cx="701028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ондон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10" descr="d007"/>
          <p:cNvPicPr/>
          <p:nvPr/>
        </p:nvPicPr>
        <p:blipFill>
          <a:blip r:embed="rId3"/>
          <a:stretch/>
        </p:blipFill>
        <p:spPr>
          <a:xfrm>
            <a:off x="7905600" y="685800"/>
            <a:ext cx="1238400" cy="18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тория Лондона начинается с высадки римлян на Британские острова в 43 году н.э. Для того, чтобы переправится на другой берег Темзы, они возвели мост через рек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Римское поселение на северном берегу Темзы, названное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Londinium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, становится центром торгов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коло 200 года город был обнесен крепостной стеной, которая почти на тысячелетие определила его размеры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228600" y="380880"/>
            <a:ext cx="85345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1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тория Лондо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welcome10"/>
          <p:cNvPicPr/>
          <p:nvPr/>
        </p:nvPicPr>
        <p:blipFill>
          <a:blip r:embed="rId1"/>
          <a:stretch/>
        </p:blipFill>
        <p:spPr>
          <a:xfrm>
            <a:off x="4343400" y="-228600"/>
            <a:ext cx="3733920" cy="1512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2514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Лондон известен не только своими музеями, архитектурными ансамблями. В нем расположены множество поразительных достопримечательностей, ничего похожего на которые нет в остальном мир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228600" y="685800"/>
            <a:ext cx="8534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гулка по Лондан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19360" y="-360"/>
            <a:ext cx="4724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ff"/>
                </a:solidFill>
                <a:latin typeface="Classic Russian"/>
              </a:rPr>
              <a:t>Big Ben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то огромные часы, установленные на башне Святого Стефана Вестминстерского дворца, где заседают обе палаты британского парлам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мя Биг Бена окружают интересные истории. Официальная версия: колокол назван в честь начальника строительных работ сэра Бенджамина Хола. Другая версия - колокол получил свое название от силача и боксера времен королевы Виктории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3962160" cy="4647960"/>
          </a:xfrm>
          <a:prstGeom prst="rect">
            <a:avLst/>
          </a:prstGeom>
          <a:ln w="9360">
            <a:solidFill>
              <a:srgbClr val="ffff00"/>
            </a:solidFill>
            <a:prstDash val="lgDash"/>
            <a:miter/>
          </a:ln>
        </p:spPr>
      </p:pic>
    </p:spTree>
  </p:cSld>
  <p:transition>
    <p:circl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2aff0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Classic Russian"/>
              </a:rPr>
              <a:t>Парламент (Houses of Parli</a:t>
            </a:r>
            <a:r>
              <a:rPr b="1" lang="en-US" sz="4000" spc="-1" strike="noStrike">
                <a:solidFill>
                  <a:srgbClr val="ff00ff"/>
                </a:solidFill>
                <a:latin typeface="Classic Russian"/>
              </a:rPr>
              <a:t>a</a:t>
            </a:r>
            <a:r>
              <a:rPr b="1" lang="ru-RU" sz="4000" spc="-1" strike="noStrike">
                <a:solidFill>
                  <a:srgbClr val="ff00ff"/>
                </a:solidFill>
                <a:latin typeface="Classic Russian"/>
              </a:rPr>
              <a:t>ment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Заседание британского парламента проходит в здании Вестминстерского Дворца (Palace of Westminster), которое было построено в 1840 год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Главным элементом архитектуры здания является часовая башня, известная под названием Big B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Parliament2"/>
          <p:cNvPicPr/>
          <p:nvPr/>
        </p:nvPicPr>
        <p:blipFill>
          <a:blip r:embed="rId1"/>
          <a:stretch/>
        </p:blipFill>
        <p:spPr>
          <a:xfrm>
            <a:off x="4419720" y="1447920"/>
            <a:ext cx="4100400" cy="4464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495680" y="15998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вляется одним из красивейших соборов Лондона. Здесь короновались все английские монархи с 1066 года. Собор является местом проведения различных церемоний, здесь захоронены короли и королевы, находятся бесчисленные монументы известных и великих людей.</a:t>
            </a:r>
            <a:r>
              <a:rPr b="0" lang="ru-RU" sz="16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ABBEY_WE"/>
          <p:cNvPicPr/>
          <p:nvPr/>
        </p:nvPicPr>
        <p:blipFill>
          <a:blip r:embed="rId1"/>
          <a:stretch/>
        </p:blipFill>
        <p:spPr>
          <a:xfrm>
            <a:off x="228600" y="1905120"/>
            <a:ext cx="4032360" cy="47480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228600" y="0"/>
            <a:ext cx="8686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тминистерское Аббатств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Westminister Abbey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yrillicCooper"/>
              </a:rPr>
              <a:t>Национальная галерея</a:t>
            </a:r>
            <a:r>
              <a:rPr b="0" lang="ru-RU" sz="4000" spc="-1" strike="noStrike">
                <a:solidFill>
                  <a:srgbClr val="990033"/>
                </a:solidFill>
                <a:latin typeface="CyrillicCooper"/>
              </a:rPr>
              <a:t> (National Gallery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 из самых больших галерей в мире. Здесь представлена самая лучшая коллекция полоте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NationalGallery2"/>
          <p:cNvPicPr/>
          <p:nvPr/>
        </p:nvPicPr>
        <p:blipFill>
          <a:blip r:embed="rId1"/>
          <a:stretch/>
        </p:blipFill>
        <p:spPr>
          <a:xfrm>
            <a:off x="4572000" y="1773360"/>
            <a:ext cx="4170240" cy="4319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99"/>
                </a:solidFill>
                <a:latin typeface="Classic Russian"/>
              </a:rPr>
              <a:t>Собор Святого Петра (St Paul's Cathedral)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ор является резиденцией Епископа Лондона и главной церковью Епархии Лондо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оборе Святого Петра происходили самые разные церемонии на протяжении всей истории Лондона. например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хороны Лорда Нельсон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енчание Принца Чарльза и Леди Дианы Спенсер в 1981 год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ST_PAUL2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606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4T13:08:40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