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gif" ContentType="image/gif"/>
  <Override PartName="/ppt/media/image16.png" ContentType="image/png"/>
  <Override PartName="/ppt/media/image7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E88-5F36-4E7B-9E1C-645B4E0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D59-7A78-4C29-910C-49894C0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6E2-5869-46C6-BE12-4B85A0B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D7C-FDA6-4487-8E36-B4D7CCF9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04A0-2CA3-49D6-B4CF-E4EAE62C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C4439-AB0B-482A-BA67-69AAA5FF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0EF5-FB4F-4DA3-B9BE-07E01DF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FEB2-465A-4F3A-AA28-AC33228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1A7D-3D66-40E5-A019-3CA45D5F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F7C57-8DB8-45E0-BE3F-763294A3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DA803-7B54-44CA-9F15-E9E3F6F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B77-5342-4114-9463-F209552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2ED9-025E-4701-8A0A-7D134B1D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9ECDE-BFD7-4ED6-98DF-C1586F4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6D17F-1AB7-4636-B33D-57714206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3E826-773C-4289-8724-82A9B93D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A14A-99F4-4610-B6E1-29E0CCB1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760-79CE-4F30-B54B-366461C3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D09-AEC4-487B-86A6-BF27CFAD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340-208A-4561-B0A4-46B59A2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A30-D08D-47AE-9555-B9918CD6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F63-F5FF-47FA-91DD-496130E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3B3-C2C2-40CA-9848-B9A5604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CBA-35BE-4387-AB90-22010F2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840-A61D-4FCD-9CF2-A3705D4DC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8943-CF74-4661-9DFC-61FD9F0C8F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>
            <a:off x="0" y="1219320"/>
            <a:ext cx="89154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 пожаловать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Лондон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0880" y="685800"/>
            <a:ext cx="8610840" cy="569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 учитель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глийского языка  Зоря С. В.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Classic Russian"/>
              </a:rPr>
              <a:t>Гайд-парк (Hyde Park)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йд-парк стал Королевским парком в 1536 году, когда он был выкуплен королем Генри VIII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и известными достопримечательностями парка являются Серпантин, озеро для купания и катания на лодках, и Rotten Row, знаменитая на весь мир дорога для верховой езды, которая освещается по ноч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hyde_park2"/>
          <p:cNvPicPr/>
          <p:nvPr/>
        </p:nvPicPr>
        <p:blipFill>
          <a:blip r:embed="rId1"/>
          <a:stretch/>
        </p:blipFill>
        <p:spPr>
          <a:xfrm>
            <a:off x="4643280" y="1700280"/>
            <a:ext cx="4500720" cy="49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914400" y="1600200"/>
            <a:ext cx="6477120" cy="32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Brigh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Bright"/>
              </a:rPr>
              <a:t>The En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Bright"/>
              <a:ea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нд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-                 столица Великобритании - один из самых интересных городов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ощадь: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72 кв.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еление: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 млн. че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dk"/>
          <p:cNvPicPr/>
          <p:nvPr/>
        </p:nvPicPr>
        <p:blipFill>
          <a:blip r:embed="rId1"/>
          <a:stretch/>
        </p:blipFill>
        <p:spPr>
          <a:xfrm>
            <a:off x="6664320" y="2894040"/>
            <a:ext cx="11160" cy="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карта"/>
          <p:cNvPicPr/>
          <p:nvPr/>
        </p:nvPicPr>
        <p:blipFill>
          <a:blip r:embed="rId2"/>
          <a:stretch/>
        </p:blipFill>
        <p:spPr>
          <a:xfrm>
            <a:off x="152280" y="1523880"/>
            <a:ext cx="4864320" cy="5029200"/>
          </a:xfrm>
          <a:prstGeom prst="rect">
            <a:avLst/>
          </a:prstGeom>
          <a:ln w="28440">
            <a:solidFill>
              <a:srgbClr val="010199"/>
            </a:solidFill>
            <a:miter/>
          </a:ln>
        </p:spPr>
      </p:pic>
      <p:sp>
        <p:nvSpPr>
          <p:cNvPr id="88" name="Line 6"/>
          <p:cNvSpPr/>
          <p:nvPr/>
        </p:nvSpPr>
        <p:spPr>
          <a:xfrm>
            <a:off x="709308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16436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990720" y="152280"/>
            <a:ext cx="70102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ондо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10" descr="d007"/>
          <p:cNvPicPr/>
          <p:nvPr/>
        </p:nvPicPr>
        <p:blipFill>
          <a:blip r:embed="rId3"/>
          <a:stretch/>
        </p:blipFill>
        <p:spPr>
          <a:xfrm>
            <a:off x="7905600" y="68580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тория Лондона начинается с высадки римлян на Британские острова в 43 году н.э. Для того, чтобы переправится на другой берег Темзы, они возвели мост через ре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имское поселение на северном берегу Темзы, названно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Londinium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, становится центром торгов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коло 200 года город был обнесен крепостной стеной, которая почти на тысячелетие определила его размеры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28600" y="380880"/>
            <a:ext cx="8534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Лондо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elcome10"/>
          <p:cNvPicPr/>
          <p:nvPr/>
        </p:nvPicPr>
        <p:blipFill>
          <a:blip r:embed="rId1"/>
          <a:stretch/>
        </p:blipFill>
        <p:spPr>
          <a:xfrm>
            <a:off x="4343400" y="-228600"/>
            <a:ext cx="3733920" cy="1512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Лондон известен не только своими музеями, архитектурными ансамблями. В нем расположены множество поразительных достопримечательностей, ничего похожего на которые нет в остальном мир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28600" y="685800"/>
            <a:ext cx="8534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гулка по Лондан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Classic Russian"/>
              </a:rPr>
              <a:t>Big Be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 огромные часы, установленные на башне Святого Стефана Вестминстерского дворца, где заседают обе палаты британского парлам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мя Биг Бена окружают интересные истории. Официальная версия: колокол назван в честь начальника строительных работ сэра Бенджамина Хола. Другая версия - колокол получил свое название от силача и боксера времен королевы Виктори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3962160" cy="4647960"/>
          </a:xfrm>
          <a:prstGeom prst="rect">
            <a:avLst/>
          </a:prstGeom>
          <a:ln w="9360">
            <a:solidFill>
              <a:srgbClr val="ffff00"/>
            </a:solidFill>
            <a:prstDash val="lgDash"/>
            <a:miter/>
          </a:ln>
        </p:spPr>
      </p:pic>
    </p:spTree>
  </p:cSld>
  <p:transition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2aff0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lassic Russian"/>
              </a:rPr>
              <a:t>Парламент (Houses of Parli</a:t>
            </a:r>
            <a:r>
              <a:rPr b="1" lang="en-US" sz="4000" spc="-1" strike="noStrike">
                <a:solidFill>
                  <a:srgbClr val="ff00ff"/>
                </a:solidFill>
                <a:latin typeface="Classic Russian"/>
              </a:rPr>
              <a:t>a</a:t>
            </a:r>
            <a:r>
              <a:rPr b="1" lang="ru-RU" sz="4000" spc="-1" strike="noStrike">
                <a:solidFill>
                  <a:srgbClr val="ff00ff"/>
                </a:solidFill>
                <a:latin typeface="Classic Russian"/>
              </a:rPr>
              <a:t>men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Заседание британского парламента проходит в здании Вестминстерского Дворца (Palace of Westminster), которое было построено в 1840 год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Главным элементом архитектуры здания является часовая башня, известная под названием Big B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Parliament2"/>
          <p:cNvPicPr/>
          <p:nvPr/>
        </p:nvPicPr>
        <p:blipFill>
          <a:blip r:embed="rId1"/>
          <a:stretch/>
        </p:blipFill>
        <p:spPr>
          <a:xfrm>
            <a:off x="4419720" y="1447920"/>
            <a:ext cx="4100400" cy="446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ется одним из красивейших соборов Лондона. Здесь короновались все английские монархи с 1066 года. Собор является местом проведения различных церемоний, здесь захоронены короли и королевы, находятся бесчисленные монументы известных и великих людей.</a:t>
            </a: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ABBEY_WE"/>
          <p:cNvPicPr/>
          <p:nvPr/>
        </p:nvPicPr>
        <p:blipFill>
          <a:blip r:embed="rId1"/>
          <a:stretch/>
        </p:blipFill>
        <p:spPr>
          <a:xfrm>
            <a:off x="228600" y="1905120"/>
            <a:ext cx="4032360" cy="47480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228600" y="0"/>
            <a:ext cx="8686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тминистерское Аббатств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Westminister Abbey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yrillicCooper"/>
              </a:rPr>
              <a:t>Национальная галерея</a:t>
            </a:r>
            <a:r>
              <a:rPr b="0" lang="ru-RU" sz="4000" spc="-1" strike="noStrike">
                <a:solidFill>
                  <a:srgbClr val="990033"/>
                </a:solidFill>
                <a:latin typeface="CyrillicCooper"/>
              </a:rPr>
              <a:t> (National Gallery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 из самых больших галерей в мире. Здесь представлена самая лучшая коллекция полоте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NationalGallery2"/>
          <p:cNvPicPr/>
          <p:nvPr/>
        </p:nvPicPr>
        <p:blipFill>
          <a:blip r:embed="rId1"/>
          <a:stretch/>
        </p:blipFill>
        <p:spPr>
          <a:xfrm>
            <a:off x="4572000" y="1773360"/>
            <a:ext cx="4170240" cy="431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Classic Russian"/>
              </a:rPr>
              <a:t>Собор Святого Петра (St Paul's Cathedral)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 является резиденцией Епископа Лондона и главной церковью Епархии Лондо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боре Святого Петра происходили самые разные церемонии на протяжении всей истории Лондона. наприме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роны Лорда Нельсо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нчание Принца Чарльза и Леди Дианы Спенсер в 1981 г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ST_PAUL2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13:08:4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