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70DE-1210-4EB0-A612-0C01DD882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262-3C7B-46BC-BF4B-941F5BD5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C568-A28D-4890-95A0-571FD395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A58-679B-4023-90FC-9FFA08CD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EE2-CF23-4A9D-9BA4-BBFE91B6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C8EE-F907-4FC9-9D79-1061B241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470-AF77-4780-80E0-9C5B43BC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F362-5D79-45E9-92BF-091A29D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594-6581-4C91-BBB5-36BE6AA7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CD6-D0B9-4863-93A5-BBCA31C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806-43F1-41ED-AFE5-6B4A043A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EF6-BA76-48F2-B828-EEAC48B5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DEE8-F90C-4016-8919-9427DF26F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23_februa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_40858097_203_9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23fev_demotr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23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str1"/>
          <p:cNvPicPr/>
          <p:nvPr/>
        </p:nvPicPr>
        <p:blipFill>
          <a:blip r:embed="rId1"/>
          <a:stretch/>
        </p:blipFill>
        <p:spPr>
          <a:xfrm>
            <a:off x="-428760" y="0"/>
            <a:ext cx="9358560" cy="1161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23feb-05"/>
          <p:cNvPicPr/>
          <p:nvPr/>
        </p:nvPicPr>
        <p:blipFill>
          <a:blip r:embed="rId1"/>
          <a:stretch/>
        </p:blipFill>
        <p:spPr>
          <a:xfrm>
            <a:off x="0" y="0"/>
            <a:ext cx="892980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23feb-02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23feb-01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2036926"/>
          <p:cNvPicPr/>
          <p:nvPr/>
        </p:nvPicPr>
        <p:blipFill>
          <a:blip r:embed="rId1"/>
          <a:stretch/>
        </p:blipFill>
        <p:spPr>
          <a:xfrm>
            <a:off x="285840" y="0"/>
            <a:ext cx="48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73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1"/>
          <p:cNvPicPr/>
          <p:nvPr/>
        </p:nvPicPr>
        <p:blipFill>
          <a:blip r:embed="rId2"/>
          <a:srcRect l="12460" t="0" r="6506" b="0"/>
          <a:stretch/>
        </p:blipFill>
        <p:spPr>
          <a:xfrm>
            <a:off x="395280" y="476280"/>
            <a:ext cx="3541680" cy="61293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999600" y="3789000"/>
            <a:ext cx="509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годня в двери к нам стучится праздник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равить мы сегодня Вас должны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о, кто в море буйном плавал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го, кто на границе наши жизни сторож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23_february"/>
          <p:cNvPicPr/>
          <p:nvPr/>
        </p:nvPicPr>
        <p:blipFill>
          <a:blip r:embed="rId1"/>
          <a:stretch/>
        </p:blipFill>
        <p:spPr>
          <a:xfrm>
            <a:off x="0" y="0"/>
            <a:ext cx="911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2"/>
          <p:cNvPicPr/>
          <p:nvPr/>
        </p:nvPicPr>
        <p:blipFill>
          <a:blip r:embed="rId2"/>
          <a:stretch/>
        </p:blipFill>
        <p:spPr>
          <a:xfrm>
            <a:off x="324000" y="1125360"/>
            <a:ext cx="3530520" cy="53280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3855960" y="3860640"/>
            <a:ext cx="52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ужили Вы, на страже охраня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имых и родных спокойный сон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ждали Вас, молясь и замирая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лось, сердце бьется с Вашим в уни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395280" y="1700280"/>
            <a:ext cx="5533920" cy="37036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3137040" y="5445000"/>
            <a:ext cx="492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надо нам наград, и подвигов не надо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почести и славу любим в Вас!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просто любим. Разве это мало?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будем Вас любить - таков судьбы ук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5"/>
          <p:cNvPicPr/>
          <p:nvPr/>
        </p:nvPicPr>
        <p:blipFill>
          <a:blip r:embed="rId2"/>
          <a:stretch/>
        </p:blipFill>
        <p:spPr>
          <a:xfrm>
            <a:off x="324000" y="1268280"/>
            <a:ext cx="3225600" cy="52531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3709440" y="3571200"/>
            <a:ext cx="517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растил немало русский фло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ынов надежных и спокойных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и стране родной оплот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служат Родине достой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4"/>
          <p:cNvPicPr/>
          <p:nvPr/>
        </p:nvPicPr>
        <p:blipFill>
          <a:blip r:embed="rId2"/>
          <a:srcRect l="4514" t="0" r="0" b="8401"/>
          <a:stretch/>
        </p:blipFill>
        <p:spPr>
          <a:xfrm>
            <a:off x="250920" y="907920"/>
            <a:ext cx="3402000" cy="496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3994920" y="3390480"/>
            <a:ext cx="501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поздравляем всех мужчин!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им любви желае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будут сердцем горяч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 душах их огонь пыл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6"/>
          <p:cNvPicPr/>
          <p:nvPr/>
        </p:nvPicPr>
        <p:blipFill>
          <a:blip r:embed="rId2"/>
          <a:stretch/>
        </p:blipFill>
        <p:spPr>
          <a:xfrm>
            <a:off x="611280" y="1052640"/>
            <a:ext cx="3043080" cy="51321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636000" y="3931560"/>
            <a:ext cx="524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усть солнце светит над земле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воин пусть не будет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сила, славный наш герой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благо только буд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7"/>
          <p:cNvPicPr/>
          <p:nvPr/>
        </p:nvPicPr>
        <p:blipFill>
          <a:blip r:embed="rId2"/>
          <a:stretch/>
        </p:blipFill>
        <p:spPr>
          <a:xfrm>
            <a:off x="250920" y="981000"/>
            <a:ext cx="5637240" cy="38052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746280" y="4777200"/>
            <a:ext cx="7194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дравляем Вас с праздником - Днем армии и флота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лужба и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всегда прос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ы Вам Желаем жить, любить, трудиться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если улыбнется Вам счастливая звезд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и до генерала дослуж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8"/>
          <p:cNvPicPr/>
          <p:nvPr/>
        </p:nvPicPr>
        <p:blipFill>
          <a:blip r:embed="rId2"/>
          <a:stretch/>
        </p:blipFill>
        <p:spPr>
          <a:xfrm>
            <a:off x="250920" y="1341360"/>
            <a:ext cx="3574800" cy="51372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46960" y="3794760"/>
            <a:ext cx="4650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рекрасном имени Мужчин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ожились мужество и ст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нье думать и мечтать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ть вдохновенным без причин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еть любить, уметь дар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9"/>
          <p:cNvPicPr/>
          <p:nvPr/>
        </p:nvPicPr>
        <p:blipFill>
          <a:blip r:embed="rId2"/>
          <a:srcRect l="4507" t="0" r="0" b="5734"/>
          <a:stretch/>
        </p:blipFill>
        <p:spPr>
          <a:xfrm>
            <a:off x="324000" y="1052640"/>
            <a:ext cx="3433680" cy="53290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4136040" y="2637000"/>
            <a:ext cx="3239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пу поздравляю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праздником мужским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юности, я знаю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рмии служил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ит тоже вои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ь не командир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а достоин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хранял весь мир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меня ты - главн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е не дашь пропасть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 Отчизны славной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ленькая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10"/>
          <p:cNvPicPr/>
          <p:nvPr/>
        </p:nvPicPr>
        <p:blipFill>
          <a:blip r:embed="rId2"/>
          <a:srcRect l="0" t="0" r="0" b="9166"/>
          <a:stretch/>
        </p:blipFill>
        <p:spPr>
          <a:xfrm>
            <a:off x="324000" y="1628640"/>
            <a:ext cx="3849480" cy="4753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4292640" y="3499200"/>
            <a:ext cx="4859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ветит солнце в мирном небе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зовет труба солдат в похо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пожелать хотелось мне бы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 был здоров мужской наш род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в небе солнце ярко светит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не коснется нас бед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сть спят спокойно наши дети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годня, завтра и всег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mgraphics.ru/images/truk/23f/3.jpg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11"/>
          <p:cNvPicPr/>
          <p:nvPr/>
        </p:nvPicPr>
        <p:blipFill>
          <a:blip r:embed="rId2"/>
          <a:srcRect l="8175" t="2808" r="3708" b="6175"/>
          <a:stretch/>
        </p:blipFill>
        <p:spPr>
          <a:xfrm>
            <a:off x="250920" y="549360"/>
            <a:ext cx="3763800" cy="56880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4140360" y="3860640"/>
            <a:ext cx="489564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дравляе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23feb-01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02"/>
          <p:cNvPicPr/>
          <p:nvPr/>
        </p:nvPicPr>
        <p:blipFill>
          <a:blip r:embed="rId1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3"/>
          <p:cNvPicPr/>
          <p:nvPr/>
        </p:nvPicPr>
        <p:blipFill>
          <a:blip r:embed="rId1"/>
          <a:stretch/>
        </p:blipFill>
        <p:spPr>
          <a:xfrm>
            <a:off x="-214200" y="0"/>
            <a:ext cx="9429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23feb-02"/>
          <p:cNvPicPr/>
          <p:nvPr/>
        </p:nvPicPr>
        <p:blipFill>
          <a:blip r:embed="rId1"/>
          <a:stretch/>
        </p:blipFill>
        <p:spPr>
          <a:xfrm>
            <a:off x="0" y="0"/>
            <a:ext cx="9144000" cy="75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17783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23-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"/>
          <p:cNvSpPr/>
          <p:nvPr/>
        </p:nvSpPr>
        <p:spPr>
          <a:xfrm>
            <a:off x="0" y="95292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енные звания современной Российской армии в порядке возрас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фрей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серж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прапор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пор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ладший 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рший 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апи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ай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май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полковн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енерал-лейтенан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010"/>
          <p:cNvPicPr/>
          <p:nvPr/>
        </p:nvPicPr>
        <p:blipFill>
          <a:blip r:embed="rId1"/>
          <a:stretch/>
        </p:blipFill>
        <p:spPr>
          <a:xfrm>
            <a:off x="0" y="-262080"/>
            <a:ext cx="8929800" cy="119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8:32:14Z</dcterms:created>
  <dc:creator>XTreme</dc:creator>
  <dc:description/>
  <dc:language>en-US</dc:language>
  <cp:lastModifiedBy>XTreme</cp:lastModifiedBy>
  <dcterms:modified xsi:type="dcterms:W3CDTF">2010-02-19T17:05:35Z</dcterms:modified>
  <cp:revision>7</cp:revision>
  <dc:subject/>
  <dc:title>Слайд 1</dc:title>
</cp:coreProperties>
</file>