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B73-711E-48F7-9A54-321153C4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A360-6474-41F3-B420-50B503CE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27E-F71B-41AE-B5C8-091AE78C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2FE-722C-4CCF-BBC3-8EDB5F24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05F-22FC-4BAE-B1D1-65A88807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317-CC0D-4DB9-A5EB-90F887AC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89DE-E16D-4C00-83EF-7166403E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7B5-C449-4EAE-903E-8FDB70BB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F415-6616-46D3-9B4C-F97C1F04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4C6B-96C2-4AF0-A1BE-AC51F540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DDD-76B5-4244-94EC-FBB12EA6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63E4-3228-47EA-BF64-98B47F75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E738-A1B2-405E-B539-DF222CA1CA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23_februa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_40858097_203_9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23fev_demotr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23-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str1"/>
          <p:cNvPicPr/>
          <p:nvPr/>
        </p:nvPicPr>
        <p:blipFill>
          <a:blip r:embed="rId1"/>
          <a:stretch/>
        </p:blipFill>
        <p:spPr>
          <a:xfrm>
            <a:off x="-428760" y="0"/>
            <a:ext cx="9358560" cy="1161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23feb-05"/>
          <p:cNvPicPr/>
          <p:nvPr/>
        </p:nvPicPr>
        <p:blipFill>
          <a:blip r:embed="rId1"/>
          <a:stretch/>
        </p:blipFill>
        <p:spPr>
          <a:xfrm>
            <a:off x="0" y="0"/>
            <a:ext cx="8929800" cy="89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23feb-02"/>
          <p:cNvPicPr/>
          <p:nvPr/>
        </p:nvPicPr>
        <p:blipFill>
          <a:blip r:embed="rId1"/>
          <a:stretch/>
        </p:blipFill>
        <p:spPr>
          <a:xfrm>
            <a:off x="0" y="0"/>
            <a:ext cx="9144000" cy="75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23feb-01"/>
          <p:cNvPicPr/>
          <p:nvPr/>
        </p:nvPicPr>
        <p:blipFill>
          <a:blip r:embed="rId1"/>
          <a:stretch/>
        </p:blipFill>
        <p:spPr>
          <a:xfrm>
            <a:off x="0" y="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2036926"/>
          <p:cNvPicPr/>
          <p:nvPr/>
        </p:nvPicPr>
        <p:blipFill>
          <a:blip r:embed="rId1"/>
          <a:stretch/>
        </p:blipFill>
        <p:spPr>
          <a:xfrm>
            <a:off x="285840" y="0"/>
            <a:ext cx="48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73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mgraphics.ru/images/truk/23f/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1"/>
          <p:cNvPicPr/>
          <p:nvPr/>
        </p:nvPicPr>
        <p:blipFill>
          <a:blip r:embed="rId2"/>
          <a:srcRect l="12460" t="0" r="6506" b="0"/>
          <a:stretch/>
        </p:blipFill>
        <p:spPr>
          <a:xfrm>
            <a:off x="395280" y="476280"/>
            <a:ext cx="3541680" cy="6129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3999600" y="3789000"/>
            <a:ext cx="50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годня в двери к нам стучится праздник!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равить мы сегодня Вас должны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го, кто в море буйном плавал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го, кто на границе наши жизни сторож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23_february"/>
          <p:cNvPicPr/>
          <p:nvPr/>
        </p:nvPicPr>
        <p:blipFill>
          <a:blip r:embed="rId1"/>
          <a:stretch/>
        </p:blipFill>
        <p:spPr>
          <a:xfrm>
            <a:off x="0" y="0"/>
            <a:ext cx="911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mgraphics.ru/images/truk/23f/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2"/>
          <p:cNvPicPr/>
          <p:nvPr/>
        </p:nvPicPr>
        <p:blipFill>
          <a:blip r:embed="rId2"/>
          <a:stretch/>
        </p:blipFill>
        <p:spPr>
          <a:xfrm>
            <a:off x="324000" y="1125360"/>
            <a:ext cx="3530520" cy="532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3855960" y="3860640"/>
            <a:ext cx="52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ужили Вы, на страже охраня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имых и родных спокойный сон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ждали Вас, молясь и замирая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алось, сердце бьется с Вашим в унис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://mgraphics.ru/images/truk/23f/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3"/>
          <p:cNvPicPr/>
          <p:nvPr/>
        </p:nvPicPr>
        <p:blipFill>
          <a:blip r:embed="rId2"/>
          <a:stretch/>
        </p:blipFill>
        <p:spPr>
          <a:xfrm>
            <a:off x="395280" y="1700280"/>
            <a:ext cx="5533920" cy="37036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3137040" y="5445000"/>
            <a:ext cx="492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надо нам наград, и подвигов не надо!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очести и славу любим в Вас!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просто любим. Разве это мало?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будем Вас любить - таков судьбы ук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mgraphics.ru/images/truk/23f/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5"/>
          <p:cNvPicPr/>
          <p:nvPr/>
        </p:nvPicPr>
        <p:blipFill>
          <a:blip r:embed="rId2"/>
          <a:stretch/>
        </p:blipFill>
        <p:spPr>
          <a:xfrm>
            <a:off x="324000" y="1268280"/>
            <a:ext cx="3225600" cy="52531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3709440" y="3571200"/>
            <a:ext cx="517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растил немало русский флот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ынов надежных и спокойных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стране родной оплот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лужат Родине достой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://mgraphics.ru/images/truk/23f/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4"/>
          <p:cNvPicPr/>
          <p:nvPr/>
        </p:nvPicPr>
        <p:blipFill>
          <a:blip r:embed="rId2"/>
          <a:srcRect l="4514" t="0" r="0" b="8401"/>
          <a:stretch/>
        </p:blipFill>
        <p:spPr>
          <a:xfrm>
            <a:off x="250920" y="907920"/>
            <a:ext cx="3402000" cy="4967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3994920" y="3390480"/>
            <a:ext cx="501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поздравляем всех мужчин!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им любви желае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будут сердцем горяч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 душах их огонь пыл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mgraphics.ru/images/truk/23f/3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6"/>
          <p:cNvPicPr/>
          <p:nvPr/>
        </p:nvPicPr>
        <p:blipFill>
          <a:blip r:embed="rId2"/>
          <a:stretch/>
        </p:blipFill>
        <p:spPr>
          <a:xfrm>
            <a:off x="611280" y="1052640"/>
            <a:ext cx="3043080" cy="51321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3636000" y="3931560"/>
            <a:ext cx="524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солнце светит над земле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оин пусть не будет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сила, славный наш герой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благо только буд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http://mgraphics.ru/images/truk/23f/3.jpg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7"/>
          <p:cNvPicPr/>
          <p:nvPr/>
        </p:nvPicPr>
        <p:blipFill>
          <a:blip r:embed="rId2"/>
          <a:stretch/>
        </p:blipFill>
        <p:spPr>
          <a:xfrm>
            <a:off x="250920" y="981000"/>
            <a:ext cx="5637240" cy="38052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746280" y="4777200"/>
            <a:ext cx="7194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дравляем Вас с праздником - Днем армии и флота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сть служба и работ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всегда прост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Вам Желаем жить, любить, трудиться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если улыбнется Вам счастливая звезд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и до генерала дослуж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mgraphics.ru/images/truk/23f/3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8"/>
          <p:cNvPicPr/>
          <p:nvPr/>
        </p:nvPicPr>
        <p:blipFill>
          <a:blip r:embed="rId2"/>
          <a:stretch/>
        </p:blipFill>
        <p:spPr>
          <a:xfrm>
            <a:off x="250920" y="1341360"/>
            <a:ext cx="3574800" cy="51372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846960" y="3794760"/>
            <a:ext cx="465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екрасном имени Мужчин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жились мужество и ста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ье думать и мечта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ть вдохновенным без причины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ть любить, уметь дар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ttp://mgraphics.ru/images/truk/23f/3.jpg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9"/>
          <p:cNvPicPr/>
          <p:nvPr/>
        </p:nvPicPr>
        <p:blipFill>
          <a:blip r:embed="rId2"/>
          <a:srcRect l="4507" t="0" r="0" b="5734"/>
          <a:stretch/>
        </p:blipFill>
        <p:spPr>
          <a:xfrm>
            <a:off x="324000" y="1052640"/>
            <a:ext cx="3433680" cy="5329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4136040" y="2637000"/>
            <a:ext cx="323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пу поздравляю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праздником мужским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юности, я знаю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армии служи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чит тоже воин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ть не командир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здника достоин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хранял весь мир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меня ты - главны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е не дашь пропасть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Отчизны славно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енькая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mgraphics.ru/images/truk/23f/3.jpg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10"/>
          <p:cNvPicPr/>
          <p:nvPr/>
        </p:nvPicPr>
        <p:blipFill>
          <a:blip r:embed="rId2"/>
          <a:srcRect l="0" t="0" r="0" b="9166"/>
          <a:stretch/>
        </p:blipFill>
        <p:spPr>
          <a:xfrm>
            <a:off x="324000" y="1628640"/>
            <a:ext cx="3849480" cy="4753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4292640" y="3499200"/>
            <a:ext cx="4859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сть светит солнце в мирном неб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е зовет труба солдат в поход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ожелать хотелось мне бы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 был здоров мужской наш род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сть в небе солнце ярко свети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е коснется нас бед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сть спят спокойно наши дет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годня, завтра и всег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://mgraphics.ru/images/truk/23f/3.jpg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11"/>
          <p:cNvPicPr/>
          <p:nvPr/>
        </p:nvPicPr>
        <p:blipFill>
          <a:blip r:embed="rId2"/>
          <a:srcRect l="8175" t="2808" r="3708" b="6175"/>
          <a:stretch/>
        </p:blipFill>
        <p:spPr>
          <a:xfrm>
            <a:off x="250920" y="549360"/>
            <a:ext cx="3763800" cy="56880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6"/>
          <p:cNvSpPr txBox="1"/>
          <p:nvPr/>
        </p:nvSpPr>
        <p:spPr>
          <a:xfrm>
            <a:off x="4140360" y="3860640"/>
            <a:ext cx="489564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здравляем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23feb-01"/>
          <p:cNvPicPr/>
          <p:nvPr/>
        </p:nvPicPr>
        <p:blipFill>
          <a:blip r:embed="rId1"/>
          <a:stretch/>
        </p:blipFill>
        <p:spPr>
          <a:xfrm>
            <a:off x="0" y="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02"/>
          <p:cNvPicPr/>
          <p:nvPr/>
        </p:nvPicPr>
        <p:blipFill>
          <a:blip r:embed="rId1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3"/>
          <p:cNvPicPr/>
          <p:nvPr/>
        </p:nvPicPr>
        <p:blipFill>
          <a:blip r:embed="rId1"/>
          <a:stretch/>
        </p:blipFill>
        <p:spPr>
          <a:xfrm>
            <a:off x="-214200" y="0"/>
            <a:ext cx="942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23feb-02"/>
          <p:cNvPicPr/>
          <p:nvPr/>
        </p:nvPicPr>
        <p:blipFill>
          <a:blip r:embed="rId1"/>
          <a:stretch/>
        </p:blipFill>
        <p:spPr>
          <a:xfrm>
            <a:off x="0" y="0"/>
            <a:ext cx="9144000" cy="75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1778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23-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0" y="95292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енные звания современной Российской армии в порядке возрас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фрей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ладший сержа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жа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ший сержа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ш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ший прапорщ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порщ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ладший лейтена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ейтена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ший лейтена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пит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ай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полков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ков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енерал-май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енерал-полков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енерал-лейтена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010"/>
          <p:cNvPicPr/>
          <p:nvPr/>
        </p:nvPicPr>
        <p:blipFill>
          <a:blip r:embed="rId1"/>
          <a:stretch/>
        </p:blipFill>
        <p:spPr>
          <a:xfrm>
            <a:off x="0" y="-262080"/>
            <a:ext cx="8929800" cy="119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8:32:14Z</dcterms:created>
  <dc:creator>XTreme</dc:creator>
  <dc:description/>
  <dc:language>en-US</dc:language>
  <cp:lastModifiedBy>XTreme</cp:lastModifiedBy>
  <dcterms:modified xsi:type="dcterms:W3CDTF">2010-02-19T17:05:35Z</dcterms:modified>
  <cp:revision>7</cp:revision>
  <dc:subject/>
  <dc:title>Слайд 1</dc:title>
</cp:coreProperties>
</file>