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62F-F852-4689-918A-7024F745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0EA-A836-4BC7-ABE2-2BED002A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A62-8BFA-4EDB-91E3-F5F82A49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8B8-CE05-45F7-853C-BA8C7B16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869-21C4-400B-B84D-8BB9B968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68D-B89D-4D93-B3BC-CF27B8B3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775-052E-499D-A78D-5F480064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C78-18BC-4EAB-8CA4-B9CC277B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155-301F-4024-A88B-1101047F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CE6-38CC-4843-9DCC-A70DDFC9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CFB-4EB1-4247-9C9E-2F598506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196-6448-488A-8186-924688F2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42C-99D8-4718-AE56-A9D82697B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836640"/>
            <a:ext cx="91440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peaking about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easons and Weather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97800" cy="446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71640" y="4797360"/>
            <a:ext cx="662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o sk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120000" cy="4537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95280" y="3573360"/>
            <a:ext cx="79218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o ski jump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479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360" y="4797360"/>
            <a:ext cx="7920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o sk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458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4508640"/>
            <a:ext cx="856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 play hocke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11640" cy="460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4724280"/>
            <a:ext cx="88930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o ride a bi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3389400"/>
            <a:ext cx="3780000" cy="346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80000" cy="362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21259200">
            <a:off x="275760" y="1477800"/>
            <a:ext cx="8890200" cy="511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iner Hand ITC"/>
              </a:rPr>
              <a:t>to play foot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iner Hand ITC"/>
              <a:ea typeface="Viner Hand ITC"/>
            </a:endParaRPr>
          </a:p>
        </p:txBody>
      </p:sp>
    </p:spTree>
  </p:cSld>
  <p:transition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274920" cy="475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749320" cy="4076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 rot="5400000">
            <a:off x="1605960" y="2217600"/>
            <a:ext cx="6192720" cy="213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to run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cbcbcb"/>
            </a:gs>
            <a:gs pos="100000">
              <a:srgbClr val="eaea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30920" y="0"/>
            <a:ext cx="3313080" cy="276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3490920"/>
            <a:ext cx="4211640" cy="336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404640"/>
            <a:ext cx="7848720" cy="55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empus Sans ITC"/>
              </a:rPr>
              <a:t>to dive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empus Sans ITC"/>
              <a:ea typeface="Tempus Sans ITC"/>
            </a:endParaRPr>
          </a:p>
        </p:txBody>
      </p: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3:06:30Z</dcterms:created>
  <dc:creator>1</dc:creator>
  <dc:description/>
  <dc:language>en-US</dc:language>
  <cp:lastModifiedBy>1</cp:lastModifiedBy>
  <dcterms:modified xsi:type="dcterms:W3CDTF">2009-05-25T14:19:41Z</dcterms:modified>
  <cp:revision>14</cp:revision>
  <dc:subject/>
  <dc:title>Слайд 1</dc:title>
</cp:coreProperties>
</file>