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DBA-2A90-4FE0-A917-FD4CD9C6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D63-16D2-4F58-91A0-3374A099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8BB-D56A-4107-BB16-0D2BEC20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ED4-59BF-4E92-A84C-FBB3A7FC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E9B-9147-4702-A0BB-4712009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465-BB80-4289-9295-5C348C22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850-F943-4D66-AFEA-EE05DEA6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42A-1AA7-4650-90C4-6AB1988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36F-B9E8-41FD-A5C0-6B12214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4DA-C35F-45AC-B9C9-67EF355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1F2-7ACD-4249-B66B-04B5CF5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E28-2A98-4192-A2D8-09A2380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152E-27FA-43F8-9FD4-F0987B45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836640"/>
            <a:ext cx="9144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peaking about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easons and Weather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446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4797360"/>
            <a:ext cx="66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o sk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20000" cy="453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5280" y="3573360"/>
            <a:ext cx="7921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o ski jump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479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4797360"/>
            <a:ext cx="7920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o sk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458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4508640"/>
            <a:ext cx="856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 play hocke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11640" cy="460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4724280"/>
            <a:ext cx="88930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o ride a b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3389400"/>
            <a:ext cx="3780000" cy="346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362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1259200">
            <a:off x="275760" y="1477800"/>
            <a:ext cx="8890200" cy="511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iner Hand ITC"/>
              </a:rPr>
              <a:t>to play foot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iner Hand ITC"/>
              <a:ea typeface="Viner Hand ITC"/>
            </a:endParaRPr>
          </a:p>
        </p:txBody>
      </p:sp>
    </p:spTree>
  </p:cSld>
  <p:transition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274920" cy="475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749320" cy="407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1605960" y="2217600"/>
            <a:ext cx="6192720" cy="213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to run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cbcbcb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30920" y="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3490920"/>
            <a:ext cx="4211640" cy="336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404640"/>
            <a:ext cx="784872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empus Sans ITC"/>
              </a:rPr>
              <a:t>to dive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empus Sans ITC"/>
              <a:ea typeface="Tempus Sans ITC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3:06:30Z</dcterms:created>
  <dc:creator>1</dc:creator>
  <dc:description/>
  <dc:language>en-US</dc:language>
  <cp:lastModifiedBy>1</cp:lastModifiedBy>
  <dcterms:modified xsi:type="dcterms:W3CDTF">2009-05-25T14:19:41Z</dcterms:modified>
  <cp:revision>14</cp:revision>
  <dc:subject/>
  <dc:title>Слайд 1</dc:title>
</cp:coreProperties>
</file>