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D24-51D8-43DF-AFC2-859B8713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BBB-2324-4DA2-92A6-7C44042A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AF8-27C7-44D5-BF44-B6A32CDC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B6A-2100-4662-B260-EF098797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478A-1061-4CB9-99DB-AB28A560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9996-3D3B-42C8-B72F-B51B5499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DD58-89D4-4E6D-9145-984D4BA0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EC0D-C44F-4244-924D-6585EA86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668B-919A-49C2-8992-DD8F9D46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46FE-33F0-4C35-9EE8-F7EDEE36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2467-4ACA-4667-91AE-F690B8E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AB9-3A72-408A-87AC-E2E5288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12C0-A8E8-4A9F-AE9A-9C84385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154C-7713-43F9-B7DB-E72279D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366D-511A-4C58-90FC-200A87EB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74E8-B4E7-494F-971B-62FCCA30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8243-180F-467C-9DE5-F676C5FA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6796-D945-4529-B744-C0C6CB42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E66D-C469-4DB1-9A94-D42FC816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F85A-80FD-4ED9-B862-C20A2B7E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5A3D-4C6C-4700-9F4B-7E3B4B5C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C696-6CFB-4181-9832-FA4FE96B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F98-4222-432B-A08E-01790638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4120-37F6-4C16-955A-35B636B9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C413-9B5A-41B6-9B33-F675771E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4F09-6D5F-4966-BE6C-0B3238D5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9D17B-0059-4AC4-85F9-5B80690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A46E-510D-4792-9D18-F1868B09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5A2C-BAC5-4BB8-85AE-9FD0D290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223F-441A-4CC0-8468-369FBC34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F309-0294-4D22-8274-1A57B3F6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9437-CC17-47ED-9EFD-770243B1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DFAA1-4A30-445E-B32F-D832C6C4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BC8-BAE0-45D6-8D11-976D6AB9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2B0B-D1EC-4DA0-A034-7E8CC5AF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872FF-CA3A-4C0B-B38C-43D1C76B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07CB-DAF2-4734-BB48-34DC850F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8FCFF-6079-48F3-8441-ED26E42D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3B2C0-A56D-41C3-9815-164CF61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8530-4C42-450D-8ADF-1E5AC2B4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2AEB2-DDCF-45B8-81DB-54824364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786F-298D-4796-91B9-2AD7115E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066CB-8093-4489-B927-8E423C1A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14594-0E67-4CB5-B847-C33AD346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521-F56E-4212-8BAC-A85B3B36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37C88-F3DE-4653-9881-757ADF6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38596-5842-4840-AD02-99B650E6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23940-00B0-4C01-8D43-D670EDB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0D8A-734C-43DF-8E00-4959F6C8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4D82D-8614-4322-81FD-75B9F64C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60B44-8D77-49B5-997B-B5DE4099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AEC5-F8F8-4F28-90C8-73E8E830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550A-5717-49D0-B8EF-10A2F729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1C082-CCC0-47ED-97A2-EE602871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0146-FCF3-46FE-8C96-96FBBC83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7F2-5C90-4469-8A67-5ABC8F3E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47EB0-4AAC-45CB-ADC9-A8C3A932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968C3-2677-4E40-88A1-7925B511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533C3-F12D-4E0B-B18D-FC5F9927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F65CC-E364-4C9C-ADD0-DF7CA2A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493B-CD2B-41C8-AA2F-9817B1CD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66FA-296C-41E7-8473-B687FC2C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3BACA-CDAA-4DDD-837E-161D5E0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F9F36-BC4D-43B4-A1ED-82E3768C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4C13F-C7D0-4C21-829C-D0690A0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5A8A8-30C3-47D2-95E2-0BED3614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BB4-CFBE-4BC4-91FF-8EA70FFB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C2108-EC96-4ECE-93E3-6730EFF2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9A91B-699A-4FF4-8E53-0B291AB6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18511-3727-49F4-80E8-B75CF625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59C-ABE3-4D65-8232-9D77AEF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1E0-FAD6-412F-963D-AAA2112D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1E3A-7249-4B96-A478-19AC59AE88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D89E-EC78-4AE4-8A6F-26B577730D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8989-3F49-4609-B846-FF6406EB01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2B21-FB26-496B-96DC-D976EB2B5B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51D5-6E0F-45B3-8826-AD3147FBDF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A39F-5CA0-4889-A044-8C8EF04DCA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280040" y="-12600"/>
            <a:ext cx="5083200" cy="30906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4803840" y="59292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дготовила: инструктор по физо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кунова А.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8" name="Рисунок 6" descr="247ef36c9f9f.jpg"/>
          <p:cNvPicPr/>
          <p:nvPr/>
        </p:nvPicPr>
        <p:blipFill>
          <a:blip r:embed="rId2"/>
          <a:stretch/>
        </p:blipFill>
        <p:spPr>
          <a:xfrm>
            <a:off x="214200" y="185724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857160" y="357120"/>
            <a:ext cx="75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я воспитательно-образовательной работы с применением средств туризма требует от педагогов определенных знаний и умений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642960" y="2656080"/>
            <a:ext cx="77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пределять маршрут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выбирать место для привал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риентироваться на местности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распознать ядовитые растения 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устанавливать палатку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казывать первую помощь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определять признаки утомления и переутомления детей и т.д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1" descr="i.jpg"/>
          <p:cNvPicPr/>
          <p:nvPr/>
        </p:nvPicPr>
        <p:blipFill>
          <a:blip r:embed="rId1"/>
          <a:stretch/>
        </p:blipFill>
        <p:spPr>
          <a:xfrm>
            <a:off x="285840" y="3387600"/>
            <a:ext cx="2571840" cy="22561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2" descr="1239188070_sl379778_.jpg"/>
          <p:cNvPicPr/>
          <p:nvPr/>
        </p:nvPicPr>
        <p:blipFill>
          <a:blip r:embed="rId2"/>
          <a:stretch/>
        </p:blipFill>
        <p:spPr>
          <a:xfrm>
            <a:off x="4929120" y="3571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3" descr="12-волшебство зимы.jpg"/>
          <p:cNvPicPr/>
          <p:nvPr/>
        </p:nvPicPr>
        <p:blipFill>
          <a:blip r:embed="rId3"/>
          <a:stretch/>
        </p:blipFill>
        <p:spPr>
          <a:xfrm>
            <a:off x="4929120" y="3857760"/>
            <a:ext cx="3872160" cy="2584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4"/>
          <p:cNvSpPr/>
          <p:nvPr/>
        </p:nvSpPr>
        <p:spPr>
          <a:xfrm>
            <a:off x="357120" y="357120"/>
            <a:ext cx="4143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Виды походов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тур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эколог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военны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3286080" y="3929040"/>
            <a:ext cx="55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Для этого используют тропу здоровья  продолжительностью 520м, в состав которой входит  специальное  оборудование для тренировки туристских навык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Прямоугольник 2"/>
          <p:cNvSpPr/>
          <p:nvPr/>
        </p:nvSpPr>
        <p:spPr>
          <a:xfrm>
            <a:off x="571680" y="6429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режде чем выходить за пределы детского сада, необходимо подготовить дете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285840" y="1159920"/>
            <a:ext cx="8286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Алгоритм подготовки к прогулке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1. определить маршру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2. согласовать маршрут с администрацией дошкольной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3. тщательно изучить маршру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4. привлечь  родител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5. выбрать и подготовить необходимое снаряже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6. подготовить инструктаж для участников (дата, время, продолжительность, рекомендации по форме одежды и содержанию рюкзак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3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214200" y="664200"/>
            <a:ext cx="87868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Структура прогулки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1. Собираются все участники ,проводиться перекличка и инструктаж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2. Осуществляется движение группы, во время которого не исключены короткие остановки, как для отдыха, так и для наблюдения за интересными объекта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3. Конечный пункт – привал. Это место должно быть удобным для отдыха, предоставлять возможность устроить пикник, организовать игры и т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4. По окончании привала – сбор детей и уборка территор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5. Движение группы до детского сада, во время которого возможны короткие остановки для отдыха и наблю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14200" y="21420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Следует отметить, что работа по включению средств туризма в воспитательно-образовательный процесс должна осуществляться во взаимодействии с семье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Рисунок 2" descr="foto.jpg"/>
          <p:cNvPicPr/>
          <p:nvPr/>
        </p:nvPicPr>
        <p:blipFill>
          <a:blip r:embed="rId1"/>
          <a:stretch/>
        </p:blipFill>
        <p:spPr>
          <a:xfrm>
            <a:off x="6215040" y="214200"/>
            <a:ext cx="2374920" cy="300060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3" descr="i (1).jpg"/>
          <p:cNvPicPr/>
          <p:nvPr/>
        </p:nvPicPr>
        <p:blipFill>
          <a:blip r:embed="rId2"/>
          <a:stretch/>
        </p:blipFill>
        <p:spPr>
          <a:xfrm>
            <a:off x="4143240" y="3749760"/>
            <a:ext cx="45720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"/>
          <p:cNvSpPr/>
          <p:nvPr/>
        </p:nvSpPr>
        <p:spPr>
          <a:xfrm>
            <a:off x="214200" y="524880"/>
            <a:ext cx="87868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равила безопасности, которые необходимо соблюдать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движение группы происходит по определённому и спланированному маршрут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сопровождение детей взрослыми (на группу не менее двух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присутствие медицинского работника и наличие аптечк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проведение переклички по списку (несколько раз в течение похода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соответствие одежды сезону года и состоянию погоды, обязательно наличие головного убор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соблюдение правил дорожного движения при переходе улиц и дорог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- соблюдение питьевого режима (лучше кипячёную воду)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3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857160" y="1143000"/>
            <a:ext cx="71438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Таким образом походы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помогают укрепить здоровье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восстановить силы, работоспособность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расширить функциональные возможности детского организма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обогатить двигательный опыт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пополнить объём знаний в области физической культуры, экологии, туризма и краеве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3:20:11Z</dcterms:created>
  <dc:creator>User</dc:creator>
  <dc:description/>
  <dc:language>en-US</dc:language>
  <cp:lastModifiedBy>User</cp:lastModifiedBy>
  <dcterms:modified xsi:type="dcterms:W3CDTF">2014-02-05T11:01:21Z</dcterms:modified>
  <cp:revision>34</cp:revision>
  <dc:subject/>
  <dc:title>Слайд 1</dc:title>
</cp:coreProperties>
</file>