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0.jpeg" ContentType="image/jpeg"/>
  <Override PartName="/ppt/media/image11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03A6A-D8A5-45CC-A8EC-B0A3AC287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9F869-0544-40B7-BFEA-DF9A82FBF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618D9-DDDF-4B2A-AA38-329F6925D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DBA9B-31B2-4261-939E-2E4152FAC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92608-6EB8-4D8D-8142-FF70F8A69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95786-F08E-4B39-8CCC-49A49D0A9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4485A-4964-4118-900A-7B799F97C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6D4C1-B699-4F05-9C37-E29E114B0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EDC47-AD59-443A-B135-3D6FD8835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1EB7D-0EAB-47E5-8D77-A5B0AA72C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AB673-4174-47EE-A597-D2547791E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62ACB-77A3-48EF-A40B-D4F0321FE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784C9-DB1A-49FE-927E-3D7CF9E26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661D8-8A17-4DC9-8DD4-BB6A1EB59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44D14-2821-4E6A-9983-1DC8FCA95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1C583-ABE4-4396-891D-46B166562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02441-6E0E-44AC-8499-9B9D35AFE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322AD4-1537-4C0E-91B0-6482E66FE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30B2E2-4E03-4E5A-9EF5-EA50D9820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66E2F5-CAE8-4FCA-8534-6A2DE0CC0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36F3AF-5795-4869-8DD3-2EAB0A4D4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CBCAE4-824F-44CD-9BE6-351FD13C1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7828D-CE3F-4EB0-8868-319BDD50D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16D5AF-1442-4EAF-9A30-BF21F4A6A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EBD59A-9C71-4513-A766-4D237B314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E295EC-5A8B-47D9-81D0-F91AD9425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1D2B30-7D06-428C-A955-53BADE205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E20CE0-CCD3-41C9-807A-B6EBB516B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A70D4F-F105-4F26-8142-E87778B35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6836C4-B868-4F44-9326-EF1B4751D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D5970A-F42E-4BAC-9F74-E2864E6CC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7A0268-5A1E-448E-A592-CD96865AE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E89495-AFC1-41C7-B303-16C998B23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F559F-588E-4E47-85B6-D00261A38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58CD0E-3AD4-4E5A-8B62-EB305FB99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2597D8-3EC2-4149-861C-8CE0ABA08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40A7FB-E898-4F0A-BF05-EDEB4DCF8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1BB0C7-5875-4F66-B8CD-AEDAC878C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6A5FBC-E827-445C-A48F-24187F63C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0DC3F3-EE82-419C-9B26-8E52A2E25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DCD65B-0531-43AE-A0D2-A9076951D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35A179-FBA2-414B-9035-3C1A2D244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AEC303-D2DF-4CA2-9A9C-F71410CD5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605CB0-84E6-4956-BC29-868C1D372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46ACA-D4EF-43E7-9EBE-7B29E2903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6F589D-3BAB-40B1-9AC2-EE67F0DCC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551DDC-569E-4BFD-ABA3-74B5A3AED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F654E0-9C94-43D1-9D41-8AB3DFBFD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42E98F-3DAC-470F-814B-7C539895D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3BBA5D-5CED-4C93-A5C4-14FEC21A5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068DEB-3629-4ECE-8A9A-5D4CD2DFD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5211CE-C571-4140-86BC-B3586771B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B09195-9781-4610-A384-E9BA9E9CA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40FE1C-DCCF-45B9-BE78-9C21E5C83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FCFA20-B6F6-463F-891F-D8CA3A051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0D0B2-D4B1-467D-A6BB-E47987156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7B64D2-5862-4E96-8A3E-DA84A3052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70D8D7-7323-4F96-AC9B-682C9074C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DB5DE0-FC35-43F7-82E2-0CAB95A15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7226B9-BF0B-405B-ACE8-402AA86CC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BAB688-074E-40DC-87D4-41C12E0CD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C8F6A8-3A91-44E2-A2BC-49102B913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873462-A674-4E21-AF3A-A7F9671F0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2E8B45-EE02-4DB1-BE3E-2672E00CF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354A99-4507-4888-912D-90ACC6501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F9039E-635D-4BE5-B083-8F5C999F9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02AC0-1C56-4C21-9B91-466D6E467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40EE65-5209-4291-AABB-8A5445DCF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89C736-7516-488C-B7C9-821531C9B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4D4ABE-6491-4919-8F78-857359ECC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95308-9347-48B2-A94D-825744750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CFCD2-1FA9-409B-AE0E-637AC8BDA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a6b9db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1f497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A85B1-1C78-4E07-B785-E4098A72092E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154c8e"/>
              </a:gs>
              <a:gs pos="50000">
                <a:srgbClr val="5e91da"/>
              </a:gs>
              <a:gs pos="100000">
                <a:srgbClr val="154c8e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16"/>
            <p:cNvSpPr/>
            <p:nvPr/>
          </p:nvSpPr>
          <p:spPr>
            <a:xfrm>
              <a:off x="1693440" y="4952880"/>
              <a:ext cx="7444440" cy="486720"/>
            </a:xfrm>
            <a:prstGeom prst="pie">
              <a:avLst/>
            </a:prstGeom>
            <a:solidFill>
              <a:srgbClr val="a6b9db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4280" y="5236560"/>
              <a:ext cx="9093600" cy="786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grpSp>
          <p:nvGrpSpPr>
            <p:cNvPr id="51" name="Полилиния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Полилиния 19" descr=""/>
              <p:cNvPicPr/>
              <p:nvPr/>
            </p:nvPicPr>
            <p:blipFill>
              <a:blip r:embed="rId3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828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</p:grpSp>
        <p:pic>
          <p:nvPicPr>
            <p:cNvPr id="54" name="Прямая соединительная линия 20" descr=""/>
            <p:cNvPicPr/>
            <p:nvPr/>
          </p:nvPicPr>
          <p:blipFill>
            <a:blip r:embed="rId4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1f497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DC350-8481-4C4D-AA9C-32E511560841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a6b9db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3265a1"/>
              </a:gs>
              <a:gs pos="100000">
                <a:srgbClr val="8aa8da"/>
              </a:gs>
            </a:gsLst>
            <a:lin ang="16200000"/>
          </a:gradFill>
          <a:ln cap="rnd" w="3240">
            <a:solidFill>
              <a:srgbClr val="385d8a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" name="Нашивка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3265a1"/>
              </a:gs>
              <a:gs pos="100000">
                <a:srgbClr val="8aa8da"/>
              </a:gs>
            </a:gsLst>
            <a:lin ang="16200000"/>
          </a:gradFill>
          <a:ln cap="rnd" w="3240">
            <a:solidFill>
              <a:srgbClr val="385d8a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1f497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88B57-F019-45EA-B568-998879EAF136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1f497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DB0E8-638A-4C7E-9DBF-544675A82F93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1f497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39547-FB29-4ED5-9D07-4F5198DC3793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Полилиния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a6b9db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Полилиния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29" name="Прямоугольный треугольник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0" name="Прямоугольный треугольник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232" name="Прямая соединительная линия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3" name="Нашивка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3265a1"/>
              </a:gs>
              <a:gs pos="100000">
                <a:srgbClr val="8aa8da"/>
              </a:gs>
            </a:gsLst>
            <a:lin ang="16200000"/>
          </a:gradFill>
          <a:ln cap="rnd" w="3240">
            <a:solidFill>
              <a:srgbClr val="385d8a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Нашивка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3265a1"/>
              </a:gs>
              <a:gs pos="100000">
                <a:srgbClr val="8aa8da"/>
              </a:gs>
            </a:gsLst>
            <a:lin ang="16200000"/>
          </a:gradFill>
          <a:ln cap="rnd" w="3240">
            <a:solidFill>
              <a:srgbClr val="385d8a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1f497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C1E72-8507-4E52-A5C9-C46E1D93A002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Заголовок 1" descr=""/>
          <p:cNvPicPr/>
          <p:nvPr/>
        </p:nvPicPr>
        <p:blipFill>
          <a:blip r:embed="rId1"/>
          <a:stretch/>
        </p:blipFill>
        <p:spPr>
          <a:xfrm>
            <a:off x="4280040" y="-12600"/>
            <a:ext cx="5083200" cy="3090600"/>
          </a:xfrm>
          <a:prstGeom prst="rect">
            <a:avLst/>
          </a:prstGeom>
          <a:ln w="0">
            <a:noFill/>
          </a:ln>
        </p:spPr>
      </p:pic>
      <p:sp>
        <p:nvSpPr>
          <p:cNvPr id="277" name="TextBox 4"/>
          <p:cNvSpPr/>
          <p:nvPr/>
        </p:nvSpPr>
        <p:spPr>
          <a:xfrm>
            <a:off x="4803840" y="5929200"/>
            <a:ext cx="406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Подготовила: инструктор по физо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Чекунова А.В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278" name="Рисунок 6" descr="247ef36c9f9f.jpg"/>
          <p:cNvPicPr/>
          <p:nvPr/>
        </p:nvPicPr>
        <p:blipFill>
          <a:blip r:embed="rId2"/>
          <a:stretch/>
        </p:blipFill>
        <p:spPr>
          <a:xfrm>
            <a:off x="214200" y="1857240"/>
            <a:ext cx="4000680" cy="30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3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eb4e3">
            <a:alpha val="6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Прямоугольник 1"/>
          <p:cNvSpPr/>
          <p:nvPr/>
        </p:nvSpPr>
        <p:spPr>
          <a:xfrm>
            <a:off x="857160" y="357120"/>
            <a:ext cx="75009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  <a:ea typeface="Arial"/>
              </a:rPr>
              <a:t>Организация воспитательно-образовательной работы с применением средств туризма требует от педагогов определенных знаний и умений: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0" name="Rectangle 2"/>
          <p:cNvSpPr/>
          <p:nvPr/>
        </p:nvSpPr>
        <p:spPr>
          <a:xfrm>
            <a:off x="642960" y="2656080"/>
            <a:ext cx="77868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Arial"/>
                <a:ea typeface="Calibri"/>
              </a:rPr>
              <a:t>определять маршрут,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Arial"/>
                <a:ea typeface="Calibri"/>
              </a:rPr>
              <a:t> </a:t>
            </a:r>
            <a:r>
              <a:rPr b="0" lang="ru-RU" sz="2400" spc="-1" strike="noStrike">
                <a:solidFill>
                  <a:srgbClr val="7030a0"/>
                </a:solidFill>
                <a:latin typeface="Arial"/>
                <a:ea typeface="Calibri"/>
              </a:rPr>
              <a:t>выбирать место для привала,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Arial"/>
                <a:ea typeface="Calibri"/>
              </a:rPr>
              <a:t>ориентироваться на местности,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Arial"/>
                <a:ea typeface="Calibri"/>
              </a:rPr>
              <a:t>распознать ядовитые растения ,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Arial"/>
                <a:ea typeface="Calibri"/>
              </a:rPr>
              <a:t>устанавливать палатку,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Arial"/>
                <a:ea typeface="Calibri"/>
              </a:rPr>
              <a:t>оказывать первую помощь,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Arial"/>
                <a:ea typeface="Calibri"/>
              </a:rPr>
              <a:t>определять признаки утомления и переутомления детей и т.д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30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30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3000" fill="hold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3000" fill="hold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6000"/>
                            </p:stCondLst>
                            <p:childTnLst>
                              <p:par>
                                <p:cTn id="2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3000" fill="hold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3000" fill="hold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9000"/>
                            </p:stCondLst>
                            <p:childTnLst>
                              <p:par>
                                <p:cTn id="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3000" fill="hold"/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3000" fill="hold"/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2000"/>
                            </p:stCondLst>
                            <p:childTnLst>
                              <p:par>
                                <p:cTn id="3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3000" fill="hold"/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3000" fill="hold"/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5000"/>
                            </p:stCondLst>
                            <p:childTnLst>
                              <p:par>
                                <p:cTn id="3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3000" fill="hold"/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3000" fill="hold"/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8000"/>
                            </p:stCondLst>
                            <p:childTnLst>
                              <p:par>
                                <p:cTn id="4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3000" fill="hold"/>
                                        <p:tgtEl>
                                          <p:spTgt spid="2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3000" fill="hold"/>
                                        <p:tgtEl>
                                          <p:spTgt spid="2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9694">
            <a:alpha val="3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Рисунок 1" descr="i.jpg"/>
          <p:cNvPicPr/>
          <p:nvPr/>
        </p:nvPicPr>
        <p:blipFill>
          <a:blip r:embed="rId1"/>
          <a:stretch/>
        </p:blipFill>
        <p:spPr>
          <a:xfrm>
            <a:off x="285840" y="3387600"/>
            <a:ext cx="2571840" cy="2256120"/>
          </a:xfrm>
          <a:prstGeom prst="rect">
            <a:avLst/>
          </a:prstGeom>
          <a:ln w="0">
            <a:noFill/>
          </a:ln>
        </p:spPr>
      </p:pic>
      <p:pic>
        <p:nvPicPr>
          <p:cNvPr id="282" name="Рисунок 2" descr="1239188070_sl379778_.jpg"/>
          <p:cNvPicPr/>
          <p:nvPr/>
        </p:nvPicPr>
        <p:blipFill>
          <a:blip r:embed="rId2"/>
          <a:stretch/>
        </p:blipFill>
        <p:spPr>
          <a:xfrm>
            <a:off x="4929120" y="357120"/>
            <a:ext cx="3286080" cy="2463840"/>
          </a:xfrm>
          <a:prstGeom prst="rect">
            <a:avLst/>
          </a:prstGeom>
          <a:ln w="0">
            <a:noFill/>
          </a:ln>
        </p:spPr>
      </p:pic>
      <p:pic>
        <p:nvPicPr>
          <p:cNvPr id="283" name="Рисунок 3" descr="12-волшебство зимы.jpg"/>
          <p:cNvPicPr/>
          <p:nvPr/>
        </p:nvPicPr>
        <p:blipFill>
          <a:blip r:embed="rId3"/>
          <a:stretch/>
        </p:blipFill>
        <p:spPr>
          <a:xfrm>
            <a:off x="4929120" y="3857760"/>
            <a:ext cx="3872160" cy="2584440"/>
          </a:xfrm>
          <a:prstGeom prst="rect">
            <a:avLst/>
          </a:prstGeom>
          <a:ln w="0">
            <a:noFill/>
          </a:ln>
        </p:spPr>
      </p:pic>
      <p:sp>
        <p:nvSpPr>
          <p:cNvPr id="284" name="Прямоугольник 4"/>
          <p:cNvSpPr/>
          <p:nvPr/>
        </p:nvSpPr>
        <p:spPr>
          <a:xfrm>
            <a:off x="357120" y="357120"/>
            <a:ext cx="41436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Arial"/>
                <a:ea typeface="Calibri"/>
              </a:rPr>
              <a:t>Виды походов: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Arial"/>
                <a:ea typeface="Calibri"/>
              </a:rPr>
              <a:t>туристические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Arial"/>
                <a:ea typeface="Calibri"/>
              </a:rPr>
              <a:t> </a:t>
            </a:r>
            <a:r>
              <a:rPr b="0" lang="ru-RU" sz="2400" spc="-1" strike="noStrike">
                <a:solidFill>
                  <a:srgbClr val="7030a0"/>
                </a:solidFill>
                <a:latin typeface="Arial"/>
                <a:ea typeface="Calibri"/>
              </a:rPr>
              <a:t>экологические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Arial"/>
                <a:ea typeface="Calibri"/>
              </a:rPr>
              <a:t> </a:t>
            </a:r>
            <a:r>
              <a:rPr b="0" lang="ru-RU" sz="2400" spc="-1" strike="noStrike">
                <a:solidFill>
                  <a:srgbClr val="7030a0"/>
                </a:solidFill>
                <a:latin typeface="Arial"/>
                <a:ea typeface="Calibri"/>
              </a:rPr>
              <a:t>военные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2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2000"/>
                            </p:stCondLst>
                            <p:childTnLst>
                              <p:par>
                                <p:cTn id="5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2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4000"/>
                            </p:stCondLst>
                            <p:childTnLst>
                              <p:par>
                                <p:cTn id="5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0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de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Прямоугольник 1"/>
          <p:cNvSpPr/>
          <p:nvPr/>
        </p:nvSpPr>
        <p:spPr>
          <a:xfrm>
            <a:off x="3286080" y="3929040"/>
            <a:ext cx="5572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Arial"/>
                <a:ea typeface="Arial"/>
              </a:rPr>
              <a:t>Для этого используют тропу здоровья  продолжительностью 520м, в состав которой входит  специальное  оборудование для тренировки туристских навыков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6" name="Прямоугольник 2"/>
          <p:cNvSpPr/>
          <p:nvPr/>
        </p:nvSpPr>
        <p:spPr>
          <a:xfrm>
            <a:off x="571680" y="642960"/>
            <a:ext cx="4572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Arial"/>
                <a:ea typeface="Arial"/>
              </a:rPr>
              <a:t>Прежде чем выходить за пределы детского сада, необходимо подготовить детей.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7" dur="3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ac090"/>
            </a:gs>
            <a:gs pos="100000">
              <a:srgbClr val="fee7f2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2"/>
          <p:cNvSpPr/>
          <p:nvPr/>
        </p:nvSpPr>
        <p:spPr>
          <a:xfrm>
            <a:off x="285840" y="1159920"/>
            <a:ext cx="8286840" cy="38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  <a:ea typeface="Calibri"/>
              </a:rPr>
              <a:t>Алгоритм подготовки к прогулке: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Arial"/>
                <a:ea typeface="Calibri"/>
              </a:rPr>
              <a:t>1. определить маршрут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Arial"/>
                <a:ea typeface="Calibri"/>
              </a:rPr>
              <a:t>2. согласовать маршрут с администрацией дошкольной образовательной организации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Arial"/>
                <a:ea typeface="Calibri"/>
              </a:rPr>
              <a:t>3. тщательно изучить маршрут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Arial"/>
                <a:ea typeface="Calibri"/>
              </a:rPr>
              <a:t>4. привлечь  родителей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Arial"/>
                <a:ea typeface="Calibri"/>
              </a:rPr>
              <a:t>5. выбрать и подготовить необходимое снаряжение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Arial"/>
                <a:ea typeface="Calibri"/>
              </a:rPr>
              <a:t>6. подготовить инструктаж для участников (дата, время, продолжительность, рекомендации по форме одежды и содержанию рюкзака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3000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3000"/>
                            </p:stCondLst>
                            <p:childTnLst>
                              <p:par>
                                <p:cTn id="7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0" fill="hold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0" fill="hold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6000"/>
                            </p:stCondLst>
                            <p:childTnLst>
                              <p:par>
                                <p:cTn id="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3000" fill="hold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3000" fill="hold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9000"/>
                            </p:stCondLst>
                            <p:childTnLst>
                              <p:par>
                                <p:cTn id="8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3000" fill="hold"/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3000" fill="hold"/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2000"/>
                            </p:stCondLst>
                            <p:childTnLst>
                              <p:par>
                                <p:cTn id="9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3000" fill="hold"/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3000" fill="hold"/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15000"/>
                            </p:stCondLst>
                            <p:childTnLst>
                              <p:par>
                                <p:cTn id="9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3000" fill="hold"/>
                                        <p:tgtEl>
                                          <p:spTgt spid="2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3000" fill="hold"/>
                                        <p:tgtEl>
                                          <p:spTgt spid="2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3000" fill="hold"/>
                                        <p:tgtEl>
                                          <p:spTgt spid="2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3000" fill="hold"/>
                                        <p:tgtEl>
                                          <p:spTgt spid="2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1"/>
          <p:cNvSpPr/>
          <p:nvPr/>
        </p:nvSpPr>
        <p:spPr>
          <a:xfrm>
            <a:off x="214200" y="664200"/>
            <a:ext cx="8786880" cy="454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  <a:ea typeface="Calibri"/>
              </a:rPr>
              <a:t>Структура прогулки: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Arial"/>
                <a:ea typeface="Calibri"/>
              </a:rPr>
              <a:t>1. Собираются все участники ,проводиться перекличка и инструктаж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Arial"/>
                <a:ea typeface="Calibri"/>
              </a:rPr>
              <a:t>2. Осуществляется движение группы, во время которого не исключены короткие остановки, как для отдыха, так и для наблюдения за интересными объектами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Arial"/>
                <a:ea typeface="Calibri"/>
              </a:rPr>
              <a:t>3. Конечный пункт – привал. Это место должно быть удобным для отдыха, предоставлять возможность устроить пикник, организовать игры и тд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Arial"/>
                <a:ea typeface="Calibri"/>
              </a:rPr>
              <a:t>4. По окончании привала – сбор детей и уборка территории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Arial"/>
                <a:ea typeface="Calibri"/>
              </a:rPr>
              <a:t>5. Движение группы до детского сада, во время которого возможны короткие остановки для отдыха и наблюдения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" dur="300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3000"/>
                            </p:stCondLst>
                            <p:childTnLst>
                              <p:par>
                                <p:cTn id="11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3000" fill="hold"/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3000" fill="hold"/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6000"/>
                            </p:stCondLst>
                            <p:childTnLst>
                              <p:par>
                                <p:cTn id="118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3000" fill="hold"/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3000" fill="hold"/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9000"/>
                            </p:stCondLst>
                            <p:childTnLst>
                              <p:par>
                                <p:cTn id="12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3000" fill="hold"/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3000" fill="hold"/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2000"/>
                            </p:stCondLst>
                            <p:childTnLst>
                              <p:par>
                                <p:cTn id="128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3000" fill="hold"/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3000" fill="hold"/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5000"/>
                            </p:stCondLst>
                            <p:childTnLst>
                              <p:par>
                                <p:cTn id="1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3000" fill="hold"/>
                                        <p:tgtEl>
                                          <p:spTgt spid="2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3000" fill="hold"/>
                                        <p:tgtEl>
                                          <p:spTgt spid="2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Прямоугольник 1"/>
          <p:cNvSpPr/>
          <p:nvPr/>
        </p:nvSpPr>
        <p:spPr>
          <a:xfrm>
            <a:off x="214200" y="214200"/>
            <a:ext cx="45720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Arial"/>
                <a:ea typeface="Arial"/>
              </a:rPr>
              <a:t>Следует отметить, что работа по включению средств туризма в воспитательно-образовательный процесс должна осуществляться во взаимодействии с семьей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290" name="Рисунок 2" descr="foto.jpg"/>
          <p:cNvPicPr/>
          <p:nvPr/>
        </p:nvPicPr>
        <p:blipFill>
          <a:blip r:embed="rId1"/>
          <a:stretch/>
        </p:blipFill>
        <p:spPr>
          <a:xfrm>
            <a:off x="6215040" y="214200"/>
            <a:ext cx="2374920" cy="3000600"/>
          </a:xfrm>
          <a:prstGeom prst="rect">
            <a:avLst/>
          </a:prstGeom>
          <a:ln w="0">
            <a:noFill/>
          </a:ln>
        </p:spPr>
      </p:pic>
      <p:pic>
        <p:nvPicPr>
          <p:cNvPr id="291" name="Рисунок 3" descr="i (1).jpg"/>
          <p:cNvPicPr/>
          <p:nvPr/>
        </p:nvPicPr>
        <p:blipFill>
          <a:blip r:embed="rId2"/>
          <a:stretch/>
        </p:blipFill>
        <p:spPr>
          <a:xfrm>
            <a:off x="4143240" y="3749760"/>
            <a:ext cx="4572000" cy="267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3" dur="2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7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1"/>
          <p:cNvSpPr/>
          <p:nvPr/>
        </p:nvSpPr>
        <p:spPr>
          <a:xfrm>
            <a:off x="214200" y="524880"/>
            <a:ext cx="8786880" cy="533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  <a:ea typeface="Calibri"/>
              </a:rPr>
              <a:t>Правила безопасности, которые необходимо соблюдать</a:t>
            </a:r>
            <a:r>
              <a:rPr b="0" lang="ru-RU" sz="2800" spc="-1" strike="noStrike">
                <a:solidFill>
                  <a:srgbClr val="c00000"/>
                </a:solidFill>
                <a:latin typeface="Arial"/>
                <a:ea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Arial"/>
                <a:ea typeface="Calibri"/>
              </a:rPr>
              <a:t>- движение группы происходит по определённому и спланированному маршруту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Arial"/>
                <a:ea typeface="Calibri"/>
              </a:rPr>
              <a:t>- сопровождение детей взрослыми (на группу не менее двух)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Arial"/>
                <a:ea typeface="Calibri"/>
              </a:rPr>
              <a:t>- присутствие медицинского работника и наличие аптечки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Arial"/>
                <a:ea typeface="Calibri"/>
              </a:rPr>
              <a:t>- проведение переклички по списку (несколько раз в течение похода)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Arial"/>
                <a:ea typeface="Calibri"/>
              </a:rPr>
              <a:t>- соответствие одежды сезону года и состоянию погоды, обязательно наличие головного убора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Arial"/>
                <a:ea typeface="Calibri"/>
              </a:rPr>
              <a:t>- соблюдение правил дорожного движения при переходе улиц и дорог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Arial"/>
                <a:ea typeface="Calibri"/>
              </a:rPr>
              <a:t>- соблюдение питьевого режима (лучше кипячёную воду)</a:t>
            </a:r>
            <a:r>
              <a:rPr b="0" lang="ru-RU" sz="2400" spc="-1" strike="noStrike">
                <a:solidFill>
                  <a:srgbClr val="7030a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4" dur="3000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3000"/>
                            </p:stCondLst>
                            <p:childTnLst>
                              <p:par>
                                <p:cTn id="15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3000" fill="hold"/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3000" fill="hold"/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3000" fill="hold"/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3000" fill="hold"/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9000"/>
                            </p:stCondLst>
                            <p:childTnLst>
                              <p:par>
                                <p:cTn id="16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3000" fill="hold"/>
                                        <p:tgtEl>
                                          <p:spTgt spid="2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3000" fill="hold"/>
                                        <p:tgtEl>
                                          <p:spTgt spid="2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12000"/>
                            </p:stCondLst>
                            <p:childTnLst>
                              <p:par>
                                <p:cTn id="17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3000" fill="hold"/>
                                        <p:tgtEl>
                                          <p:spTgt spid="2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3000" fill="hold"/>
                                        <p:tgtEl>
                                          <p:spTgt spid="2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15000"/>
                            </p:stCondLst>
                            <p:childTnLst>
                              <p:par>
                                <p:cTn id="17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3000" fill="hold"/>
                                        <p:tgtEl>
                                          <p:spTgt spid="2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3000" fill="hold"/>
                                        <p:tgtEl>
                                          <p:spTgt spid="2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18000"/>
                            </p:stCondLst>
                            <p:childTnLst>
                              <p:par>
                                <p:cTn id="1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3000" fill="hold"/>
                                        <p:tgtEl>
                                          <p:spTgt spid="2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3000" fill="hold"/>
                                        <p:tgtEl>
                                          <p:spTgt spid="2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21000"/>
                            </p:stCondLst>
                            <p:childTnLst>
                              <p:par>
                                <p:cTn id="18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3000" fill="hold"/>
                                        <p:tgtEl>
                                          <p:spTgt spid="2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3000" fill="hold"/>
                                        <p:tgtEl>
                                          <p:spTgt spid="2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9694">
            <a:alpha val="46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Прямоугольник 1"/>
          <p:cNvSpPr/>
          <p:nvPr/>
        </p:nvSpPr>
        <p:spPr>
          <a:xfrm>
            <a:off x="857160" y="1143000"/>
            <a:ext cx="7143840" cy="30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04a7b"/>
                </a:solidFill>
                <a:latin typeface="Lucida Sans Unicode"/>
              </a:rPr>
              <a:t> </a:t>
            </a:r>
            <a:r>
              <a:rPr b="0" lang="ru-RU" sz="2800" spc="-1" strike="noStrike">
                <a:solidFill>
                  <a:srgbClr val="c00000"/>
                </a:solidFill>
                <a:latin typeface="Arial"/>
                <a:ea typeface="Arial"/>
              </a:rPr>
              <a:t>Таким образом походы: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Arial"/>
                <a:ea typeface="Arial"/>
              </a:rPr>
              <a:t>помогают укрепить здоровье,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Arial"/>
                <a:ea typeface="Arial"/>
              </a:rPr>
              <a:t>восстановить силы, работоспособность,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Arial"/>
                <a:ea typeface="Arial"/>
              </a:rPr>
              <a:t>расширить функциональные возможности детского организма,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Arial"/>
                <a:ea typeface="Arial"/>
              </a:rPr>
              <a:t>обогатить двигательный опыт,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Arial"/>
                <a:ea typeface="Arial"/>
              </a:rPr>
              <a:t>пополнить объём знаний в области физической культуры, экологии, туризма и краеведения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2000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2000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4000"/>
                            </p:stCondLst>
                            <p:childTnLst>
                              <p:par>
                                <p:cTn id="20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2000"/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6000"/>
                            </p:stCondLst>
                            <p:childTnLst>
                              <p:par>
                                <p:cTn id="2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2000"/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8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2000"/>
                                        <p:tgtEl>
                                          <p:spTgt spid="2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03T13:20:11Z</dcterms:created>
  <dc:creator>User</dc:creator>
  <dc:description/>
  <dc:language>en-US</dc:language>
  <cp:lastModifiedBy>User</cp:lastModifiedBy>
  <dcterms:modified xsi:type="dcterms:W3CDTF">2014-02-05T11:01:21Z</dcterms:modified>
  <cp:revision>34</cp:revision>
  <dc:subject/>
  <dc:title>Слайд 1</dc:title>
</cp:coreProperties>
</file>