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744-3866-4728-A2FB-C5945FAF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DFB-5024-4191-A7D6-EB345C20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E63-5B2C-4CAB-9EAC-8656859C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ECD-9B8E-48A3-B8FB-04944812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D23-3B04-41E9-AA26-A5A7065B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E3C-BB88-49BD-927B-C2337B6E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648-FF8E-48D4-A481-B0956BAD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C40-B8F9-4D14-A7E2-B65F5E8C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144-3D03-4B23-A84A-F45F939E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A12-9228-4794-9F5C-FE0F5628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0A8-E977-4ACD-B79C-979E3334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AE3-1AA3-4B28-B08E-3411E9DE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D252-78B7-4C59-B12D-B779398F7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3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229600" cy="224316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3"/>
          <p:cNvSpPr/>
          <p:nvPr/>
        </p:nvSpPr>
        <p:spPr>
          <a:xfrm>
            <a:off x="91440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а Губайдулина Людмила Викторовна, учитель биологи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КОУ СОШ 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. Михайловка, Черемховского района, Иркут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IMG_0252.JPG"/>
          <p:cNvPicPr/>
          <p:nvPr/>
        </p:nvPicPr>
        <p:blipFill>
          <a:blip r:embed="rId1"/>
          <a:stretch/>
        </p:blipFill>
        <p:spPr>
          <a:xfrm>
            <a:off x="0" y="0"/>
            <a:ext cx="9466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4786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Разновидности омул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゚᪀゚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1262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муль </a:t>
            </a:r>
            <a:r>
              <a:rPr b="1" lang="ru-RU" sz="2900" spc="-1" strike="noStrike">
                <a:solidFill>
                  <a:srgbClr val="00cc66"/>
                </a:solidFill>
                <a:latin typeface="Calibri"/>
              </a:rPr>
              <a:t>северобайкальской и баргузинской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опуляций</a:t>
            </a:r>
            <a:br>
              <a:rPr sz="25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муль </a:t>
            </a: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селенгинской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опуляции</a:t>
            </a:r>
            <a:br>
              <a:rPr sz="2700"/>
            </a:br>
            <a:br>
              <a:rPr sz="27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74916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Омуль </a:t>
            </a:r>
            <a:r>
              <a:rPr b="1" lang="en-US" sz="2900" spc="-1" strike="noStrike">
                <a:solidFill>
                  <a:srgbClr val="3333ff"/>
                </a:solidFill>
                <a:latin typeface="Calibri"/>
              </a:rPr>
              <a:t>посольской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популяции</a:t>
            </a:r>
            <a:br>
              <a:rPr sz="2500"/>
            </a:br>
            <a:br>
              <a:rPr sz="25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67464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муль </a:t>
            </a: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чивыркуйско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пуля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айкальский си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ерный байкальский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хариу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Белый байкальский хариу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йкальский осетр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889280"/>
            <a:ext cx="91440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лец -давотч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Salvelinus alpinus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менная широколоб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Brachymуstax lenok"/>
          <p:cNvPicPr/>
          <p:nvPr/>
        </p:nvPicPr>
        <p:blipFill>
          <a:blip r:embed="rId1"/>
          <a:stretch/>
        </p:blipFill>
        <p:spPr>
          <a:xfrm>
            <a:off x="324000" y="1628640"/>
            <a:ext cx="849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ймен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889280"/>
            <a:ext cx="91440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Щу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БИРСКАЯ ПЛОТВА - СОР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Rutilus rutilus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БИРСКИЙ ЕЛ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Leuciscus leuciscus baicalensis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Leuciscus idus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1890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льян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зерны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Tinca tinca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кунь речн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ЕБРЯНЫЙ КАРА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arassius auratus gibelio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счаная широколобк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301760"/>
            <a:ext cx="9144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лим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606760"/>
            <a:ext cx="914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УРСКИЙ САЗ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Cyprinus carpio"/>
          <p:cNvPicPr/>
          <p:nvPr/>
        </p:nvPicPr>
        <p:blipFill>
          <a:blip r:embed="rId1"/>
          <a:stretch/>
        </p:blipFill>
        <p:spPr>
          <a:xfrm>
            <a:off x="32400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Лещ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5690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ТАН-ГОЛОВЕ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Percottus glehni"/>
          <p:cNvPicPr/>
          <p:nvPr/>
        </p:nvPicPr>
        <p:blipFill>
          <a:blip r:embed="rId1"/>
          <a:stretch/>
        </p:blipFill>
        <p:spPr>
          <a:xfrm>
            <a:off x="324000" y="155736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сная широколобка</a:t>
            </a:r>
            <a:r>
              <a:rPr b="1" i="1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2023920"/>
            <a:ext cx="59054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чок-желтокрылка</a:t>
            </a:r>
            <a:r>
              <a:rPr b="0" i="1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85920" y="2048040"/>
            <a:ext cx="657216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ерногрив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75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оломянка большая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golomyanka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Golomanka_smol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2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Голомянка малая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айкальский омул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57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7:06:13Z</dcterms:created>
  <dc:creator>comp00</dc:creator>
  <dc:description/>
  <dc:language>en-US</dc:language>
  <cp:lastModifiedBy>User</cp:lastModifiedBy>
  <dcterms:modified xsi:type="dcterms:W3CDTF">2015-02-07T06:23:10Z</dcterms:modified>
  <cp:revision>20</cp:revision>
  <dc:subject/>
  <dc:title> Рыбы  Байкала</dc:title>
</cp:coreProperties>
</file>