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293-D383-4B48-A372-A6FD94BF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E2A-B366-47A1-B4E3-F9B27344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A22-AC22-43B3-BF05-BE4969B2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44D-4B94-48E6-9E31-12B10534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58D-339B-4DBE-A38F-988964E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700-D2BA-4475-A1C0-B8AD0ACD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90E-AE33-4BD8-AE17-5E882D6A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D19-F2C3-4113-B3E0-B679CD6E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B41-A737-4502-B4DA-83239A7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6C7-9236-4D11-97E9-90FDB48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4C1-E0D0-47D6-A4D9-B8BBECF4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F9E-A0A1-45F7-92E0-5380FD3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F37-928D-4A84-8AA6-8913E2F0D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3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229600" cy="224316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3"/>
          <p:cNvSpPr/>
          <p:nvPr/>
        </p:nvSpPr>
        <p:spPr>
          <a:xfrm>
            <a:off x="91440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а Губайдулина Людмила Викторовна, учитель биолог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КОУ СОШ 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. Михайловка, Черемховского района, Иркут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IMG_0252.JPG"/>
          <p:cNvPicPr/>
          <p:nvPr/>
        </p:nvPicPr>
        <p:blipFill>
          <a:blip r:embed="rId1"/>
          <a:stretch/>
        </p:blipFill>
        <p:spPr>
          <a:xfrm>
            <a:off x="0" y="0"/>
            <a:ext cx="9466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4786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Разновидности омул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゚᪀゚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1262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ru-RU" sz="2900" spc="-1" strike="noStrike">
                <a:solidFill>
                  <a:srgbClr val="00cc66"/>
                </a:solidFill>
                <a:latin typeface="Calibri"/>
              </a:rPr>
              <a:t>северобайкальской и баргузинской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пуляций</a:t>
            </a: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селенгинской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пуляции</a:t>
            </a:r>
            <a:br>
              <a:rPr sz="2700"/>
            </a:br>
            <a:br>
              <a:rPr sz="27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74916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en-US" sz="2900" spc="-1" strike="noStrike">
                <a:solidFill>
                  <a:srgbClr val="3333ff"/>
                </a:solidFill>
                <a:latin typeface="Calibri"/>
              </a:rPr>
              <a:t>посольской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популяции</a:t>
            </a:r>
            <a:br>
              <a:rPr sz="2500"/>
            </a:b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чивыркуйск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пуля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айкальский си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ерный байкальский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хариу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Белый байкальский хариу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йкальский осетр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889280"/>
            <a:ext cx="9144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ец -давотч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Salvelinus alpinus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менная широколоб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Brachymуstax lenok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ймен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889280"/>
            <a:ext cx="91440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Щу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БИРСКАЯ ПЛОТВА - СОР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Rutilus rutilus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БИРСКИЙ ЕЛ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euciscus leuciscus baicalensis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Leuciscus idus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1890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ьян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ерны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Tinca tinca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кунь речн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ЕБРЯНЫЙ КАРА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arassius auratus gibelio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счаная широколобк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301760"/>
            <a:ext cx="9144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лим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606760"/>
            <a:ext cx="914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УРСКИЙ С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Cyprinus carpio"/>
          <p:cNvPicPr/>
          <p:nvPr/>
        </p:nvPicPr>
        <p:blipFill>
          <a:blip r:embed="rId1"/>
          <a:stretch/>
        </p:blipFill>
        <p:spPr>
          <a:xfrm>
            <a:off x="32400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е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5690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ТАН-ГОЛОВЕ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Percottus glehni"/>
          <p:cNvPicPr/>
          <p:nvPr/>
        </p:nvPicPr>
        <p:blipFill>
          <a:blip r:embed="rId1"/>
          <a:stretch/>
        </p:blipFill>
        <p:spPr>
          <a:xfrm>
            <a:off x="324000" y="155736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ая широколобка</a:t>
            </a:r>
            <a:r>
              <a:rPr b="1" i="1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2023920"/>
            <a:ext cx="59054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чок-желтокрылка</a:t>
            </a:r>
            <a:r>
              <a:rPr b="0" i="1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5920" y="2048040"/>
            <a:ext cx="657216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рногрив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оломянка больша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golomyanka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Golomanka_smol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2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Голомянка малая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айкальский омул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57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7:06:13Z</dcterms:created>
  <dc:creator>comp00</dc:creator>
  <dc:description/>
  <dc:language>en-US</dc:language>
  <cp:lastModifiedBy>User</cp:lastModifiedBy>
  <dcterms:modified xsi:type="dcterms:W3CDTF">2015-02-07T06:23:10Z</dcterms:modified>
  <cp:revision>20</cp:revision>
  <dc:subject/>
  <dc:title> Рыбы  Байкала</dc:title>
</cp:coreProperties>
</file>