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3.jpeg" ContentType="image/jpeg"/>
  <Override PartName="/ppt/media/image20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2.jpeg" ContentType="image/jpeg"/>
  <Override PartName="/ppt/media/image25.jpeg" ContentType="image/jpeg"/>
  <Override PartName="/ppt/media/image22.gif" ContentType="image/gif"/>
  <Override PartName="/ppt/media/image19.jpeg" ContentType="image/jpeg"/>
  <Override PartName="/ppt/media/image16.jpeg" ContentType="image/jpeg"/>
  <Override PartName="/ppt/media/image14.jpeg" ContentType="image/jpeg"/>
  <Override PartName="/ppt/media/image4.gif" ContentType="image/gif"/>
  <Override PartName="/ppt/media/image24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676-CF6B-4755-9E4A-ACA8732F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D74-FF28-41C7-A568-AB349AE4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B26-EFCD-48BD-8352-7A1F89BA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9CE-61B4-4AB1-93CC-BAF92E35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5C6F-61A1-4F57-8F6B-B1EC0A2D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8C20-F788-4928-B1B2-EDD4564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FD1C-8441-4EAE-B41C-23F9EDC8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83DD-31A9-4AB7-AEE9-9C6457D8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372-BD90-4AE6-9DDD-84AEB6C0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B1C7-3EBE-43CF-9DD5-E69C921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1276-00CD-4B89-8BA2-BB0E17B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FFB-C63D-453C-AA85-933A336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1189-101E-4751-AA65-4B058A09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C66-9D67-4E1B-8F98-36C66DF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546-9D50-42E8-B5E4-D49EADA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6348-C29B-4550-9976-FA341393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498-792D-4AE1-B3F7-4AD22824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E08-43BB-4B7D-88DC-959CA434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603-C681-493C-8FA6-3CE87C9F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C13-4C07-4985-87F7-98660880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793-BD50-4DF2-B867-C1DDFE5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8CA-0875-4E4C-9AEC-EAE16EF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028-2814-48BE-B199-31FA68A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92C-5555-4142-A5B1-0E5A618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4DDD-8156-485A-8FCA-37F629DF3A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A9C8-053D-4A93-83CE-570C3AC8F2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0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14400" y="-228600"/>
            <a:ext cx="11201400" cy="7459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33720" y="1219320"/>
            <a:ext cx="4647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ТО ВЛАД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ИНФОРМАЦИЕЙ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ТОТ ВЛАД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МИ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562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676520"/>
            <a:ext cx="7162560" cy="372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ba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Существует два вида зн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ибо знания о предмете как тако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ибо знания о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де найти информацию о предмете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20665200">
            <a:off x="2057040" y="3809520"/>
            <a:ext cx="1523880" cy="1041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48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Как вы думаете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какое задание вам предстоит выполнить следующ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Поиск информации – </a:t>
            </a:r>
            <a:br>
              <a:rPr sz="2500"/>
            </a:b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выделение существенн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1. ОТКРОЙ  В ПАПКЕ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ФАЙ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вариант –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риложение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вариант –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риложение №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2. ЗАПОЛНИ ИНФОРМАЦИОННЫЕ ЛИСТЫ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-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риложение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rot="535800">
            <a:off x="5029200" y="1904760"/>
            <a:ext cx="3940200" cy="372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ba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Суще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два вида зн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бо знания 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 таков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бо знания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де найти информ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 предмете»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716400">
            <a:off x="4952880" y="426672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580800">
            <a:off x="7238880" y="4723920"/>
            <a:ext cx="933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Работа в парах -</a:t>
            </a:r>
            <a:br>
              <a:rPr sz="3400"/>
            </a:br>
            <a:r>
              <a:rPr b="1" lang="en-US" sz="3400" spc="-1" strike="noStrike">
                <a:solidFill>
                  <a:srgbClr val="ff0066"/>
                </a:solidFill>
                <a:latin typeface="Verdana"/>
              </a:rPr>
              <a:t>обмен информаци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614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спользуя заполненные информационные карты обменяйтесь информацие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ждому отводится 1 мину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136680" cy="2746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5562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работу напарника в его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6680" y="742680"/>
            <a:ext cx="4297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1828800"/>
            <a:ext cx="5181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им из видов код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вляется запись координа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оординатной плос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34120" y="2590920"/>
            <a:ext cx="3457440" cy="3467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Открой в папке 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НФОРМАЦИЯ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файл 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Координатная плоскость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с помощью программы </a:t>
            </a:r>
            <a:r>
              <a:rPr b="0" lang="ru-RU" sz="1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С помощью инструментов графического редактора отметь точки на плоскости по заданным координатам и соедини линиями те, которые перечислены через тир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Какой рисунок получился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724280"/>
            <a:ext cx="3733920" cy="10670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3;1)-(2;3)-(8;3)-(7;1)-(3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4;3)-(5;6)-(6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dddddd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523880" y="2743200"/>
            <a:ext cx="6400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тупи к работ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6680" y="742680"/>
            <a:ext cx="4297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Verdana"/>
              </a:rPr>
              <a:t>Проверь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4114800"/>
            <a:ext cx="3733560" cy="10666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3;1)-(2;3)-(8;3)-(7;1)-(3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4;3)-(5;6)-(6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39640" y="1752480"/>
            <a:ext cx="416268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460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29200" y="3809880"/>
          <a:ext cx="3924360" cy="1459080"/>
        </p:xfrm>
        <a:graphic>
          <a:graphicData uri="http://schemas.openxmlformats.org/drawingml/2006/table">
            <a:tbl>
              <a:tblPr/>
              <a:tblGrid>
                <a:gridCol w="561960"/>
                <a:gridCol w="558720"/>
                <a:gridCol w="560520"/>
                <a:gridCol w="561960"/>
                <a:gridCol w="560520"/>
                <a:gridCol w="558720"/>
                <a:gridCol w="5619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75248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2209680"/>
          <a:ext cx="4800600" cy="3429000"/>
        </p:xfrm>
        <a:graphic>
          <a:graphicData uri="http://schemas.openxmlformats.org/drawingml/2006/table">
            <a:tbl>
              <a:tblPr/>
              <a:tblGrid>
                <a:gridCol w="471600"/>
                <a:gridCol w="432900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8 – (98 +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= 6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155) – 16 = 145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-(x+5)(2x+1)=1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байт=8 бит; 1 Кбайт=1024 байт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байт=8192 бит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символ=1 байт Каков объё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а(в байтах):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й! Жара!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абранном тексте было 225 симво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 того, как удалили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имволов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допечатали 82, в тексте стало 300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9907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1.Открой в папке </a:t>
            </a: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ИНФОРМАЦИЯ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файл </a:t>
            </a: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Решение зада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2. ВЫПОЛНИ ЗАДАНИЕ ПО УКАЗАННОМУ АЛГОРИТ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29200" y="3809880"/>
          <a:ext cx="3924360" cy="1459080"/>
        </p:xfrm>
        <a:graphic>
          <a:graphicData uri="http://schemas.openxmlformats.org/drawingml/2006/table">
            <a:tbl>
              <a:tblPr/>
              <a:tblGrid>
                <a:gridCol w="561960"/>
                <a:gridCol w="558720"/>
                <a:gridCol w="560520"/>
                <a:gridCol w="561960"/>
                <a:gridCol w="560520"/>
                <a:gridCol w="558720"/>
                <a:gridCol w="5619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2362320"/>
          <a:ext cx="4800600" cy="3465360"/>
        </p:xfrm>
        <a:graphic>
          <a:graphicData uri="http://schemas.openxmlformats.org/drawingml/2006/table">
            <a:tbl>
              <a:tblPr/>
              <a:tblGrid>
                <a:gridCol w="471600"/>
                <a:gridCol w="4329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8 – (98 +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= 6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155) – 16 = 145       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-(x+5)(2x+1)=1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байт=8 бит; 1 Кбайт=1024 байт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байт=8192 бит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символ=1 байт Каков объё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а(в байтах):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й! Жара!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абранном тексте было 225 симво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 того, как удалили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имволов                   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допечатали 82, в тексте стало 300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49568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Работа в текстовом документе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228600"/>
            <a:ext cx="48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оверим результат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29200" y="3809880"/>
          <a:ext cx="3924360" cy="1459080"/>
        </p:xfrm>
        <a:graphic>
          <a:graphicData uri="http://schemas.openxmlformats.org/drawingml/2006/table">
            <a:tbl>
              <a:tblPr/>
              <a:tblGrid>
                <a:gridCol w="561960"/>
                <a:gridCol w="558720"/>
                <a:gridCol w="560520"/>
                <a:gridCol w="561960"/>
                <a:gridCol w="560520"/>
                <a:gridCol w="558720"/>
                <a:gridCol w="5619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2209680"/>
          <a:ext cx="4800600" cy="3465360"/>
        </p:xfrm>
        <a:graphic>
          <a:graphicData uri="http://schemas.openxmlformats.org/drawingml/2006/table">
            <a:tbl>
              <a:tblPr/>
              <a:tblGrid>
                <a:gridCol w="471600"/>
                <a:gridCol w="4329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8 – (98 +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= 6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155) – 16 = 145       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-(x+5)(2x+1)=1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байт=8 бит; 1 Кбайт=1024 байт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байт=8192 бит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символ=1 байт Каков объё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а(в байтах):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й! Жара!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абранном тексте было 225 симво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 того, как удалили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имволов                   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допечатали 82, в тексте стало 300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228600"/>
            <a:ext cx="48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оверим результат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9800" y="5791320"/>
            <a:ext cx="49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8080" y="4572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ff0066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ИГРАЕМ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ff0066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676520"/>
            <a:ext cx="845820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ользуя таблички с надписями единиц измерения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разделитесь на 2 групп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en-US" sz="1600" spc="-1" strike="noStrike">
                <a:solidFill>
                  <a:srgbClr val="0033cc"/>
                </a:solidFill>
                <a:latin typeface="Verdana"/>
              </a:rPr>
              <a:t>принцип разбиения определите сам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Задание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ля получившихся кома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необходимо стат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так, чтобы единицы измерения располагались в порядке возрастания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еворачиваем таблицы (с другой стороны таблиц – слова), получилось правило или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ИТАЕМ ВМЕС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60992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971440" y="1905120"/>
            <a:ext cx="4452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Информа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5280" y="3808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ЧТО ИХ ОБЪЕДИНЯЕ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43800" y="3124080"/>
            <a:ext cx="971640" cy="119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2212920" cy="14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43000" y="419112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трамвай"/>
          <p:cNvPicPr/>
          <p:nvPr/>
        </p:nvPicPr>
        <p:blipFill>
          <a:blip r:embed="rId2"/>
          <a:stretch/>
        </p:blipFill>
        <p:spPr>
          <a:xfrm>
            <a:off x="152280" y="304920"/>
            <a:ext cx="4800600" cy="338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фары"/>
          <p:cNvPicPr/>
          <p:nvPr/>
        </p:nvPicPr>
        <p:blipFill>
          <a:blip r:embed="rId3"/>
          <a:stretch/>
        </p:blipFill>
        <p:spPr>
          <a:xfrm>
            <a:off x="4572000" y="3124080"/>
            <a:ext cx="4267080" cy="294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rot="19068600">
            <a:off x="3580920" y="1676160"/>
            <a:ext cx="2676600" cy="393480"/>
          </a:xfrm>
          <a:prstGeom prst="leftArrow">
            <a:avLst>
              <a:gd name="adj1" fmla="val 50000"/>
              <a:gd name="adj2" fmla="val 170059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57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Для чего эта надп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1880" y="167652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З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зажи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при торм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красные огонь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24080"/>
            <a:ext cx="4800600" cy="3429000"/>
          </a:xfrm>
          <a:prstGeom prst="verticalScroll">
            <a:avLst>
              <a:gd name="adj" fmla="val 6203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429000"/>
            <a:ext cx="419076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имер инерции в жизн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это автомобиль, который на полном ходу при всем желании водителя не может затормозить моментально, а особенно во время гололеда. И об этом следует всегда помнить и не проверять срабатывание закона инерции на дороге. Поверьте, инерция сработает, она никуда не ден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А у вас жизнь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9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Подводим итог. Комментируя каждую картинку, вспоминаем что делали на занятии, что узнали и одновременно переворачиваем изображени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66640" y="1752480"/>
          <a:ext cx="8001000" cy="426708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Т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, y, z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изве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ер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НЕ ДЕКА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1366920" cy="152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трамвай"/>
          <p:cNvPicPr/>
          <p:nvPr/>
        </p:nvPicPr>
        <p:blipFill>
          <a:blip r:embed="rId3"/>
          <a:stretch/>
        </p:blipFill>
        <p:spPr>
          <a:xfrm>
            <a:off x="6629400" y="2057400"/>
            <a:ext cx="18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Галилео Галилей"/>
          <p:cNvPicPr/>
          <p:nvPr/>
        </p:nvPicPr>
        <p:blipFill>
          <a:blip r:embed="rId4"/>
          <a:stretch/>
        </p:blipFill>
        <p:spPr>
          <a:xfrm>
            <a:off x="6705720" y="4038480"/>
            <a:ext cx="1780920" cy="1685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762120" y="4114800"/>
            <a:ext cx="1481040" cy="1486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914400" y="1828800"/>
            <a:ext cx="124632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4280" y="1828800"/>
            <a:ext cx="175284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1828800"/>
            <a:ext cx="175284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828800"/>
            <a:ext cx="175248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828800"/>
            <a:ext cx="190512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962520"/>
            <a:ext cx="175248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3962520"/>
            <a:ext cx="175284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3962520"/>
            <a:ext cx="175248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0492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Прочитаем имя человека, изображённого на последней кар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О нём ничего не было сказа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но какую связь он имеет с нашим занятием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ЧЕМ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19320" y="533520"/>
            <a:ext cx="7162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ТВЕТИМ НА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1752480"/>
            <a:ext cx="5181840" cy="4191120"/>
            <a:chOff x="3352680" y="1752480"/>
            <a:chExt cx="5181840" cy="41911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352680" y="1752480"/>
              <a:ext cx="518184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5257800" y="3124080"/>
              <a:ext cx="9144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6095880"/>
          </a:xfrm>
          <a:prstGeom prst="verticalScroll">
            <a:avLst>
              <a:gd name="adj" fmla="val 7398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2571840" cy="2502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838080"/>
            <a:ext cx="7162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Мир стал динамичным.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Новый день приносит новые задачи.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От решения этих задач зависит не отметка в дневнике,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а жизнь планеты, государства, семьи, каждого из нас.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Современному миру нужны яркие личности,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…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Серость порождает серость. Огонь зажигает огонь»</a:t>
            </a:r>
            <a:br>
              <a:rPr sz="2400"/>
            </a:br>
            <a:r>
              <a:rPr b="1" i="1" lang="ru-RU" sz="1800" spc="-1" strike="noStrike">
                <a:solidFill>
                  <a:srgbClr val="008000"/>
                </a:solidFill>
                <a:latin typeface="Verdana"/>
              </a:rPr>
              <a:t>                                                              </a:t>
            </a:r>
            <a:br>
              <a:rPr sz="1800"/>
            </a:br>
            <a:r>
              <a:rPr b="1" i="1" lang="ru-RU" sz="1800" spc="-1" strike="noStrike">
                <a:solidFill>
                  <a:srgbClr val="008000"/>
                </a:solidFill>
                <a:latin typeface="Verdana"/>
              </a:rPr>
              <a:t>                                                             </a:t>
            </a:r>
            <a:r>
              <a:rPr b="1" i="1" lang="en-US" sz="1800" spc="-1" strike="noStrike">
                <a:solidFill>
                  <a:srgbClr val="0033cc"/>
                </a:solidFill>
                <a:latin typeface="Verdana"/>
              </a:rPr>
              <a:t>Анатолий 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РЕФЛЕК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274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НЕ ВСЁ БЫЛО ПОНЯТНО, МНЕ ПОНРАВИЛО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НЕ НЕ ВСЁ БЫЛО ПОНЯТНО, У МЕНЯ ОСТАЛИСЬ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НЕ НЕ ПОНРАВИЛОСЬ, НИЧЕГО НОВОГО Я НЕ УЗН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54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МЕНЯ ОТЛИЧНОЕ НАСТРО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МЕНЯ НОРМАЛЬНОЕ НАСТРОЕНИЕ, НО ХОТЕЛОСЬ БЫ ЛУЧШ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МЕНЯ ПЛОХОЕ НАСТРОЕНИЕ, МНЕ БЫЛО СКУЧ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80172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105520" y="1828800"/>
            <a:ext cx="914400" cy="73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5486400" y="4267080"/>
            <a:ext cx="507960" cy="53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181480" y="2971800"/>
            <a:ext cx="876600" cy="73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АЧЕМ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ЧЕМУ…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АК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808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Вопро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ответы на которые необходимо найти к концу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43488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8120" y="3505320"/>
            <a:ext cx="43488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743200" y="54100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29200" y="2286000"/>
            <a:ext cx="268452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строй на работу.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Проверка вним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ндивидуальная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течение  10 секунд необходимо запомнить информацию, помещённую на следующем слайд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У каждого на столе лежит таблица и карточки (на одной стороне изображение объектов, на другой - букв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Verdana"/>
              </a:rPr>
              <a:t>Задание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300" spc="-1" strike="noStrike">
                <a:solidFill>
                  <a:srgbClr val="0033cc"/>
                </a:solidFill>
                <a:latin typeface="Verdana"/>
              </a:rPr>
              <a:t>Восстановить таблицу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В конце занятия таблица используется в качестве подведения итогов, закрепления полученных знани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29564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1447920"/>
          <a:ext cx="8381520" cy="4063680"/>
        </p:xfrm>
        <a:graphic>
          <a:graphicData uri="http://schemas.openxmlformats.org/drawingml/2006/table">
            <a:tbl>
              <a:tblPr/>
              <a:tblGrid>
                <a:gridCol w="2095200"/>
                <a:gridCol w="2095560"/>
                <a:gridCol w="2095560"/>
                <a:gridCol w="209520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Т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, y, z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изве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ер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НЕ ДЕКА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Verdana"/>
              </a:rPr>
              <a:t>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1523880"/>
            <a:ext cx="7910280" cy="3667320"/>
            <a:chOff x="762120" y="1523880"/>
            <a:chExt cx="7910280" cy="36673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13669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62120" y="3657600"/>
              <a:ext cx="148104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" descr="трамвай"/>
            <p:cNvPicPr/>
            <p:nvPr/>
          </p:nvPicPr>
          <p:blipFill>
            <a:blip r:embed="rId3"/>
            <a:stretch/>
          </p:blipFill>
          <p:spPr>
            <a:xfrm>
              <a:off x="6781680" y="1676520"/>
              <a:ext cx="1890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Галилео Галилей"/>
            <p:cNvPicPr/>
            <p:nvPr/>
          </p:nvPicPr>
          <p:blipFill>
            <a:blip r:embed="rId4"/>
            <a:stretch/>
          </p:blipFill>
          <p:spPr>
            <a:xfrm>
              <a:off x="6858000" y="3505320"/>
              <a:ext cx="17812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990720" y="1523880"/>
              <a:ext cx="1110960" cy="1766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23880" y="2362320"/>
            <a:ext cx="6400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тупи к работе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57200" y="1397160"/>
          <a:ext cx="8381520" cy="4063680"/>
        </p:xfrm>
        <a:graphic>
          <a:graphicData uri="http://schemas.openxmlformats.org/drawingml/2006/table">
            <a:tbl>
              <a:tblPr/>
              <a:tblGrid>
                <a:gridCol w="2095200"/>
                <a:gridCol w="2095560"/>
                <a:gridCol w="2095560"/>
                <a:gridCol w="209520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Т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, y, z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изве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ер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НЕ ДЕКА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Verdana"/>
              </a:rPr>
              <a:t>ПРОВЕРЬ СЕБЯ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366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1481040" cy="1486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трамвай"/>
          <p:cNvPicPr/>
          <p:nvPr/>
        </p:nvPicPr>
        <p:blipFill>
          <a:blip r:embed="rId4"/>
          <a:stretch/>
        </p:blipFill>
        <p:spPr>
          <a:xfrm>
            <a:off x="6781680" y="1676520"/>
            <a:ext cx="18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Галилео Галилей"/>
          <p:cNvPicPr/>
          <p:nvPr/>
        </p:nvPicPr>
        <p:blipFill>
          <a:blip r:embed="rId5"/>
          <a:stretch/>
        </p:blipFill>
        <p:spPr>
          <a:xfrm>
            <a:off x="6858000" y="3505320"/>
            <a:ext cx="178128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990720" y="1523880"/>
            <a:ext cx="1110960" cy="176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5562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66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актическая часть</a:t>
            </a:r>
            <a:br>
              <a:rPr sz="4200"/>
            </a:b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1. Открой в папке ИНФОРМАТИКА -Приложение 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Excel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2. Используя данные таблицы внести текст в указанные ячейки.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3. Прочитай получившуюся фразу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66640" y="1752480"/>
          <a:ext cx="3924360" cy="4480200"/>
        </p:xfrm>
        <a:graphic>
          <a:graphicData uri="http://schemas.openxmlformats.org/drawingml/2006/table">
            <a:tbl>
              <a:tblPr/>
              <a:tblGrid>
                <a:gridCol w="1963800"/>
                <a:gridCol w="19605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дрес ячей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щ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648320" y="1752480"/>
          <a:ext cx="3924360" cy="434304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ово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й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dddddd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23880" y="2590920"/>
            <a:ext cx="6400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тупи к работ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2-07T14:00:2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