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27.jpeg" ContentType="image/jpeg"/>
  <Override PartName="/ppt/media/image9.png" ContentType="image/png"/>
  <Override PartName="/ppt/media/image13.jpeg" ContentType="image/jpeg"/>
  <Override PartName="/ppt/media/image20.gif" ContentType="image/gif"/>
  <Override PartName="/ppt/media/image8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28.jpeg" ContentType="image/jpeg"/>
  <Override PartName="/ppt/media/image5.jpeg" ContentType="image/jpeg"/>
  <Override PartName="/ppt/media/image26.jpeg" ContentType="image/jpeg"/>
  <Override PartName="/ppt/media/image11.jpeg" ContentType="image/jpeg"/>
  <Override PartName="/ppt/media/image2.jpeg" ContentType="image/jpeg"/>
  <Override PartName="/ppt/media/image25.jpeg" ContentType="image/jpeg"/>
  <Override PartName="/ppt/media/image22.gif" ContentType="image/gif"/>
  <Override PartName="/ppt/media/image19.jpeg" ContentType="image/jpeg"/>
  <Override PartName="/ppt/media/image16.jpeg" ContentType="image/jpeg"/>
  <Override PartName="/ppt/media/image14.jpeg" ContentType="image/jpeg"/>
  <Override PartName="/ppt/media/image4.gif" ContentType="image/gif"/>
  <Override PartName="/ppt/media/image24.png" ContentType="image/png"/>
  <Override PartName="/ppt/media/image21.gif" ContentType="image/gif"/>
  <Override PartName="/ppt/media/image1.png" ContentType="image/png"/>
  <Override PartName="/ppt/media/image3.png" ContentType="image/png"/>
  <Override PartName="/ppt/media/image17.jpeg" ContentType="image/jpeg"/>
  <Override PartName="/ppt/media/image2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25E0-D422-45E6-9756-15F11E17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2790-EE91-4509-9B2F-055C1A4F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B7D4-513C-4765-87DE-08240DB7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DA60-2B31-41C5-AEF3-FA726C74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FA8B-10EB-47F8-A660-FD3ADC18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60E3-EC96-47BE-B9CD-6DBCAACA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EE4C-D294-470B-986D-F1D68D32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36FA-E764-4082-AE15-42A64E7E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F3D3-9E32-4DBD-BB05-4889BB38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78D2-E880-456C-9EF2-2EE083DE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5E1E-3E78-498F-8018-04A4CAFE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E388-72E7-4845-AD09-5FB3424A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CF48-4731-42A7-94C3-141E65AD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FEF9-C193-4631-B907-E3ACB0B9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8940-B8FC-46FC-BCCA-0279CCDD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EC21-5F0C-4320-8AFE-D5394597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6EDF-CBBB-480E-9F6B-CBD50F05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E862-1E8A-489E-B736-813789E9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48E3-D95B-45DD-9AB4-01F2515C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0586-C3D2-4FB4-912C-CC462BAB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898D-CBCD-44A5-9071-25F77770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6A84-EAA2-47F0-A80F-ACEE84D1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5AB-30B2-4486-B2FB-A14DD283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E418-AB72-4F81-BCED-DD019388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13BF-A03A-4D90-8305-9C8E3EF874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6508-195C-44C2-8C34-0E1B6BB597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0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914400" y="-228600"/>
            <a:ext cx="11201400" cy="7459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33720" y="1219320"/>
            <a:ext cx="46479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КТО ВЛАДЕ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ИНФОРМАЦИЕЙ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ТОТ ВЛАДЕ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МИ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56272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Оцени свою работу в оценочном ли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1676520"/>
            <a:ext cx="7162560" cy="372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ba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«Существует два вида зна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либо знания о предмете как таков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либо знания о т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де найти информацию о предмете»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791320" y="3886200"/>
            <a:ext cx="1143000" cy="1128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 rot="20665200">
            <a:off x="2057040" y="3809520"/>
            <a:ext cx="1523880" cy="1041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09480" y="838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Как вы думаете,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какое задание вам предстоит выполнить следующи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66"/>
                </a:solidFill>
                <a:latin typeface="Verdana"/>
              </a:rPr>
              <a:t>Поиск информации – </a:t>
            </a:r>
            <a:br>
              <a:rPr sz="2500"/>
            </a:br>
            <a:r>
              <a:rPr b="1" lang="en-US" sz="2500" spc="-1" strike="noStrike">
                <a:solidFill>
                  <a:srgbClr val="ff0066"/>
                </a:solidFill>
                <a:latin typeface="Verdana"/>
              </a:rPr>
              <a:t>выделение существенного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1. ОТКРОЙ  В ПАПКЕ 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ИНФОРМАЦ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ФАЙЛ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вариант – 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приложение №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вариант – 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приложение №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2. ЗАПОЛНИ ИНФОРМАЦИОННЫЕ ЛИСТЫ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 - 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приложение №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 rot="535800">
            <a:off x="5029200" y="1904760"/>
            <a:ext cx="3940200" cy="372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ba7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«Существ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два вида знани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либо знания о предм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как таков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либо знания о т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где найти информац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о предмете»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 rot="716400">
            <a:off x="4952880" y="4266720"/>
            <a:ext cx="1143000" cy="781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 rot="580800">
            <a:off x="7238880" y="4723920"/>
            <a:ext cx="933480" cy="922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Работа в парах -</a:t>
            </a:r>
            <a:br>
              <a:rPr sz="3400"/>
            </a:br>
            <a:r>
              <a:rPr b="1" lang="en-US" sz="3400" spc="-1" strike="noStrike">
                <a:solidFill>
                  <a:srgbClr val="ff0066"/>
                </a:solidFill>
                <a:latin typeface="Verdana"/>
              </a:rPr>
              <a:t>обмен информацие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614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Используя заполненные информационные карты обменяйтесь информацией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аждому отводится 1 минут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34120" y="2209680"/>
            <a:ext cx="3136680" cy="2746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3520" y="556272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Оцени работу напарника в его оценочном ли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96680" y="742680"/>
            <a:ext cx="429732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Verdana"/>
              </a:rPr>
              <a:t>Практическая часть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666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0880" y="1828800"/>
            <a:ext cx="518184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дним из видов кодир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вляется запись координат объ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координатной плоск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334120" y="2590920"/>
            <a:ext cx="3457440" cy="34671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638680" y="380880"/>
            <a:ext cx="14479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Матема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Информа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Физ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4495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Verdana"/>
              </a:rPr>
              <a:t>Открой в папке </a:t>
            </a: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ИНФОРМАЦИЯ</a:t>
            </a:r>
            <a:r>
              <a:rPr b="1" lang="ru-RU" sz="1400" spc="-1" strike="noStrike">
                <a:solidFill>
                  <a:srgbClr val="000099"/>
                </a:solidFill>
                <a:latin typeface="Verdana"/>
              </a:rPr>
              <a:t> файл </a:t>
            </a: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Координатная плоскость</a:t>
            </a:r>
            <a:r>
              <a:rPr b="1" lang="ru-RU" sz="1400" spc="-1" strike="noStrike">
                <a:solidFill>
                  <a:srgbClr val="000099"/>
                </a:solidFill>
                <a:latin typeface="Verdana"/>
              </a:rPr>
              <a:t> с помощью программы </a:t>
            </a:r>
            <a:r>
              <a:rPr b="0" lang="ru-RU" sz="1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Pai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Verdana"/>
              </a:rPr>
              <a:t>С помощью инструментов графического редактора отметь точки на плоскости по заданным координатам и соедини линиями те, которые перечислены через тире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Verdana"/>
              </a:rPr>
              <a:t>Какой рисунок получился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4724280"/>
            <a:ext cx="3733920" cy="106704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(3;1)-(2;3)-(8;3)-(7;1)-(3;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(4;3)-(5;6)-(6;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dddddd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523880" y="2743200"/>
            <a:ext cx="64008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ступи к работе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96680" y="742680"/>
            <a:ext cx="429732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Verdana"/>
              </a:rPr>
              <a:t>Проверь себя!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6668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638680" y="380880"/>
            <a:ext cx="14479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Матема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Информа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Физ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6248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Оцени свою работу в оценочном ли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4114800"/>
            <a:ext cx="3733560" cy="106668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(3;1)-(2;3)-(8;3)-(7;1)-(3;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(4;3)-(5;6)-(6;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39640" y="1752480"/>
            <a:ext cx="416268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460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Verdana"/>
              </a:rPr>
              <a:t>Практическая час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029200" y="3809880"/>
          <a:ext cx="3924360" cy="1459080"/>
        </p:xfrm>
        <a:graphic>
          <a:graphicData uri="http://schemas.openxmlformats.org/drawingml/2006/table">
            <a:tbl>
              <a:tblPr/>
              <a:tblGrid>
                <a:gridCol w="561960"/>
                <a:gridCol w="558720"/>
                <a:gridCol w="560520"/>
                <a:gridCol w="561960"/>
                <a:gridCol w="560520"/>
                <a:gridCol w="558720"/>
                <a:gridCol w="56196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1752480"/>
            <a:ext cx="7696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380880"/>
            <a:ext cx="14479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Матема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Информа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Физ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280" y="2209680"/>
          <a:ext cx="4800600" cy="3429000"/>
        </p:xfrm>
        <a:graphic>
          <a:graphicData uri="http://schemas.openxmlformats.org/drawingml/2006/table">
            <a:tbl>
              <a:tblPr/>
              <a:tblGrid>
                <a:gridCol w="471600"/>
                <a:gridCol w="4329000"/>
              </a:tblGrid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8 – (98 + 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 = 65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х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+155) – 16 = 145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?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(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+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-(x+5)(2x+1)=13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вет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байт=8 бит; 1 Кбайт=1024 байт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?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байт=8192 бит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символ=1 байт Каков объём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кста(в байтах):  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Ой! Жара!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набранном тексте было 225 символов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ле того, как удалили 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?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символов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 допечатали 82, в тексте стало 300 символ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4495680" y="22096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990720"/>
            <a:ext cx="4572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1.Открой в папке </a:t>
            </a: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ИНФОРМАЦИЯ</a:t>
            </a: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 файл </a:t>
            </a: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Решение зада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2. ВЫПОЛНИ ЗАДАНИЕ ПО УКАЗАННОМУ АЛГОРИТ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Verdana"/>
              </a:rPr>
              <a:t>Практическая час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029200" y="3809880"/>
          <a:ext cx="3924360" cy="1459080"/>
        </p:xfrm>
        <a:graphic>
          <a:graphicData uri="http://schemas.openxmlformats.org/drawingml/2006/table">
            <a:tbl>
              <a:tblPr/>
              <a:tblGrid>
                <a:gridCol w="561960"/>
                <a:gridCol w="558720"/>
                <a:gridCol w="560520"/>
                <a:gridCol w="561960"/>
                <a:gridCol w="560520"/>
                <a:gridCol w="558720"/>
                <a:gridCol w="56196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638680" y="380880"/>
            <a:ext cx="14479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Матема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Информа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Физ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52280" y="2362320"/>
          <a:ext cx="4800600" cy="3465360"/>
        </p:xfrm>
        <a:graphic>
          <a:graphicData uri="http://schemas.openxmlformats.org/drawingml/2006/table">
            <a:tbl>
              <a:tblPr/>
              <a:tblGrid>
                <a:gridCol w="471600"/>
                <a:gridCol w="432900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8 – (98 + 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 = 65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х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+155) – 16 = 145                                 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?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(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+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-(x+5)(2x+1)=13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       </a:t>
                      </a: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вет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байт=8 бит; 1 Кбайт=1024 байт            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?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байт=8192 бит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символ=1 байт Каков объём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кста(в байтах):  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Ой! Жара!                          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набранном тексте было 225 символов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ле того, как удалили 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?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символов                   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 допечатали 82, в тексте стало 300 символ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495680" y="2362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752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Работа в текстовом документе 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228600"/>
            <a:ext cx="4895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Проверим результат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Verdana"/>
              </a:rPr>
              <a:t>Практическая час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029200" y="3809880"/>
          <a:ext cx="3924360" cy="1459080"/>
        </p:xfrm>
        <a:graphic>
          <a:graphicData uri="http://schemas.openxmlformats.org/drawingml/2006/table">
            <a:tbl>
              <a:tblPr/>
              <a:tblGrid>
                <a:gridCol w="561960"/>
                <a:gridCol w="558720"/>
                <a:gridCol w="560520"/>
                <a:gridCol w="561960"/>
                <a:gridCol w="560520"/>
                <a:gridCol w="558720"/>
                <a:gridCol w="56196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Ц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638680" y="380880"/>
            <a:ext cx="14479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Матема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Информа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Физ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52280" y="2209680"/>
          <a:ext cx="4800600" cy="3465360"/>
        </p:xfrm>
        <a:graphic>
          <a:graphicData uri="http://schemas.openxmlformats.org/drawingml/2006/table">
            <a:tbl>
              <a:tblPr/>
              <a:tblGrid>
                <a:gridCol w="471600"/>
                <a:gridCol w="432900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8 – (98 + 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 = 65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х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+155) – 16 = 145                                 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?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(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+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-(x+5)(2x+1)=13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       </a:t>
                      </a: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вет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байт=8 бит; 1 Кбайт=1024 байт            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?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байт=8192 бит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символ=1 байт Каков объём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кста(в байтах):  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Ой! Жара!                          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набранном тексте было 225 символов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ле того, как удалили 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?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символов                   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 допечатали 82, в тексте стало 300 символ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4495680" y="22096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228600"/>
            <a:ext cx="4895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Проверим результат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49800" y="5791320"/>
            <a:ext cx="495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Оцени свою работу в оценочном ли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8080" y="457200"/>
            <a:ext cx="3505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cc"/>
                    </a:gs>
                    <a:gs pos="50000">
                      <a:srgbClr val="ff0066"/>
                    </a:gs>
                    <a:gs pos="100000">
                      <a:srgbClr val="0033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ИГРАЕМ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cc"/>
                  </a:gs>
                  <a:gs pos="50000">
                    <a:srgbClr val="ff0066"/>
                  </a:gs>
                  <a:gs pos="100000">
                    <a:srgbClr val="0033cc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1676520"/>
            <a:ext cx="8458200" cy="33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спользуя таблички с надписями единиц измерения 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разделитесь на 2 группы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i="1" lang="en-US" sz="1600" spc="-1" strike="noStrike">
                <a:solidFill>
                  <a:srgbClr val="0033cc"/>
                </a:solidFill>
                <a:latin typeface="Verdana"/>
              </a:rPr>
              <a:t>принцип разбиения определите сами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Задание</a:t>
            </a: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ля получившихся коман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необходимо стать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так, чтобы единицы измерения располагались в порядке возрастания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ереворачиваем таблицы (с другой стороны таблиц – слова), получилось правило или определ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ЧИТАЕМ ВМЕСТ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010280" y="1752480"/>
            <a:ext cx="1609920" cy="4191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971440" y="1905120"/>
            <a:ext cx="4452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Математ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Информат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Физ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295280" y="380880"/>
            <a:ext cx="6553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ЧТО ИХ ОБЪЕДИНЯЕ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543800" y="3124080"/>
            <a:ext cx="971640" cy="1190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990720" y="1752480"/>
            <a:ext cx="2212920" cy="1476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143000" y="4191120"/>
            <a:ext cx="2209680" cy="1657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трамвай"/>
          <p:cNvPicPr/>
          <p:nvPr/>
        </p:nvPicPr>
        <p:blipFill>
          <a:blip r:embed="rId2"/>
          <a:stretch/>
        </p:blipFill>
        <p:spPr>
          <a:xfrm>
            <a:off x="152280" y="304920"/>
            <a:ext cx="4800600" cy="3381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фары"/>
          <p:cNvPicPr/>
          <p:nvPr/>
        </p:nvPicPr>
        <p:blipFill>
          <a:blip r:embed="rId3"/>
          <a:stretch/>
        </p:blipFill>
        <p:spPr>
          <a:xfrm>
            <a:off x="4572000" y="3124080"/>
            <a:ext cx="4267080" cy="2948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rot="19068600">
            <a:off x="3580920" y="1676160"/>
            <a:ext cx="2676600" cy="393480"/>
          </a:xfrm>
          <a:prstGeom prst="leftArrow">
            <a:avLst>
              <a:gd name="adj1" fmla="val 50000"/>
              <a:gd name="adj2" fmla="val 170059"/>
            </a:avLst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86400" y="457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Для чего эта надпи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61880" y="1676520"/>
            <a:ext cx="24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Зач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зажиг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при тормож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красные огонь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124080"/>
            <a:ext cx="4800600" cy="3429000"/>
          </a:xfrm>
          <a:prstGeom prst="verticalScroll">
            <a:avLst>
              <a:gd name="adj" fmla="val 6203"/>
            </a:avLst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3429000"/>
            <a:ext cx="4190760" cy="27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Пример инерции в жизн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это автомобиль, который на полном ходу при всем желании водителя не может затормозить моментально, а особенно во время гололеда. И об этом следует всегда помнить и не проверять срабатывание закона инерции на дороге. Поверьте, инерция сработает, она никуда не ден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А у вас жизнь од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96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5" dur="1" fill="hold"/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Подводим итог. Комментируя каждую картинку, вспоминаем что делали на занятии, что узнали и одновременно переворачиваем изображение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66640" y="1752480"/>
          <a:ext cx="8001000" cy="4267080"/>
        </p:xfrm>
        <a:graphic>
          <a:graphicData uri="http://schemas.openxmlformats.org/drawingml/2006/table">
            <a:tbl>
              <a:tblPr/>
              <a:tblGrid>
                <a:gridCol w="2000160"/>
                <a:gridCol w="2000160"/>
                <a:gridCol w="2000160"/>
                <a:gridCol w="2000520"/>
              </a:tblGrid>
              <a:tr h="213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ИТ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, y, z -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извес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ерц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НЕ ДЕКАР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800600" y="3962520"/>
            <a:ext cx="1366920" cy="1523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трамвай"/>
          <p:cNvPicPr/>
          <p:nvPr/>
        </p:nvPicPr>
        <p:blipFill>
          <a:blip r:embed="rId3"/>
          <a:stretch/>
        </p:blipFill>
        <p:spPr>
          <a:xfrm>
            <a:off x="6629400" y="2057400"/>
            <a:ext cx="1890720" cy="16002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Галилео Галилей"/>
          <p:cNvPicPr/>
          <p:nvPr/>
        </p:nvPicPr>
        <p:blipFill>
          <a:blip r:embed="rId4"/>
          <a:stretch/>
        </p:blipFill>
        <p:spPr>
          <a:xfrm>
            <a:off x="6705720" y="4038480"/>
            <a:ext cx="1780920" cy="16858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762120" y="4114800"/>
            <a:ext cx="1481040" cy="1486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914400" y="1828800"/>
            <a:ext cx="1246320" cy="19810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724280" y="1828800"/>
            <a:ext cx="1752840" cy="19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cc0000"/>
                </a:solidFill>
                <a:latin typeface="Verdana"/>
              </a:rPr>
              <a:t>Л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1828800"/>
            <a:ext cx="1752840" cy="19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cc0000"/>
                </a:solidFill>
                <a:latin typeface="Verdana"/>
              </a:rPr>
              <a:t>А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828800"/>
            <a:ext cx="1752480" cy="19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cc0000"/>
                </a:solidFill>
                <a:latin typeface="Verdana"/>
              </a:rPr>
              <a:t>Г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828800"/>
            <a:ext cx="1905120" cy="19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cc0000"/>
                </a:solidFill>
                <a:latin typeface="Verdana"/>
              </a:rPr>
              <a:t>И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3962520"/>
            <a:ext cx="1752480" cy="19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cc0000"/>
                </a:solidFill>
                <a:latin typeface="Verdana"/>
              </a:rPr>
              <a:t>Л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3962520"/>
            <a:ext cx="1752840" cy="19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cc0000"/>
                </a:solidFill>
                <a:latin typeface="Verdana"/>
              </a:rPr>
              <a:t>Е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3962520"/>
            <a:ext cx="1752480" cy="19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cc0000"/>
                </a:solidFill>
                <a:latin typeface="Verdana"/>
              </a:rPr>
              <a:t>Й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304920"/>
            <a:ext cx="8534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Прочитаем имя человека, изображённого на последней карти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О нём ничего не было сказан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но какую связь он имеет с нашим занятием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ЗАЧЕМ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ЧЕМУ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КАК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219320" y="533520"/>
            <a:ext cx="71625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ОТВЕТИМ НА ВОПРО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352680" y="1752480"/>
            <a:ext cx="5181840" cy="4191120"/>
            <a:chOff x="3352680" y="1752480"/>
            <a:chExt cx="5181840" cy="4191120"/>
          </a:xfrm>
        </p:grpSpPr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3352680" y="1752480"/>
              <a:ext cx="518184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3"/>
            <a:stretch/>
          </p:blipFill>
          <p:spPr>
            <a:xfrm>
              <a:off x="5257800" y="3124080"/>
              <a:ext cx="91440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228600"/>
            <a:ext cx="9144000" cy="6095880"/>
          </a:xfrm>
          <a:prstGeom prst="verticalScroll">
            <a:avLst>
              <a:gd name="adj" fmla="val 7398"/>
            </a:avLst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666880" y="3429000"/>
            <a:ext cx="2571840" cy="2502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838080" y="838080"/>
            <a:ext cx="71629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Monotype Corsiva"/>
              </a:rPr>
              <a:t>Мир стал динамичным. </a:t>
            </a: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                                           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Monotype Corsiva"/>
              </a:rPr>
              <a:t>Новый день приносит новые задачи. </a:t>
            </a: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               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Monotype Corsiva"/>
              </a:rPr>
              <a:t>От решения этих задач зависит не отметка в дневнике, </a:t>
            </a: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      </a:t>
            </a:r>
            <a:r>
              <a:rPr b="1" lang="en-US" sz="2400" spc="-1" strike="noStrike">
                <a:solidFill>
                  <a:srgbClr val="cc0000"/>
                </a:solidFill>
                <a:latin typeface="Monotype Corsiva"/>
              </a:rPr>
              <a:t>а жизнь планеты, государства, семьи, каждого из нас.</a:t>
            </a: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Monotype Corsiva"/>
              </a:rPr>
              <a:t>Современному миру нужны яркие личности,</a:t>
            </a: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…</a:t>
            </a:r>
            <a:r>
              <a:rPr b="1" lang="en-US" sz="2400" spc="-1" strike="noStrike">
                <a:solidFill>
                  <a:srgbClr val="cc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          </a:t>
            </a:r>
            <a:r>
              <a:rPr b="1" lang="en-US" sz="2400" spc="-1" strike="noStrike">
                <a:solidFill>
                  <a:srgbClr val="cc0000"/>
                </a:solidFill>
                <a:latin typeface="Monotype Corsiva"/>
              </a:rPr>
              <a:t>Серость порождает серость. Огонь зажигает огонь»</a:t>
            </a:r>
            <a:br>
              <a:rPr sz="2400"/>
            </a:br>
            <a:r>
              <a:rPr b="1" i="1" lang="ru-RU" sz="1800" spc="-1" strike="noStrike">
                <a:solidFill>
                  <a:srgbClr val="008000"/>
                </a:solidFill>
                <a:latin typeface="Verdana"/>
              </a:rPr>
              <a:t>                                                              </a:t>
            </a:r>
            <a:br>
              <a:rPr sz="1800"/>
            </a:br>
            <a:r>
              <a:rPr b="1" i="1" lang="ru-RU" sz="1800" spc="-1" strike="noStrike">
                <a:solidFill>
                  <a:srgbClr val="008000"/>
                </a:solidFill>
                <a:latin typeface="Verdana"/>
              </a:rPr>
              <a:t>                                                             </a:t>
            </a:r>
            <a:r>
              <a:rPr b="1" i="1" lang="en-US" sz="1800" spc="-1" strike="noStrike">
                <a:solidFill>
                  <a:srgbClr val="0033cc"/>
                </a:solidFill>
                <a:latin typeface="Verdana"/>
              </a:rPr>
              <a:t>Анатолий Г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РЕФЛЕКС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676520" y="1828440"/>
            <a:ext cx="274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МНЕ ВСЁ БЫЛО ПОНЯТНО, МНЕ ПОНРАВИЛОС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МНЕ НЕ ВСЁ БЫЛО ПОНЯТНО, У МЕНЯ ОСТАЛИСЬ ВОПРОС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МНЕ НЕ ПОНРАВИЛОСЬ, НИЧЕГО НОВОГО Я НЕ УЗН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172200" y="1904760"/>
            <a:ext cx="254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 МЕНЯ ОТЛИЧНОЕ НАСТРО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 МЕНЯ НОРМАЛЬНОЕ НАСТРОЕНИЕ, НО ХОТЕЛОСЬ БЫ ЛУЧШЕГ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 МЕНЯ ПЛОХОЕ НАСТРОЕНИЕ, МНЕ БЫЛО СКУЧ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801720" cy="1143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762120" y="441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5105520" y="1828800"/>
            <a:ext cx="914400" cy="7300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5486400" y="4267080"/>
            <a:ext cx="507960" cy="5335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5181480" y="2971800"/>
            <a:ext cx="876600" cy="730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ЗАЧЕМ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ЧЕМУ…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КАК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380880"/>
            <a:ext cx="7924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Вопрос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ответы на которые необходимо найти к концу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434880" cy="533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048120" y="3505320"/>
            <a:ext cx="434880" cy="533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743200" y="5410080"/>
            <a:ext cx="43488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029200" y="2286000"/>
            <a:ext cx="268452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строй на работу.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Проверка внима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Индивидуальная рабо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 течение  10 секунд необходимо запомнить информацию, помещённую на следующем слайд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У каждого на столе лежит таблица и карточки (на одной стороне изображение объектов, на другой - буквы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Verdana"/>
              </a:rPr>
              <a:t>Задание</a:t>
            </a: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300" spc="-1" strike="noStrike">
                <a:solidFill>
                  <a:srgbClr val="0033cc"/>
                </a:solidFill>
                <a:latin typeface="Verdana"/>
              </a:rPr>
              <a:t>Восстановить таблицу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В конце занятия таблица используется в качестве подведения итогов, закрепления полученных знаний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295640" cy="1272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533520" y="1447920"/>
          <a:ext cx="8381520" cy="4063680"/>
        </p:xfrm>
        <a:graphic>
          <a:graphicData uri="http://schemas.openxmlformats.org/drawingml/2006/table">
            <a:tbl>
              <a:tblPr/>
              <a:tblGrid>
                <a:gridCol w="2095200"/>
                <a:gridCol w="2095560"/>
                <a:gridCol w="2095560"/>
                <a:gridCol w="209520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ИТ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, y, z -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извес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ерц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НЕ ДЕКАР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66"/>
                </a:solidFill>
                <a:latin typeface="Verdana"/>
              </a:rPr>
              <a:t>ВНИМАНИЕ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62120" y="1523880"/>
            <a:ext cx="7910280" cy="3667320"/>
            <a:chOff x="762120" y="1523880"/>
            <a:chExt cx="7910280" cy="366732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5029200" y="3505320"/>
              <a:ext cx="136692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762120" y="3657600"/>
              <a:ext cx="1481040" cy="14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4" descr="трамвай"/>
            <p:cNvPicPr/>
            <p:nvPr/>
          </p:nvPicPr>
          <p:blipFill>
            <a:blip r:embed="rId3"/>
            <a:stretch/>
          </p:blipFill>
          <p:spPr>
            <a:xfrm>
              <a:off x="6781680" y="1676520"/>
              <a:ext cx="189072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Галилео Галилей"/>
            <p:cNvPicPr/>
            <p:nvPr/>
          </p:nvPicPr>
          <p:blipFill>
            <a:blip r:embed="rId4"/>
            <a:stretch/>
          </p:blipFill>
          <p:spPr>
            <a:xfrm>
              <a:off x="6858000" y="3505320"/>
              <a:ext cx="1781280" cy="16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5"/>
            <a:stretch/>
          </p:blipFill>
          <p:spPr>
            <a:xfrm>
              <a:off x="990720" y="1523880"/>
              <a:ext cx="1110960" cy="1766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10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56b13"/>
            </a:gs>
            <a:gs pos="5000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523880" y="2362320"/>
            <a:ext cx="64008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ступи к работе</a:t>
            </a:r>
            <a:endParaRPr b="0" lang="en-US" sz="1800" spc="1" strike="noStrike">
              <a:ln w="19080">
                <a:solidFill>
                  <a:srgbClr val="0033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xit" presetID="9">
                                  <p:stCondLst>
                                    <p:cond delay="1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457200" y="1397160"/>
          <a:ext cx="8381520" cy="4063680"/>
        </p:xfrm>
        <a:graphic>
          <a:graphicData uri="http://schemas.openxmlformats.org/drawingml/2006/table">
            <a:tbl>
              <a:tblPr/>
              <a:tblGrid>
                <a:gridCol w="2095200"/>
                <a:gridCol w="2095560"/>
                <a:gridCol w="2095560"/>
                <a:gridCol w="209520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ИТ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, y, z -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извес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ерц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НЕ ДЕКАР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66"/>
                </a:solidFill>
                <a:latin typeface="Verdana"/>
              </a:rPr>
              <a:t>ПРОВЕРЬ СЕБЯ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29200" y="3505320"/>
            <a:ext cx="1366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62120" y="3657600"/>
            <a:ext cx="1481040" cy="1486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трамвай"/>
          <p:cNvPicPr/>
          <p:nvPr/>
        </p:nvPicPr>
        <p:blipFill>
          <a:blip r:embed="rId4"/>
          <a:stretch/>
        </p:blipFill>
        <p:spPr>
          <a:xfrm>
            <a:off x="6781680" y="1676520"/>
            <a:ext cx="1890720" cy="1600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Галилео Галилей"/>
          <p:cNvPicPr/>
          <p:nvPr/>
        </p:nvPicPr>
        <p:blipFill>
          <a:blip r:embed="rId5"/>
          <a:stretch/>
        </p:blipFill>
        <p:spPr>
          <a:xfrm>
            <a:off x="6858000" y="3505320"/>
            <a:ext cx="1781280" cy="1685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990720" y="1523880"/>
            <a:ext cx="1110960" cy="176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33520" y="556272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Оцени свою работу в оценочном ли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966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Практическая часть</a:t>
            </a:r>
            <a:br>
              <a:rPr sz="4200"/>
            </a:br>
            <a:r>
              <a:rPr b="1" lang="ru-RU" sz="14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Verdana"/>
              </a:rPr>
              <a:t>1. Открой в папке ИНФОРМАТИКА -Приложение </a:t>
            </a: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Excel</a:t>
            </a:r>
            <a:r>
              <a:rPr b="1" lang="ru-RU" sz="1400" spc="-1" strike="noStrike">
                <a:solidFill>
                  <a:srgbClr val="000099"/>
                </a:solidFill>
                <a:latin typeface="Verdana"/>
              </a:rPr>
              <a:t>.</a:t>
            </a: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Verdana"/>
              </a:rPr>
              <a:t> 2. Используя данные таблицы внести текст в указанные ячейки.</a:t>
            </a: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Verdana"/>
              </a:rPr>
              <a:t> 3. Прочитай получившуюся фразу.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66640" y="1752480"/>
          <a:ext cx="3924360" cy="4480200"/>
        </p:xfrm>
        <a:graphic>
          <a:graphicData uri="http://schemas.openxmlformats.org/drawingml/2006/table">
            <a:tbl>
              <a:tblPr/>
              <a:tblGrid>
                <a:gridCol w="1963800"/>
                <a:gridCol w="196056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Адрес ячей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тек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уще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иб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ф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у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иб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ц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648320" y="1752480"/>
          <a:ext cx="3924360" cy="434304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ме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нани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ово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й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мет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dddddd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523880" y="2590920"/>
            <a:ext cx="64008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ступи к работе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5-02-07T14:00:28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