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7557-DB45-4FDF-BCBE-FF85B918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BEF9-CD92-405A-B5E7-F12C7347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C56-4B6F-4283-9DA8-9FFFA189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E422-D002-481E-98CB-FAEBAC5E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AB7-F526-4F8F-A57E-B566CBD6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51EF-D2DF-40A3-A520-58494505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4A2B-5743-4716-B315-AD71DE84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D04-FE32-460A-95C6-C2534DD2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25A-BA13-4897-BD13-20A1624F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B96-B3AD-4A26-A683-81F9E23B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9E15-46F1-4529-AD6B-5B1C8DB5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7BA-A121-4779-8E4A-3A597F5D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AC63-4020-464F-8715-DC7A00AC6E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2007-02.photosight.ru/23/194133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2"/>
          <p:cNvSpPr txBox="1"/>
          <p:nvPr/>
        </p:nvSpPr>
        <p:spPr>
          <a:xfrm>
            <a:off x="1440000" y="1227240"/>
            <a:ext cx="6346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новы философи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1450800" y="3260880"/>
            <a:ext cx="6961320" cy="213984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604800" y="2349360"/>
            <a:ext cx="317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46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2417760" y="777960"/>
            <a:ext cx="4351320" cy="5290920"/>
          </a:xfrm>
          <a:prstGeom prst="rect">
            <a:avLst/>
          </a:prstGeom>
          <a:ln w="0">
            <a:noFill/>
          </a:ln>
        </p:spPr>
      </p:pic>
      <p:pic>
        <p:nvPicPr>
          <p:cNvPr id="73" name="aa796fc0b435.mp3" descr=""/>
          <p:cNvPicPr/>
          <p:nvPr/>
        </p:nvPicPr>
        <p:blipFill>
          <a:blip r:embed="rId3"/>
          <a:stretch/>
        </p:blipFill>
        <p:spPr>
          <a:xfrm>
            <a:off x="395280" y="1681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0904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46840"/>
          </a:xfrm>
          <a:prstGeom prst="rect">
            <a:avLst/>
          </a:prstGeom>
          <a:ln w="0">
            <a:noFill/>
          </a:ln>
        </p:spPr>
      </p:pic>
      <p:sp>
        <p:nvSpPr>
          <p:cNvPr id="75" name="WordArt 9"/>
          <p:cNvSpPr txBox="1"/>
          <p:nvPr/>
        </p:nvSpPr>
        <p:spPr>
          <a:xfrm>
            <a:off x="2195640" y="852480"/>
            <a:ext cx="46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квей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6" name="Picture 3" descr="C:\Documents and Settings\Admin\Рабочий стол\0011-011-Algoritm-sinkvejna.jpg"/>
          <p:cNvPicPr/>
          <p:nvPr/>
        </p:nvPicPr>
        <p:blipFill>
          <a:blip r:embed="rId2"/>
          <a:stretch/>
        </p:blipFill>
        <p:spPr>
          <a:xfrm>
            <a:off x="3513240" y="1773360"/>
            <a:ext cx="5184720" cy="388764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826920" y="1989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7" descr=""/>
          <p:cNvPicPr/>
          <p:nvPr/>
        </p:nvPicPr>
        <p:blipFill>
          <a:blip r:embed="rId3"/>
          <a:stretch/>
        </p:blipFill>
        <p:spPr>
          <a:xfrm>
            <a:off x="371520" y="1944720"/>
            <a:ext cx="3182760" cy="2908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46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Admin\Рабочий стол\sinkvein_2.jpg"/>
          <p:cNvPicPr/>
          <p:nvPr/>
        </p:nvPicPr>
        <p:blipFill>
          <a:blip r:embed="rId2"/>
          <a:stretch/>
        </p:blipFill>
        <p:spPr>
          <a:xfrm>
            <a:off x="976320" y="1108080"/>
            <a:ext cx="7272360" cy="4630680"/>
          </a:xfrm>
          <a:prstGeom prst="rect">
            <a:avLst/>
          </a:prstGeom>
          <a:ln w="0">
            <a:noFill/>
          </a:ln>
        </p:spPr>
      </p:pic>
      <p:sp>
        <p:nvSpPr>
          <p:cNvPr id="81" name="WordArt 9"/>
          <p:cNvSpPr txBox="1"/>
          <p:nvPr/>
        </p:nvSpPr>
        <p:spPr>
          <a:xfrm>
            <a:off x="2195640" y="458640"/>
            <a:ext cx="4608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квей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468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9"/>
          <p:cNvSpPr/>
          <p:nvPr/>
        </p:nvSpPr>
        <p:spPr>
          <a:xfrm>
            <a:off x="1547640" y="1484280"/>
            <a:ext cx="6048720" cy="449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99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е больше всего удалось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могу себя похвалить за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е очень понравилось как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я удивило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узнал что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перь я могу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меня было открытием то, что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мой взгляд удалось (не удалось), потому что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будущее я учту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9"/>
          <p:cNvSpPr txBox="1"/>
          <p:nvPr/>
        </p:nvSpPr>
        <p:spPr>
          <a:xfrm>
            <a:off x="2259000" y="620640"/>
            <a:ext cx="46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флексия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-50760" y="0"/>
            <a:ext cx="9186840" cy="6846840"/>
          </a:xfrm>
          <a:prstGeom prst="rect">
            <a:avLst/>
          </a:prstGeom>
          <a:ln w="0">
            <a:noFill/>
          </a:ln>
        </p:spPr>
      </p:pic>
      <p:sp>
        <p:nvSpPr>
          <p:cNvPr id="86" name="WordArt 9"/>
          <p:cNvSpPr txBox="1"/>
          <p:nvPr/>
        </p:nvSpPr>
        <p:spPr>
          <a:xfrm>
            <a:off x="755640" y="1557360"/>
            <a:ext cx="748836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4684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9" descr=""/>
          <p:cNvPicPr/>
          <p:nvPr/>
        </p:nvPicPr>
        <p:blipFill>
          <a:blip r:embed="rId2"/>
          <a:stretch/>
        </p:blipFill>
        <p:spPr>
          <a:xfrm>
            <a:off x="2182680" y="1322280"/>
            <a:ext cx="505332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912960" y="2120760"/>
            <a:ext cx="777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основных категорий бытия человека, определяющие его жизнь- творчество, вера,  любовь, счастье, смер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еть разные точки зрения по проблеме основных категорий человеческого бы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у студентов собственной позиции по проблеме бы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Картинка 42 из 19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395280" y="4476600"/>
            <a:ext cx="835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«Будьте совершенны, как совершенен Отец наш Небесный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46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755640" y="1557360"/>
            <a:ext cx="76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..Наше творчество предназначается для того, чтобы красота земли, призыв к борьбе за счастье, радость и свобода, широта человеческого сердца и сила разума преобладали над тьмой и сверкали, как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заходящее солн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46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68360" y="1268280"/>
            <a:ext cx="81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У каждого из нас можно отнять все имущество, семью и хотя это крайне тяжело, но человек выдержит и останется человеком до той поры, пока у него не отнимут ве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се можно вынести с помощью Божьей», настоятель церкви святой великомученицы Екатерины отец Андрей Верещаг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4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3306600" cy="3565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4592520" y="1990800"/>
            <a:ext cx="379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сих пор о любви была сказана только одна неоспоримая правда,а  именно,что  «тайна сия велика е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9"/>
          <p:cNvSpPr txBox="1"/>
          <p:nvPr/>
        </p:nvSpPr>
        <p:spPr>
          <a:xfrm>
            <a:off x="2195640" y="852480"/>
            <a:ext cx="46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9" name="a22ad6d8617a.mp3" descr=""/>
          <p:cNvPicPr/>
          <p:nvPr/>
        </p:nvPicPr>
        <p:blipFill>
          <a:blip r:embed="rId3"/>
          <a:stretch/>
        </p:blipFill>
        <p:spPr>
          <a:xfrm>
            <a:off x="179280" y="243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29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46840"/>
          </a:xfrm>
          <a:prstGeom prst="rect">
            <a:avLst/>
          </a:prstGeom>
          <a:ln w="0">
            <a:noFill/>
          </a:ln>
        </p:spPr>
      </p:pic>
      <p:sp>
        <p:nvSpPr>
          <p:cNvPr id="61" name="WordArt 9"/>
          <p:cNvSpPr txBox="1"/>
          <p:nvPr/>
        </p:nvSpPr>
        <p:spPr>
          <a:xfrm>
            <a:off x="2195640" y="852480"/>
            <a:ext cx="46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ормула ПОП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1382760" y="1778040"/>
            <a:ext cx="684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П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ЗИ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осн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П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им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С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дствие (вывод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4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1030320" y="2023920"/>
            <a:ext cx="4732200" cy="3256200"/>
          </a:xfrm>
          <a:prstGeom prst="rect">
            <a:avLst/>
          </a:prstGeom>
          <a:ln w="0">
            <a:noFill/>
          </a:ln>
        </p:spPr>
      </p:pic>
      <p:sp>
        <p:nvSpPr>
          <p:cNvPr id="65" name="WordArt 9"/>
          <p:cNvSpPr txBox="1"/>
          <p:nvPr/>
        </p:nvSpPr>
        <p:spPr>
          <a:xfrm>
            <a:off x="1547640" y="1125360"/>
            <a:ext cx="6193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точник счастья -любов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6084720" y="1916280"/>
            <a:ext cx="230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когда-нибудь, гоняясь за счастьем, вы найдете его, вы подобно старухе, искавшей свои очки,обнаружите, что счастье было все время у вас на н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46840"/>
          </a:xfrm>
          <a:prstGeom prst="rect">
            <a:avLst/>
          </a:prstGeom>
          <a:ln w="0">
            <a:noFill/>
          </a:ln>
        </p:spPr>
      </p:pic>
      <p:sp>
        <p:nvSpPr>
          <p:cNvPr id="68" name="WordArt 9"/>
          <p:cNvSpPr txBox="1"/>
          <p:nvPr/>
        </p:nvSpPr>
        <p:spPr>
          <a:xfrm>
            <a:off x="2195640" y="852480"/>
            <a:ext cx="46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мер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3797280" cy="379908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5364000" y="1628640"/>
            <a:ext cx="2953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чная точка нашего жизненного пути- это смерть, предел наших стрем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бы смерть была подобна врагу от которого можно убежать, я посоветовал бы воспользоваться этим оружием тру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05:39:47Z</dcterms:created>
  <dc:creator/>
  <dc:description/>
  <dc:language>en-US</dc:language>
  <cp:lastModifiedBy/>
  <dcterms:modified xsi:type="dcterms:W3CDTF">2014-10-14T17:09:47Z</dcterms:modified>
  <cp:revision>40</cp:revision>
  <dc:subject/>
  <dc:title/>
</cp:coreProperties>
</file>