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42A-4646-4D92-AE09-1168F62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9AD-888E-4E51-B9AD-7D94400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476-4283-4219-90FD-46073F18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611-9F1D-44F4-A598-A6773732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AA7-14FC-497F-8962-44743F01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06C-044F-4FC8-8D71-3C07DB2F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593-21EB-4AD6-99B4-F315385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3CC-73F1-4841-9952-5AB1F456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5AD-6C75-4FD1-B612-00B31DB0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13E-DD08-4390-8669-7D3C2EE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9A7-64E1-482A-A9E1-38EFC0A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684-8C82-4E09-A224-E505C8F1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559E-1E09-4162-991D-1B0CABF8C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2007-02.photosight.ru/23/194133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2"/>
          <p:cNvSpPr txBox="1"/>
          <p:nvPr/>
        </p:nvSpPr>
        <p:spPr>
          <a:xfrm>
            <a:off x="1440000" y="1227240"/>
            <a:ext cx="6346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ы философи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450800" y="3260880"/>
            <a:ext cx="6961320" cy="2139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604800" y="2349360"/>
            <a:ext cx="317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417760" y="777960"/>
            <a:ext cx="4351320" cy="5290920"/>
          </a:xfrm>
          <a:prstGeom prst="rect">
            <a:avLst/>
          </a:prstGeom>
          <a:ln w="0">
            <a:noFill/>
          </a:ln>
        </p:spPr>
      </p:pic>
      <p:pic>
        <p:nvPicPr>
          <p:cNvPr id="73" name="aa796fc0b435.mp3" descr=""/>
          <p:cNvPicPr/>
          <p:nvPr/>
        </p:nvPicPr>
        <p:blipFill>
          <a:blip r:embed="rId3"/>
          <a:stretch/>
        </p:blipFill>
        <p:spPr>
          <a:xfrm>
            <a:off x="395280" y="168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90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квей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6" name="Picture 3" descr="C:\Documents and Settings\Admin\Рабочий стол\0011-011-Algoritm-sinkvejna.jpg"/>
          <p:cNvPicPr/>
          <p:nvPr/>
        </p:nvPicPr>
        <p:blipFill>
          <a:blip r:embed="rId2"/>
          <a:stretch/>
        </p:blipFill>
        <p:spPr>
          <a:xfrm>
            <a:off x="3513240" y="1773360"/>
            <a:ext cx="5184720" cy="38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826920" y="19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7" descr=""/>
          <p:cNvPicPr/>
          <p:nvPr/>
        </p:nvPicPr>
        <p:blipFill>
          <a:blip r:embed="rId3"/>
          <a:stretch/>
        </p:blipFill>
        <p:spPr>
          <a:xfrm>
            <a:off x="371520" y="1944720"/>
            <a:ext cx="3182760" cy="2908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Admin\Рабочий стол\sinkvein_2.jpg"/>
          <p:cNvPicPr/>
          <p:nvPr/>
        </p:nvPicPr>
        <p:blipFill>
          <a:blip r:embed="rId2"/>
          <a:stretch/>
        </p:blipFill>
        <p:spPr>
          <a:xfrm>
            <a:off x="976320" y="1108080"/>
            <a:ext cx="7272360" cy="4630680"/>
          </a:xfrm>
          <a:prstGeom prst="rect">
            <a:avLst/>
          </a:prstGeom>
          <a:ln w="0">
            <a:noFill/>
          </a:ln>
        </p:spPr>
      </p:pic>
      <p:sp>
        <p:nvSpPr>
          <p:cNvPr id="81" name="WordArt 9"/>
          <p:cNvSpPr txBox="1"/>
          <p:nvPr/>
        </p:nvSpPr>
        <p:spPr>
          <a:xfrm>
            <a:off x="2195640" y="458640"/>
            <a:ext cx="460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квей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9"/>
          <p:cNvSpPr/>
          <p:nvPr/>
        </p:nvSpPr>
        <p:spPr>
          <a:xfrm>
            <a:off x="1547640" y="1484280"/>
            <a:ext cx="6048720" cy="449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99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больше всего удалось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могу себя похвалить за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очень понравилось как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 удивило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узнал что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ерь я могу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меня было открытием то, что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 удалось (не удалось), потому что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удущее я учту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2259000" y="62064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флексия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-5076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755640" y="1557360"/>
            <a:ext cx="748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9" descr=""/>
          <p:cNvPicPr/>
          <p:nvPr/>
        </p:nvPicPr>
        <p:blipFill>
          <a:blip r:embed="rId2"/>
          <a:stretch/>
        </p:blipFill>
        <p:spPr>
          <a:xfrm>
            <a:off x="2182680" y="1322280"/>
            <a:ext cx="5053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912960" y="212076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основных категорий бытия человека, определяющие его жизнь- творчество, вера,  любовь, счастье, смер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разные точки зрения по проблеме основных категорий человеческого бы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студентов собственной позиции по проблеме 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42 из 19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395280" y="447660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«Будьте совершенны, как совершенен Отец наш Небесны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55640" y="155736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..Наше творчество предназначается для того, чтобы красота земли, призыв к борьбе за счастье, радость и свобода, широта человеческого сердца и сила разума преобладали над тьмой и сверкали, как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заходящее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68360" y="126828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У каждого из нас можно отнять все имущество, семью и хотя это крайне тяжело, но человек выдержит и останется человеком до той поры, пока у него не отнимут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можно вынести с помощью Божьей», настоятель церкви святой великомученицы Екатерины отец Андрей Верещаг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3306600" cy="3565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4592520" y="1990800"/>
            <a:ext cx="37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сих пор о любви была сказана только одна неоспоримая правда,а  именно,что  «тайна сия велика е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9" name="a22ad6d8617a.mp3" descr=""/>
          <p:cNvPicPr/>
          <p:nvPr/>
        </p:nvPicPr>
        <p:blipFill>
          <a:blip r:embed="rId3"/>
          <a:stretch/>
        </p:blipFill>
        <p:spPr>
          <a:xfrm>
            <a:off x="179280" y="24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29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ула ПОП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382760" y="1778040"/>
            <a:ext cx="68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ЗИ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сн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С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дствие (выво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30320" y="2023920"/>
            <a:ext cx="4732200" cy="3256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9"/>
          <p:cNvSpPr txBox="1"/>
          <p:nvPr/>
        </p:nvSpPr>
        <p:spPr>
          <a:xfrm>
            <a:off x="1547640" y="1125360"/>
            <a:ext cx="619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чник счастья -любо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084720" y="1916280"/>
            <a:ext cx="230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огда-нибудь, гоняясь за счастьем, вы найдете его, вы подобно старухе, искавшей свои очки,обнаружите, что счастье было все время у вас на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68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797280" cy="379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5364000" y="1628640"/>
            <a:ext cx="295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ая точка нашего жизненного пути- это смерть, предел наших стрем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смерть была подобна врагу от которого можно убежать, я посоветовал бы воспользоваться этим оружием тру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/>
  <dc:description/>
  <dc:language>en-US</dc:language>
  <cp:lastModifiedBy/>
  <dcterms:modified xsi:type="dcterms:W3CDTF">2014-10-14T17:09:47Z</dcterms:modified>
  <cp:revision>40</cp:revision>
  <dc:subject/>
  <dc:title/>
</cp:coreProperties>
</file>