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1.jpeg" ContentType="image/jpeg"/>
  <Override PartName="/ppt/media/image12.jpeg" ContentType="image/jpeg"/>
  <Override PartName="/ppt/media/image4.jpeg" ContentType="image/jpeg"/>
  <Override PartName="/ppt/media/image11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8B8C-A032-4C6D-8C41-03D17C37AD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56E2-9FC5-4B8F-822B-7A834BB52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499-7C5C-4043-9FC4-66027E81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3F9-DF02-4DE4-9F3D-42A7016F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076-6FDE-4024-BA86-193A7E7B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076-0238-4AAB-933D-5E5FD6D1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B085-69A9-47DC-85D8-1E43D8E4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95E1-D350-4BEE-B94B-C9420E44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8038-4BCA-4341-8FCF-D38E4BD9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F756-33C2-443F-95BB-0A22858C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4E7D-8775-4860-8F74-0BEEB989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D824-D51A-4A2D-84EA-D0CD832C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DF7B-518A-42E1-AB30-40F8E21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650-D311-47D2-A7A1-4ADD02F1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845B-DFF6-4CD6-8593-CF1DB7D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602F-F521-4CA9-AF5A-683CFFC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C248-21DA-43D9-BE0F-DC0B8F1E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2981-D63B-4B4F-848C-870B7045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3F7-BADD-46E1-9F88-AD9EAC36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818-6D16-46E5-BE27-B6AD473A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737-25DC-4023-BE4F-9088C33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3F6-4F1B-41EA-8AA2-49347E18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D12-DDEE-44E4-976A-D6C82DB7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F04-E6F9-4E25-A76B-079CA4B8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616-5B52-4EAB-BEE6-C911D04D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086-0871-4740-823E-461B0C8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710E-0673-44C0-A078-5F68EDB0C5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CC85-236B-4D2E-B93D-D9C04621B6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00---foto--landscapes--landscapes--catalina"/>
          <p:cNvPicPr/>
          <p:nvPr/>
        </p:nvPicPr>
        <p:blipFill>
          <a:blip r:embed="rId1"/>
          <a:stretch/>
        </p:blipFill>
        <p:spPr>
          <a:xfrm>
            <a:off x="0" y="0"/>
            <a:ext cx="968544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убань моя- степная дочь России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для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flagrus"/>
          <p:cNvPicPr/>
          <p:nvPr/>
        </p:nvPicPr>
        <p:blipFill>
          <a:blip r:embed="rId2"/>
          <a:stretch/>
        </p:blipFill>
        <p:spPr>
          <a:xfrm>
            <a:off x="8448840" y="476280"/>
            <a:ext cx="69516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---foto--landscapes--landscapes--fence1"/>
          <p:cNvPicPr/>
          <p:nvPr/>
        </p:nvPicPr>
        <p:blipFill>
          <a:blip r:embed="rId1"/>
          <a:stretch/>
        </p:blipFill>
        <p:spPr>
          <a:xfrm>
            <a:off x="-1044720" y="-1467000"/>
            <a:ext cx="12192120" cy="9753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2195640" y="19760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пасибо за внимание! И до новых встреч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b1767954"/>
          <p:cNvPicPr/>
          <p:nvPr/>
        </p:nvPicPr>
        <p:blipFill>
          <a:blip r:embed="rId2"/>
          <a:stretch/>
        </p:blipFill>
        <p:spPr>
          <a:xfrm>
            <a:off x="7601040" y="115920"/>
            <a:ext cx="154296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й вы, степи ковыльные,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роги дальние, пыльные,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ды, криницы, поля, станицы,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 гор могучих седые кручи!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й вы, степи ковыльные,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мля родная, обильная..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краше края тебя,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ная Кубанская земля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s320x240"/>
          <p:cNvPicPr/>
          <p:nvPr/>
        </p:nvPicPr>
        <p:blipFill>
          <a:blip r:embed="rId1"/>
          <a:stretch/>
        </p:blipFill>
        <p:spPr>
          <a:xfrm>
            <a:off x="1187280" y="2781360"/>
            <a:ext cx="69120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к пшеница пришла на Кубань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йдешь к густому пшеничному полю – душа не нарадуется. Ветерок волной накатывает упругие колосья, пахнет поспевающим хлебом, в синеве заливаются жаворонки... Урожайная пшеница, созданная знаменитым селекционером П. П. Лукьяненко, дает более 50 центнеров с гектара. Кубанская нива щедро ссыпает золотое зерно в закрома отеческие. И невольно задаешь себе вопрос: </a:t>
            </a:r>
            <a:r>
              <a:rPr b="0" lang="ru-RU" sz="1400" spc="-1" strike="noStrike">
                <a:solidFill>
                  <a:srgbClr val="ff3300"/>
                </a:solidFill>
                <a:latin typeface="Times New Roman"/>
              </a:rPr>
              <a:t>когда же пшеница пришла на Кубань?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Археологи установили, что еще в VI и V веках до новой эры ее сеяли в нашем краю. Во многих меотских городищах — четыре из них находились на территории Краснодара — найдены обуглившиеся злаковые зерна, и среди них ячмень, просо. Анализ показал, что тогда на Кубани произрастали только мягкие сорта пшеницы. Основным земледельческим орудием был деревянный плуг. Зерно хранилось в ямах с обмазанными глиной стенками или во вместительных керамических сосудах — пифосах. Начало современного земледелия было положено в конце XVIII века, со времен переселения казаков в кубанские степи. </a:t>
            </a:r>
            <a:r>
              <a:rPr b="0" lang="ru-RU" sz="1400" spc="-1" strike="noStrike">
                <a:solidFill>
                  <a:srgbClr val="ff3300"/>
                </a:solidFill>
                <a:latin typeface="Times New Roman"/>
              </a:rPr>
              <a:t>Так обустраивались черноморцы на дарованной земле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SUVOR2EU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---foto--landscapes--landscapes--field2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979640" y="547560"/>
            <a:ext cx="554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 шелестящие травы обутая,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под ногами не чую тропы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Ты- не вечер вчерашний, не утро- я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Но до встречи - степные столб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И седая полынь придорожная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И глоток маслянистой луны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Одинокая степь растревожена-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идит нежные, нежные 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Краснодарский край,э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3"/>
          <p:cNvSpPr/>
          <p:nvPr/>
        </p:nvSpPr>
        <p:spPr>
          <a:xfrm>
            <a:off x="2195640" y="1123920"/>
            <a:ext cx="562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убань моя- степная дочь России. С самого детства мы все дышим её природным воздухом и наслаждаемся запахами, которые трудно ещё где-нибудь встретить. И, смотря где ты хочешь насладиться ароматом воздуха, каждый листочек, травинка какого-либо растения наполнит твои лёгкие самым разнообразным ароматом. Столько запахов, что все их просто не запомнить. Запоминаются только те, которые ближе к тебе, рождённые вместе с тобой, на твоей родин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Chicken_11"/>
          <p:cNvPicPr/>
          <p:nvPr/>
        </p:nvPicPr>
        <p:blipFill>
          <a:blip r:embed="rId2"/>
          <a:stretch/>
        </p:blipFill>
        <p:spPr>
          <a:xfrm>
            <a:off x="4500720" y="5157720"/>
            <a:ext cx="1628640" cy="13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степ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195640" y="554040"/>
            <a:ext cx="47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тепей на Кубани много. Очень трудно их всех изучить, тем более что каждая степь по-своему уникальна и красива.  Всё время так тянет вернуться, побродить не спеша по траве и восхититься просторами, наполненными чудесными ароматами степи. Степь – это будущее, в том смысле, что это залог урожая, которым славна наша Кубань. Сколько полей возделано первыми землепашцами, причём земли плодородной. Главное правильно относиться к земле – как к твоему самому родному. Наверное, можно сказать, как к своей любимой. И земля ответит благодарностью на твоё внимание к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smile211"/>
          <p:cNvPicPr/>
          <p:nvPr/>
        </p:nvPicPr>
        <p:blipFill>
          <a:blip r:embed="rId2"/>
          <a:stretch/>
        </p:blipFill>
        <p:spPr>
          <a:xfrm>
            <a:off x="7236000" y="260280"/>
            <a:ext cx="1657080" cy="24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0---foto--landscapes--landscapes--cattails"/>
          <p:cNvPicPr/>
          <p:nvPr/>
        </p:nvPicPr>
        <p:blipFill>
          <a:blip r:embed="rId1"/>
          <a:stretch/>
        </p:blipFill>
        <p:spPr>
          <a:xfrm>
            <a:off x="-1549440" y="-289548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2195640" y="1485000"/>
            <a:ext cx="49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от, именно на этих степях, берёт начало богатый урожай. Пшеница – один из приоритетных продуктов Кубани. Кубань – кормилица России. Сами подумайте, какой хлеб получится на возделанных полях вольной степи. Этот хлеб, результат бережного труда кубанцев. Он пропитан душой вольного ветра, душой плодородной земли и лучиками тёплого солнца. И у вас станет тепло на д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001917"/>
          <p:cNvPicPr/>
          <p:nvPr/>
        </p:nvPicPr>
        <p:blipFill>
          <a:blip r:embed="rId2"/>
          <a:stretch/>
        </p:blipFill>
        <p:spPr>
          <a:xfrm>
            <a:off x="5940360" y="765000"/>
            <a:ext cx="666720" cy="58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u9_4434"/>
          <p:cNvPicPr/>
          <p:nvPr/>
        </p:nvPicPr>
        <p:blipFill>
          <a:blip r:embed="rId1"/>
          <a:stretch/>
        </p:blipFill>
        <p:spPr>
          <a:xfrm>
            <a:off x="-2629080" y="-312408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611280" y="1126800"/>
            <a:ext cx="684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Кубань стала родиной для многих писателей и поэ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Самым страстным её поклонником был, наверное, Лермонтов. Сколько он посвятил ей стихов! Сколько он прочувствовал в ней романтики! Кавказ навсегда остался в его сердце, а его стихи с нами. В них он пытается объяснить загадочность Кубани, понять местный народ и красоту края. Лермонтов прожил долгое время на Тамани. В благодарность поэту местные жители оставили его дом нетронутым и сделали из него музей в память Лермонтова. Сейчас в Тамани облагородилась набережная. Гуляя вечером по набережной и видя музей Лермонтову, хочешь проникнуть в те далёкие прошлые мысли поэта. Невольно замечаешь потом, что ты в своих раздумьях представил прошлое как настоящее и уже дышишь воздухом прошлого. Обстановка очень к этому способ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018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395280" y="1159560"/>
            <a:ext cx="72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 напоследок хочется сказать: «Сколько бы не писали про Кубань, всё будет мало!». Ведь сколько ещё городов на Кубани: Сочи- олимпийский город России 2014, Туапсе, Адлер, Анапа – изюминка солнечного моря, Краснодар – столица, богатая своей историей и памятниками. И множество станиц, хуторов и посёлков, где с природой шагают рука об руку. Интерес к родной земле не пропадёт никогда. Всё равно найдётся, что-нибудь новое или старое, что пополнит нашу историю, природу и душу.  Это касается не только нашей Родины, это характерно для каждой земли, будь то пустыня или плодородная равнина. И мы являемся одними из творцов своей земли. Чтобы наслаждаться своей землёй, всё надо делать с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2:53:08Z</dcterms:created>
  <dc:creator>ANYA</dc:creator>
  <dc:description/>
  <dc:language>en-US</dc:language>
  <cp:lastModifiedBy>id-computers</cp:lastModifiedBy>
  <dcterms:modified xsi:type="dcterms:W3CDTF">2015-02-07T07:34:30Z</dcterms:modified>
  <cp:revision>8</cp:revision>
  <dc:subject/>
  <dc:title>Кубань моя- степная дочь России!</dc:title>
</cp:coreProperties>
</file>