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.jpeg" ContentType="image/jpeg"/>
  <Override PartName="/ppt/media/image12.jpeg" ContentType="image/jpeg"/>
  <Override PartName="/ppt/media/image4.jpeg" ContentType="image/jpeg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5E3-FD84-409E-8F7C-9DC5747CAB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CB3D-D8FB-4B5D-B257-66B7F2483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F27-A9E8-4D50-AE47-486FFB0D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8CC-4D2E-48AF-BB7B-F53EF279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632-E41C-4C53-8E1E-6D83BDE2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F47-6A10-478D-8BA7-059372D1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3AC2-8264-4D49-A653-062143C3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7B86-E97E-4C3A-894B-9B29D5E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8DB7-4184-49D1-BAB8-E1A3C1C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4B65-4887-4F9D-822D-4BD24D25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0952-91EF-46B2-84EF-257F1BA3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C7F-D1C2-47EC-A8F4-30A8ED8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E6B-242B-43FD-AB47-7E48594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D8D-76CB-4670-BD41-2B75A128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075-5D54-4B67-88A4-A771109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A192-340C-4961-8893-DEDFADE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05D-2721-48C8-B985-217D1DC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D501-D390-49EA-AFAA-543F6C2F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8A0-1E52-4EBE-A9A6-6560AC1B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2E1-BB7E-463E-9029-50D7D64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7AE-7E78-432C-BB46-DA52FED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641-8DD0-428F-B1BE-45FA379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339-2B84-43DF-B1B0-3D3A0FE2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36F-AD8B-4D42-A30C-110ECFE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BB9-0730-4095-8D96-A7CA88D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6D6-67F8-4B10-9907-183F765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DB5-A29B-4EA9-8B05-75974B222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BDE8-0EB2-43F1-BE9D-80839992C6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00---foto--landscapes--landscapes--catalina"/>
          <p:cNvPicPr/>
          <p:nvPr/>
        </p:nvPicPr>
        <p:blipFill>
          <a:blip r:embed="rId1"/>
          <a:stretch/>
        </p:blipFill>
        <p:spPr>
          <a:xfrm>
            <a:off x="0" y="0"/>
            <a:ext cx="968544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убань моя- степная дочь России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для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flagrus"/>
          <p:cNvPicPr/>
          <p:nvPr/>
        </p:nvPicPr>
        <p:blipFill>
          <a:blip r:embed="rId2"/>
          <a:stretch/>
        </p:blipFill>
        <p:spPr>
          <a:xfrm>
            <a:off x="8448840" y="476280"/>
            <a:ext cx="6951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---foto--landscapes--landscapes--fence1"/>
          <p:cNvPicPr/>
          <p:nvPr/>
        </p:nvPicPr>
        <p:blipFill>
          <a:blip r:embed="rId1"/>
          <a:stretch/>
        </p:blipFill>
        <p:spPr>
          <a:xfrm>
            <a:off x="-1044720" y="-1467000"/>
            <a:ext cx="12192120" cy="9753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195640" y="19760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пасибо за внимание! И до новых встре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b1767954"/>
          <p:cNvPicPr/>
          <p:nvPr/>
        </p:nvPicPr>
        <p:blipFill>
          <a:blip r:embed="rId2"/>
          <a:stretch/>
        </p:blipFill>
        <p:spPr>
          <a:xfrm>
            <a:off x="7601040" y="115920"/>
            <a:ext cx="154296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й вы, степи ковыльные,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роги дальние, пыльные,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ы, криницы, поля, станицы,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 гор могучих седые кручи!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й вы, степи ковыльные,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мля родная, обильная..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краше края тебя,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ная Кубанская земл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s320x240"/>
          <p:cNvPicPr/>
          <p:nvPr/>
        </p:nvPicPr>
        <p:blipFill>
          <a:blip r:embed="rId1"/>
          <a:stretch/>
        </p:blipFill>
        <p:spPr>
          <a:xfrm>
            <a:off x="1187280" y="2781360"/>
            <a:ext cx="6912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к пшеница пришла на Кубань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йдешь к густому пшеничному полю – душа не нарадуется. Ветерок волной накатывает упругие колосья, пахнет поспевающим хлебом, в синеве заливаются жаворонки... Урожайная пшеница, созданная знаменитым селекционером П. П. Лукьяненко, дает более 50 центнеров с гектара. Кубанская нива щедро ссыпает золотое зерно в закрома отеческие. И невольно задаешь себе вопрос: 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когда же пшеница пришла на Кубань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Археологи установили, что еще в VI и V веках до новой эры ее сеяли в нашем краю. Во многих меотских городищах — четыре из них находились на территории Краснодара — найдены обуглившиеся злаковые зерна, и среди них ячмень, просо. Анализ показал, что тогда на Кубани произрастали только мягкие сорта пшеницы. Основным земледельческим орудием был деревянный плуг. Зерно хранилось в ямах с обмазанными глиной стенками или во вместительных керамических сосудах — пифосах. Начало современного земледелия было положено в конце XVIII века, со времен переселения казаков в кубанские степи. 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Так обустраивались черноморцы на дарованной земле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SUVOR2EU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---foto--landscapes--landscapes--field2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979640" y="547560"/>
            <a:ext cx="554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шелестящие травы обутая,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од ногами не чую тропы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Ты- не вечер вчерашний, не утро- я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Но до встречи - степные столб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И седая полынь придорожная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И глоток маслянистой луны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Одинокая степь растревожена-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идит нежные, нежные 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Краснодарский край,э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3"/>
          <p:cNvSpPr/>
          <p:nvPr/>
        </p:nvSpPr>
        <p:spPr>
          <a:xfrm>
            <a:off x="2195640" y="1123920"/>
            <a:ext cx="562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убань моя- степная дочь России. С самого детства мы все дышим её природным воздухом и наслаждаемся запахами, которые трудно ещё где-нибудь встретить. И, смотря где ты хочешь насладиться ароматом воздуха, каждый листочек, травинка какого-либо растения наполнит твои лёгкие самым разнообразным ароматом. Столько запахов, что все их просто не запомнить. Запоминаются только те, которые ближе к тебе, рождённые вместе с тобой, на твоей родин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Chicken_11"/>
          <p:cNvPicPr/>
          <p:nvPr/>
        </p:nvPicPr>
        <p:blipFill>
          <a:blip r:embed="rId2"/>
          <a:stretch/>
        </p:blipFill>
        <p:spPr>
          <a:xfrm>
            <a:off x="4500720" y="5157720"/>
            <a:ext cx="162864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степ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195640" y="554040"/>
            <a:ext cx="47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тепей на Кубани много. Очень трудно их всех изучить, тем более что каждая степь по-своему уникальна и красива.  Всё время так тянет вернуться, побродить не спеша по траве и восхититься просторами, наполненными чудесными ароматами степи. Степь – это будущее, в том смысле, что это залог урожая, которым славна наша Кубань. Сколько полей возделано первыми землепашцами, причём земли плодородной. Главное правильно относиться к земле – как к твоему самому родному. Наверное, можно сказать, как к своей любимой. И земля ответит благодарностью на твоё внимание к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smile211"/>
          <p:cNvPicPr/>
          <p:nvPr/>
        </p:nvPicPr>
        <p:blipFill>
          <a:blip r:embed="rId2"/>
          <a:stretch/>
        </p:blipFill>
        <p:spPr>
          <a:xfrm>
            <a:off x="7236000" y="260280"/>
            <a:ext cx="165708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0---foto--landscapes--landscapes--cattails"/>
          <p:cNvPicPr/>
          <p:nvPr/>
        </p:nvPicPr>
        <p:blipFill>
          <a:blip r:embed="rId1"/>
          <a:stretch/>
        </p:blipFill>
        <p:spPr>
          <a:xfrm>
            <a:off x="-1549440" y="-289548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195640" y="1485000"/>
            <a:ext cx="49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Вот, именно на этих степях, берёт начало богатый урожай. Пшеница – один из приоритетных продуктов Кубани. Кубань – кормилица России. Сами подумайте, какой хлеб получится на возделанных полях вольной степи. Этот хлеб, результат бережного труда кубанцев. Он пропитан душой вольного ветра, душой плодородной земли и лучиками тёплого солнца. И у вас станет тепло на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001917"/>
          <p:cNvPicPr/>
          <p:nvPr/>
        </p:nvPicPr>
        <p:blipFill>
          <a:blip r:embed="rId2"/>
          <a:stretch/>
        </p:blipFill>
        <p:spPr>
          <a:xfrm>
            <a:off x="5940360" y="765000"/>
            <a:ext cx="666720" cy="58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u9_4434"/>
          <p:cNvPicPr/>
          <p:nvPr/>
        </p:nvPicPr>
        <p:blipFill>
          <a:blip r:embed="rId1"/>
          <a:stretch/>
        </p:blipFill>
        <p:spPr>
          <a:xfrm>
            <a:off x="-2629080" y="-312408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11280" y="1126800"/>
            <a:ext cx="68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Кубань стала родиной для многих писателей и поэ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Самым страстным её поклонником был, наверное, Лермонтов. Сколько он посвятил ей стихов! Сколько он прочувствовал в ней романтики! Кавказ навсегда остался в его сердце, а его стихи с нами. В них он пытается объяснить загадочность Кубани, понять местный народ и красоту края. Лермонтов прожил долгое время на Тамани. В благодарность поэту местные жители оставили его дом нетронутым и сделали из него музей в память Лермонтова. Сейчас в Тамани облагородилась набережная. Гуляя вечером по набережной и видя музей Лермонтову, хочешь проникнуть в те далёкие прошлые мысли поэта. Невольно замечаешь потом, что ты в своих раздумьях представил прошлое как настоящее и уже дышишь воздухом прошлого. Обстановка очень к этому способ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18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95280" y="1159560"/>
            <a:ext cx="72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Arial"/>
              </a:rPr>
              <a:t>А напоследок хочется сказать: «Сколько бы не писали про Кубань, всё будет мало!». Ведь сколько ещё городов на Кубани: Сочи- олимпийский город России 2014, Туапсе, Адлер, Анапа – изюминка солнечного моря, Краснодар – столица, богатая своей историей и памятниками. И множество станиц, хуторов и посёлков, где с природой шагают рука об руку. Интерес к родной земле не пропадёт никогда. Всё равно найдётся, что-нибудь новое или старое, что пополнит нашу историю, природу и душу.  Это касается не только нашей Родины, это характерно для каждой земли, будь то пустыня или плодородная равнина. И мы являемся одними из творцов своей земли. Чтобы наслаждаться своей землёй, всё надо делать с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53:08Z</dcterms:created>
  <dc:creator>ANYA</dc:creator>
  <dc:description/>
  <dc:language>en-US</dc:language>
  <cp:lastModifiedBy>id-computers</cp:lastModifiedBy>
  <dcterms:modified xsi:type="dcterms:W3CDTF">2015-02-07T07:34:30Z</dcterms:modified>
  <cp:revision>8</cp:revision>
  <dc:subject/>
  <dc:title>Кубань моя- степная дочь России!</dc:title>
</cp:coreProperties>
</file>