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6266-5C0E-47EC-8079-B33AD628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CAD-3458-4422-8168-6DB5CEF7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AEB-4936-4007-824F-9D58A8E0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E100-5322-48FE-A86B-44C08801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3610-8710-4B7F-A6E1-59CB50DF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5A0D-4BB3-4A37-A970-26154BF3B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B2EA-D2BA-49F6-B967-9E64C4B58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18BC-A7F1-468B-B391-C482D15F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6026-636F-4E06-8F69-85CB0C718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3514-10BF-46C5-97B0-874C3AC8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DA73-8F37-4DAB-BD5C-009F83ED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85A-33DD-41CA-AA07-B51F4D33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0D94-69FA-4A69-BE71-2833BDBD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8AAC-8260-4BCB-8162-E9427A9E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C313-035D-4BE5-838C-424BE13C8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4C5F-C055-4EE2-9BE2-1D7C255A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7EAC-60F2-4A22-A33B-52348DE9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7620A-C1AD-4332-A35E-CE2C8656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F861-75BE-47FC-980D-DB043FD5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990D9-7C5D-4F3E-9CEC-69405CFC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85F6-D4A8-4594-A955-9AAA14EC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BB3A-EBDE-4A4E-BF40-F823E7AE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9956-1A78-42DC-B279-FD8D444C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FA1AA-A7F6-4B05-9B97-22393AE4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34BAA-03E7-499F-BDE6-C3FA71C0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344A8-7AA6-46BE-833A-77161BAF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5DBF-8EFE-4705-B0FF-F2C06C63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37DDC-E501-49C4-9639-22AD0074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BD7E-9E5C-4B35-8FE2-D58C3543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10A1-F144-4066-BD94-6AB34CBD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C031F9-D584-463B-9D2C-F0B49005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63825-3F1F-4764-9116-C94601AE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351EE2-2385-4E91-AE2F-8EC8ACF0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44E-43D1-4536-A9D5-8C3AFA39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27503-A810-454D-A010-E2756A9A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E53ABF-CB47-4EBB-AB6D-69A89F76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F3A51-CB3F-4644-8727-898CF13B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A42D0F-43E6-4C7C-9346-E38BE9F9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5207F3-655D-4953-B300-F88E2785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D086A-B047-460D-AB68-F114A571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19737A-C903-424C-97B0-85C512CF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D25677-98CD-4B41-B4E6-FF351501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10319D-2CA0-4E82-B807-5D9DAC18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9E2DB-C8DC-4E60-BDCE-43E53DE7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A4D2-8C8E-435C-899B-84B13559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71AC3-9C22-42A8-A99B-8F42D578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58B2A-2868-442D-A30A-D3B9119DE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80116-7BBF-4BA1-88CA-1E66CCC8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FC9A2-D586-4DB9-8C00-6CD787DE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2E94-84D4-4EE8-8064-8137095E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0157-7F40-47B1-8019-0DAB0614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27D70-F0B1-4F37-A031-A690D858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93B0D-332C-44A6-B37D-B182B2C6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1A07D-6A75-4B1F-AAAA-62CAF79F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51699-8447-4737-86A7-E88C096D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80D-A414-4214-8DE2-785ABD8B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8375C-7A1A-4100-95C1-0E66322FA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6A8-F684-479C-A9B6-42AC7C86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6B4-8D9D-4DEB-A326-50B30358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9B95-8D5B-4922-A07A-A090E0F3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74B8-F5F2-4305-A6CF-8BBC18B09A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3FA-9174-43AE-A6AA-1683E8DAD38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DF8E-B996-47C6-B8BD-7D812941EBB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44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48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5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57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F9B9-5EB6-41C9-8718-77920E2918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1B3D3-5688-44EA-83FC-ECDF467ACAE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e3e3ff"/>
                </a:solidFill>
                <a:latin typeface="Arial"/>
              </a:rPr>
              <a:t>Программа </a:t>
            </a:r>
            <a:br>
              <a:rPr sz="4800"/>
            </a:br>
            <a:r>
              <a:rPr b="0" i="1" lang="ru-RU" sz="4800" spc="-1" strike="noStrike">
                <a:solidFill>
                  <a:srgbClr val="e3e3ff"/>
                </a:solidFill>
                <a:latin typeface="Arial"/>
              </a:rPr>
              <a:t>подготовки и проведения</a:t>
            </a:r>
            <a:br>
              <a:rPr sz="4800"/>
            </a:br>
            <a:r>
              <a:rPr b="0" i="1" lang="ru-RU" sz="4800" spc="-1" strike="noStrike">
                <a:solidFill>
                  <a:srgbClr val="e3e3ff"/>
                </a:solidFill>
                <a:latin typeface="Arial"/>
              </a:rPr>
              <a:t> итоговой аттестации в форме ЕГЭ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1" name=""/>
          <p:cNvGraphicFramePr/>
          <p:nvPr/>
        </p:nvGraphicFramePr>
        <p:xfrm>
          <a:off x="324000" y="274680"/>
          <a:ext cx="8496000" cy="615636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Контроль хода подготовки к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рганизация доступа учащихся к материалам ЕГЭ в Интернете. Полное обслуживание электронного документооборота по ЕГЭ (информирование учащихся, печать, рассыл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вещание при директоре «Анализ подготовки к ЕГЭ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формление протокола родительского собрания и листа ознакомления с нормативными докум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списка учащихся сдающих ЕГЭ по каждому предме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ответственного за выдачу свидетельств по результатам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приказа о допуске учащихся 11 класса  к сдаче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гистрация пропус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списка учащихся сдающих ЕГЭ по каждому предме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тверждение ответственного за выдачу свидетельств по результатам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ставление расписания экзаменов, консульта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бота с журналами 11,9-х классов с целью проверки прохождения программ по предметам, объективности выставления итоговых оце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рганизация выдачи выпускникам пропуска на ЕГЭ текущего года установленной фор-м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59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Участие в ЕГЭ по расписанию, утвержденному Рособрнадзор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457200" y="274680"/>
          <a:ext cx="8229600" cy="6005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стие в ЕГЭ по расписанию, утвержденному Рособрнадзор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троль за обеспечением доставки участников ЕГЭ к ПП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бор и обработка результатов мониторин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ведение социологических опросов и выявление мнения о ЕГЭ  субъек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зовательного процесс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справки о качестве проведения и результатах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ормирование отчетов по результатам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водный аналитический отчет и меры по совершенствованию процедуры подготовки ОУ к проведению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ображение результатов мониторинга на школьном сай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формление стендов по результатам мониторин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Авгу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формление стендов по результатам мониторинг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ная программа подготовки и проведения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итоговой аттестации в форме ЕГЭ в 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071720"/>
          <a:ext cx="8229600" cy="559584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ные сроки проведения мероприят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ственные исполни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ы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ие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тябрь 2013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щание при директоре «Утверждение плана-графика подготовки ОУ к ЕГЭ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2013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перечня учебной литературы и материалов по подготовке к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ябрь 2013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,  библиотек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нформационного стенда «ЕГЭ» для учащихся и их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ь 2013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ивно-методическая работа с классным руководителем, учителями, уча-щимися, родителями о целях и технологиях проведения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анкеты для анализа пробного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 педаг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щание при директоре «Организация итоговой аттестации выпускников школы в форме ЕГЭ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457200" y="274680"/>
          <a:ext cx="8229600" cy="6154560"/>
        </p:xfrm>
        <a:graphic>
          <a:graphicData uri="http://schemas.openxmlformats.org/drawingml/2006/table">
            <a:tbl>
              <a:tblPr/>
              <a:tblGrid>
                <a:gridCol w="509760"/>
                <a:gridCol w="3747960"/>
                <a:gridCol w="1914480"/>
                <a:gridCol w="2057400"/>
              </a:tblGrid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дача пропусков выпускникам, допущенным к сдаче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хода подготовки к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доступа учащихся к мате-риалам ЕГЭ в Интернете. Полное обслуживание электронного документооборота по ЕГЭ (информирование учащихся, печать, рассыл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И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щание при директоре «Анализ резуль-татов ЕГЭ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нормативных и распорядительных документ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ведомости учета ознакомления с инструкцией и другой документацией по ЕГЭ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письменных заявлений выпускников о выборе экзаменов в форме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протокола родительского собрания и листа ознакомления с нормативными докумен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"/>
          <p:cNvGraphicFramePr/>
          <p:nvPr/>
        </p:nvGraphicFramePr>
        <p:xfrm>
          <a:off x="457200" y="274680"/>
          <a:ext cx="8229600" cy="623880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списка учащихся сдающих ЕГЭ по каждому предме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марта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ответственного за выдачу свидетельств по результатам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приказа о направлении учащихся на пробный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2014 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приказа о допуске учащихся 11 класса к сдаче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страция пропус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формированию школьной базы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направление сведений в МОУО о планируемом числе участников ЕГЭ 201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ма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направление сведений в МОУО о количестве выпускников, которым по решению ГЭК, назначается сдача ЕГЭ в резервный д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ию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457200" y="274680"/>
          <a:ext cx="8229600" cy="632772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учащими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учащихся 11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 учителя-предме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по вопросам подготовки к ЕГЭ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знакомство с инструкциями по подготовке к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авила поведения на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структирование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фициальные сайты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по тренировке заполнения бланков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учащихся после пробного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 –май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-предметн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кла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, социальный 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вещение учащихся о способе их доставки к месту проведения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8" name=""/>
          <p:cNvGraphicFramePr/>
          <p:nvPr/>
        </p:nvGraphicFramePr>
        <p:xfrm>
          <a:off x="457200" y="274680"/>
          <a:ext cx="8229600" cy="586908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родител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ое информирование и  консультирование по вопросам связанными с ЕГЭ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, учителя, кл.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ьское собрание «ЕГЭ 201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, учител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родителей учащихся 11 класса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.педагог, психо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родительского собрания, посвященного вопросам подготовки учащихся к ЕГ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, учителя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.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едагогическим коллектив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ая рабо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подготовки к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ственное совещание «Педагоги-ческие условия обеспечения качества проведения итоговой аттестации в  форме ЕГЭ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, учителя, Кл.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о проведении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проведение совещаний по тематике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ведение до участников ЕГЭ инструкций по проведению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нварь-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порталом информационной поддержки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, зам. директора по УВР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, учащие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«горячей» телефонной линии по вопросам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-июн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нформационных сайтов и оформление стендов для выпускников и поступающи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457200" y="274680"/>
          <a:ext cx="8229600" cy="612612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сборников информационно-справочных материалов «Нормативно-правовое обеспечение проведения ЕГЭ в на территории Республики Тыва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-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министр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ческий эта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и проведение пробного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пробном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, зам. директора по УВР, кл.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кетирование учащихся после проведения пробного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, кл.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ЕГЭ 2014 год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и утверждение списков учащихся, банка данных участников в Е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, 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хиденко Л.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расписания экзаменов, консультаци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с журналами 11 -х классов с целью проверки прохождения программ по предметам, объективности выставления итоговых оц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дачи выпускникам пропуска на ЕГЭ текущего года установленной формы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 2014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ЕГЭ по расписанию, утвержденному Рособрнадзоро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-июнь 2014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, зам. директора по УВР, кл. 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457200" y="274680"/>
          <a:ext cx="8229600" cy="599292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за обеспечением доставки участников ЕГЭ к ПП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ериод проведения ЕГ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выдачи аттестатов и сви-детель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оповещения об утвержденных результатах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0 июня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, зам. директора по УВР, кл. руко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(в соответствии с инструкцией о порядке  оформления, выдачи и учета свидетельств о результатах ЕГЭ) оформления  и выдачи выпускникам свидетельств о результатах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июля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ректор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тический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и проведение мониторинга ЕГЭ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проведения мониторинга 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личестве выпускников, воспользовавшихся свидетельством о результатах ЕГЭ для поступления в ВУЗы стра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количестве выпускников, поступивших в ВУЗы со свидетельством о результатах ЕГЭ на коммерческой и бюджетной основ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ли подготовки и проведения итоговой  аттестаци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бщение и укрепление знаний, приведение их в систему, а также устранение возникающих в ходе учебных занятий пробелов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усвоения школьного материала и умение его применять в решении практических задач, наиболее типичных для данного предме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наличия у учащихся устойчивых навыков решения задач, специфических для данного предмет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9040" indent="-382320" algn="just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троль умения работать с книгой, пользоваться справочной литератур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457200" y="274680"/>
          <a:ext cx="8229600" cy="6418080"/>
        </p:xfrm>
        <a:graphic>
          <a:graphicData uri="http://schemas.openxmlformats.org/drawingml/2006/table">
            <a:tbl>
              <a:tblPr/>
              <a:tblGrid>
                <a:gridCol w="509760"/>
                <a:gridCol w="3606480"/>
                <a:gridCol w="2055960"/>
                <a:gridCol w="20574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 и обработка результатов мониторин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социологических опросов и выявление мнения о ЕГЭ  субъектов образовательного процесс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ь пери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, соц.педаг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справки о качестве проведения и результатах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отчетов по результатам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дный аналитический отчет и меры по совершенствованию процедуры подготовки ОУ к проведению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-август 201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коллекти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результатов мониторин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ображение результатов мониторинга на школьном сай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И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формление стендов по результатам мониторинг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-авгус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директора по УВР Зам. директора по ИК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684360" y="1197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Главная задача государственной (итоговой) аттестации выпускников –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олучение информации об уровне и качестве подготовки и обучения выпускник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6"/>
          <p:cNvSpPr/>
          <p:nvPr/>
        </p:nvSpPr>
        <p:spPr>
          <a:xfrm>
            <a:off x="900000" y="476280"/>
            <a:ext cx="7778880" cy="1584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грамма подготовки и прове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итоговой аттестации в форме ЕГ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95280" y="4221000"/>
            <a:ext cx="2664000" cy="136872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готовите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3348000" y="4221000"/>
            <a:ext cx="2664000" cy="1368720"/>
          </a:xfrm>
          <a:prstGeom prst="rect">
            <a:avLst/>
          </a:prstGeom>
          <a:solidFill>
            <a:srgbClr val="341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6300720" y="4221000"/>
            <a:ext cx="2664000" cy="1368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"/>
          <p:cNvSpPr/>
          <p:nvPr/>
        </p:nvSpPr>
        <p:spPr>
          <a:xfrm flipH="1">
            <a:off x="1763640" y="2060640"/>
            <a:ext cx="223200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H="1">
            <a:off x="4642920" y="2060640"/>
            <a:ext cx="730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2"/>
          <p:cNvSpPr/>
          <p:nvPr/>
        </p:nvSpPr>
        <p:spPr>
          <a:xfrm>
            <a:off x="5580000" y="2060640"/>
            <a:ext cx="208908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4"/>
          <p:cNvSpPr/>
          <p:nvPr/>
        </p:nvSpPr>
        <p:spPr>
          <a:xfrm>
            <a:off x="1258920" y="3213000"/>
            <a:ext cx="43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9"/>
          <p:cNvSpPr/>
          <p:nvPr/>
        </p:nvSpPr>
        <p:spPr>
          <a:xfrm>
            <a:off x="2341440" y="11239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395280" y="260280"/>
            <a:ext cx="863640" cy="612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2341440" y="26028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о – методические меро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8"/>
          <p:cNvSpPr/>
          <p:nvPr/>
        </p:nvSpPr>
        <p:spPr>
          <a:xfrm>
            <a:off x="2341440" y="112536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тверждение нормативны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рядительных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2341440" y="198900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роприятия по формированию школьной базы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2341440" y="2997360"/>
            <a:ext cx="6191280" cy="57600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учащими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2341440" y="393372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родител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2341440" y="479736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а с педагогическом коллектив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2341440" y="5661000"/>
            <a:ext cx="6191280" cy="576360"/>
          </a:xfrm>
          <a:prstGeom prst="rect">
            <a:avLst/>
          </a:prstGeom>
          <a:solidFill>
            <a:srgbClr val="aefa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ирование о проведении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1693800" y="476280"/>
            <a:ext cx="0" cy="547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1693800" y="476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7"/>
          <p:cNvSpPr/>
          <p:nvPr/>
        </p:nvSpPr>
        <p:spPr>
          <a:xfrm>
            <a:off x="1693800" y="134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169380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0"/>
          <p:cNvSpPr/>
          <p:nvPr/>
        </p:nvSpPr>
        <p:spPr>
          <a:xfrm>
            <a:off x="169380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1"/>
          <p:cNvSpPr/>
          <p:nvPr/>
        </p:nvSpPr>
        <p:spPr>
          <a:xfrm>
            <a:off x="1693800" y="422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"/>
          <p:cNvSpPr/>
          <p:nvPr/>
        </p:nvSpPr>
        <p:spPr>
          <a:xfrm>
            <a:off x="1693800" y="5084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3"/>
          <p:cNvSpPr/>
          <p:nvPr/>
        </p:nvSpPr>
        <p:spPr>
          <a:xfrm>
            <a:off x="1693800" y="595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4"/>
          <p:cNvSpPr/>
          <p:nvPr/>
        </p:nvSpPr>
        <p:spPr>
          <a:xfrm>
            <a:off x="395280" y="476280"/>
            <a:ext cx="936720" cy="5759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341440" y="476280"/>
            <a:ext cx="6046920" cy="792000"/>
          </a:xfrm>
          <a:prstGeom prst="rect">
            <a:avLst/>
          </a:prstGeom>
          <a:solidFill>
            <a:srgbClr val="341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готовка и проведение пробного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2411280" y="5229360"/>
            <a:ext cx="6048360" cy="792000"/>
          </a:xfrm>
          <a:prstGeom prst="rect">
            <a:avLst/>
          </a:prstGeom>
          <a:solidFill>
            <a:srgbClr val="341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рганизация выдачи аттестатов и свидетельст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2484360" y="2781360"/>
            <a:ext cx="6048360" cy="792000"/>
          </a:xfrm>
          <a:prstGeom prst="rect">
            <a:avLst/>
          </a:prstGeom>
          <a:solidFill>
            <a:srgbClr val="3414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астие в ЕГЭ 2014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133200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1835280" y="83664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1835280" y="836640"/>
            <a:ext cx="50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2"/>
          <p:cNvSpPr/>
          <p:nvPr/>
        </p:nvSpPr>
        <p:spPr>
          <a:xfrm>
            <a:off x="1835280" y="314172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"/>
          <p:cNvSpPr/>
          <p:nvPr/>
        </p:nvSpPr>
        <p:spPr>
          <a:xfrm>
            <a:off x="1835280" y="5661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611280" y="549360"/>
            <a:ext cx="936360" cy="54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2989440" y="1628640"/>
            <a:ext cx="5327640" cy="792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и проведение мониторинга 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989440" y="3284640"/>
            <a:ext cx="532764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результатов монитор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7"/>
          <p:cNvSpPr/>
          <p:nvPr/>
        </p:nvSpPr>
        <p:spPr>
          <a:xfrm>
            <a:off x="1547640" y="292428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2195640" y="198900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9"/>
          <p:cNvSpPr/>
          <p:nvPr/>
        </p:nvSpPr>
        <p:spPr>
          <a:xfrm>
            <a:off x="2195640" y="198900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2195640" y="364500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457200" y="274680"/>
          <a:ext cx="8229600" cy="6384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иклограмма программы подготовки и проведения итоговой аттестации в 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оябрь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вещание при директоре «Утверждение плана-графика подготовки ОУ к ЕГЭ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здание перечня учебной литературы и материалов по подготовке к Е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екаб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дготовка информационного стенда «ЕГЭ» для учащихся и их родител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Январ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нструктивно-методическая работа с классным руководителем, учителями, учащимися, родителями о целях и технологиях проведения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здание ведомости учета ознакомления с инструкцией и другой документацией по ЕГЭ учащих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бор письменных заявлений выпускников о выборе экзаменов в форме Е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92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ведение до участников ЕГЭ инструкций по проведению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одительское собрание «ЕГЭ 2014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одительское собрание «ЕГЭ 2014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бор письменных заявлений выпускников о выборе экзаменов в форме Е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ведение до участников ЕГЭ инструкций по проведению ЕГЭ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457200" y="274680"/>
          <a:ext cx="8229600" cy="61293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Мар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74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вещание при директоре «Организация итоговой аттестации выпускников школы в форме ЕГЭ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605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ведение до участников ЕГЭ инструкций по проведению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оставление и утверждение списков учащихся, банка данных участников в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414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спользование сборников информационно-справочных материалов «Нормативно-правовое обеспечение проведения ЕГЭ на терри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спублики Тыв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стие в пробном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нкетирование учащихся после проведения пробного ЕГЭ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ставление и утверждение и уточнение списков учащихся, банка данных участников в ЕГ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0:06:42Z</dcterms:created>
  <dc:creator>Жанаргуль Ураловна</dc:creator>
  <dc:description/>
  <dc:language>en-US</dc:language>
  <cp:lastModifiedBy>кок-ооловна</cp:lastModifiedBy>
  <dcterms:modified xsi:type="dcterms:W3CDTF">2013-10-15T04:10:04Z</dcterms:modified>
  <cp:revision>17</cp:revision>
  <dc:subject/>
  <dc:title>Программа  подготовки и проведения  итоговой аттестации в форме ЕГЭ в МОУ «Комсомольская СОШ»  в 2010 году.</dc:title>
</cp:coreProperties>
</file>