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640-ADA1-4311-B68B-6B7F9BAF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C43-BED3-44AB-A4D6-68FDBFF4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386-92F3-418A-8EBD-828A687B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0C6-44AD-4E7D-9C97-96713899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B3C7-470A-49D8-AF2B-CE9E1476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EDB6-99FC-40DA-9AFE-665B7AD2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B904-A771-4B1A-B18E-FA6EC8A6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3036-284F-4B9F-BD65-E3B5A716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FA7F-63B0-41F4-A7CC-4257894B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9EF8-F933-4A97-8B28-EE0D16C9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D523-F948-4B9B-A9F8-22E06B8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9B2-B428-4903-8711-956E5DE1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E0D4-E20C-418C-8AB1-5EB86890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9C3A-62DA-440E-9844-06D0767F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BF2E-D459-4B10-BE0E-41A0E409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F076-1622-4FDF-BA61-F2136C9A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002E-79F8-4F53-A4FC-AF579B04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FEDD-8954-4D17-9571-CDC5945E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ABF5-A0E0-4EC6-945E-DEB4FB62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64EB-3A21-4CAB-B93F-7DAF25A9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8F6E-1452-498D-9EBE-D6F46A98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7785B-34BF-4FB2-9B06-3004FF7F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3A8-3C22-4EA2-B798-9C6282E2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B2FD-39C6-46E3-A697-F6EB5105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F5DE-29A5-49F0-8920-C256703A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900F-9506-4F78-8A15-1309ABF6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75B6-F588-40F2-8808-7B93E72B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DCA5-A9AC-47E2-B66C-5338E5BD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EC7D-8CD6-4C37-A9D3-7ECF22A7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9A4F-E98E-4EEC-9D9C-FBBD39E0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4E7CC8-E55C-4D99-8FA0-E6E74CDC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001F8C-834B-4DA6-B46A-1AEEAAFC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BAD25-48F7-4ED6-B5B3-DF4B9EBF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EF3-0F5C-4079-92A4-562FC230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26697-7A63-4624-B45A-C5B1DFFA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49C8B-3D91-4D95-A33D-711F8073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D1132-1F82-4DBF-BB18-D7DDEBEB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F680A-863F-424D-960D-C934DD1F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942BB-7A43-4715-B93D-C2A0620D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0BF8A-284F-4FA7-8448-6256E768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7E61B-5DF4-4E9F-8D16-4F8FF9DA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77AFF-9BAF-4730-AE6D-E205DC6F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ED28B-6672-4FE1-BDAF-DE6F0A46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26409-97C9-4315-92D5-E9B64C9F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A9F-0A65-41C3-9E5F-57846D13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13A08-5FF2-4C23-A920-2AFB92DA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29517-A8A0-4AFD-9B7E-383184AF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4F89C-75A6-407F-B4A0-BD8E0BF5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0AD3-504A-4CD7-9AB4-6D729701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546CB-BAC5-4F36-926A-5998E2FC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AEAF-4261-490B-A6FB-F9183057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F977C-E06D-4317-B91C-6B39F39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11798-A978-44C7-8518-40446FCD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5A907-A145-4873-94D6-B7818100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E6EDD-0D88-44B3-BBEA-7BCB7B32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42F-611B-4EC5-AC4D-49D37D27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723AE-5F5C-4563-AF9B-E04780BB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64E-1D4A-44A1-B20C-049A6514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EE3-B939-4FCC-8F1F-8579066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0E9-7E64-45AA-8E83-5BD1AE12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907B-7F96-426B-9449-B387288196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417E-D4CD-40AB-9757-F9CEED3E57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9E7-6AE8-4A4D-B253-DB20B90FF75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CDE6-62F3-4DE9-805E-558196B0FE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DBF0-D962-4CC5-A9B5-02EA34A913E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3e3ff"/>
                </a:solidFill>
                <a:latin typeface="Arial"/>
              </a:rPr>
              <a:t>Программа </a:t>
            </a:r>
            <a:br>
              <a:rPr sz="4800"/>
            </a:br>
            <a:r>
              <a:rPr b="0" i="1" lang="ru-RU" sz="4800" spc="-1" strike="noStrike">
                <a:solidFill>
                  <a:srgbClr val="e3e3ff"/>
                </a:solidFill>
                <a:latin typeface="Arial"/>
              </a:rPr>
              <a:t>подготовки и проведения</a:t>
            </a:r>
            <a:br>
              <a:rPr sz="4800"/>
            </a:br>
            <a:r>
              <a:rPr b="0" i="1" lang="ru-RU" sz="4800" spc="-1" strike="noStrike">
                <a:solidFill>
                  <a:srgbClr val="e3e3ff"/>
                </a:solidFill>
                <a:latin typeface="Arial"/>
              </a:rPr>
              <a:t> итоговой аттестации в форме ЕГЭ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324000" y="274680"/>
          <a:ext cx="8496000" cy="615636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нтроль хода подготовки к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рганизация доступа учащихся к материалам ЕГЭ в Интернете. Полное обслуживание электронного документооборота по ЕГЭ (информирование учащихся, печать, рассыл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вещание при директоре «Анализ подготовки к ЕГЭ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формление протокола родительского собрания и листа ознакомления с нормативными докум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тверждение списка учащихся сдающих ЕГЭ по каждому предм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тверждение ответственного за выдачу свидетельств по результатам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тверждение приказа о допуске учащихся 11 класса  к сдаче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гистрация пропус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тверждение списка учащихся сдающих ЕГЭ по каждому предме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тверждение ответственного за выдачу свидетельств по результатам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ставление расписания экзаменов, консульт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бота с журналами 11,9-х классов с целью проверки прохождения программ по предметам, объективности выставления итоговых оце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рганизация выдачи выпускникам пропуска на ЕГЭ текущего года установленной фор-м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частие в ЕГЭ по расписанию, утвержденному Рособрнадзор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457200" y="274680"/>
          <a:ext cx="8229600" cy="6005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стие в ЕГЭ по расписанию, утвержденному Рособрнадзор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 за обеспечением доставки участников ЕГЭ к ПП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бор и обработка результатов мониторин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социологических опросов и выявление мнения о ЕГЭ  субъ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тельного процес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равки о качестве проведения и результатах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ние отчетов по результатам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одный аналитический отчет и меры по совершенствованию процедуры подготовки ОУ к проведению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ображение результатов мониторинга на школьном сай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формление стендов по результатам мониторин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вгу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формление стендов по результатам мониторин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ная программа подготовки и проведения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тоговой аттестации в форме ЕГЭ в 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071720"/>
          <a:ext cx="8229600" cy="559584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ные сроки проведения мероприят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и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2013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4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щание при директоре «Утверждение плана-графика подготовки ОУ к ЕГЭ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2013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, 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еречня учебной литературы и материалов по подготовке к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2013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,  библиотек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нформационного стенда «ЕГЭ» для учащихся и их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 2013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ивно-методическая работа с классным руководителем, учителями, уча-щимися, родителями о целях и технологиях проведения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анкеты для анализа пробного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щание при директоре «Организация итоговой аттестации выпускников школы в форме ЕГЭ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, 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457200" y="274680"/>
          <a:ext cx="8229600" cy="6154560"/>
        </p:xfrm>
        <a:graphic>
          <a:graphicData uri="http://schemas.openxmlformats.org/drawingml/2006/table">
            <a:tbl>
              <a:tblPr/>
              <a:tblGrid>
                <a:gridCol w="509760"/>
                <a:gridCol w="3747960"/>
                <a:gridCol w="1914480"/>
                <a:gridCol w="205740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ча пропусков выпускникам, допущенным к сдаче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хода подготовки к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доступа учащихся к мате-риалам ЕГЭ в Интернете. Полное обслуживание электронного документооборота по ЕГЭ (информирование учащихся, печать, рассыл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щание при директоре «Анализ резуль-татов ЕГЭ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, 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нормативных и распорядительных доку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ведомости учета ознакомления с инструкцией и другой документацией по ЕГЭ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письменных заявлений выпускников о выборе экзаменов в форме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протокола родительского собрания и листа ознакомления с нормативными докум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457200" y="274680"/>
          <a:ext cx="8229600" cy="623880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списка учащихся сдающих ЕГЭ по каждому предме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марта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ответственного за выдачу свидетельств по результатам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приказа о направлении учащихся на пробный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2014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приказа о допуске учащихся 11 класса к сдаче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ация пропус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формированию школьной базы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направление сведений в МОУО о планируемом числе участников ЕГЭ 201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ма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направление сведений в МОУО о количестве выпускников, которым по решению ГЭК, назначается сдача ЕГЭ в резервный д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ию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457200" y="274680"/>
          <a:ext cx="8229600" cy="632772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учащими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учащихся 11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 учителя-предме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по вопросам подготовки к ЕГЭ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накомство с инструкциями по подготовке к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авила поведения на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структирование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фициальные сайты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 тренировке заполнения бланков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учащихся после пробного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–май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-предме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, социальный 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вещение учащихся о способе их доставки к месту проведения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457200" y="274680"/>
          <a:ext cx="8229600" cy="586908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ое информирование и  консультирование по вопросам связанными с ЕГ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, учителя, кл.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ое собрание «ЕГЭ 201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, учител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родителей учащихся 11 класс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педагог, 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родительского собрания, посвященного вопросам подготовки учащихся к ЕГ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, учител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едагогическим коллектив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 рабо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одготовки к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ое совещание «Педагоги-ческие условия обеспечения качества проведения итоговой аттестации в  форме ЕГЭ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, учителя, Кл.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о проведении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проведение совещаний по тематике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, 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едение до участников ЕГЭ инструкций по проведению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-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рталом информационной поддержки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, зам. директора по УВР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, учащи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«горячей» телефонной линии по вопросам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-июн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нформационных сайтов и оформление стендов для выпускников и поступающ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274680"/>
          <a:ext cx="8229600" cy="612612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сборников информационно-справочных материалов «Нормативно-правовое обеспечение проведения ЕГЭ в на территории Республики Ты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-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й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проведение пробного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пробном ЕГЭ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, зам. директора по УВР, кл.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учащихся после проведения пробного ЕГЭ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, кл.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ЕГЭ 2014 го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и утверждение списков учащихся, банка данных участников в Е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, 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хиденко Л.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расписания экзаменов, консультац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журналами 11 -х классов с целью проверки прохождения программ по предметам, объективности выставления итоговых оц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дачи выпускникам пропуска на ЕГЭ текущего года установленной форм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4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ЕГЭ по расписанию, утвержденному Рособрнадзор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-июнь 2014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, зам. директора по УВР, кл.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457200" y="274680"/>
          <a:ext cx="8229600" cy="599292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за обеспечением доставки участников ЕГЭ к ПП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иод проведения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дачи аттестатов и сви-детель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повещения об утвержденных результатах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0 июня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, зам. директора по УВР, кл.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в соответствии с инструкцией о порядке  оформления, выдачи и учета свидетельств о результатах ЕГЭ) оформления  и выдачи выпускникам свидетельств о результатах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июля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тически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мониторинга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проведения мониторинга 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личестве выпускников, воспользовавшихся свидетельством о результатах ЕГЭ для поступления в ВУЗы стра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личестве выпускников, поступивших в ВУЗы со свидетельством о результатах ЕГЭ на коммерческой и бюджетной осно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и подготовки и проведения итоговой  аттеста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бщение и укрепление знаний, приведение их в систему, а также устранение возникающих в ходе учебных занятий пробел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 усвоения школьного материала и умение его применять в решении практических задач, наиболее типичных для данного предме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наличия у учащихся устойчивых навыков решения задач, специфических для данного предм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 умения работать с книгой, пользоваться справочной литератур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457200" y="274680"/>
          <a:ext cx="8229600" cy="641808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 обработка результатов мониторин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оциологических опросов и выявление мнения о ЕГЭ  субъектов образовательного процес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, соц.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справки о качестве проведения и результатах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отчетов по результатам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дный аналитический отчет и меры по совершенствованию процедуры подготовки ОУ к проведению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-август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колл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результатов монитор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ображение результатов мониторинга на школьном сай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И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стендов по результатам мониторин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-авгу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 Зам. директора по И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436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Главная задача государственной (итоговой) аттестации выпускников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лучение информации об уровне и качестве подготовки и обучения выпускник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6"/>
          <p:cNvSpPr/>
          <p:nvPr/>
        </p:nvSpPr>
        <p:spPr>
          <a:xfrm>
            <a:off x="900000" y="476280"/>
            <a:ext cx="777888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грамма подготовки и пр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итоговой аттестации в форме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95280" y="4221000"/>
            <a:ext cx="2664000" cy="136872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3348000" y="4221000"/>
            <a:ext cx="2664000" cy="1368720"/>
          </a:xfrm>
          <a:prstGeom prst="rect">
            <a:avLst/>
          </a:prstGeom>
          <a:solidFill>
            <a:srgbClr val="341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6300720" y="4221000"/>
            <a:ext cx="2664000" cy="1368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 flipH="1">
            <a:off x="1763640" y="2060640"/>
            <a:ext cx="223200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H="1">
            <a:off x="4642920" y="2060640"/>
            <a:ext cx="730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2"/>
          <p:cNvSpPr/>
          <p:nvPr/>
        </p:nvSpPr>
        <p:spPr>
          <a:xfrm>
            <a:off x="5580000" y="2060640"/>
            <a:ext cx="20890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4"/>
          <p:cNvSpPr/>
          <p:nvPr/>
        </p:nvSpPr>
        <p:spPr>
          <a:xfrm>
            <a:off x="1258920" y="321300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2341440" y="11239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95280" y="260280"/>
            <a:ext cx="86364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341440" y="26028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 – методические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2341440" y="112536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 нормативны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рядительн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341440" y="198900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 по формированию школьной базы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341440" y="2997360"/>
            <a:ext cx="6191280" cy="57600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учащими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2341440" y="393372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родите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2341440" y="479736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педагогическом коллекти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2341440" y="566100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ирование о проведен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1693800" y="476280"/>
            <a:ext cx="0" cy="547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1693800" y="47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1693800" y="134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1693800" y="22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169380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1693800" y="422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1693800" y="50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3"/>
          <p:cNvSpPr/>
          <p:nvPr/>
        </p:nvSpPr>
        <p:spPr>
          <a:xfrm>
            <a:off x="169380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395280" y="476280"/>
            <a:ext cx="936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341440" y="476280"/>
            <a:ext cx="6046920" cy="792000"/>
          </a:xfrm>
          <a:prstGeom prst="rect">
            <a:avLst/>
          </a:prstGeom>
          <a:solidFill>
            <a:srgbClr val="341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ка и проведение пробного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2411280" y="5229360"/>
            <a:ext cx="6048360" cy="792000"/>
          </a:xfrm>
          <a:prstGeom prst="rect">
            <a:avLst/>
          </a:prstGeom>
          <a:solidFill>
            <a:srgbClr val="341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ганизация выдачи аттестатов и свидетельст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2484360" y="2781360"/>
            <a:ext cx="6048360" cy="792000"/>
          </a:xfrm>
          <a:prstGeom prst="rect">
            <a:avLst/>
          </a:prstGeom>
          <a:solidFill>
            <a:srgbClr val="341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астие в ЕГЭ 2014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133200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1835280" y="83664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1835280" y="83664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1835280" y="3141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835280" y="566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611280" y="549360"/>
            <a:ext cx="936360" cy="54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989440" y="1628640"/>
            <a:ext cx="5327640" cy="79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и проведение мониторинга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989440" y="3284640"/>
            <a:ext cx="5327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результатов монитор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>
            <a:off x="1547640" y="2924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2195640" y="1989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2195640" y="198900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2195640" y="364500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457200" y="274680"/>
          <a:ext cx="8229600" cy="6384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клограмма программы подготовки и проведения итоговой аттестации в 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оябрь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вещание при директоре «Утверждение плана-графика подготовки ОУ к ЕГЭ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здание перечня учебной литературы и материалов по подготовке к Е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каб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информационного стенда «ЕГЭ» для учащихся и их роди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Янва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нструктивно-методическая работа с классным руководителем, учителями, учащимися, родителями о целях и технологиях проведения ЕГЭ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здание ведомости учета ознакомления с инструкцией и другой документацией по ЕГЭ учащих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бор письменных заявлений выпускников о выборе экзаменов в форме Е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ведение до участников ЕГЭ инструкций по проведению ЕГЭ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дительское собрание «ЕГЭ 2014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дительское собрание «ЕГЭ 2014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бор письменных заявлений выпускников о выборе экзаменов в форме Е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ведение до участников ЕГЭ инструкций по проведению ЕГЭ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457200" y="274680"/>
          <a:ext cx="8229600" cy="6129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р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74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вещание при директоре «Организация итоговой аттестации выпускников школы в форме ЕГЭ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60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ведение до участников ЕГЭ инструкций по проведению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ставление и утверждение списков учащихся, банка данных участников в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ьзование сборников информационно-справочных материалов «Нормативно-правовое обеспечение проведения ЕГЭ на терри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и Тыв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стие в пробном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кетирование учащихся после проведения пробного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ставление и утверждение и уточнение списков учащихся, банка данных участников в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0:06:42Z</dcterms:created>
  <dc:creator>Жанаргуль Ураловна</dc:creator>
  <dc:description/>
  <dc:language>en-US</dc:language>
  <cp:lastModifiedBy>кок-ооловна</cp:lastModifiedBy>
  <dcterms:modified xsi:type="dcterms:W3CDTF">2013-10-15T04:10:04Z</dcterms:modified>
  <cp:revision>17</cp:revision>
  <dc:subject/>
  <dc:title>Программа  подготовки и проведения  итоговой аттестации в форме ЕГЭ в МОУ «Комсомольская СОШ»  в 2010 году.</dc:title>
</cp:coreProperties>
</file>