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C41-6642-4EDB-AF2E-419C7FD42E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906-6A51-4C43-908D-62553ACA3B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CFBD-1EC7-42AD-9941-82B96B7AE3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ти условия могут задаваться и описываться с помощью описани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разцов деятельност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личных методических или дидактических средств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следовательности выполняемых действи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обенностей организации урока или иной единицы учебного процесса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жно также использовать поняти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ой ситуац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ак особой структурной единицы учебной деятельности, содержащей ее полный замкнутый цик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Учебная ситуация – это такая особая единица учебного процесса, в которой дети с помощью учите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наруживают предмет свого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сследуют его, совершая разнообразные учебные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образуют его, например, переформулируют, или предлагают свое описание и т.д.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астично – запоминают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этом изучаемый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ый материа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ыступает как материал для создания учебной ситуации, в которой, совершая некоторы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специфичные для данного учебного предмета действ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ребенок осваивает характерные для данной области способы действия, т.е. приобретает некоторые способност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тбор и использование учебных ситуаций встраивается в логику традиционного учебного процесса, позволяя не противопоставлять «ЗУНовскую» и «деятельностную» парадигмы друг другу, а напротив, формировать у каждого ученика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ндивидуальные средства и способы действи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позволяющие ему быть «компетентным» в различных сферах культуры, каждая из которых предполагает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особый способ действий относительно специфического содерж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DCFC-7127-4937-B569-80A0D41136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фференциация обучения на основе выделения обязательных требований к подготовке учащихся предполагает такую организацию учебного процесса, при которой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все школьники имеют возможность получать полноценное обучени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в соответствии с рекомендуемыми Министерством образования и науки программами и учебниками, и вместе с тем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иметь ясное представление о том минимально обязательном наборе требовани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к их знаниям, интеллектуальным и практическим умениям, навыкам познавательной и коммуникативной деятельности, которые будут им предъявлены к моменту окончания изучения курса, раздела или каждой отдельной тем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альные учебные достижения учеников, таким образом, могут быть самыми разными: от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учебного материала, минимально необходимого для последующего обучения, до более глубокого и полного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частью дете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зученного курса, вплоть до овладения навыками поисковой и исследовательской деятельности. Существенно, что достижения учащихся не могут быть ниже уровня, определенного как обязательный (базовый), что отвечает требованию преемственности в образован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спользование уровневой дифференциации вносит определенные изменения в учебный процесс, которые проявляются не столько в каких-либо особых методических приемах, применяемых учителем, сколько в изменении стиля взаимодействия с ученик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условиях этой технологии ученик – это, прежде всего, партнер, имеющий право на принятие решений (на выбор содержания своего образования, уровня его усвоения и т.д.). Естественно, что и ответственность за выполнение принятого решения ложится на ученика. Главная же задача и обязанность учителя – помочь ребенку принять и выполнить принятое им решение. Помочь сделать правильный выбор, определиться в сфере своих познавательных интересов. Помочь составить или откорректировать программу самообразования, подобрать нужную литературу, поставить познавательную задачу, адекватную интересам и возможностям ученика, своевременно его проконсультировать и проконтролировать. Наконец, обеспечить своевременное достижение каждым, как минимум, обязательного уровня общеобразовательной подготов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этом данная технология предоставляет свободу учителю в выборе методов, средств и форм обучения – все это находится полностью в компетенции учителя, подчиняясь его личностным особенностям, методическим пристрастиям и т.п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пробация этого подхода свидетельствует о том, что он способству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зданию психологического комфорта в процессе обучения и атмосферы делового сотрудничества детей, педагогов и родителей, основанного на строгом выполнении взаимных обязательств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беспечению условий для индивидуальной траектории развития каждого школьника, отвечающей его интересам, потребностям и возможностям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порных базовых знаний и умений, составляющих основу при последующем обучени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ценки и самооценки, адекватной реальным достижениям детей, созданию на этой основе условий для принятия ребенком самостоятельных ответственных решений в отношении выбора той иной образовательной траектор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ыбор данного подхода обусловлен тем, что основанные на нем педагогические технологии обладают значительным воспитательным и развивающим, а также здоровьесберегающим потенциалом, что отвечает современным приоритетным потребностям личности, общества и государств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держивать и развива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ть на этой основе учебную самостоятельность младших школьников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ченического сообществ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C4A-139C-4FAA-A7BC-7C732A40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940-B941-4B9B-A0F8-AB3F123C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758-7E3B-4E36-9045-870DB515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BE9-0C89-432D-970C-5801CEFE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450-D0C3-4C2A-8952-19D0633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657-F0D4-4CC8-9AB8-831B1A54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28B-A03A-4D97-9855-0B57B18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20C-B556-48DD-8AC7-BAEA9520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6D1-B3F2-436D-8C42-1463D82B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A97-14D1-4026-9F40-1DE85EF5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CF5-4153-41D1-BCD4-3F08B6F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E2E-7C59-454C-8286-7688F30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56F3-4151-444F-845C-C95201EF4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9;&#1090;&#1072;&#1074;&#1082;&#1072;%2015.1_&#1087;&#1088;&#1080;&#1084;&#1077;&#1088;&#1099;%20&#1091;&#1095;%20&#1089;&#1080;&#1090;.ppt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42;&#1089;&#1090;&#1072;&#1074;&#1082;&#1072;%2024_&#1048;&#1050;&#1058;%20&#1076;&#1083;&#1103;%20&#1086;&#1073;&#1091;&#1095;&#1077;&#1085;&#1080;&#1103;.ppt" TargetMode="External"/><Relationship Id="rId2" Type="http://schemas.openxmlformats.org/officeDocument/2006/relationships/hyperlink" Target="file:///&#1042;&#1089;&#1090;&#1072;&#1074;&#1082;&#1072;%2024_&#1048;&#1050;&#1058;%20&#1076;&#1083;&#1103;%20&#1086;&#1073;&#1091;&#1095;&#1077;&#1085;&#1080;&#1103;.ppt" TargetMode="External"/><Relationship Id="rId3" Type="http://schemas.openxmlformats.org/officeDocument/2006/relationships/hyperlink" Target="file:///&#1042;&#1089;&#1090;&#1072;&#1074;&#1082;&#1072;%2024_&#1048;&#1050;&#1058;%20&#1076;&#1083;&#1103;%20&#1086;&#1073;&#1091;&#1095;&#1077;&#1085;&#1080;&#1103;.ppt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стемно-деятельностный подход как технологическая основа ФГ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560" y="4786200"/>
            <a:ext cx="87152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1" descr=""/>
          <p:cNvPicPr/>
          <p:nvPr/>
        </p:nvPicPr>
        <p:blipFill>
          <a:blip r:embed="rId1"/>
          <a:stretch/>
        </p:blipFill>
        <p:spPr>
          <a:xfrm>
            <a:off x="4146480" y="279072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2"/>
          <a:stretch/>
        </p:blipFill>
        <p:spPr>
          <a:xfrm>
            <a:off x="3048120" y="3252960"/>
            <a:ext cx="1355760" cy="3300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2"/>
          <p:cNvSpPr/>
          <p:nvPr/>
        </p:nvSpPr>
        <p:spPr>
          <a:xfrm>
            <a:off x="611280" y="404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62000" y="3430440"/>
            <a:ext cx="225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Предм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результаты</a:t>
            </a:r>
            <a:r>
              <a:rPr b="0" i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ния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опыт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 твор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деятельност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637000" y="2913120"/>
            <a:ext cx="387000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пособы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мые как в рам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го процес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при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шении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в реальных жизнен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686640" y="3465360"/>
            <a:ext cx="225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Личнос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результаты</a:t>
            </a:r>
            <a:r>
              <a:rPr b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система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ценностных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ориент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интересы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мотивации</a:t>
            </a:r>
            <a:r>
              <a:rPr b="0" lang="ru-RU" sz="2400" spc="-1" strike="noStrike">
                <a:solidFill>
                  <a:srgbClr val="000a1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олерант-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224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ГОС:  изменение требований к ОБРАЗОВАТЕЛЬНОМУ РЕЗУЛЬТАТ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4662360" y="2665440"/>
            <a:ext cx="0" cy="404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 flipH="1">
            <a:off x="1692000" y="2708280"/>
            <a:ext cx="1150920" cy="712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6588000" y="2708280"/>
            <a:ext cx="1449360" cy="66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24000" y="141300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Портрет выпускника – гражданина Росс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триот. Уважающий ценности иных культур. Креативный, мотивированный. Уважающий других людей, готовый сотрудничать. Способный принимать самостоятельные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851280" y="1699920"/>
            <a:ext cx="5292720" cy="4537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ГОС.СТАНДАРТ 2004 г.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…ориентации образования не только на усвоение обучающимся определенной суммы знаний,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но и на РАЗВИТИЕ его лич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меняются требования к результат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4788000" y="2133720"/>
            <a:ext cx="4032000" cy="352728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спр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– формирование в процессе взаимодействия с миром способностей и функций, воспроизводящих человечески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– интеллекту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– лично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- соци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4560" y="122400"/>
            <a:ext cx="910908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К ПОЛУЧИТЬ НОВЫЙ ОБРАЗОВАТЕЛЬНЫЙ РЕЗУЛЬТА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-360" y="1628640"/>
            <a:ext cx="349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6600"/>
                </a:solidFill>
                <a:latin typeface="Calibri"/>
              </a:rPr>
              <a:t>Традиционный взгляд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задача школы - дать хорошие</a:t>
            </a: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 прочные ЗН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ой требовался результ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Хорошее прошл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ожительно опасн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делает н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довлетворе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стоящим 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ледовательно, 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товыми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удущем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арльз В. Эли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3627360" y="141264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16360" y="1773360"/>
            <a:ext cx="5435640" cy="475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Смена образовательной парадиг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цели). Вместо передачи суммы знаний - </a:t>
            </a:r>
            <a:r>
              <a:rPr b="1" lang="ru-RU" sz="3200" spc="-1" strike="noStrike">
                <a:solidFill>
                  <a:srgbClr val="2b03f5"/>
                </a:solidFill>
                <a:latin typeface="Calibri"/>
              </a:rPr>
              <a:t>РАЗВИТИЕ лич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щегося на основе освоения способов дея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чем принципиально изменились требования к результат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противоречие"/>
          <p:cNvPicPr/>
          <p:nvPr/>
        </p:nvPicPr>
        <p:blipFill>
          <a:blip r:embed="rId1"/>
          <a:stretch/>
        </p:blipFill>
        <p:spPr>
          <a:xfrm>
            <a:off x="3222720" y="5013360"/>
            <a:ext cx="825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03f5"/>
                </a:solidFill>
                <a:latin typeface="Calibri"/>
              </a:rPr>
              <a:t>КАК ПОЛУЧИТЬ НОВЫЙ ОБРАЗОВАТЕЛЬНЫЙ РЕЗУЛЬТАТ</a:t>
            </a:r>
            <a:r>
              <a:rPr b="0" lang="ru-RU" sz="4400" spc="-1" strike="noStrike">
                <a:solidFill>
                  <a:srgbClr val="2b03f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713800" cy="115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бно описать новый результат в виде конкретных задач :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Зачем учить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Ц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250920" y="4076640"/>
            <a:ext cx="874872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ть средства получения нового результата, ответить на вопросы: 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2. Чему учить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менение СОДЕРЖ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50920" y="5877000"/>
            <a:ext cx="871380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3. Как учить?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менение МЕТОДИКИ)</a:t>
            </a:r>
            <a:r>
              <a:rPr b="0" lang="ru-RU" sz="28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ГОС: каким образом можно получить новый результа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03f5"/>
                </a:solidFill>
                <a:latin typeface="Times New Roman"/>
              </a:rPr>
              <a:t>ОРГАНИЗОВАТЬ ДЕЯТЕЛЬНОСТЬ УЧЕ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0" y="5734080"/>
            <a:ext cx="9144000" cy="116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Х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0" y="4797360"/>
            <a:ext cx="9144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решать учеб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снове сформированных предметных и универсальных способов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Мы: вместо проверки знаний - проверка умений ими пользоваться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0" y="2205000"/>
            <a:ext cx="30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способность к само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шении учеб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156360" y="22050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прогресс</a:t>
            </a:r>
            <a:r>
              <a:rPr b="1" i="1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в личност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1"/>
          <a:stretch/>
        </p:blipFill>
        <p:spPr>
          <a:xfrm>
            <a:off x="2916360" y="1959120"/>
            <a:ext cx="3743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рганизация учебно-воспитательного проце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пособ освоения деятельностного простран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Метод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пособ личностного освоения технолог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истема действий человека, направленная на достижение определенной ц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предвосхищение в сознании результата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3160" y="1341360"/>
            <a:ext cx="38098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едагогическая технология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исание процесса достижения планируемых результатов обучени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.П. Вол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3" descr="2408517_3c6c1fa7"/>
          <p:cNvPicPr/>
          <p:nvPr/>
        </p:nvPicPr>
        <p:blipFill>
          <a:blip r:embed="rId1"/>
          <a:stretch/>
        </p:blipFill>
        <p:spPr>
          <a:xfrm>
            <a:off x="4800600" y="2209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0" y="142920"/>
            <a:ext cx="9144000" cy="98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Базовые технологии  стандартов второго покол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Информационные  и коммуникативные технологии (коммуникация – общ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Технология, основанная на создании учебной ситуации (решение задач, практически значимых для изучения окружающего м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Технология, основанная на реализаци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Технология, основанная на уровневой дифференциации обуч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200040" y="2995200"/>
            <a:ext cx="487980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НА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УЧЕБНЫХ СИТУА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5435640" y="1413000"/>
            <a:ext cx="3708360" cy="1333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616720" y="1629000"/>
            <a:ext cx="3330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жду обучением и псих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витием человека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оит его деятельность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142920" y="5533920"/>
            <a:ext cx="4211640" cy="132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24000" y="58053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разователь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оит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организации условий, провоцирующих детское действие</a:t>
            </a:r>
            <a:r>
              <a:rPr b="1" i="1" lang="ru-RU" sz="16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fourth%20class"/>
          <p:cNvPicPr/>
          <p:nvPr/>
        </p:nvPicPr>
        <p:blipFill>
          <a:blip r:embed="rId2"/>
          <a:stretch/>
        </p:blipFill>
        <p:spPr>
          <a:xfrm>
            <a:off x="287280" y="21686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Картинка 156 из 2872"/>
          <p:cNvPicPr/>
          <p:nvPr/>
        </p:nvPicPr>
        <p:blipFill>
          <a:blip r:embed="rId3"/>
          <a:stretch/>
        </p:blipFill>
        <p:spPr>
          <a:xfrm>
            <a:off x="5327640" y="4508640"/>
            <a:ext cx="266544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0" y="1477440"/>
            <a:ext cx="9001080" cy="24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ситуации с элемента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мандные и индивиду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юже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поиск сокровищ»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лев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пишем инструкцию», «учитель»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0" y="1757520"/>
            <a:ext cx="9001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ситуации с элемента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ворческой, конструкторской, социаль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ишем книгу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Готовим празд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Делаем подар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общаем вам 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стемно-деятельностный подход позволяет на каждой ступени общего образования: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редставить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цели образования в виде системы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ключевых задач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отражающих направления формирования качеств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на основании таким образом  построенных  целей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босновать не только способы действий, которые должны быть сформированы в учебном процессе, но 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обучения в их взаимосвяз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ыделить основные результаты обучения и воспитания как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остижения личностного, социального, коммуникативного  и познавательного развития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учащих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0" y="1439640"/>
            <a:ext cx="900108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ситуации с элементам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следовательск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сперимен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изучаемыми объектами (свойства объек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ркировка, группировка и упорядочивание, классификация, сопоставление и 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(подведение под понят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ни-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/>
          <p:cNvSpPr/>
          <p:nvPr/>
        </p:nvSpPr>
        <p:spPr>
          <a:xfrm>
            <a:off x="216000" y="189000"/>
            <a:ext cx="8712000" cy="971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ектирование и от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ых ситуаций: прим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0" y="1889280"/>
            <a:ext cx="900108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о используемые учебные ситу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ематик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, вычисления, решение задач,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сский язык и чтени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чисто-» и скороговорки, чтение вслух и про себя, письмо, «Дневник читателя», повествование/описание,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кружающий мир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евник наблю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2"/>
          <p:cNvSpPr/>
          <p:nvPr/>
        </p:nvSpPr>
        <p:spPr>
          <a:xfrm>
            <a:off x="142920" y="0"/>
            <a:ext cx="882180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которые примеры учеб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еятельности: Мате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1376280"/>
            <a:ext cx="91440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и экспери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 числами и числовыми закономерностями, с телами и формами, с величинами, с возможностями различных исходов событий 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ыми моделя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ла и их свойства, отношения, операции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ка, упорядочивание, маркировка, классификация, сравн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ел, тел и форм, величин, данных исследований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и оц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войств, взаимного положения объектов, закономерностей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ирование и созд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оделей, математи- ческих выражений, схем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ый счет, вычисления, решение зад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2"/>
          <p:cNvSpPr/>
          <p:nvPr/>
        </p:nvSpPr>
        <p:spPr>
          <a:xfrm>
            <a:off x="142920" y="152280"/>
            <a:ext cx="882180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которые примеры учеб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еятельности: Русски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1736640"/>
            <a:ext cx="91440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и эксперим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 звуками и буквами, словами, грамматическими структурами, текстами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ыми модел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высказывания, текс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я, обсуждения, описание и анали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 и конструкции, тексты; особенности их построения и употребления; порядок действий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ка, упорядочивание, маркировка, классификация, 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 и 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ки слов, тексты, памятки, плака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ое чт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лух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себ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ывание, письмо под диктовку, ведение дневников, творческие рабо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598760" y="3114720"/>
            <a:ext cx="560232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РОВНЕ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ИФФЕРЕНЦИ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216000" y="4257720"/>
            <a:ext cx="8136000" cy="26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рытость системы требов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ъявление образцов деятель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ожницы» между базовым и повышенными уровнями требов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ильность базового уровня, обязательность его освоения всеми учащими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вольность в освоении повышенных уровней требова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с группами «подвижного» соста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опительная система оценив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4751280" y="1557360"/>
            <a:ext cx="41752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фференциация треб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уровню освоения, явное вы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и повышенных уров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IMGA0477"/>
          <p:cNvPicPr/>
          <p:nvPr/>
        </p:nvPicPr>
        <p:blipFill>
          <a:blip r:embed="rId1"/>
          <a:stretch/>
        </p:blipFill>
        <p:spPr>
          <a:xfrm>
            <a:off x="250920" y="1700280"/>
            <a:ext cx="2628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46800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Уровни усвоения знан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ервый уровень: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роизведение и запомин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торой уровень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ение знаний в знакомой ситуации по образ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ретий уровень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ение знаний в незнакомой ситуации, т.е. творчес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245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Уровни сформированности способов действ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ервый уровень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ование образцу, правилу, алгоритму без необходимости понимать, почему надо действовать именно та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торой уровен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действие с пониманием оснований того способа, который необходим для решения зада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ретий уровен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преобразование освоенного способа действия применительно к новому контекст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94520" y="368640"/>
            <a:ext cx="7554960" cy="53820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round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овневый под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941120" y="2795760"/>
            <a:ext cx="503244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ИНФОРМАЦИОННЫ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ОММУНИКАЦИО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3"/>
          <p:cNvSpPr/>
          <p:nvPr/>
        </p:nvSpPr>
        <p:spPr>
          <a:xfrm>
            <a:off x="792000" y="189000"/>
            <a:ext cx="752508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4859280" y="1341360"/>
            <a:ext cx="4105440" cy="1765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форматизация образовани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то приведение системы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оответствие с потребностям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можностями информацио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0" y="4724280"/>
            <a:ext cx="5400720" cy="2043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деятельность на основе И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рытое (но контролируемое) простра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онных источни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менты «взрослой» информационной деятельно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а информационной поддержки учебного процесс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ибкое расписание занятий, гибкий состав учебных групп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ременные системы управления учебным процес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EA348E4FAB2BF7F"/>
          <p:cNvPicPr/>
          <p:nvPr/>
        </p:nvPicPr>
        <p:blipFill>
          <a:blip r:embed="rId4"/>
          <a:stretch/>
        </p:blipFill>
        <p:spPr>
          <a:xfrm>
            <a:off x="0" y="1449360"/>
            <a:ext cx="2519280" cy="167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it6"/>
          <p:cNvPicPr/>
          <p:nvPr/>
        </p:nvPicPr>
        <p:blipFill>
          <a:blip r:embed="rId5"/>
          <a:stretch/>
        </p:blipFill>
        <p:spPr>
          <a:xfrm>
            <a:off x="6156360" y="4292640"/>
            <a:ext cx="280836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>
            <a:off x="287280" y="189000"/>
            <a:ext cx="853272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ритерии оценки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ИКТ-компетентность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1736280"/>
            <a:ext cx="91440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Т используется для приобретения новых знаний, ключевых компетент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ние невозможно или затруднительно, или непрактично выполнять без применения И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250920" y="0"/>
            <a:ext cx="871380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бразовательная сре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ое и игровое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3348000" y="1160640"/>
            <a:ext cx="5796000" cy="19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вижных занятий и для спокойн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щения и для уеди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«пробы сил» и для демонстрации достиж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иск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0" y="3105000"/>
            <a:ext cx="4500720" cy="3619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учи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о оформляемое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боты учащих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ое» место для выступл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ая» дос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ие дос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ок книг и других информ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удио- и видеоцентр, центр «пись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 с раздаточными материа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тавки, стенды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Картинка 252 из 2872"/>
          <p:cNvPicPr/>
          <p:nvPr/>
        </p:nvPicPr>
        <p:blipFill>
          <a:blip r:embed="rId1"/>
          <a:stretch/>
        </p:blipFill>
        <p:spPr>
          <a:xfrm>
            <a:off x="6443640" y="530064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Картинка 287 из 2872"/>
          <p:cNvPicPr/>
          <p:nvPr/>
        </p:nvPicPr>
        <p:blipFill>
          <a:blip r:embed="rId2"/>
          <a:stretch/>
        </p:blipFill>
        <p:spPr>
          <a:xfrm>
            <a:off x="395280" y="1268280"/>
            <a:ext cx="1655640" cy="1497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Картинка 571 из 2872"/>
          <p:cNvPicPr/>
          <p:nvPr/>
        </p:nvPicPr>
        <p:blipFill>
          <a:blip r:embed="rId3"/>
          <a:stretch/>
        </p:blipFill>
        <p:spPr>
          <a:xfrm>
            <a:off x="7056360" y="33577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633_35"/>
          <p:cNvPicPr/>
          <p:nvPr/>
        </p:nvPicPr>
        <p:blipFill>
          <a:blip r:embed="rId4"/>
          <a:stretch/>
        </p:blipFill>
        <p:spPr>
          <a:xfrm>
            <a:off x="4248000" y="3753000"/>
            <a:ext cx="24768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28240" y="1835280"/>
            <a:ext cx="3382920" cy="477648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адиционный ур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оверка д/з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ов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Объявление темы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Объяснение темы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Закрепление знаний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3" descr="L33"/>
          <p:cNvPicPr/>
          <p:nvPr/>
        </p:nvPicPr>
        <p:blipFill>
          <a:blip r:embed="rId1"/>
          <a:stretch/>
        </p:blipFill>
        <p:spPr>
          <a:xfrm>
            <a:off x="3809880" y="172728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291280" y="1835280"/>
            <a:ext cx="388908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блемно-диалогически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Создание проблемной ситуации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формулирование  проблемы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Актуализация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ои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иск решения проблемы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Выражение реш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 Применение знаний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 flipV="1">
            <a:off x="3564000" y="3159000"/>
            <a:ext cx="1800000" cy="6494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635280" y="5897520"/>
            <a:ext cx="1657440" cy="1429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3564000" y="5033880"/>
            <a:ext cx="1800000" cy="2858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3564000" y="3016080"/>
            <a:ext cx="1800000" cy="1224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блемно-диалогическая технология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с1999г.)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ель - обучить самостоятельному решению пробле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редство - открытие знаний вместе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8028000" y="620640"/>
            <a:ext cx="1077840" cy="304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Общие положения. п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052640"/>
            <a:ext cx="903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основе Стандарта лежит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истемно-деятельностный подход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который предполага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воспитание и разви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честв  личности, отвечающих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требованиям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информационного обществ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инновационной экономики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задачам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роения демократического гражданского общества, толерантности, диалога культур и уважения многонационального, поликультурного и поликонфессиального состава российского общес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имер проблемной ситуации (задание с затруднением)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4105080" cy="266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на сложение дробей (не изучал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/4 + 1/4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68360" y="1341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«Математика», 4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0" y="2060640"/>
            <a:ext cx="4321080" cy="266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ые результаты (не знают правила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¾ или 3/8 !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4941720"/>
            <a:ext cx="8964720" cy="165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-то не так… А мы умеем складывать дроби (осознание затруднения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ая у нас сегодня цель уро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ЕБНАЯ ПРОБЛЕ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Научиться складывать дро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410"/>
                </a:solidFill>
                <a:latin typeface="Calibri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АЛГОРИТМ / ПРАВИЛО СЛОЖЕНИЯ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Золотые правила»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пользования приемов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3" descr="2_4b"/>
          <p:cNvPicPr/>
          <p:nvPr/>
        </p:nvPicPr>
        <p:blipFill>
          <a:blip r:embed="rId1"/>
          <a:stretch/>
        </p:blipFill>
        <p:spPr>
          <a:xfrm>
            <a:off x="2362320" y="1779480"/>
            <a:ext cx="4647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ри ребенку радость творчества, осознание авторского голо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и ученика от собственного опыта к общественном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не «НАД», а «РЯДОМ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уйся вопросу, но отвечать не спеш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 анализировать каждый этап рабо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тикуя, стимулируй уче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0" y="0"/>
            <a:ext cx="9144000" cy="1129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Вы - блестящий учитель, у вас прекрасные ученик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175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95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287280" y="189000"/>
            <a:ext cx="8532720" cy="71892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Учитель начальн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547640" y="1304640"/>
            <a:ext cx="6336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иционирование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4" descr="5"/>
          <p:cNvPicPr/>
          <p:nvPr/>
        </p:nvPicPr>
        <p:blipFill>
          <a:blip r:embed="rId1"/>
          <a:stretch/>
        </p:blipFill>
        <p:spPr>
          <a:xfrm>
            <a:off x="324000" y="1952640"/>
            <a:ext cx="2447640" cy="1488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st1"/>
          <p:cNvPicPr/>
          <p:nvPr/>
        </p:nvPicPr>
        <p:blipFill>
          <a:blip r:embed="rId2"/>
          <a:stretch/>
        </p:blipFill>
        <p:spPr>
          <a:xfrm>
            <a:off x="179280" y="368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j0301252"/>
          <p:cNvPicPr/>
          <p:nvPr/>
        </p:nvPicPr>
        <p:blipFill>
          <a:blip r:embed="rId3"/>
          <a:stretch/>
        </p:blipFill>
        <p:spPr>
          <a:xfrm>
            <a:off x="7308720" y="4649760"/>
            <a:ext cx="1835280" cy="15699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7"/>
          <p:cNvSpPr/>
          <p:nvPr/>
        </p:nvSpPr>
        <p:spPr>
          <a:xfrm>
            <a:off x="2268360" y="1900080"/>
            <a:ext cx="57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365640" y="1844640"/>
            <a:ext cx="5778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иция учителя-профессионал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нстрирует культурные образцы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ициирует пробные действ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ультирует, корректирует 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щет способы включить в работу каждог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2808360" y="3176640"/>
            <a:ext cx="6335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иция воспитател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ет условия для приобретения детьми жизненного опыта (общения, выбора, ответственного поведения, саморегуляции …), самостоятельной выработки жизненных це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-участни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етейский судь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2124000" y="4689360"/>
            <a:ext cx="446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иция педагогической поддержки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ывает адресную помощь ребен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збавляя от проблемной ситуации, но помогая ее преодоле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AutoShape 2"/>
          <p:cNvSpPr/>
          <p:nvPr/>
        </p:nvSpPr>
        <p:spPr>
          <a:xfrm>
            <a:off x="179280" y="152280"/>
            <a:ext cx="896472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ортрет выпуск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школьник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- нача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007dbf48c495"/>
          <p:cNvPicPr/>
          <p:nvPr/>
        </p:nvPicPr>
        <p:blipFill>
          <a:blip r:embed="rId1"/>
          <a:stretch/>
        </p:blipFill>
        <p:spPr>
          <a:xfrm>
            <a:off x="216000" y="1700280"/>
            <a:ext cx="1485720" cy="1981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Картинка 29 из 132"/>
          <p:cNvPicPr/>
          <p:nvPr/>
        </p:nvPicPr>
        <p:blipFill>
          <a:blip r:embed="rId2"/>
          <a:stretch/>
        </p:blipFill>
        <p:spPr>
          <a:xfrm>
            <a:off x="6624720" y="2637000"/>
            <a:ext cx="1587240" cy="2124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ad2dbe1d2517"/>
          <p:cNvPicPr/>
          <p:nvPr/>
        </p:nvPicPr>
        <p:blipFill>
          <a:blip r:embed="rId3"/>
          <a:stretch/>
        </p:blipFill>
        <p:spPr>
          <a:xfrm>
            <a:off x="7451640" y="1484280"/>
            <a:ext cx="1548000" cy="1971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6"/>
          <p:cNvSpPr/>
          <p:nvPr/>
        </p:nvSpPr>
        <p:spPr>
          <a:xfrm>
            <a:off x="1761480" y="1808280"/>
            <a:ext cx="28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еятельный и а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1979280" y="2313000"/>
            <a:ext cx="15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2122920" y="2816280"/>
            <a:ext cx="20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юбозн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2301480" y="324972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ици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574920" y="3897360"/>
            <a:ext cx="38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крытый внешнему ми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оброжелательный и отзыв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250920" y="458136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ожительное отношение к себ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веренность в своих сила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4896000" y="3860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2808360" y="6021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и самоорганизации и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5148360" y="242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6767640" y="4941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4103640" y="4941720"/>
            <a:ext cx="23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1080" y="5337000"/>
            <a:ext cx="25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увство соб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осто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3527280" y="5373720"/>
            <a:ext cx="50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ажительное отношение к окружающ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иной точке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0" y="6381720"/>
            <a:ext cx="914400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УЧЕБНАЯ САМОСТОЯТЕЛЬНОСТЬ ≡ УМЕНИЕ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000" y="-243000"/>
            <a:ext cx="8459640" cy="1067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ртреты выпускник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3886200" cy="58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любящий свой народ, свой край и свою Родин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уважающий и принимающий ценности семьи и обще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любознательный, активно и заинтересованно познающий ми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владеющий основами умения учиться, способный к организации собственной деятель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готовый самостоятельно действовать и отвечать за свои поступки перед семьей и обществ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доброжелательный, умеющий слушать и слышать собеседника,   обосновывать   обосновывать свою позицию, высказывать  свое мн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выполняющий правила здорового и безопасного для себя и  окружающих    образа жиз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140000" y="692280"/>
            <a:ext cx="474948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171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любящий свой край и свою Родину, знающий свой родной язык, уважающий свой народ, его культуру и духовные тради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осознающий и принимающий ценности человеческой жизни, семьи, гражданского общества, многонационального российского народа, человече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активно и заинтересованно познающий мир, осознающий ценность труда, науки и творчеств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умеющий учиться, осознающий важность образования и самообразования для жизни и деятельности, способный применять полученные знания на практик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социально активный, уважающий закон и правопорядок, соизмеряющий свои поступки с нравственными ценностями, осознающий свои обязанности перед семьей, обществом, Отечеств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уважающий других людей; умеющий вести конструктивный диалог, достигать взаимопонимания, сотрудничать для достижения общих результат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осознанно выполняющий правила здорового и безопасного для себя и окружающих образа жизн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Calibri"/>
              </a:rPr>
              <a:t>ориентирующийся в мире профессий, понимающий значение профессиональной деятельности для челове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5" descr="академик,дети,домашняя работа,женщины,книги,левая рука,левша,люди,мальчики,математика,помогать,преподавание,расчеты,ребята,студенты,учителя,учиться,фотографии,школы,школьные занятия"/>
          <p:cNvPicPr/>
          <p:nvPr/>
        </p:nvPicPr>
        <p:blipFill>
          <a:blip r:embed="rId1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Общие положения. п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иентацию на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зультаты образова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истемообразующи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омпонент Стандарта, где развитие личности обучающегося на основе усвоения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универсальных учебных действи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познания и освоения мира составляет цель и основной результат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знание решающей роли содержания образования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пособов организации образовательной деятельност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 взаимодействия участников образовательного процесса в достижении целей личностного, социального и познавательного развития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ет индивидуальных возрастных, психологических и физиологических особенностей обучающихся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оли и значения видов деятельности и форм обще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для определения целей образования и воспитания и путей их дост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Общие положения. п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еспечение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преемственност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ошкольного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начального общег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основного и среднего (полного) обще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азнообразие организационных форм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 учет индивидуальных особенностей каждого обучающегося (включая одаренных детей и детей с ограниченными возможностями здоровья), обеспечивающих рост творческого потенциала, познавательных мотивов,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обогащение форм взаимодействия со сверстникам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 взрослыми в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арантированность достижения планируемых результатов освоения основной образовательной программы начального общего образования, что и создаст основу для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самостоятельного успешног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усвоени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учающимися новых знаний, умений, компетенций, видов и способов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Требует ли ЖИЗНЬ новой работы с содержанием образования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266544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ичество информации в мире каждые 10 лет удваивае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227640" y="1486080"/>
            <a:ext cx="29163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ся умение отбирать главное в мор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-108000" y="2133720"/>
            <a:ext cx="1187280" cy="574560"/>
            <a:chOff x="-108000" y="2133720"/>
            <a:chExt cx="1187280" cy="574560"/>
          </a:xfrm>
        </p:grpSpPr>
        <p:sp>
          <p:nvSpPr>
            <p:cNvPr id="62" name="Freeform 6"/>
            <p:cNvSpPr/>
            <p:nvPr/>
          </p:nvSpPr>
          <p:spPr>
            <a:xfrm>
              <a:off x="-27000" y="2198880"/>
              <a:ext cx="842040" cy="48960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566" h="2741">
                  <a:moveTo>
                    <a:pt x="92" y="0"/>
                  </a:moveTo>
                  <a:lnTo>
                    <a:pt x="94" y="307"/>
                  </a:lnTo>
                  <a:lnTo>
                    <a:pt x="10" y="530"/>
                  </a:lnTo>
                  <a:lnTo>
                    <a:pt x="364" y="818"/>
                  </a:lnTo>
                  <a:lnTo>
                    <a:pt x="0" y="1593"/>
                  </a:lnTo>
                  <a:lnTo>
                    <a:pt x="560" y="2741"/>
                  </a:lnTo>
                  <a:lnTo>
                    <a:pt x="1750" y="2587"/>
                  </a:lnTo>
                  <a:lnTo>
                    <a:pt x="2566" y="1882"/>
                  </a:lnTo>
                  <a:lnTo>
                    <a:pt x="1775" y="22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-55440" y="2364840"/>
              <a:ext cx="190440" cy="174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82" h="978">
                  <a:moveTo>
                    <a:pt x="300" y="0"/>
                  </a:moveTo>
                  <a:lnTo>
                    <a:pt x="0" y="48"/>
                  </a:lnTo>
                  <a:lnTo>
                    <a:pt x="37" y="135"/>
                  </a:lnTo>
                  <a:lnTo>
                    <a:pt x="582" y="978"/>
                  </a:lnTo>
                  <a:lnTo>
                    <a:pt x="339" y="126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-80280" y="2450520"/>
              <a:ext cx="474120" cy="2451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445" h="1374">
                  <a:moveTo>
                    <a:pt x="247" y="0"/>
                  </a:moveTo>
                  <a:lnTo>
                    <a:pt x="0" y="93"/>
                  </a:lnTo>
                  <a:lnTo>
                    <a:pt x="656" y="1374"/>
                  </a:lnTo>
                  <a:lnTo>
                    <a:pt x="1445" y="1331"/>
                  </a:lnTo>
                  <a:lnTo>
                    <a:pt x="719" y="1182"/>
                  </a:lnTo>
                  <a:lnTo>
                    <a:pt x="204" y="156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-96840" y="2138760"/>
              <a:ext cx="554760" cy="15264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94" h="855">
                  <a:moveTo>
                    <a:pt x="1463" y="0"/>
                  </a:moveTo>
                  <a:lnTo>
                    <a:pt x="20" y="275"/>
                  </a:lnTo>
                  <a:lnTo>
                    <a:pt x="0" y="335"/>
                  </a:lnTo>
                  <a:lnTo>
                    <a:pt x="1389" y="855"/>
                  </a:lnTo>
                  <a:lnTo>
                    <a:pt x="1694" y="731"/>
                  </a:lnTo>
                  <a:lnTo>
                    <a:pt x="845" y="455"/>
                  </a:lnTo>
                  <a:lnTo>
                    <a:pt x="1509" y="75"/>
                  </a:lnTo>
                  <a:lnTo>
                    <a:pt x="1463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-84240" y="2269080"/>
              <a:ext cx="592200" cy="1454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806" h="816">
                  <a:moveTo>
                    <a:pt x="241" y="0"/>
                  </a:moveTo>
                  <a:lnTo>
                    <a:pt x="0" y="101"/>
                  </a:lnTo>
                  <a:lnTo>
                    <a:pt x="0" y="172"/>
                  </a:lnTo>
                  <a:lnTo>
                    <a:pt x="1349" y="816"/>
                  </a:lnTo>
                  <a:lnTo>
                    <a:pt x="1779" y="687"/>
                  </a:lnTo>
                  <a:lnTo>
                    <a:pt x="1806" y="570"/>
                  </a:lnTo>
                  <a:lnTo>
                    <a:pt x="1574" y="551"/>
                  </a:lnTo>
                  <a:lnTo>
                    <a:pt x="1344" y="636"/>
                  </a:lnTo>
                  <a:lnTo>
                    <a:pt x="207" y="129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19800" y="2338200"/>
              <a:ext cx="446400" cy="1926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360" h="1080">
                  <a:moveTo>
                    <a:pt x="6" y="59"/>
                  </a:moveTo>
                  <a:lnTo>
                    <a:pt x="0" y="180"/>
                  </a:lnTo>
                  <a:lnTo>
                    <a:pt x="10" y="314"/>
                  </a:lnTo>
                  <a:lnTo>
                    <a:pt x="78" y="384"/>
                  </a:lnTo>
                  <a:lnTo>
                    <a:pt x="226" y="419"/>
                  </a:lnTo>
                  <a:lnTo>
                    <a:pt x="805" y="844"/>
                  </a:lnTo>
                  <a:lnTo>
                    <a:pt x="1060" y="1040"/>
                  </a:lnTo>
                  <a:lnTo>
                    <a:pt x="1244" y="1080"/>
                  </a:lnTo>
                  <a:lnTo>
                    <a:pt x="1219" y="835"/>
                  </a:lnTo>
                  <a:lnTo>
                    <a:pt x="1360" y="465"/>
                  </a:lnTo>
                  <a:lnTo>
                    <a:pt x="1075" y="450"/>
                  </a:lnTo>
                  <a:lnTo>
                    <a:pt x="50" y="0"/>
                  </a:lnTo>
                  <a:lnTo>
                    <a:pt x="6" y="59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291240" y="2173680"/>
              <a:ext cx="540000" cy="694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646" h="390">
                  <a:moveTo>
                    <a:pt x="0" y="292"/>
                  </a:moveTo>
                  <a:lnTo>
                    <a:pt x="53" y="273"/>
                  </a:lnTo>
                  <a:lnTo>
                    <a:pt x="191" y="238"/>
                  </a:lnTo>
                  <a:lnTo>
                    <a:pt x="281" y="216"/>
                  </a:lnTo>
                  <a:lnTo>
                    <a:pt x="383" y="190"/>
                  </a:lnTo>
                  <a:lnTo>
                    <a:pt x="490" y="165"/>
                  </a:lnTo>
                  <a:lnTo>
                    <a:pt x="602" y="139"/>
                  </a:lnTo>
                  <a:lnTo>
                    <a:pt x="715" y="112"/>
                  </a:lnTo>
                  <a:lnTo>
                    <a:pt x="822" y="87"/>
                  </a:lnTo>
                  <a:lnTo>
                    <a:pt x="924" y="64"/>
                  </a:lnTo>
                  <a:lnTo>
                    <a:pt x="1014" y="43"/>
                  </a:lnTo>
                  <a:lnTo>
                    <a:pt x="1150" y="12"/>
                  </a:lnTo>
                  <a:lnTo>
                    <a:pt x="1202" y="0"/>
                  </a:lnTo>
                  <a:lnTo>
                    <a:pt x="1646" y="75"/>
                  </a:lnTo>
                  <a:lnTo>
                    <a:pt x="158" y="39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284400" y="2426040"/>
              <a:ext cx="84600" cy="741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59" h="417">
                  <a:moveTo>
                    <a:pt x="75" y="0"/>
                  </a:moveTo>
                  <a:lnTo>
                    <a:pt x="259" y="21"/>
                  </a:lnTo>
                  <a:lnTo>
                    <a:pt x="135" y="241"/>
                  </a:lnTo>
                  <a:lnTo>
                    <a:pt x="110" y="417"/>
                  </a:lnTo>
                  <a:lnTo>
                    <a:pt x="0" y="350"/>
                  </a:lnTo>
                  <a:lnTo>
                    <a:pt x="25" y="8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222480" y="2500560"/>
              <a:ext cx="138240" cy="439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23" h="247">
                  <a:moveTo>
                    <a:pt x="0" y="16"/>
                  </a:moveTo>
                  <a:lnTo>
                    <a:pt x="174" y="0"/>
                  </a:lnTo>
                  <a:lnTo>
                    <a:pt x="423" y="201"/>
                  </a:lnTo>
                  <a:lnTo>
                    <a:pt x="44" y="2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183960" y="2548800"/>
              <a:ext cx="780120" cy="13392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378" h="751">
                  <a:moveTo>
                    <a:pt x="155" y="301"/>
                  </a:moveTo>
                  <a:lnTo>
                    <a:pt x="129" y="450"/>
                  </a:lnTo>
                  <a:lnTo>
                    <a:pt x="0" y="601"/>
                  </a:lnTo>
                  <a:lnTo>
                    <a:pt x="563" y="751"/>
                  </a:lnTo>
                  <a:lnTo>
                    <a:pt x="1684" y="647"/>
                  </a:lnTo>
                  <a:lnTo>
                    <a:pt x="1763" y="616"/>
                  </a:lnTo>
                  <a:lnTo>
                    <a:pt x="1913" y="647"/>
                  </a:lnTo>
                  <a:lnTo>
                    <a:pt x="2042" y="630"/>
                  </a:lnTo>
                  <a:lnTo>
                    <a:pt x="2187" y="607"/>
                  </a:lnTo>
                  <a:lnTo>
                    <a:pt x="2221" y="580"/>
                  </a:lnTo>
                  <a:lnTo>
                    <a:pt x="2276" y="534"/>
                  </a:lnTo>
                  <a:lnTo>
                    <a:pt x="2326" y="490"/>
                  </a:lnTo>
                  <a:lnTo>
                    <a:pt x="2348" y="471"/>
                  </a:lnTo>
                  <a:lnTo>
                    <a:pt x="2378" y="186"/>
                  </a:lnTo>
                  <a:lnTo>
                    <a:pt x="2218" y="0"/>
                  </a:lnTo>
                  <a:lnTo>
                    <a:pt x="1439" y="140"/>
                  </a:lnTo>
                  <a:lnTo>
                    <a:pt x="155" y="30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-28080" y="2377440"/>
              <a:ext cx="1004760" cy="30888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3063" h="1730">
                  <a:moveTo>
                    <a:pt x="15" y="29"/>
                  </a:moveTo>
                  <a:lnTo>
                    <a:pt x="134" y="0"/>
                  </a:lnTo>
                  <a:lnTo>
                    <a:pt x="205" y="184"/>
                  </a:lnTo>
                  <a:lnTo>
                    <a:pt x="306" y="212"/>
                  </a:lnTo>
                  <a:lnTo>
                    <a:pt x="880" y="630"/>
                  </a:lnTo>
                  <a:lnTo>
                    <a:pt x="669" y="680"/>
                  </a:lnTo>
                  <a:lnTo>
                    <a:pt x="809" y="936"/>
                  </a:lnTo>
                  <a:lnTo>
                    <a:pt x="1284" y="885"/>
                  </a:lnTo>
                  <a:lnTo>
                    <a:pt x="1594" y="980"/>
                  </a:lnTo>
                  <a:lnTo>
                    <a:pt x="2453" y="705"/>
                  </a:lnTo>
                  <a:lnTo>
                    <a:pt x="2883" y="730"/>
                  </a:lnTo>
                  <a:lnTo>
                    <a:pt x="3063" y="970"/>
                  </a:lnTo>
                  <a:lnTo>
                    <a:pt x="3014" y="1427"/>
                  </a:lnTo>
                  <a:lnTo>
                    <a:pt x="2858" y="1555"/>
                  </a:lnTo>
                  <a:lnTo>
                    <a:pt x="2537" y="1614"/>
                  </a:lnTo>
                  <a:lnTo>
                    <a:pt x="2388" y="1581"/>
                  </a:lnTo>
                  <a:lnTo>
                    <a:pt x="2269" y="1620"/>
                  </a:lnTo>
                  <a:lnTo>
                    <a:pt x="1115" y="1730"/>
                  </a:lnTo>
                  <a:lnTo>
                    <a:pt x="561" y="1594"/>
                  </a:lnTo>
                  <a:lnTo>
                    <a:pt x="964" y="1535"/>
                  </a:lnTo>
                  <a:lnTo>
                    <a:pt x="2554" y="1409"/>
                  </a:lnTo>
                  <a:lnTo>
                    <a:pt x="2808" y="1395"/>
                  </a:lnTo>
                  <a:lnTo>
                    <a:pt x="2908" y="1160"/>
                  </a:lnTo>
                  <a:lnTo>
                    <a:pt x="2892" y="1133"/>
                  </a:lnTo>
                  <a:lnTo>
                    <a:pt x="2855" y="1074"/>
                  </a:lnTo>
                  <a:lnTo>
                    <a:pt x="2834" y="1042"/>
                  </a:lnTo>
                  <a:lnTo>
                    <a:pt x="2815" y="1012"/>
                  </a:lnTo>
                  <a:lnTo>
                    <a:pt x="2788" y="980"/>
                  </a:lnTo>
                  <a:lnTo>
                    <a:pt x="2536" y="1006"/>
                  </a:lnTo>
                  <a:lnTo>
                    <a:pt x="2372" y="1029"/>
                  </a:lnTo>
                  <a:lnTo>
                    <a:pt x="2298" y="1040"/>
                  </a:lnTo>
                  <a:lnTo>
                    <a:pt x="784" y="1215"/>
                  </a:lnTo>
                  <a:lnTo>
                    <a:pt x="703" y="1237"/>
                  </a:lnTo>
                  <a:lnTo>
                    <a:pt x="0" y="119"/>
                  </a:lnTo>
                  <a:lnTo>
                    <a:pt x="459" y="710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659520" y="2497680"/>
              <a:ext cx="194760" cy="320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93" h="178">
                  <a:moveTo>
                    <a:pt x="0" y="178"/>
                  </a:moveTo>
                  <a:lnTo>
                    <a:pt x="423" y="161"/>
                  </a:lnTo>
                  <a:lnTo>
                    <a:pt x="593" y="142"/>
                  </a:lnTo>
                  <a:lnTo>
                    <a:pt x="519" y="68"/>
                  </a:lnTo>
                  <a:lnTo>
                    <a:pt x="546" y="0"/>
                  </a:lnTo>
                  <a:lnTo>
                    <a:pt x="380" y="29"/>
                  </a:lnTo>
                  <a:lnTo>
                    <a:pt x="155" y="124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272880" y="2415240"/>
              <a:ext cx="86400" cy="849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264" h="477">
                  <a:moveTo>
                    <a:pt x="9" y="420"/>
                  </a:moveTo>
                  <a:lnTo>
                    <a:pt x="0" y="266"/>
                  </a:lnTo>
                  <a:lnTo>
                    <a:pt x="59" y="96"/>
                  </a:lnTo>
                  <a:lnTo>
                    <a:pt x="109" y="0"/>
                  </a:lnTo>
                  <a:lnTo>
                    <a:pt x="264" y="81"/>
                  </a:lnTo>
                  <a:lnTo>
                    <a:pt x="214" y="106"/>
                  </a:lnTo>
                  <a:lnTo>
                    <a:pt x="119" y="131"/>
                  </a:lnTo>
                  <a:lnTo>
                    <a:pt x="73" y="245"/>
                  </a:lnTo>
                  <a:lnTo>
                    <a:pt x="73" y="366"/>
                  </a:lnTo>
                  <a:lnTo>
                    <a:pt x="144" y="477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288360" y="2170080"/>
              <a:ext cx="454320" cy="8820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385" h="496">
                  <a:moveTo>
                    <a:pt x="0" y="297"/>
                  </a:moveTo>
                  <a:lnTo>
                    <a:pt x="1110" y="0"/>
                  </a:lnTo>
                  <a:lnTo>
                    <a:pt x="1255" y="31"/>
                  </a:lnTo>
                  <a:lnTo>
                    <a:pt x="269" y="309"/>
                  </a:lnTo>
                  <a:lnTo>
                    <a:pt x="1385" y="121"/>
                  </a:lnTo>
                  <a:lnTo>
                    <a:pt x="291" y="496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191160" y="2490840"/>
              <a:ext cx="194760" cy="53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95" h="300">
                  <a:moveTo>
                    <a:pt x="0" y="44"/>
                  </a:moveTo>
                  <a:lnTo>
                    <a:pt x="187" y="0"/>
                  </a:lnTo>
                  <a:lnTo>
                    <a:pt x="428" y="131"/>
                  </a:lnTo>
                  <a:lnTo>
                    <a:pt x="595" y="251"/>
                  </a:lnTo>
                  <a:lnTo>
                    <a:pt x="490" y="269"/>
                  </a:lnTo>
                  <a:lnTo>
                    <a:pt x="375" y="193"/>
                  </a:lnTo>
                  <a:lnTo>
                    <a:pt x="291" y="109"/>
                  </a:lnTo>
                  <a:lnTo>
                    <a:pt x="155" y="94"/>
                  </a:lnTo>
                  <a:lnTo>
                    <a:pt x="140" y="3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495000" y="2291760"/>
              <a:ext cx="148320" cy="21564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52" h="1211">
                  <a:moveTo>
                    <a:pt x="71" y="96"/>
                  </a:moveTo>
                  <a:lnTo>
                    <a:pt x="362" y="0"/>
                  </a:lnTo>
                  <a:lnTo>
                    <a:pt x="452" y="110"/>
                  </a:lnTo>
                  <a:lnTo>
                    <a:pt x="322" y="776"/>
                  </a:lnTo>
                  <a:lnTo>
                    <a:pt x="186" y="896"/>
                  </a:lnTo>
                  <a:lnTo>
                    <a:pt x="182" y="1211"/>
                  </a:lnTo>
                  <a:lnTo>
                    <a:pt x="71" y="1086"/>
                  </a:lnTo>
                  <a:lnTo>
                    <a:pt x="49" y="941"/>
                  </a:lnTo>
                  <a:lnTo>
                    <a:pt x="27" y="841"/>
                  </a:lnTo>
                  <a:lnTo>
                    <a:pt x="5" y="794"/>
                  </a:lnTo>
                  <a:lnTo>
                    <a:pt x="0" y="772"/>
                  </a:lnTo>
                  <a:lnTo>
                    <a:pt x="5" y="716"/>
                  </a:lnTo>
                  <a:lnTo>
                    <a:pt x="30" y="549"/>
                  </a:lnTo>
                  <a:lnTo>
                    <a:pt x="61" y="382"/>
                  </a:lnTo>
                  <a:lnTo>
                    <a:pt x="77" y="305"/>
                  </a:lnTo>
                  <a:lnTo>
                    <a:pt x="37" y="121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511560" y="2282400"/>
              <a:ext cx="155520" cy="230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74" h="1290">
                  <a:moveTo>
                    <a:pt x="0" y="109"/>
                  </a:moveTo>
                  <a:lnTo>
                    <a:pt x="369" y="0"/>
                  </a:lnTo>
                  <a:lnTo>
                    <a:pt x="474" y="214"/>
                  </a:lnTo>
                  <a:lnTo>
                    <a:pt x="310" y="689"/>
                  </a:lnTo>
                  <a:lnTo>
                    <a:pt x="434" y="1005"/>
                  </a:lnTo>
                  <a:lnTo>
                    <a:pt x="230" y="959"/>
                  </a:lnTo>
                  <a:lnTo>
                    <a:pt x="140" y="1290"/>
                  </a:lnTo>
                  <a:lnTo>
                    <a:pt x="57" y="1026"/>
                  </a:lnTo>
                  <a:lnTo>
                    <a:pt x="15" y="779"/>
                  </a:lnTo>
                  <a:lnTo>
                    <a:pt x="90" y="509"/>
                  </a:lnTo>
                  <a:lnTo>
                    <a:pt x="34" y="304"/>
                  </a:lnTo>
                  <a:lnTo>
                    <a:pt x="124" y="214"/>
                  </a:lnTo>
                  <a:lnTo>
                    <a:pt x="230" y="244"/>
                  </a:lnTo>
                  <a:lnTo>
                    <a:pt x="190" y="339"/>
                  </a:lnTo>
                  <a:lnTo>
                    <a:pt x="264" y="390"/>
                  </a:lnTo>
                  <a:lnTo>
                    <a:pt x="115" y="689"/>
                  </a:lnTo>
                  <a:lnTo>
                    <a:pt x="190" y="675"/>
                  </a:lnTo>
                  <a:lnTo>
                    <a:pt x="115" y="900"/>
                  </a:lnTo>
                  <a:lnTo>
                    <a:pt x="214" y="785"/>
                  </a:lnTo>
                  <a:lnTo>
                    <a:pt x="260" y="555"/>
                  </a:lnTo>
                  <a:lnTo>
                    <a:pt x="260" y="484"/>
                  </a:lnTo>
                  <a:lnTo>
                    <a:pt x="339" y="314"/>
                  </a:lnTo>
                  <a:lnTo>
                    <a:pt x="285" y="300"/>
                  </a:lnTo>
                  <a:lnTo>
                    <a:pt x="304" y="170"/>
                  </a:lnTo>
                  <a:lnTo>
                    <a:pt x="180" y="149"/>
                  </a:lnTo>
                  <a:lnTo>
                    <a:pt x="199" y="99"/>
                  </a:lnTo>
                  <a:lnTo>
                    <a:pt x="25" y="195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1680" y="2372040"/>
              <a:ext cx="260640" cy="1220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794" h="686">
                  <a:moveTo>
                    <a:pt x="0" y="136"/>
                  </a:moveTo>
                  <a:lnTo>
                    <a:pt x="60" y="40"/>
                  </a:lnTo>
                  <a:lnTo>
                    <a:pt x="134" y="0"/>
                  </a:lnTo>
                  <a:lnTo>
                    <a:pt x="144" y="96"/>
                  </a:lnTo>
                  <a:lnTo>
                    <a:pt x="349" y="291"/>
                  </a:lnTo>
                  <a:lnTo>
                    <a:pt x="653" y="466"/>
                  </a:lnTo>
                  <a:lnTo>
                    <a:pt x="794" y="341"/>
                  </a:lnTo>
                  <a:lnTo>
                    <a:pt x="714" y="686"/>
                  </a:lnTo>
                  <a:lnTo>
                    <a:pt x="100" y="230"/>
                  </a:lnTo>
                  <a:lnTo>
                    <a:pt x="20" y="21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25560" y="2340000"/>
              <a:ext cx="295920" cy="9252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02" h="521">
                  <a:moveTo>
                    <a:pt x="32" y="40"/>
                  </a:moveTo>
                  <a:lnTo>
                    <a:pt x="0" y="102"/>
                  </a:lnTo>
                  <a:lnTo>
                    <a:pt x="143" y="121"/>
                  </a:lnTo>
                  <a:lnTo>
                    <a:pt x="767" y="446"/>
                  </a:lnTo>
                  <a:lnTo>
                    <a:pt x="812" y="521"/>
                  </a:lnTo>
                  <a:lnTo>
                    <a:pt x="902" y="435"/>
                  </a:lnTo>
                  <a:lnTo>
                    <a:pt x="93" y="0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331560" y="2391840"/>
              <a:ext cx="740880" cy="160560"/>
            </a:xfrm>
            <a:custGeom>
              <a:avLst/>
              <a:gdLst>
                <a:gd name="textAreaLeft" fmla="*/ 0 w 740880"/>
                <a:gd name="textAreaRight" fmla="*/ 741240 w 7408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259" h="900">
                  <a:moveTo>
                    <a:pt x="11" y="515"/>
                  </a:moveTo>
                  <a:lnTo>
                    <a:pt x="90" y="655"/>
                  </a:lnTo>
                  <a:lnTo>
                    <a:pt x="226" y="709"/>
                  </a:lnTo>
                  <a:lnTo>
                    <a:pt x="231" y="510"/>
                  </a:lnTo>
                  <a:lnTo>
                    <a:pt x="321" y="284"/>
                  </a:lnTo>
                  <a:lnTo>
                    <a:pt x="201" y="345"/>
                  </a:lnTo>
                  <a:lnTo>
                    <a:pt x="155" y="379"/>
                  </a:lnTo>
                  <a:lnTo>
                    <a:pt x="141" y="315"/>
                  </a:lnTo>
                  <a:lnTo>
                    <a:pt x="146" y="184"/>
                  </a:lnTo>
                  <a:lnTo>
                    <a:pt x="511" y="0"/>
                  </a:lnTo>
                  <a:lnTo>
                    <a:pt x="504" y="233"/>
                  </a:lnTo>
                  <a:lnTo>
                    <a:pt x="437" y="283"/>
                  </a:lnTo>
                  <a:lnTo>
                    <a:pt x="390" y="540"/>
                  </a:lnTo>
                  <a:lnTo>
                    <a:pt x="481" y="730"/>
                  </a:lnTo>
                  <a:lnTo>
                    <a:pt x="1885" y="305"/>
                  </a:lnTo>
                  <a:lnTo>
                    <a:pt x="1780" y="100"/>
                  </a:lnTo>
                  <a:lnTo>
                    <a:pt x="2259" y="299"/>
                  </a:lnTo>
                  <a:lnTo>
                    <a:pt x="2179" y="355"/>
                  </a:lnTo>
                  <a:lnTo>
                    <a:pt x="496" y="900"/>
                  </a:lnTo>
                  <a:lnTo>
                    <a:pt x="349" y="864"/>
                  </a:lnTo>
                  <a:lnTo>
                    <a:pt x="46" y="740"/>
                  </a:lnTo>
                  <a:lnTo>
                    <a:pt x="0" y="600"/>
                  </a:lnTo>
                  <a:lnTo>
                    <a:pt x="11" y="515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610200" y="2322720"/>
              <a:ext cx="439560" cy="104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340" h="586">
                  <a:moveTo>
                    <a:pt x="100" y="210"/>
                  </a:moveTo>
                  <a:lnTo>
                    <a:pt x="634" y="0"/>
                  </a:lnTo>
                  <a:lnTo>
                    <a:pt x="1340" y="170"/>
                  </a:lnTo>
                  <a:lnTo>
                    <a:pt x="1208" y="256"/>
                  </a:lnTo>
                  <a:lnTo>
                    <a:pt x="14" y="586"/>
                  </a:lnTo>
                  <a:lnTo>
                    <a:pt x="0" y="436"/>
                  </a:lnTo>
                  <a:lnTo>
                    <a:pt x="100" y="21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-75240" y="2292480"/>
              <a:ext cx="454320" cy="13716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387" h="770">
                  <a:moveTo>
                    <a:pt x="0" y="45"/>
                  </a:moveTo>
                  <a:lnTo>
                    <a:pt x="24" y="0"/>
                  </a:lnTo>
                  <a:lnTo>
                    <a:pt x="1387" y="659"/>
                  </a:lnTo>
                  <a:lnTo>
                    <a:pt x="1356" y="77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1080" y="2203560"/>
              <a:ext cx="916200" cy="16920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793" h="946">
                  <a:moveTo>
                    <a:pt x="9" y="280"/>
                  </a:moveTo>
                  <a:lnTo>
                    <a:pt x="1219" y="716"/>
                  </a:lnTo>
                  <a:lnTo>
                    <a:pt x="1169" y="946"/>
                  </a:lnTo>
                  <a:lnTo>
                    <a:pt x="1433" y="856"/>
                  </a:lnTo>
                  <a:lnTo>
                    <a:pt x="1584" y="795"/>
                  </a:lnTo>
                  <a:lnTo>
                    <a:pt x="1544" y="590"/>
                  </a:lnTo>
                  <a:lnTo>
                    <a:pt x="1928" y="441"/>
                  </a:lnTo>
                  <a:lnTo>
                    <a:pt x="2003" y="586"/>
                  </a:lnTo>
                  <a:lnTo>
                    <a:pt x="1959" y="835"/>
                  </a:lnTo>
                  <a:lnTo>
                    <a:pt x="2498" y="574"/>
                  </a:lnTo>
                  <a:lnTo>
                    <a:pt x="2648" y="586"/>
                  </a:lnTo>
                  <a:lnTo>
                    <a:pt x="2793" y="310"/>
                  </a:lnTo>
                  <a:lnTo>
                    <a:pt x="2778" y="106"/>
                  </a:lnTo>
                  <a:lnTo>
                    <a:pt x="2588" y="0"/>
                  </a:lnTo>
                  <a:lnTo>
                    <a:pt x="1194" y="435"/>
                  </a:lnTo>
                  <a:lnTo>
                    <a:pt x="1089" y="490"/>
                  </a:lnTo>
                  <a:lnTo>
                    <a:pt x="0" y="115"/>
                  </a:lnTo>
                  <a:lnTo>
                    <a:pt x="9" y="28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-56880" y="2137680"/>
              <a:ext cx="978840" cy="226080"/>
            </a:xfrm>
            <a:custGeom>
              <a:avLst/>
              <a:gdLst>
                <a:gd name="textAreaLeft" fmla="*/ 0 w 978840"/>
                <a:gd name="textAreaRight" fmla="*/ 979200 w 9788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2984" h="1267">
                  <a:moveTo>
                    <a:pt x="0" y="316"/>
                  </a:moveTo>
                  <a:lnTo>
                    <a:pt x="1490" y="0"/>
                  </a:lnTo>
                  <a:lnTo>
                    <a:pt x="2284" y="170"/>
                  </a:lnTo>
                  <a:lnTo>
                    <a:pt x="991" y="481"/>
                  </a:lnTo>
                  <a:lnTo>
                    <a:pt x="1291" y="586"/>
                  </a:lnTo>
                  <a:lnTo>
                    <a:pt x="2598" y="266"/>
                  </a:lnTo>
                  <a:lnTo>
                    <a:pt x="2731" y="213"/>
                  </a:lnTo>
                  <a:lnTo>
                    <a:pt x="2904" y="306"/>
                  </a:lnTo>
                  <a:lnTo>
                    <a:pt x="2979" y="421"/>
                  </a:lnTo>
                  <a:lnTo>
                    <a:pt x="2984" y="741"/>
                  </a:lnTo>
                  <a:lnTo>
                    <a:pt x="2824" y="957"/>
                  </a:lnTo>
                  <a:lnTo>
                    <a:pt x="2674" y="967"/>
                  </a:lnTo>
                  <a:lnTo>
                    <a:pt x="2649" y="1032"/>
                  </a:lnTo>
                  <a:lnTo>
                    <a:pt x="2514" y="1097"/>
                  </a:lnTo>
                  <a:lnTo>
                    <a:pt x="2349" y="1147"/>
                  </a:lnTo>
                  <a:lnTo>
                    <a:pt x="2119" y="1267"/>
                  </a:lnTo>
                  <a:lnTo>
                    <a:pt x="2135" y="1206"/>
                  </a:lnTo>
                  <a:lnTo>
                    <a:pt x="2209" y="1026"/>
                  </a:lnTo>
                  <a:lnTo>
                    <a:pt x="2759" y="806"/>
                  </a:lnTo>
                  <a:lnTo>
                    <a:pt x="2864" y="676"/>
                  </a:lnTo>
                  <a:lnTo>
                    <a:pt x="2835" y="446"/>
                  </a:lnTo>
                  <a:lnTo>
                    <a:pt x="2759" y="403"/>
                  </a:lnTo>
                  <a:lnTo>
                    <a:pt x="1375" y="787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56480" y="2387880"/>
              <a:ext cx="502920" cy="13932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34" h="781">
                  <a:moveTo>
                    <a:pt x="509" y="236"/>
                  </a:moveTo>
                  <a:lnTo>
                    <a:pt x="1419" y="0"/>
                  </a:lnTo>
                  <a:lnTo>
                    <a:pt x="1408" y="137"/>
                  </a:lnTo>
                  <a:lnTo>
                    <a:pt x="1423" y="251"/>
                  </a:lnTo>
                  <a:lnTo>
                    <a:pt x="1534" y="331"/>
                  </a:lnTo>
                  <a:lnTo>
                    <a:pt x="115" y="781"/>
                  </a:lnTo>
                  <a:lnTo>
                    <a:pt x="40" y="741"/>
                  </a:lnTo>
                  <a:lnTo>
                    <a:pt x="0" y="611"/>
                  </a:lnTo>
                  <a:lnTo>
                    <a:pt x="55" y="345"/>
                  </a:lnTo>
                  <a:lnTo>
                    <a:pt x="109" y="316"/>
                  </a:lnTo>
                  <a:lnTo>
                    <a:pt x="245" y="586"/>
                  </a:lnTo>
                  <a:lnTo>
                    <a:pt x="316" y="648"/>
                  </a:lnTo>
                  <a:lnTo>
                    <a:pt x="325" y="410"/>
                  </a:lnTo>
                  <a:lnTo>
                    <a:pt x="409" y="331"/>
                  </a:lnTo>
                  <a:lnTo>
                    <a:pt x="577" y="387"/>
                  </a:lnTo>
                  <a:lnTo>
                    <a:pt x="509" y="236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71160" y="2342520"/>
              <a:ext cx="153000" cy="46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8" h="264">
                  <a:moveTo>
                    <a:pt x="0" y="229"/>
                  </a:moveTo>
                  <a:lnTo>
                    <a:pt x="310" y="199"/>
                  </a:lnTo>
                  <a:lnTo>
                    <a:pt x="294" y="264"/>
                  </a:lnTo>
                  <a:lnTo>
                    <a:pt x="434" y="210"/>
                  </a:lnTo>
                  <a:lnTo>
                    <a:pt x="468" y="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-108000" y="2133720"/>
              <a:ext cx="1006560" cy="1933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3069" h="1082">
                  <a:moveTo>
                    <a:pt x="25" y="281"/>
                  </a:moveTo>
                  <a:lnTo>
                    <a:pt x="0" y="384"/>
                  </a:lnTo>
                  <a:lnTo>
                    <a:pt x="272" y="520"/>
                  </a:lnTo>
                  <a:lnTo>
                    <a:pt x="306" y="647"/>
                  </a:lnTo>
                  <a:lnTo>
                    <a:pt x="313" y="757"/>
                  </a:lnTo>
                  <a:lnTo>
                    <a:pt x="279" y="886"/>
                  </a:lnTo>
                  <a:lnTo>
                    <a:pt x="365" y="775"/>
                  </a:lnTo>
                  <a:lnTo>
                    <a:pt x="407" y="647"/>
                  </a:lnTo>
                  <a:lnTo>
                    <a:pt x="399" y="554"/>
                  </a:lnTo>
                  <a:lnTo>
                    <a:pt x="1436" y="920"/>
                  </a:lnTo>
                  <a:lnTo>
                    <a:pt x="2915" y="425"/>
                  </a:lnTo>
                  <a:lnTo>
                    <a:pt x="2958" y="554"/>
                  </a:lnTo>
                  <a:lnTo>
                    <a:pt x="2958" y="698"/>
                  </a:lnTo>
                  <a:lnTo>
                    <a:pt x="2856" y="825"/>
                  </a:lnTo>
                  <a:lnTo>
                    <a:pt x="2371" y="1026"/>
                  </a:lnTo>
                  <a:lnTo>
                    <a:pt x="2345" y="1082"/>
                  </a:lnTo>
                  <a:lnTo>
                    <a:pt x="2908" y="868"/>
                  </a:lnTo>
                  <a:lnTo>
                    <a:pt x="3019" y="791"/>
                  </a:lnTo>
                  <a:lnTo>
                    <a:pt x="3069" y="664"/>
                  </a:lnTo>
                  <a:lnTo>
                    <a:pt x="3053" y="493"/>
                  </a:lnTo>
                  <a:lnTo>
                    <a:pt x="2976" y="400"/>
                  </a:lnTo>
                  <a:lnTo>
                    <a:pt x="2899" y="366"/>
                  </a:lnTo>
                  <a:lnTo>
                    <a:pt x="2695" y="459"/>
                  </a:lnTo>
                  <a:lnTo>
                    <a:pt x="1470" y="748"/>
                  </a:lnTo>
                  <a:lnTo>
                    <a:pt x="282" y="381"/>
                  </a:lnTo>
                  <a:lnTo>
                    <a:pt x="1402" y="809"/>
                  </a:lnTo>
                  <a:lnTo>
                    <a:pt x="1402" y="852"/>
                  </a:lnTo>
                  <a:lnTo>
                    <a:pt x="50" y="357"/>
                  </a:lnTo>
                  <a:lnTo>
                    <a:pt x="93" y="315"/>
                  </a:lnTo>
                  <a:lnTo>
                    <a:pt x="1597" y="43"/>
                  </a:lnTo>
                  <a:lnTo>
                    <a:pt x="2334" y="179"/>
                  </a:lnTo>
                  <a:lnTo>
                    <a:pt x="1556" y="0"/>
                  </a:lnTo>
                  <a:lnTo>
                    <a:pt x="2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-104760" y="2262600"/>
              <a:ext cx="621720" cy="17136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94" h="960">
                  <a:moveTo>
                    <a:pt x="321" y="0"/>
                  </a:moveTo>
                  <a:lnTo>
                    <a:pt x="28" y="105"/>
                  </a:lnTo>
                  <a:lnTo>
                    <a:pt x="0" y="211"/>
                  </a:lnTo>
                  <a:lnTo>
                    <a:pt x="1441" y="960"/>
                  </a:lnTo>
                  <a:lnTo>
                    <a:pt x="1840" y="760"/>
                  </a:lnTo>
                  <a:lnTo>
                    <a:pt x="1894" y="626"/>
                  </a:lnTo>
                  <a:lnTo>
                    <a:pt x="1451" y="799"/>
                  </a:lnTo>
                  <a:lnTo>
                    <a:pt x="449" y="338"/>
                  </a:lnTo>
                  <a:lnTo>
                    <a:pt x="1401" y="831"/>
                  </a:lnTo>
                  <a:lnTo>
                    <a:pt x="1423" y="904"/>
                  </a:lnTo>
                  <a:lnTo>
                    <a:pt x="89" y="211"/>
                  </a:lnTo>
                  <a:lnTo>
                    <a:pt x="77" y="149"/>
                  </a:lnTo>
                  <a:lnTo>
                    <a:pt x="316" y="55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5040" y="2282400"/>
              <a:ext cx="519120" cy="1044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4" h="584">
                  <a:moveTo>
                    <a:pt x="0" y="83"/>
                  </a:moveTo>
                  <a:lnTo>
                    <a:pt x="1082" y="584"/>
                  </a:lnTo>
                  <a:lnTo>
                    <a:pt x="1584" y="378"/>
                  </a:lnTo>
                  <a:lnTo>
                    <a:pt x="1584" y="335"/>
                  </a:lnTo>
                  <a:lnTo>
                    <a:pt x="1200" y="483"/>
                  </a:lnTo>
                  <a:lnTo>
                    <a:pt x="1255" y="360"/>
                  </a:lnTo>
                  <a:lnTo>
                    <a:pt x="1448" y="282"/>
                  </a:lnTo>
                  <a:lnTo>
                    <a:pt x="1239" y="306"/>
                  </a:lnTo>
                  <a:lnTo>
                    <a:pt x="1227" y="171"/>
                  </a:lnTo>
                  <a:lnTo>
                    <a:pt x="1156" y="22"/>
                  </a:lnTo>
                  <a:lnTo>
                    <a:pt x="1106" y="56"/>
                  </a:lnTo>
                  <a:lnTo>
                    <a:pt x="1167" y="171"/>
                  </a:lnTo>
                  <a:lnTo>
                    <a:pt x="662" y="0"/>
                  </a:lnTo>
                  <a:lnTo>
                    <a:pt x="1167" y="249"/>
                  </a:lnTo>
                  <a:lnTo>
                    <a:pt x="1181" y="325"/>
                  </a:lnTo>
                  <a:lnTo>
                    <a:pt x="1141" y="418"/>
                  </a:lnTo>
                  <a:lnTo>
                    <a:pt x="358" y="111"/>
                  </a:lnTo>
                  <a:lnTo>
                    <a:pt x="1137" y="466"/>
                  </a:lnTo>
                  <a:lnTo>
                    <a:pt x="1082" y="54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437760" y="2242800"/>
              <a:ext cx="363960" cy="26064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109" h="1460">
                  <a:moveTo>
                    <a:pt x="0" y="378"/>
                  </a:moveTo>
                  <a:lnTo>
                    <a:pt x="411" y="256"/>
                  </a:lnTo>
                  <a:lnTo>
                    <a:pt x="1109" y="0"/>
                  </a:lnTo>
                  <a:lnTo>
                    <a:pt x="626" y="245"/>
                  </a:lnTo>
                  <a:lnTo>
                    <a:pt x="709" y="346"/>
                  </a:lnTo>
                  <a:lnTo>
                    <a:pt x="709" y="467"/>
                  </a:lnTo>
                  <a:lnTo>
                    <a:pt x="643" y="672"/>
                  </a:lnTo>
                  <a:lnTo>
                    <a:pt x="554" y="895"/>
                  </a:lnTo>
                  <a:lnTo>
                    <a:pt x="550" y="1016"/>
                  </a:lnTo>
                  <a:lnTo>
                    <a:pt x="632" y="1199"/>
                  </a:lnTo>
                  <a:lnTo>
                    <a:pt x="510" y="1055"/>
                  </a:lnTo>
                  <a:lnTo>
                    <a:pt x="494" y="899"/>
                  </a:lnTo>
                  <a:lnTo>
                    <a:pt x="588" y="639"/>
                  </a:lnTo>
                  <a:lnTo>
                    <a:pt x="660" y="450"/>
                  </a:lnTo>
                  <a:lnTo>
                    <a:pt x="550" y="251"/>
                  </a:lnTo>
                  <a:lnTo>
                    <a:pt x="244" y="368"/>
                  </a:lnTo>
                  <a:lnTo>
                    <a:pt x="272" y="428"/>
                  </a:lnTo>
                  <a:lnTo>
                    <a:pt x="294" y="583"/>
                  </a:lnTo>
                  <a:lnTo>
                    <a:pt x="266" y="760"/>
                  </a:lnTo>
                  <a:lnTo>
                    <a:pt x="222" y="933"/>
                  </a:lnTo>
                  <a:lnTo>
                    <a:pt x="206" y="1110"/>
                  </a:lnTo>
                  <a:lnTo>
                    <a:pt x="256" y="1283"/>
                  </a:lnTo>
                  <a:lnTo>
                    <a:pt x="371" y="1460"/>
                  </a:lnTo>
                  <a:lnTo>
                    <a:pt x="250" y="1387"/>
                  </a:lnTo>
                  <a:lnTo>
                    <a:pt x="167" y="1199"/>
                  </a:lnTo>
                  <a:lnTo>
                    <a:pt x="150" y="989"/>
                  </a:lnTo>
                  <a:lnTo>
                    <a:pt x="212" y="716"/>
                  </a:lnTo>
                  <a:lnTo>
                    <a:pt x="234" y="551"/>
                  </a:lnTo>
                  <a:lnTo>
                    <a:pt x="150" y="39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551160" y="2442240"/>
              <a:ext cx="94320" cy="615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88" h="344">
                  <a:moveTo>
                    <a:pt x="27" y="344"/>
                  </a:moveTo>
                  <a:lnTo>
                    <a:pt x="0" y="161"/>
                  </a:lnTo>
                  <a:lnTo>
                    <a:pt x="73" y="0"/>
                  </a:lnTo>
                  <a:lnTo>
                    <a:pt x="139" y="6"/>
                  </a:lnTo>
                  <a:lnTo>
                    <a:pt x="288" y="83"/>
                  </a:lnTo>
                  <a:lnTo>
                    <a:pt x="111" y="66"/>
                  </a:lnTo>
                  <a:lnTo>
                    <a:pt x="49" y="167"/>
                  </a:lnTo>
                  <a:lnTo>
                    <a:pt x="27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630720" y="2178360"/>
              <a:ext cx="298080" cy="1933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908" h="1082">
                  <a:moveTo>
                    <a:pt x="66" y="949"/>
                  </a:moveTo>
                  <a:lnTo>
                    <a:pt x="576" y="716"/>
                  </a:lnTo>
                  <a:lnTo>
                    <a:pt x="695" y="703"/>
                  </a:lnTo>
                  <a:lnTo>
                    <a:pt x="781" y="621"/>
                  </a:lnTo>
                  <a:lnTo>
                    <a:pt x="859" y="428"/>
                  </a:lnTo>
                  <a:lnTo>
                    <a:pt x="825" y="161"/>
                  </a:lnTo>
                  <a:lnTo>
                    <a:pt x="700" y="52"/>
                  </a:lnTo>
                  <a:lnTo>
                    <a:pt x="478" y="124"/>
                  </a:lnTo>
                  <a:lnTo>
                    <a:pt x="661" y="0"/>
                  </a:lnTo>
                  <a:lnTo>
                    <a:pt x="781" y="40"/>
                  </a:lnTo>
                  <a:lnTo>
                    <a:pt x="881" y="151"/>
                  </a:lnTo>
                  <a:lnTo>
                    <a:pt x="908" y="372"/>
                  </a:lnTo>
                  <a:lnTo>
                    <a:pt x="897" y="527"/>
                  </a:lnTo>
                  <a:lnTo>
                    <a:pt x="794" y="723"/>
                  </a:lnTo>
                  <a:lnTo>
                    <a:pt x="726" y="765"/>
                  </a:lnTo>
                  <a:lnTo>
                    <a:pt x="604" y="760"/>
                  </a:lnTo>
                  <a:lnTo>
                    <a:pt x="0" y="1082"/>
                  </a:lnTo>
                  <a:lnTo>
                    <a:pt x="66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1880" y="2336040"/>
              <a:ext cx="1067400" cy="225000"/>
            </a:xfrm>
            <a:custGeom>
              <a:avLst/>
              <a:gdLst>
                <a:gd name="textAreaLeft" fmla="*/ 0 w 1067400"/>
                <a:gd name="textAreaRight" fmla="*/ 1067760 w 10674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3257" h="1259">
                  <a:moveTo>
                    <a:pt x="44" y="0"/>
                  </a:moveTo>
                  <a:lnTo>
                    <a:pt x="0" y="99"/>
                  </a:lnTo>
                  <a:lnTo>
                    <a:pt x="5" y="321"/>
                  </a:lnTo>
                  <a:lnTo>
                    <a:pt x="66" y="448"/>
                  </a:lnTo>
                  <a:lnTo>
                    <a:pt x="166" y="482"/>
                  </a:lnTo>
                  <a:lnTo>
                    <a:pt x="338" y="625"/>
                  </a:lnTo>
                  <a:lnTo>
                    <a:pt x="758" y="915"/>
                  </a:lnTo>
                  <a:lnTo>
                    <a:pt x="853" y="931"/>
                  </a:lnTo>
                  <a:lnTo>
                    <a:pt x="974" y="997"/>
                  </a:lnTo>
                  <a:lnTo>
                    <a:pt x="1014" y="1076"/>
                  </a:lnTo>
                  <a:lnTo>
                    <a:pt x="1334" y="1242"/>
                  </a:lnTo>
                  <a:lnTo>
                    <a:pt x="1468" y="1259"/>
                  </a:lnTo>
                  <a:lnTo>
                    <a:pt x="3257" y="698"/>
                  </a:lnTo>
                  <a:lnTo>
                    <a:pt x="3241" y="577"/>
                  </a:lnTo>
                  <a:lnTo>
                    <a:pt x="2764" y="426"/>
                  </a:lnTo>
                  <a:lnTo>
                    <a:pt x="3207" y="621"/>
                  </a:lnTo>
                  <a:lnTo>
                    <a:pt x="1446" y="1174"/>
                  </a:lnTo>
                  <a:lnTo>
                    <a:pt x="1334" y="1076"/>
                  </a:lnTo>
                  <a:lnTo>
                    <a:pt x="1279" y="931"/>
                  </a:lnTo>
                  <a:lnTo>
                    <a:pt x="1324" y="648"/>
                  </a:lnTo>
                  <a:lnTo>
                    <a:pt x="1245" y="786"/>
                  </a:lnTo>
                  <a:lnTo>
                    <a:pt x="1229" y="931"/>
                  </a:lnTo>
                  <a:lnTo>
                    <a:pt x="1279" y="1114"/>
                  </a:lnTo>
                  <a:lnTo>
                    <a:pt x="1324" y="1174"/>
                  </a:lnTo>
                  <a:lnTo>
                    <a:pt x="1064" y="1048"/>
                  </a:lnTo>
                  <a:lnTo>
                    <a:pt x="1014" y="925"/>
                  </a:lnTo>
                  <a:lnTo>
                    <a:pt x="1002" y="742"/>
                  </a:lnTo>
                  <a:lnTo>
                    <a:pt x="1036" y="615"/>
                  </a:lnTo>
                  <a:lnTo>
                    <a:pt x="974" y="710"/>
                  </a:lnTo>
                  <a:lnTo>
                    <a:pt x="952" y="842"/>
                  </a:lnTo>
                  <a:lnTo>
                    <a:pt x="941" y="921"/>
                  </a:lnTo>
                  <a:lnTo>
                    <a:pt x="847" y="859"/>
                  </a:lnTo>
                  <a:lnTo>
                    <a:pt x="831" y="698"/>
                  </a:lnTo>
                  <a:lnTo>
                    <a:pt x="881" y="510"/>
                  </a:lnTo>
                  <a:lnTo>
                    <a:pt x="820" y="593"/>
                  </a:lnTo>
                  <a:lnTo>
                    <a:pt x="776" y="720"/>
                  </a:lnTo>
                  <a:lnTo>
                    <a:pt x="776" y="853"/>
                  </a:lnTo>
                  <a:lnTo>
                    <a:pt x="183" y="442"/>
                  </a:lnTo>
                  <a:lnTo>
                    <a:pt x="177" y="321"/>
                  </a:lnTo>
                  <a:lnTo>
                    <a:pt x="183" y="221"/>
                  </a:lnTo>
                  <a:lnTo>
                    <a:pt x="132" y="287"/>
                  </a:lnTo>
                  <a:lnTo>
                    <a:pt x="104" y="394"/>
                  </a:lnTo>
                  <a:lnTo>
                    <a:pt x="44" y="282"/>
                  </a:lnTo>
                  <a:lnTo>
                    <a:pt x="44" y="121"/>
                  </a:lnTo>
                  <a:lnTo>
                    <a:pt x="149" y="5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9"/>
            <p:cNvSpPr/>
            <p:nvPr/>
          </p:nvSpPr>
          <p:spPr>
            <a:xfrm>
              <a:off x="448920" y="2432880"/>
              <a:ext cx="98280" cy="81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00" h="454">
                  <a:moveTo>
                    <a:pt x="145" y="0"/>
                  </a:moveTo>
                  <a:lnTo>
                    <a:pt x="78" y="50"/>
                  </a:lnTo>
                  <a:lnTo>
                    <a:pt x="46" y="138"/>
                  </a:lnTo>
                  <a:lnTo>
                    <a:pt x="0" y="350"/>
                  </a:lnTo>
                  <a:lnTo>
                    <a:pt x="46" y="454"/>
                  </a:lnTo>
                  <a:lnTo>
                    <a:pt x="300" y="372"/>
                  </a:lnTo>
                  <a:lnTo>
                    <a:pt x="239" y="310"/>
                  </a:lnTo>
                  <a:lnTo>
                    <a:pt x="78" y="355"/>
                  </a:lnTo>
                  <a:lnTo>
                    <a:pt x="84" y="183"/>
                  </a:lnTo>
                  <a:lnTo>
                    <a:pt x="156" y="1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0"/>
            <p:cNvSpPr/>
            <p:nvPr/>
          </p:nvSpPr>
          <p:spPr>
            <a:xfrm>
              <a:off x="559080" y="2466720"/>
              <a:ext cx="153360" cy="28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8800"/>
                <a:gd name="textAreaBottom" fmla="*/ 28800 h 28800"/>
              </a:gdLst>
              <a:ahLst/>
              <a:rect l="textAreaLeft" t="textAreaTop" r="textAreaRight" b="textAreaBottom"/>
              <a:pathLst>
                <a:path w="470" h="161">
                  <a:moveTo>
                    <a:pt x="10" y="99"/>
                  </a:moveTo>
                  <a:lnTo>
                    <a:pt x="470" y="0"/>
                  </a:lnTo>
                  <a:lnTo>
                    <a:pt x="0" y="161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"/>
            <p:cNvSpPr/>
            <p:nvPr/>
          </p:nvSpPr>
          <p:spPr>
            <a:xfrm>
              <a:off x="-55440" y="2367000"/>
              <a:ext cx="1000440" cy="264600"/>
            </a:xfrm>
            <a:custGeom>
              <a:avLst/>
              <a:gdLst>
                <a:gd name="textAreaLeft" fmla="*/ 0 w 1000440"/>
                <a:gd name="textAreaRight" fmla="*/ 1000800 w 10004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052" h="1482">
                  <a:moveTo>
                    <a:pt x="243" y="0"/>
                  </a:moveTo>
                  <a:lnTo>
                    <a:pt x="0" y="37"/>
                  </a:lnTo>
                  <a:lnTo>
                    <a:pt x="7" y="126"/>
                  </a:lnTo>
                  <a:lnTo>
                    <a:pt x="770" y="1337"/>
                  </a:lnTo>
                  <a:lnTo>
                    <a:pt x="2809" y="1107"/>
                  </a:lnTo>
                  <a:lnTo>
                    <a:pt x="2903" y="1151"/>
                  </a:lnTo>
                  <a:lnTo>
                    <a:pt x="2957" y="1237"/>
                  </a:lnTo>
                  <a:lnTo>
                    <a:pt x="2892" y="1419"/>
                  </a:lnTo>
                  <a:lnTo>
                    <a:pt x="2554" y="1482"/>
                  </a:lnTo>
                  <a:lnTo>
                    <a:pt x="2906" y="1482"/>
                  </a:lnTo>
                  <a:lnTo>
                    <a:pt x="3052" y="1259"/>
                  </a:lnTo>
                  <a:lnTo>
                    <a:pt x="3044" y="1078"/>
                  </a:lnTo>
                  <a:lnTo>
                    <a:pt x="2980" y="994"/>
                  </a:lnTo>
                  <a:lnTo>
                    <a:pt x="2626" y="1041"/>
                  </a:lnTo>
                  <a:lnTo>
                    <a:pt x="2561" y="1069"/>
                  </a:lnTo>
                  <a:lnTo>
                    <a:pt x="2484" y="1041"/>
                  </a:lnTo>
                  <a:lnTo>
                    <a:pt x="881" y="1230"/>
                  </a:lnTo>
                  <a:lnTo>
                    <a:pt x="384" y="532"/>
                  </a:lnTo>
                  <a:lnTo>
                    <a:pt x="827" y="1236"/>
                  </a:lnTo>
                  <a:lnTo>
                    <a:pt x="787" y="1295"/>
                  </a:lnTo>
                  <a:lnTo>
                    <a:pt x="31" y="70"/>
                  </a:lnTo>
                  <a:lnTo>
                    <a:pt x="224" y="37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2"/>
            <p:cNvSpPr/>
            <p:nvPr/>
          </p:nvSpPr>
          <p:spPr>
            <a:xfrm>
              <a:off x="-30240" y="2426040"/>
              <a:ext cx="180000" cy="2286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47" h="1281">
                  <a:moveTo>
                    <a:pt x="71" y="0"/>
                  </a:moveTo>
                  <a:lnTo>
                    <a:pt x="82" y="95"/>
                  </a:lnTo>
                  <a:lnTo>
                    <a:pt x="66" y="175"/>
                  </a:lnTo>
                  <a:lnTo>
                    <a:pt x="38" y="228"/>
                  </a:lnTo>
                  <a:lnTo>
                    <a:pt x="0" y="256"/>
                  </a:lnTo>
                  <a:lnTo>
                    <a:pt x="143" y="527"/>
                  </a:lnTo>
                  <a:lnTo>
                    <a:pt x="547" y="1281"/>
                  </a:lnTo>
                  <a:lnTo>
                    <a:pt x="249" y="604"/>
                  </a:lnTo>
                  <a:lnTo>
                    <a:pt x="66" y="256"/>
                  </a:lnTo>
                  <a:lnTo>
                    <a:pt x="243" y="465"/>
                  </a:lnTo>
                  <a:lnTo>
                    <a:pt x="104" y="189"/>
                  </a:lnTo>
                  <a:lnTo>
                    <a:pt x="143" y="8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3"/>
            <p:cNvSpPr/>
            <p:nvPr/>
          </p:nvSpPr>
          <p:spPr>
            <a:xfrm>
              <a:off x="-84240" y="2446560"/>
              <a:ext cx="1074240" cy="261720"/>
            </a:xfrm>
            <a:custGeom>
              <a:avLst/>
              <a:gdLst>
                <a:gd name="textAreaLeft" fmla="*/ 0 w 1074240"/>
                <a:gd name="textAreaRight" fmla="*/ 1074600 w 10742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77" h="1467">
                  <a:moveTo>
                    <a:pt x="256" y="0"/>
                  </a:moveTo>
                  <a:lnTo>
                    <a:pt x="120" y="62"/>
                  </a:lnTo>
                  <a:lnTo>
                    <a:pt x="12" y="85"/>
                  </a:lnTo>
                  <a:lnTo>
                    <a:pt x="0" y="157"/>
                  </a:lnTo>
                  <a:lnTo>
                    <a:pt x="445" y="993"/>
                  </a:lnTo>
                  <a:lnTo>
                    <a:pt x="635" y="1467"/>
                  </a:lnTo>
                  <a:lnTo>
                    <a:pt x="2530" y="1233"/>
                  </a:lnTo>
                  <a:lnTo>
                    <a:pt x="2601" y="1210"/>
                  </a:lnTo>
                  <a:lnTo>
                    <a:pt x="2702" y="1244"/>
                  </a:lnTo>
                  <a:lnTo>
                    <a:pt x="3045" y="1198"/>
                  </a:lnTo>
                  <a:lnTo>
                    <a:pt x="3199" y="1056"/>
                  </a:lnTo>
                  <a:lnTo>
                    <a:pt x="3277" y="706"/>
                  </a:lnTo>
                  <a:lnTo>
                    <a:pt x="3223" y="456"/>
                  </a:lnTo>
                  <a:lnTo>
                    <a:pt x="2982" y="245"/>
                  </a:lnTo>
                  <a:lnTo>
                    <a:pt x="2511" y="363"/>
                  </a:lnTo>
                  <a:lnTo>
                    <a:pt x="2933" y="371"/>
                  </a:lnTo>
                  <a:lnTo>
                    <a:pt x="3115" y="510"/>
                  </a:lnTo>
                  <a:lnTo>
                    <a:pt x="3196" y="631"/>
                  </a:lnTo>
                  <a:lnTo>
                    <a:pt x="3202" y="811"/>
                  </a:lnTo>
                  <a:lnTo>
                    <a:pt x="3134" y="1027"/>
                  </a:lnTo>
                  <a:lnTo>
                    <a:pt x="3047" y="1124"/>
                  </a:lnTo>
                  <a:lnTo>
                    <a:pt x="2769" y="1161"/>
                  </a:lnTo>
                  <a:lnTo>
                    <a:pt x="2645" y="1121"/>
                  </a:lnTo>
                  <a:lnTo>
                    <a:pt x="2477" y="1205"/>
                  </a:lnTo>
                  <a:lnTo>
                    <a:pt x="688" y="1360"/>
                  </a:lnTo>
                  <a:lnTo>
                    <a:pt x="53" y="107"/>
                  </a:lnTo>
                  <a:lnTo>
                    <a:pt x="270" y="41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4"/>
            <p:cNvSpPr/>
            <p:nvPr/>
          </p:nvSpPr>
          <p:spPr>
            <a:xfrm>
              <a:off x="155520" y="2574360"/>
              <a:ext cx="542880" cy="871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656" h="489">
                  <a:moveTo>
                    <a:pt x="0" y="489"/>
                  </a:moveTo>
                  <a:lnTo>
                    <a:pt x="133" y="366"/>
                  </a:lnTo>
                  <a:lnTo>
                    <a:pt x="193" y="256"/>
                  </a:lnTo>
                  <a:lnTo>
                    <a:pt x="177" y="123"/>
                  </a:lnTo>
                  <a:lnTo>
                    <a:pt x="1202" y="0"/>
                  </a:lnTo>
                  <a:lnTo>
                    <a:pt x="288" y="157"/>
                  </a:lnTo>
                  <a:lnTo>
                    <a:pt x="248" y="267"/>
                  </a:lnTo>
                  <a:lnTo>
                    <a:pt x="1030" y="223"/>
                  </a:lnTo>
                  <a:lnTo>
                    <a:pt x="232" y="340"/>
                  </a:lnTo>
                  <a:lnTo>
                    <a:pt x="187" y="384"/>
                  </a:lnTo>
                  <a:lnTo>
                    <a:pt x="143" y="411"/>
                  </a:lnTo>
                  <a:lnTo>
                    <a:pt x="1656" y="328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5"/>
            <p:cNvSpPr/>
            <p:nvPr/>
          </p:nvSpPr>
          <p:spPr>
            <a:xfrm>
              <a:off x="156600" y="2490840"/>
              <a:ext cx="248760" cy="594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59" h="332">
                  <a:moveTo>
                    <a:pt x="292" y="0"/>
                  </a:moveTo>
                  <a:lnTo>
                    <a:pt x="0" y="15"/>
                  </a:lnTo>
                  <a:lnTo>
                    <a:pt x="221" y="332"/>
                  </a:lnTo>
                  <a:lnTo>
                    <a:pt x="759" y="291"/>
                  </a:lnTo>
                  <a:lnTo>
                    <a:pt x="700" y="251"/>
                  </a:lnTo>
                  <a:lnTo>
                    <a:pt x="261" y="266"/>
                  </a:lnTo>
                  <a:lnTo>
                    <a:pt x="145" y="71"/>
                  </a:lnTo>
                  <a:lnTo>
                    <a:pt x="360" y="19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"/>
            <p:cNvSpPr/>
            <p:nvPr/>
          </p:nvSpPr>
          <p:spPr>
            <a:xfrm>
              <a:off x="582840" y="2526840"/>
              <a:ext cx="215280" cy="147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657" h="84">
                  <a:moveTo>
                    <a:pt x="0" y="84"/>
                  </a:moveTo>
                  <a:lnTo>
                    <a:pt x="113" y="71"/>
                  </a:lnTo>
                  <a:lnTo>
                    <a:pt x="337" y="42"/>
                  </a:lnTo>
                  <a:lnTo>
                    <a:pt x="558" y="13"/>
                  </a:lnTo>
                  <a:lnTo>
                    <a:pt x="657" y="0"/>
                  </a:lnTo>
                  <a:lnTo>
                    <a:pt x="164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209520" y="2167200"/>
              <a:ext cx="597960" cy="802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25" h="451">
                  <a:moveTo>
                    <a:pt x="1825" y="97"/>
                  </a:moveTo>
                  <a:lnTo>
                    <a:pt x="1527" y="47"/>
                  </a:lnTo>
                  <a:lnTo>
                    <a:pt x="1472" y="4"/>
                  </a:lnTo>
                  <a:lnTo>
                    <a:pt x="1391" y="0"/>
                  </a:lnTo>
                  <a:lnTo>
                    <a:pt x="0" y="308"/>
                  </a:lnTo>
                  <a:lnTo>
                    <a:pt x="451" y="451"/>
                  </a:lnTo>
                  <a:lnTo>
                    <a:pt x="1628" y="153"/>
                  </a:lnTo>
                  <a:lnTo>
                    <a:pt x="433" y="385"/>
                  </a:lnTo>
                  <a:lnTo>
                    <a:pt x="310" y="305"/>
                  </a:lnTo>
                  <a:lnTo>
                    <a:pt x="1400" y="42"/>
                  </a:lnTo>
                  <a:lnTo>
                    <a:pt x="1476" y="63"/>
                  </a:lnTo>
                  <a:lnTo>
                    <a:pt x="18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652680" y="2332800"/>
              <a:ext cx="309600" cy="684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5" h="382">
                  <a:moveTo>
                    <a:pt x="0" y="382"/>
                  </a:moveTo>
                  <a:lnTo>
                    <a:pt x="272" y="118"/>
                  </a:lnTo>
                  <a:lnTo>
                    <a:pt x="663" y="0"/>
                  </a:lnTo>
                  <a:lnTo>
                    <a:pt x="945" y="118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9"/>
            <p:cNvSpPr/>
            <p:nvPr/>
          </p:nvSpPr>
          <p:spPr>
            <a:xfrm>
              <a:off x="501120" y="2317320"/>
              <a:ext cx="551520" cy="2095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82" h="1174">
                  <a:moveTo>
                    <a:pt x="939" y="0"/>
                  </a:moveTo>
                  <a:lnTo>
                    <a:pt x="1648" y="189"/>
                  </a:lnTo>
                  <a:lnTo>
                    <a:pt x="1682" y="300"/>
                  </a:lnTo>
                  <a:lnTo>
                    <a:pt x="1338" y="417"/>
                  </a:lnTo>
                  <a:lnTo>
                    <a:pt x="1293" y="505"/>
                  </a:lnTo>
                  <a:lnTo>
                    <a:pt x="1316" y="605"/>
                  </a:lnTo>
                  <a:lnTo>
                    <a:pt x="1366" y="678"/>
                  </a:lnTo>
                  <a:lnTo>
                    <a:pt x="1465" y="732"/>
                  </a:lnTo>
                  <a:lnTo>
                    <a:pt x="0" y="1174"/>
                  </a:lnTo>
                  <a:lnTo>
                    <a:pt x="1348" y="716"/>
                  </a:lnTo>
                  <a:lnTo>
                    <a:pt x="1259" y="662"/>
                  </a:lnTo>
                  <a:lnTo>
                    <a:pt x="828" y="755"/>
                  </a:lnTo>
                  <a:lnTo>
                    <a:pt x="1237" y="600"/>
                  </a:lnTo>
                  <a:lnTo>
                    <a:pt x="1243" y="473"/>
                  </a:lnTo>
                  <a:lnTo>
                    <a:pt x="368" y="666"/>
                  </a:lnTo>
                  <a:lnTo>
                    <a:pt x="346" y="573"/>
                  </a:lnTo>
                  <a:lnTo>
                    <a:pt x="1642" y="226"/>
                  </a:lnTo>
                  <a:lnTo>
                    <a:pt x="982" y="68"/>
                  </a:lnTo>
                  <a:lnTo>
                    <a:pt x="474" y="235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>
              <a:off x="767520" y="2504160"/>
              <a:ext cx="97200" cy="252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97" h="141">
                  <a:moveTo>
                    <a:pt x="197" y="0"/>
                  </a:moveTo>
                  <a:lnTo>
                    <a:pt x="297" y="121"/>
                  </a:lnTo>
                  <a:lnTo>
                    <a:pt x="0" y="141"/>
                  </a:lnTo>
                  <a:lnTo>
                    <a:pt x="169" y="88"/>
                  </a:lnTo>
                  <a:lnTo>
                    <a:pt x="129" y="13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1"/>
          <p:cNvGrpSpPr/>
          <p:nvPr/>
        </p:nvGrpSpPr>
        <p:grpSpPr>
          <a:xfrm>
            <a:off x="3130560" y="1484280"/>
            <a:ext cx="1441080" cy="1224000"/>
            <a:chOff x="3130560" y="1484280"/>
            <a:chExt cx="1441080" cy="1224000"/>
          </a:xfrm>
        </p:grpSpPr>
        <p:grpSp>
          <p:nvGrpSpPr>
            <p:cNvPr id="108" name="Group 52"/>
            <p:cNvGrpSpPr/>
            <p:nvPr/>
          </p:nvGrpSpPr>
          <p:grpSpPr>
            <a:xfrm>
              <a:off x="3185640" y="2087280"/>
              <a:ext cx="1386000" cy="621000"/>
              <a:chOff x="3185640" y="2087280"/>
              <a:chExt cx="1386000" cy="621000"/>
            </a:xfrm>
          </p:grpSpPr>
          <p:sp>
            <p:nvSpPr>
              <p:cNvPr id="109" name="Freeform 53"/>
              <p:cNvSpPr/>
              <p:nvPr/>
            </p:nvSpPr>
            <p:spPr>
              <a:xfrm>
                <a:off x="3279600" y="2157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4"/>
              <p:cNvSpPr/>
              <p:nvPr/>
            </p:nvSpPr>
            <p:spPr>
              <a:xfrm>
                <a:off x="3246480" y="2337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5"/>
              <p:cNvSpPr/>
              <p:nvPr/>
            </p:nvSpPr>
            <p:spPr>
              <a:xfrm>
                <a:off x="3217320" y="2429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6"/>
              <p:cNvSpPr/>
              <p:nvPr/>
            </p:nvSpPr>
            <p:spPr>
              <a:xfrm>
                <a:off x="3198240" y="2093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7"/>
              <p:cNvSpPr/>
              <p:nvPr/>
            </p:nvSpPr>
            <p:spPr>
              <a:xfrm>
                <a:off x="3213000" y="2233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8"/>
              <p:cNvSpPr/>
              <p:nvPr/>
            </p:nvSpPr>
            <p:spPr>
              <a:xfrm>
                <a:off x="3334680" y="2308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9"/>
              <p:cNvSpPr/>
              <p:nvPr/>
            </p:nvSpPr>
            <p:spPr>
              <a:xfrm>
                <a:off x="3651480" y="2130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0"/>
              <p:cNvSpPr/>
              <p:nvPr/>
            </p:nvSpPr>
            <p:spPr>
              <a:xfrm>
                <a:off x="3643560" y="2403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1"/>
              <p:cNvSpPr/>
              <p:nvPr/>
            </p:nvSpPr>
            <p:spPr>
              <a:xfrm>
                <a:off x="3571200" y="2483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2"/>
              <p:cNvSpPr/>
              <p:nvPr/>
            </p:nvSpPr>
            <p:spPr>
              <a:xfrm>
                <a:off x="3526560" y="2535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3"/>
              <p:cNvSpPr/>
              <p:nvPr/>
            </p:nvSpPr>
            <p:spPr>
              <a:xfrm>
                <a:off x="3278520" y="2350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4"/>
              <p:cNvSpPr/>
              <p:nvPr/>
            </p:nvSpPr>
            <p:spPr>
              <a:xfrm>
                <a:off x="4081320" y="2480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5"/>
              <p:cNvSpPr/>
              <p:nvPr/>
            </p:nvSpPr>
            <p:spPr>
              <a:xfrm>
                <a:off x="3629880" y="2391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6"/>
              <p:cNvSpPr/>
              <p:nvPr/>
            </p:nvSpPr>
            <p:spPr>
              <a:xfrm>
                <a:off x="3648240" y="2126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7"/>
              <p:cNvSpPr/>
              <p:nvPr/>
            </p:nvSpPr>
            <p:spPr>
              <a:xfrm>
                <a:off x="3534480" y="2473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8"/>
              <p:cNvSpPr/>
              <p:nvPr/>
            </p:nvSpPr>
            <p:spPr>
              <a:xfrm>
                <a:off x="3889440" y="2257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9"/>
              <p:cNvSpPr/>
              <p:nvPr/>
            </p:nvSpPr>
            <p:spPr>
              <a:xfrm>
                <a:off x="3908880" y="2248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0"/>
              <p:cNvSpPr/>
              <p:nvPr/>
            </p:nvSpPr>
            <p:spPr>
              <a:xfrm>
                <a:off x="3348360" y="2344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1"/>
              <p:cNvSpPr/>
              <p:nvPr/>
            </p:nvSpPr>
            <p:spPr>
              <a:xfrm>
                <a:off x="3341520" y="2310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2"/>
              <p:cNvSpPr/>
              <p:nvPr/>
            </p:nvSpPr>
            <p:spPr>
              <a:xfrm>
                <a:off x="3698640" y="2366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73"/>
              <p:cNvSpPr/>
              <p:nvPr/>
            </p:nvSpPr>
            <p:spPr>
              <a:xfrm>
                <a:off x="4023720" y="2291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4"/>
              <p:cNvSpPr/>
              <p:nvPr/>
            </p:nvSpPr>
            <p:spPr>
              <a:xfrm>
                <a:off x="3223440" y="2259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5"/>
              <p:cNvSpPr/>
              <p:nvPr/>
            </p:nvSpPr>
            <p:spPr>
              <a:xfrm>
                <a:off x="3312720" y="2162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6"/>
              <p:cNvSpPr/>
              <p:nvPr/>
            </p:nvSpPr>
            <p:spPr>
              <a:xfrm>
                <a:off x="3245040" y="2091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7"/>
              <p:cNvSpPr/>
              <p:nvPr/>
            </p:nvSpPr>
            <p:spPr>
              <a:xfrm>
                <a:off x="3844440" y="2361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8"/>
              <p:cNvSpPr/>
              <p:nvPr/>
            </p:nvSpPr>
            <p:spPr>
              <a:xfrm>
                <a:off x="3744720" y="2313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9"/>
              <p:cNvSpPr/>
              <p:nvPr/>
            </p:nvSpPr>
            <p:spPr>
              <a:xfrm>
                <a:off x="3185640" y="2087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0"/>
              <p:cNvSpPr/>
              <p:nvPr/>
            </p:nvSpPr>
            <p:spPr>
              <a:xfrm>
                <a:off x="3188880" y="2226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1"/>
              <p:cNvSpPr/>
              <p:nvPr/>
            </p:nvSpPr>
            <p:spPr>
              <a:xfrm>
                <a:off x="3317400" y="2248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2"/>
              <p:cNvSpPr/>
              <p:nvPr/>
            </p:nvSpPr>
            <p:spPr>
              <a:xfrm>
                <a:off x="3822480" y="2205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83"/>
              <p:cNvSpPr/>
              <p:nvPr/>
            </p:nvSpPr>
            <p:spPr>
              <a:xfrm>
                <a:off x="3954960" y="2420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84"/>
              <p:cNvSpPr/>
              <p:nvPr/>
            </p:nvSpPr>
            <p:spPr>
              <a:xfrm>
                <a:off x="4047840" y="2135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85"/>
              <p:cNvSpPr/>
              <p:nvPr/>
            </p:nvSpPr>
            <p:spPr>
              <a:xfrm>
                <a:off x="3325680" y="2306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6"/>
              <p:cNvSpPr/>
              <p:nvPr/>
            </p:nvSpPr>
            <p:spPr>
              <a:xfrm>
                <a:off x="3835440" y="2410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7"/>
              <p:cNvSpPr/>
              <p:nvPr/>
            </p:nvSpPr>
            <p:spPr>
              <a:xfrm>
                <a:off x="3963960" y="2447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88"/>
              <p:cNvSpPr/>
              <p:nvPr/>
            </p:nvSpPr>
            <p:spPr>
              <a:xfrm>
                <a:off x="3246480" y="2339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9"/>
              <p:cNvSpPr/>
              <p:nvPr/>
            </p:nvSpPr>
            <p:spPr>
              <a:xfrm>
                <a:off x="3276000" y="2403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0"/>
              <p:cNvSpPr/>
              <p:nvPr/>
            </p:nvSpPr>
            <p:spPr>
              <a:xfrm>
                <a:off x="3213000" y="2425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91"/>
              <p:cNvSpPr/>
              <p:nvPr/>
            </p:nvSpPr>
            <p:spPr>
              <a:xfrm>
                <a:off x="3493080" y="2563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2"/>
              <p:cNvSpPr/>
              <p:nvPr/>
            </p:nvSpPr>
            <p:spPr>
              <a:xfrm>
                <a:off x="3494160" y="2473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3"/>
              <p:cNvSpPr/>
              <p:nvPr/>
            </p:nvSpPr>
            <p:spPr>
              <a:xfrm>
                <a:off x="3991680" y="2512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94"/>
              <p:cNvSpPr/>
              <p:nvPr/>
            </p:nvSpPr>
            <p:spPr>
              <a:xfrm>
                <a:off x="3556440" y="2123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95"/>
              <p:cNvSpPr/>
              <p:nvPr/>
            </p:nvSpPr>
            <p:spPr>
              <a:xfrm>
                <a:off x="4073040" y="2302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96"/>
              <p:cNvSpPr/>
              <p:nvPr/>
            </p:nvSpPr>
            <p:spPr>
              <a:xfrm>
                <a:off x="3896280" y="2285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97"/>
              <p:cNvSpPr/>
              <p:nvPr/>
            </p:nvSpPr>
            <p:spPr>
              <a:xfrm>
                <a:off x="4207680" y="2487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98"/>
            <p:cNvGrpSpPr/>
            <p:nvPr/>
          </p:nvGrpSpPr>
          <p:grpSpPr>
            <a:xfrm>
              <a:off x="3185640" y="1785600"/>
              <a:ext cx="1386000" cy="621000"/>
              <a:chOff x="3185640" y="1785600"/>
              <a:chExt cx="1386000" cy="621000"/>
            </a:xfrm>
          </p:grpSpPr>
          <p:sp>
            <p:nvSpPr>
              <p:cNvPr id="155" name="Freeform 99"/>
              <p:cNvSpPr/>
              <p:nvPr/>
            </p:nvSpPr>
            <p:spPr>
              <a:xfrm>
                <a:off x="3279600" y="18561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0"/>
              <p:cNvSpPr/>
              <p:nvPr/>
            </p:nvSpPr>
            <p:spPr>
              <a:xfrm>
                <a:off x="3246480" y="20354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1"/>
              <p:cNvSpPr/>
              <p:nvPr/>
            </p:nvSpPr>
            <p:spPr>
              <a:xfrm>
                <a:off x="3217320" y="21279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2"/>
              <p:cNvSpPr/>
              <p:nvPr/>
            </p:nvSpPr>
            <p:spPr>
              <a:xfrm>
                <a:off x="3198240" y="17913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3"/>
              <p:cNvSpPr/>
              <p:nvPr/>
            </p:nvSpPr>
            <p:spPr>
              <a:xfrm>
                <a:off x="3213000" y="19317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4"/>
              <p:cNvSpPr/>
              <p:nvPr/>
            </p:nvSpPr>
            <p:spPr>
              <a:xfrm>
                <a:off x="3334680" y="20066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5"/>
              <p:cNvSpPr/>
              <p:nvPr/>
            </p:nvSpPr>
            <p:spPr>
              <a:xfrm>
                <a:off x="3651480" y="18288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"/>
              <p:cNvSpPr/>
              <p:nvPr/>
            </p:nvSpPr>
            <p:spPr>
              <a:xfrm>
                <a:off x="3643560" y="21016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7"/>
              <p:cNvSpPr/>
              <p:nvPr/>
            </p:nvSpPr>
            <p:spPr>
              <a:xfrm>
                <a:off x="3571200" y="21819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8"/>
              <p:cNvSpPr/>
              <p:nvPr/>
            </p:nvSpPr>
            <p:spPr>
              <a:xfrm>
                <a:off x="3526560" y="22341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9"/>
              <p:cNvSpPr/>
              <p:nvPr/>
            </p:nvSpPr>
            <p:spPr>
              <a:xfrm>
                <a:off x="3278520" y="20487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10"/>
              <p:cNvSpPr/>
              <p:nvPr/>
            </p:nvSpPr>
            <p:spPr>
              <a:xfrm>
                <a:off x="4081320" y="21790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11"/>
              <p:cNvSpPr/>
              <p:nvPr/>
            </p:nvSpPr>
            <p:spPr>
              <a:xfrm>
                <a:off x="3629880" y="20898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12"/>
              <p:cNvSpPr/>
              <p:nvPr/>
            </p:nvSpPr>
            <p:spPr>
              <a:xfrm>
                <a:off x="3648240" y="18248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13"/>
              <p:cNvSpPr/>
              <p:nvPr/>
            </p:nvSpPr>
            <p:spPr>
              <a:xfrm>
                <a:off x="3534480" y="21715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14"/>
              <p:cNvSpPr/>
              <p:nvPr/>
            </p:nvSpPr>
            <p:spPr>
              <a:xfrm>
                <a:off x="3889440" y="19562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15"/>
              <p:cNvSpPr/>
              <p:nvPr/>
            </p:nvSpPr>
            <p:spPr>
              <a:xfrm>
                <a:off x="3908880" y="19465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6"/>
              <p:cNvSpPr/>
              <p:nvPr/>
            </p:nvSpPr>
            <p:spPr>
              <a:xfrm>
                <a:off x="3348360" y="20430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7"/>
              <p:cNvSpPr/>
              <p:nvPr/>
            </p:nvSpPr>
            <p:spPr>
              <a:xfrm>
                <a:off x="3341520" y="20084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8"/>
              <p:cNvSpPr/>
              <p:nvPr/>
            </p:nvSpPr>
            <p:spPr>
              <a:xfrm>
                <a:off x="3698640" y="20646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9"/>
              <p:cNvSpPr/>
              <p:nvPr/>
            </p:nvSpPr>
            <p:spPr>
              <a:xfrm>
                <a:off x="4023720" y="19897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20"/>
              <p:cNvSpPr/>
              <p:nvPr/>
            </p:nvSpPr>
            <p:spPr>
              <a:xfrm>
                <a:off x="3223440" y="19573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21"/>
              <p:cNvSpPr/>
              <p:nvPr/>
            </p:nvSpPr>
            <p:spPr>
              <a:xfrm>
                <a:off x="3312720" y="18612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22"/>
              <p:cNvSpPr/>
              <p:nvPr/>
            </p:nvSpPr>
            <p:spPr>
              <a:xfrm>
                <a:off x="3245040" y="17899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3"/>
              <p:cNvSpPr/>
              <p:nvPr/>
            </p:nvSpPr>
            <p:spPr>
              <a:xfrm>
                <a:off x="3844440" y="20602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24"/>
              <p:cNvSpPr/>
              <p:nvPr/>
            </p:nvSpPr>
            <p:spPr>
              <a:xfrm>
                <a:off x="3744720" y="20113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25"/>
              <p:cNvSpPr/>
              <p:nvPr/>
            </p:nvSpPr>
            <p:spPr>
              <a:xfrm>
                <a:off x="3185640" y="17856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6"/>
              <p:cNvSpPr/>
              <p:nvPr/>
            </p:nvSpPr>
            <p:spPr>
              <a:xfrm>
                <a:off x="3188880" y="19249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7"/>
              <p:cNvSpPr/>
              <p:nvPr/>
            </p:nvSpPr>
            <p:spPr>
              <a:xfrm>
                <a:off x="3317400" y="19465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8"/>
              <p:cNvSpPr/>
              <p:nvPr/>
            </p:nvSpPr>
            <p:spPr>
              <a:xfrm>
                <a:off x="3822480" y="19033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9"/>
              <p:cNvSpPr/>
              <p:nvPr/>
            </p:nvSpPr>
            <p:spPr>
              <a:xfrm>
                <a:off x="3954960" y="21189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30"/>
              <p:cNvSpPr/>
              <p:nvPr/>
            </p:nvSpPr>
            <p:spPr>
              <a:xfrm>
                <a:off x="4047840" y="18338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31"/>
              <p:cNvSpPr/>
              <p:nvPr/>
            </p:nvSpPr>
            <p:spPr>
              <a:xfrm>
                <a:off x="3325680" y="20044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32"/>
              <p:cNvSpPr/>
              <p:nvPr/>
            </p:nvSpPr>
            <p:spPr>
              <a:xfrm>
                <a:off x="3835440" y="21092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3"/>
              <p:cNvSpPr/>
              <p:nvPr/>
            </p:nvSpPr>
            <p:spPr>
              <a:xfrm>
                <a:off x="3963960" y="21456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4"/>
              <p:cNvSpPr/>
              <p:nvPr/>
            </p:nvSpPr>
            <p:spPr>
              <a:xfrm>
                <a:off x="3246480" y="20379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35"/>
              <p:cNvSpPr/>
              <p:nvPr/>
            </p:nvSpPr>
            <p:spPr>
              <a:xfrm>
                <a:off x="3276000" y="21016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6"/>
              <p:cNvSpPr/>
              <p:nvPr/>
            </p:nvSpPr>
            <p:spPr>
              <a:xfrm>
                <a:off x="3213000" y="21236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7"/>
              <p:cNvSpPr/>
              <p:nvPr/>
            </p:nvSpPr>
            <p:spPr>
              <a:xfrm>
                <a:off x="3493080" y="22618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8"/>
              <p:cNvSpPr/>
              <p:nvPr/>
            </p:nvSpPr>
            <p:spPr>
              <a:xfrm>
                <a:off x="3494160" y="21715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9"/>
              <p:cNvSpPr/>
              <p:nvPr/>
            </p:nvSpPr>
            <p:spPr>
              <a:xfrm>
                <a:off x="3991680" y="22104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0"/>
              <p:cNvSpPr/>
              <p:nvPr/>
            </p:nvSpPr>
            <p:spPr>
              <a:xfrm>
                <a:off x="3556440" y="18219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41"/>
              <p:cNvSpPr/>
              <p:nvPr/>
            </p:nvSpPr>
            <p:spPr>
              <a:xfrm>
                <a:off x="4073040" y="20008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2"/>
              <p:cNvSpPr/>
              <p:nvPr/>
            </p:nvSpPr>
            <p:spPr>
              <a:xfrm>
                <a:off x="3896280" y="19839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43"/>
              <p:cNvSpPr/>
              <p:nvPr/>
            </p:nvSpPr>
            <p:spPr>
              <a:xfrm>
                <a:off x="4207680" y="21859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44"/>
            <p:cNvGrpSpPr/>
            <p:nvPr/>
          </p:nvGrpSpPr>
          <p:grpSpPr>
            <a:xfrm>
              <a:off x="3185640" y="1861200"/>
              <a:ext cx="1386000" cy="621000"/>
              <a:chOff x="3185640" y="1861200"/>
              <a:chExt cx="1386000" cy="621000"/>
            </a:xfrm>
          </p:grpSpPr>
          <p:sp>
            <p:nvSpPr>
              <p:cNvPr id="201" name="Freeform 145"/>
              <p:cNvSpPr/>
              <p:nvPr/>
            </p:nvSpPr>
            <p:spPr>
              <a:xfrm>
                <a:off x="3279600" y="193176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6"/>
              <p:cNvSpPr/>
              <p:nvPr/>
            </p:nvSpPr>
            <p:spPr>
              <a:xfrm>
                <a:off x="3246480" y="211104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7"/>
              <p:cNvSpPr/>
              <p:nvPr/>
            </p:nvSpPr>
            <p:spPr>
              <a:xfrm>
                <a:off x="3217320" y="220356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8"/>
              <p:cNvSpPr/>
              <p:nvPr/>
            </p:nvSpPr>
            <p:spPr>
              <a:xfrm>
                <a:off x="3198240" y="186696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9"/>
              <p:cNvSpPr/>
              <p:nvPr/>
            </p:nvSpPr>
            <p:spPr>
              <a:xfrm>
                <a:off x="3213000" y="200736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0"/>
              <p:cNvSpPr/>
              <p:nvPr/>
            </p:nvSpPr>
            <p:spPr>
              <a:xfrm>
                <a:off x="3334680" y="208224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51"/>
              <p:cNvSpPr/>
              <p:nvPr/>
            </p:nvSpPr>
            <p:spPr>
              <a:xfrm>
                <a:off x="3651480" y="190440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52"/>
              <p:cNvSpPr/>
              <p:nvPr/>
            </p:nvSpPr>
            <p:spPr>
              <a:xfrm>
                <a:off x="3643560" y="217728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53"/>
              <p:cNvSpPr/>
              <p:nvPr/>
            </p:nvSpPr>
            <p:spPr>
              <a:xfrm>
                <a:off x="3571200" y="225756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54"/>
              <p:cNvSpPr/>
              <p:nvPr/>
            </p:nvSpPr>
            <p:spPr>
              <a:xfrm>
                <a:off x="3526560" y="230976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5"/>
              <p:cNvSpPr/>
              <p:nvPr/>
            </p:nvSpPr>
            <p:spPr>
              <a:xfrm>
                <a:off x="3278520" y="212436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56"/>
              <p:cNvSpPr/>
              <p:nvPr/>
            </p:nvSpPr>
            <p:spPr>
              <a:xfrm>
                <a:off x="4081320" y="225468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57"/>
              <p:cNvSpPr/>
              <p:nvPr/>
            </p:nvSpPr>
            <p:spPr>
              <a:xfrm>
                <a:off x="3629880" y="216540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58"/>
              <p:cNvSpPr/>
              <p:nvPr/>
            </p:nvSpPr>
            <p:spPr>
              <a:xfrm>
                <a:off x="3648240" y="190044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9"/>
              <p:cNvSpPr/>
              <p:nvPr/>
            </p:nvSpPr>
            <p:spPr>
              <a:xfrm>
                <a:off x="3534480" y="224712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60"/>
              <p:cNvSpPr/>
              <p:nvPr/>
            </p:nvSpPr>
            <p:spPr>
              <a:xfrm>
                <a:off x="3889440" y="203184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61"/>
              <p:cNvSpPr/>
              <p:nvPr/>
            </p:nvSpPr>
            <p:spPr>
              <a:xfrm>
                <a:off x="3908880" y="202212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2"/>
              <p:cNvSpPr/>
              <p:nvPr/>
            </p:nvSpPr>
            <p:spPr>
              <a:xfrm>
                <a:off x="3348360" y="211860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63"/>
              <p:cNvSpPr/>
              <p:nvPr/>
            </p:nvSpPr>
            <p:spPr>
              <a:xfrm>
                <a:off x="3341520" y="208404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64"/>
              <p:cNvSpPr/>
              <p:nvPr/>
            </p:nvSpPr>
            <p:spPr>
              <a:xfrm>
                <a:off x="3698640" y="214020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65"/>
              <p:cNvSpPr/>
              <p:nvPr/>
            </p:nvSpPr>
            <p:spPr>
              <a:xfrm>
                <a:off x="4023720" y="206532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66"/>
              <p:cNvSpPr/>
              <p:nvPr/>
            </p:nvSpPr>
            <p:spPr>
              <a:xfrm>
                <a:off x="3223440" y="203292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67"/>
              <p:cNvSpPr/>
              <p:nvPr/>
            </p:nvSpPr>
            <p:spPr>
              <a:xfrm>
                <a:off x="3312720" y="193680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68"/>
              <p:cNvSpPr/>
              <p:nvPr/>
            </p:nvSpPr>
            <p:spPr>
              <a:xfrm>
                <a:off x="3245040" y="186552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69"/>
              <p:cNvSpPr/>
              <p:nvPr/>
            </p:nvSpPr>
            <p:spPr>
              <a:xfrm>
                <a:off x="3844440" y="213588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0"/>
              <p:cNvSpPr/>
              <p:nvPr/>
            </p:nvSpPr>
            <p:spPr>
              <a:xfrm>
                <a:off x="3744720" y="208692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71"/>
              <p:cNvSpPr/>
              <p:nvPr/>
            </p:nvSpPr>
            <p:spPr>
              <a:xfrm>
                <a:off x="3185640" y="186120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2"/>
              <p:cNvSpPr/>
              <p:nvPr/>
            </p:nvSpPr>
            <p:spPr>
              <a:xfrm>
                <a:off x="3188880" y="200052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73"/>
              <p:cNvSpPr/>
              <p:nvPr/>
            </p:nvSpPr>
            <p:spPr>
              <a:xfrm>
                <a:off x="3317400" y="202212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74"/>
              <p:cNvSpPr/>
              <p:nvPr/>
            </p:nvSpPr>
            <p:spPr>
              <a:xfrm>
                <a:off x="3822480" y="197892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75"/>
              <p:cNvSpPr/>
              <p:nvPr/>
            </p:nvSpPr>
            <p:spPr>
              <a:xfrm>
                <a:off x="3954960" y="219456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76"/>
              <p:cNvSpPr/>
              <p:nvPr/>
            </p:nvSpPr>
            <p:spPr>
              <a:xfrm>
                <a:off x="4047840" y="190944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7"/>
              <p:cNvSpPr/>
              <p:nvPr/>
            </p:nvSpPr>
            <p:spPr>
              <a:xfrm>
                <a:off x="3325680" y="208008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78"/>
              <p:cNvSpPr/>
              <p:nvPr/>
            </p:nvSpPr>
            <p:spPr>
              <a:xfrm>
                <a:off x="3835440" y="218484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9"/>
              <p:cNvSpPr/>
              <p:nvPr/>
            </p:nvSpPr>
            <p:spPr>
              <a:xfrm>
                <a:off x="3963960" y="222120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0"/>
              <p:cNvSpPr/>
              <p:nvPr/>
            </p:nvSpPr>
            <p:spPr>
              <a:xfrm>
                <a:off x="3246480" y="211356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81"/>
              <p:cNvSpPr/>
              <p:nvPr/>
            </p:nvSpPr>
            <p:spPr>
              <a:xfrm>
                <a:off x="3276000" y="217728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82"/>
              <p:cNvSpPr/>
              <p:nvPr/>
            </p:nvSpPr>
            <p:spPr>
              <a:xfrm>
                <a:off x="3213000" y="219924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83"/>
              <p:cNvSpPr/>
              <p:nvPr/>
            </p:nvSpPr>
            <p:spPr>
              <a:xfrm>
                <a:off x="3493080" y="233748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4"/>
              <p:cNvSpPr/>
              <p:nvPr/>
            </p:nvSpPr>
            <p:spPr>
              <a:xfrm>
                <a:off x="3494160" y="224712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85"/>
              <p:cNvSpPr/>
              <p:nvPr/>
            </p:nvSpPr>
            <p:spPr>
              <a:xfrm>
                <a:off x="3991680" y="228600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86"/>
              <p:cNvSpPr/>
              <p:nvPr/>
            </p:nvSpPr>
            <p:spPr>
              <a:xfrm>
                <a:off x="3556440" y="189756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87"/>
              <p:cNvSpPr/>
              <p:nvPr/>
            </p:nvSpPr>
            <p:spPr>
              <a:xfrm>
                <a:off x="4073040" y="207648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88"/>
              <p:cNvSpPr/>
              <p:nvPr/>
            </p:nvSpPr>
            <p:spPr>
              <a:xfrm>
                <a:off x="3896280" y="205956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89"/>
              <p:cNvSpPr/>
              <p:nvPr/>
            </p:nvSpPr>
            <p:spPr>
              <a:xfrm>
                <a:off x="4207680" y="226152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90"/>
            <p:cNvGrpSpPr/>
            <p:nvPr/>
          </p:nvGrpSpPr>
          <p:grpSpPr>
            <a:xfrm>
              <a:off x="3130560" y="1484280"/>
              <a:ext cx="1386000" cy="621000"/>
              <a:chOff x="3130560" y="1484280"/>
              <a:chExt cx="1386000" cy="621000"/>
            </a:xfrm>
          </p:grpSpPr>
          <p:sp>
            <p:nvSpPr>
              <p:cNvPr id="247" name="Freeform 191"/>
              <p:cNvSpPr/>
              <p:nvPr/>
            </p:nvSpPr>
            <p:spPr>
              <a:xfrm>
                <a:off x="3224520" y="1554840"/>
                <a:ext cx="982440" cy="528840"/>
              </a:xfrm>
              <a:custGeom>
                <a:avLst/>
                <a:gdLst>
                  <a:gd name="textAreaLeft" fmla="*/ 0 w 982440"/>
                  <a:gd name="textAreaRight" fmla="*/ 982800 w 9824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92"/>
              <p:cNvSpPr/>
              <p:nvPr/>
            </p:nvSpPr>
            <p:spPr>
              <a:xfrm>
                <a:off x="3191400" y="1734120"/>
                <a:ext cx="222480" cy="18864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93"/>
              <p:cNvSpPr/>
              <p:nvPr/>
            </p:nvSpPr>
            <p:spPr>
              <a:xfrm>
                <a:off x="3162240" y="1826640"/>
                <a:ext cx="553320" cy="26496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4"/>
              <p:cNvSpPr/>
              <p:nvPr/>
            </p:nvSpPr>
            <p:spPr>
              <a:xfrm>
                <a:off x="3143160" y="1490040"/>
                <a:ext cx="647280" cy="164880"/>
              </a:xfrm>
              <a:custGeom>
                <a:avLst/>
                <a:gdLst>
                  <a:gd name="textAreaLeft" fmla="*/ 0 w 647280"/>
                  <a:gd name="textAreaRight" fmla="*/ 647280 w 6472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95"/>
              <p:cNvSpPr/>
              <p:nvPr/>
            </p:nvSpPr>
            <p:spPr>
              <a:xfrm>
                <a:off x="3157920" y="1630440"/>
                <a:ext cx="690840" cy="157320"/>
              </a:xfrm>
              <a:custGeom>
                <a:avLst/>
                <a:gdLst>
                  <a:gd name="textAreaLeft" fmla="*/ 0 w 690840"/>
                  <a:gd name="textAreaRight" fmla="*/ 691200 w 6908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96"/>
              <p:cNvSpPr/>
              <p:nvPr/>
            </p:nvSpPr>
            <p:spPr>
              <a:xfrm>
                <a:off x="3279600" y="1705320"/>
                <a:ext cx="521280" cy="2084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97"/>
              <p:cNvSpPr/>
              <p:nvPr/>
            </p:nvSpPr>
            <p:spPr>
              <a:xfrm>
                <a:off x="3596400" y="1527480"/>
                <a:ext cx="630360" cy="75240"/>
              </a:xfrm>
              <a:custGeom>
                <a:avLst/>
                <a:gdLst>
                  <a:gd name="textAreaLeft" fmla="*/ 0 w 630360"/>
                  <a:gd name="textAreaRight" fmla="*/ 630720 w 63036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98"/>
              <p:cNvSpPr/>
              <p:nvPr/>
            </p:nvSpPr>
            <p:spPr>
              <a:xfrm>
                <a:off x="3588480" y="1800360"/>
                <a:ext cx="98640" cy="802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9"/>
              <p:cNvSpPr/>
              <p:nvPr/>
            </p:nvSpPr>
            <p:spPr>
              <a:xfrm>
                <a:off x="3516120" y="1880640"/>
                <a:ext cx="161640" cy="4752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00"/>
              <p:cNvSpPr/>
              <p:nvPr/>
            </p:nvSpPr>
            <p:spPr>
              <a:xfrm>
                <a:off x="3471480" y="1932840"/>
                <a:ext cx="910440" cy="144720"/>
              </a:xfrm>
              <a:custGeom>
                <a:avLst/>
                <a:gdLst>
                  <a:gd name="textAreaLeft" fmla="*/ 0 w 910440"/>
                  <a:gd name="textAreaRight" fmla="*/ 910800 w 9104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01"/>
              <p:cNvSpPr/>
              <p:nvPr/>
            </p:nvSpPr>
            <p:spPr>
              <a:xfrm>
                <a:off x="3223440" y="1747440"/>
                <a:ext cx="1172520" cy="33408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02"/>
              <p:cNvSpPr/>
              <p:nvPr/>
            </p:nvSpPr>
            <p:spPr>
              <a:xfrm>
                <a:off x="4026240" y="1877760"/>
                <a:ext cx="227160" cy="345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3"/>
              <p:cNvSpPr/>
              <p:nvPr/>
            </p:nvSpPr>
            <p:spPr>
              <a:xfrm>
                <a:off x="3574800" y="1788480"/>
                <a:ext cx="100800" cy="91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4"/>
              <p:cNvSpPr/>
              <p:nvPr/>
            </p:nvSpPr>
            <p:spPr>
              <a:xfrm>
                <a:off x="3593160" y="1523520"/>
                <a:ext cx="530280" cy="9540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5"/>
              <p:cNvSpPr/>
              <p:nvPr/>
            </p:nvSpPr>
            <p:spPr>
              <a:xfrm>
                <a:off x="3479400" y="1870200"/>
                <a:ext cx="227160" cy="57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06"/>
              <p:cNvSpPr/>
              <p:nvPr/>
            </p:nvSpPr>
            <p:spPr>
              <a:xfrm>
                <a:off x="3834360" y="1654920"/>
                <a:ext cx="173160" cy="233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07"/>
              <p:cNvSpPr/>
              <p:nvPr/>
            </p:nvSpPr>
            <p:spPr>
              <a:xfrm>
                <a:off x="3853800" y="1645200"/>
                <a:ext cx="181440" cy="2487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08"/>
              <p:cNvSpPr/>
              <p:nvPr/>
            </p:nvSpPr>
            <p:spPr>
              <a:xfrm>
                <a:off x="3293280" y="1741680"/>
                <a:ext cx="304200" cy="1317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09"/>
              <p:cNvSpPr/>
              <p:nvPr/>
            </p:nvSpPr>
            <p:spPr>
              <a:xfrm>
                <a:off x="3286440" y="1707120"/>
                <a:ext cx="345240" cy="99720"/>
              </a:xfrm>
              <a:custGeom>
                <a:avLst/>
                <a:gdLst>
                  <a:gd name="textAreaLeft" fmla="*/ 0 w 345240"/>
                  <a:gd name="textAreaRight" fmla="*/ 345240 w 3452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10"/>
              <p:cNvSpPr/>
              <p:nvPr/>
            </p:nvSpPr>
            <p:spPr>
              <a:xfrm>
                <a:off x="3643560" y="1763280"/>
                <a:ext cx="864720" cy="17352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173520"/>
                  <a:gd name="textAreaBottom" fmla="*/ 173520 h 1735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11"/>
              <p:cNvSpPr/>
              <p:nvPr/>
            </p:nvSpPr>
            <p:spPr>
              <a:xfrm>
                <a:off x="3968640" y="1688400"/>
                <a:ext cx="513000" cy="1126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212"/>
              <p:cNvSpPr/>
              <p:nvPr/>
            </p:nvSpPr>
            <p:spPr>
              <a:xfrm>
                <a:off x="3168360" y="1656000"/>
                <a:ext cx="530280" cy="147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13"/>
              <p:cNvSpPr/>
              <p:nvPr/>
            </p:nvSpPr>
            <p:spPr>
              <a:xfrm>
                <a:off x="3257640" y="1559880"/>
                <a:ext cx="1068840" cy="182880"/>
              </a:xfrm>
              <a:custGeom>
                <a:avLst/>
                <a:gdLst>
                  <a:gd name="textAreaLeft" fmla="*/ 0 w 1068840"/>
                  <a:gd name="textAreaRight" fmla="*/ 1069200 w 10688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14"/>
              <p:cNvSpPr/>
              <p:nvPr/>
            </p:nvSpPr>
            <p:spPr>
              <a:xfrm>
                <a:off x="3189960" y="1488600"/>
                <a:ext cx="1142280" cy="24408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15"/>
              <p:cNvSpPr/>
              <p:nvPr/>
            </p:nvSpPr>
            <p:spPr>
              <a:xfrm>
                <a:off x="3789360" y="1758960"/>
                <a:ext cx="586800" cy="15048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16"/>
              <p:cNvSpPr/>
              <p:nvPr/>
            </p:nvSpPr>
            <p:spPr>
              <a:xfrm>
                <a:off x="3689640" y="1710000"/>
                <a:ext cx="178560" cy="507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7"/>
              <p:cNvSpPr/>
              <p:nvPr/>
            </p:nvSpPr>
            <p:spPr>
              <a:xfrm>
                <a:off x="3130560" y="1484280"/>
                <a:ext cx="1174320" cy="208800"/>
              </a:xfrm>
              <a:custGeom>
                <a:avLst/>
                <a:gdLst>
                  <a:gd name="textAreaLeft" fmla="*/ 0 w 1174320"/>
                  <a:gd name="textAreaRight" fmla="*/ 1174680 w 11743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18"/>
              <p:cNvSpPr/>
              <p:nvPr/>
            </p:nvSpPr>
            <p:spPr>
              <a:xfrm>
                <a:off x="3133800" y="1623600"/>
                <a:ext cx="725400" cy="1850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9"/>
              <p:cNvSpPr/>
              <p:nvPr/>
            </p:nvSpPr>
            <p:spPr>
              <a:xfrm>
                <a:off x="3262320" y="1645200"/>
                <a:ext cx="605880" cy="11268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20"/>
              <p:cNvSpPr/>
              <p:nvPr/>
            </p:nvSpPr>
            <p:spPr>
              <a:xfrm>
                <a:off x="3767400" y="1602000"/>
                <a:ext cx="424800" cy="28188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21"/>
              <p:cNvSpPr/>
              <p:nvPr/>
            </p:nvSpPr>
            <p:spPr>
              <a:xfrm>
                <a:off x="3899880" y="1817640"/>
                <a:ext cx="109800" cy="66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22"/>
              <p:cNvSpPr/>
              <p:nvPr/>
            </p:nvSpPr>
            <p:spPr>
              <a:xfrm>
                <a:off x="3992760" y="1532520"/>
                <a:ext cx="347760" cy="208800"/>
              </a:xfrm>
              <a:custGeom>
                <a:avLst/>
                <a:gdLst>
                  <a:gd name="textAreaLeft" fmla="*/ 0 w 347760"/>
                  <a:gd name="textAreaRight" fmla="*/ 347760 w 347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23"/>
              <p:cNvSpPr/>
              <p:nvPr/>
            </p:nvSpPr>
            <p:spPr>
              <a:xfrm>
                <a:off x="3270600" y="1703160"/>
                <a:ext cx="1245960" cy="243000"/>
              </a:xfrm>
              <a:custGeom>
                <a:avLst/>
                <a:gdLst>
                  <a:gd name="textAreaLeft" fmla="*/ 0 w 1245960"/>
                  <a:gd name="textAreaRight" fmla="*/ 1246320 w 1245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24"/>
              <p:cNvSpPr/>
              <p:nvPr/>
            </p:nvSpPr>
            <p:spPr>
              <a:xfrm>
                <a:off x="3780360" y="1807920"/>
                <a:ext cx="114480" cy="87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25"/>
              <p:cNvSpPr/>
              <p:nvPr/>
            </p:nvSpPr>
            <p:spPr>
              <a:xfrm>
                <a:off x="3908880" y="1844280"/>
                <a:ext cx="178920" cy="30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6"/>
              <p:cNvSpPr/>
              <p:nvPr/>
            </p:nvSpPr>
            <p:spPr>
              <a:xfrm>
                <a:off x="3191400" y="1736640"/>
                <a:ext cx="1167480" cy="285840"/>
              </a:xfrm>
              <a:custGeom>
                <a:avLst/>
                <a:gdLst>
                  <a:gd name="textAreaLeft" fmla="*/ 0 w 1167480"/>
                  <a:gd name="textAreaRight" fmla="*/ 1167840 w 11674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27"/>
              <p:cNvSpPr/>
              <p:nvPr/>
            </p:nvSpPr>
            <p:spPr>
              <a:xfrm>
                <a:off x="3220920" y="1800360"/>
                <a:ext cx="209880" cy="2469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28"/>
              <p:cNvSpPr/>
              <p:nvPr/>
            </p:nvSpPr>
            <p:spPr>
              <a:xfrm>
                <a:off x="3157920" y="1822320"/>
                <a:ext cx="1253520" cy="282960"/>
              </a:xfrm>
              <a:custGeom>
                <a:avLst/>
                <a:gdLst>
                  <a:gd name="textAreaLeft" fmla="*/ 0 w 1253520"/>
                  <a:gd name="textAreaRight" fmla="*/ 1253880 w 12535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29"/>
              <p:cNvSpPr/>
              <p:nvPr/>
            </p:nvSpPr>
            <p:spPr>
              <a:xfrm>
                <a:off x="3438000" y="1960560"/>
                <a:ext cx="633600" cy="94320"/>
              </a:xfrm>
              <a:custGeom>
                <a:avLst/>
                <a:gdLst>
                  <a:gd name="textAreaLeft" fmla="*/ 0 w 633600"/>
                  <a:gd name="textAreaRight" fmla="*/ 633960 w 6336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30"/>
              <p:cNvSpPr/>
              <p:nvPr/>
            </p:nvSpPr>
            <p:spPr>
              <a:xfrm>
                <a:off x="3439080" y="1870200"/>
                <a:ext cx="290520" cy="6408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31"/>
              <p:cNvSpPr/>
              <p:nvPr/>
            </p:nvSpPr>
            <p:spPr>
              <a:xfrm>
                <a:off x="3936600" y="1909080"/>
                <a:ext cx="251280" cy="1584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2"/>
              <p:cNvSpPr/>
              <p:nvPr/>
            </p:nvSpPr>
            <p:spPr>
              <a:xfrm>
                <a:off x="3501360" y="1520640"/>
                <a:ext cx="698040" cy="8676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33"/>
              <p:cNvSpPr/>
              <p:nvPr/>
            </p:nvSpPr>
            <p:spPr>
              <a:xfrm>
                <a:off x="4017960" y="1699560"/>
                <a:ext cx="361440" cy="7416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34"/>
              <p:cNvSpPr/>
              <p:nvPr/>
            </p:nvSpPr>
            <p:spPr>
              <a:xfrm>
                <a:off x="3841200" y="1682640"/>
                <a:ext cx="643680" cy="22644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35"/>
              <p:cNvSpPr/>
              <p:nvPr/>
            </p:nvSpPr>
            <p:spPr>
              <a:xfrm>
                <a:off x="4152600" y="1884600"/>
                <a:ext cx="113400" cy="27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Line 236"/>
          <p:cNvSpPr/>
          <p:nvPr/>
        </p:nvSpPr>
        <p:spPr>
          <a:xfrm>
            <a:off x="3421080" y="2852640"/>
            <a:ext cx="1511280" cy="0"/>
          </a:xfrm>
          <a:prstGeom prst="line">
            <a:avLst/>
          </a:prstGeom>
          <a:ln w="127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37"/>
          <p:cNvSpPr/>
          <p:nvPr/>
        </p:nvSpPr>
        <p:spPr>
          <a:xfrm>
            <a:off x="324000" y="4941720"/>
            <a:ext cx="835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8"/>
          <p:cNvSpPr/>
          <p:nvPr/>
        </p:nvSpPr>
        <p:spPr>
          <a:xfrm>
            <a:off x="250920" y="494172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ТОМУ ПРОТИВОРЕЧИТ ТРАДИЦИОННОЕ МАССОВОЕ ВОСПРИЯТ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се, что есть в учебнике, надо учить от корки до корки, выполнять вс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39" descr="PE01460_"/>
          <p:cNvPicPr/>
          <p:nvPr/>
        </p:nvPicPr>
        <p:blipFill>
          <a:blip r:embed="rId1"/>
          <a:stretch/>
        </p:blipFill>
        <p:spPr>
          <a:xfrm>
            <a:off x="4959360" y="1125360"/>
            <a:ext cx="1628640" cy="2025720"/>
          </a:xfrm>
          <a:prstGeom prst="rect">
            <a:avLst/>
          </a:prstGeom>
          <a:ln w="0">
            <a:noFill/>
          </a:ln>
        </p:spPr>
      </p:pic>
      <p:sp>
        <p:nvSpPr>
          <p:cNvPr id="296" name="Line 240"/>
          <p:cNvSpPr/>
          <p:nvPr/>
        </p:nvSpPr>
        <p:spPr>
          <a:xfrm flipH="1">
            <a:off x="1907640" y="3141720"/>
            <a:ext cx="42498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1"/>
          <p:cNvSpPr/>
          <p:nvPr/>
        </p:nvSpPr>
        <p:spPr>
          <a:xfrm>
            <a:off x="611280" y="378936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и мобильного телеф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2"/>
          <p:cNvSpPr/>
          <p:nvPr/>
        </p:nvSpPr>
        <p:spPr>
          <a:xfrm>
            <a:off x="2627280" y="386064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товаров в мага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3"/>
          <p:cNvSpPr/>
          <p:nvPr/>
        </p:nvSpPr>
        <p:spPr>
          <a:xfrm>
            <a:off x="6299280" y="386064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в Интернете вакансий, досуга, сведений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4"/>
          <p:cNvSpPr/>
          <p:nvPr/>
        </p:nvSpPr>
        <p:spPr>
          <a:xfrm>
            <a:off x="4282920" y="386064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кция к новой тех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5"/>
          <p:cNvSpPr/>
          <p:nvPr/>
        </p:nvSpPr>
        <p:spPr>
          <a:xfrm flipH="1">
            <a:off x="3563640" y="3141720"/>
            <a:ext cx="2808360" cy="863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46"/>
          <p:cNvSpPr/>
          <p:nvPr/>
        </p:nvSpPr>
        <p:spPr>
          <a:xfrm flipH="1">
            <a:off x="5435640" y="3141720"/>
            <a:ext cx="1008000" cy="7189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7"/>
          <p:cNvSpPr/>
          <p:nvPr/>
        </p:nvSpPr>
        <p:spPr>
          <a:xfrm>
            <a:off x="6443640" y="3213000"/>
            <a:ext cx="792360" cy="7207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жизни нам постоянно приходится решать проблемы! А учит ли этому школа?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435280" y="1483920"/>
            <a:ext cx="3708360" cy="477684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уктура традиционного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веряет д/з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вляет новую т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яет новую т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рганизует закрепление знаний </a:t>
            </a:r>
            <a:r>
              <a:rPr b="0" lang="ru-RU" sz="2400" spc="-1" strike="noStrike">
                <a:solidFill>
                  <a:srgbClr val="299410"/>
                </a:solidFill>
                <a:latin typeface="Calibri"/>
              </a:rPr>
              <a:t>уче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79280" y="1197000"/>
            <a:ext cx="489744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проблем в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Жизнь ставит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на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ситуацию затруднения.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ормулируем цель: «Чего мы хотим добитьс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думываем варианты решения, определяем, хватит ли знаний и ум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ытаемся решить проблему (при необходимости добывая новые зн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Получив результат,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ы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ваем его с целью. Делаем вывод – добились своего ил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4572000" y="3502080"/>
            <a:ext cx="503280" cy="863640"/>
            <a:chOff x="4572000" y="3502080"/>
            <a:chExt cx="503280" cy="863640"/>
          </a:xfrm>
        </p:grpSpPr>
        <p:sp>
          <p:nvSpPr>
            <p:cNvPr id="308" name="Line 6"/>
            <p:cNvSpPr/>
            <p:nvPr/>
          </p:nvSpPr>
          <p:spPr>
            <a:xfrm>
              <a:off x="4572000" y="378936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7"/>
            <p:cNvSpPr/>
            <p:nvPr/>
          </p:nvSpPr>
          <p:spPr>
            <a:xfrm>
              <a:off x="4572000" y="4005360"/>
              <a:ext cx="503280" cy="0"/>
            </a:xfrm>
            <a:prstGeom prst="line">
              <a:avLst/>
            </a:prstGeom>
            <a:ln w="7632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8"/>
            <p:cNvSpPr/>
            <p:nvPr/>
          </p:nvSpPr>
          <p:spPr>
            <a:xfrm flipH="1">
              <a:off x="4643280" y="3502080"/>
              <a:ext cx="360360" cy="863640"/>
            </a:xfrm>
            <a:prstGeom prst="line">
              <a:avLst/>
            </a:prstGeom>
            <a:ln w="38160">
              <a:solidFill>
                <a:srgbClr val="2703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aq11octL"/>
          <p:cNvPicPr/>
          <p:nvPr/>
        </p:nvPicPr>
        <p:blipFill>
          <a:blip r:embed="rId1"/>
          <a:stretch/>
        </p:blipFill>
        <p:spPr>
          <a:xfrm>
            <a:off x="0" y="5084640"/>
            <a:ext cx="2917800" cy="215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it6"/>
          <p:cNvPicPr/>
          <p:nvPr/>
        </p:nvPicPr>
        <p:blipFill>
          <a:blip r:embed="rId2"/>
          <a:stretch/>
        </p:blipFill>
        <p:spPr>
          <a:xfrm>
            <a:off x="6335640" y="4799160"/>
            <a:ext cx="2808360" cy="2058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IMGA0477"/>
          <p:cNvPicPr/>
          <p:nvPr/>
        </p:nvPicPr>
        <p:blipFill>
          <a:blip r:embed="rId3"/>
          <a:stretch/>
        </p:blipFill>
        <p:spPr>
          <a:xfrm>
            <a:off x="0" y="1773360"/>
            <a:ext cx="2629080" cy="175248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0" y="1052640"/>
            <a:ext cx="320364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риентир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оценк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состоя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системы общ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151280" y="0"/>
            <a:ext cx="79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результ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оения основных образов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 - системообразующий компонент ФГОС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867280" y="1052640"/>
            <a:ext cx="298764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снова аккредитаци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940360" y="3933720"/>
            <a:ext cx="320364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снова для аттестаци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учителей и руководителей 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0" y="4365720"/>
            <a:ext cx="305928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снова для норм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условий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и создания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image_0002005"/>
          <p:cNvPicPr/>
          <p:nvPr/>
        </p:nvPicPr>
        <p:blipFill>
          <a:blip r:embed="rId4"/>
          <a:stretch/>
        </p:blipFill>
        <p:spPr>
          <a:xfrm>
            <a:off x="3276720" y="350028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1"/>
          <p:cNvSpPr/>
          <p:nvPr/>
        </p:nvSpPr>
        <p:spPr>
          <a:xfrm>
            <a:off x="2771640" y="2205000"/>
            <a:ext cx="327672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критериальная б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    итогово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ттестации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   обучающих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2" descr="fourth%20class"/>
          <p:cNvPicPr/>
          <p:nvPr/>
        </p:nvPicPr>
        <p:blipFill>
          <a:blip r:embed="rId5"/>
          <a:stretch/>
        </p:blipFill>
        <p:spPr>
          <a:xfrm>
            <a:off x="6264360" y="16286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val 2"/>
          <p:cNvSpPr/>
          <p:nvPr/>
        </p:nvSpPr>
        <p:spPr>
          <a:xfrm>
            <a:off x="0" y="1413000"/>
            <a:ext cx="4643280" cy="3022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7c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ческой для д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 по получению 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, его преобразова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ю, система основополага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ов научного знания, лежа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е на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"/>
          <p:cNvSpPr/>
          <p:nvPr/>
        </p:nvSpPr>
        <p:spPr>
          <a:xfrm>
            <a:off x="4643280" y="1557360"/>
            <a:ext cx="4500720" cy="28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ные  универс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 действ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ющие овла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ыми компетенц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ющими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ж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"/>
          <p:cNvSpPr/>
          <p:nvPr/>
        </p:nvSpPr>
        <p:spPr>
          <a:xfrm flipH="1">
            <a:off x="900000" y="4437000"/>
            <a:ext cx="7632720" cy="1656000"/>
          </a:xfrm>
          <a:prstGeom prst="ellipse">
            <a:avLst/>
          </a:prstGeom>
          <a:solidFill>
            <a:srgbClr val="0796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1712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цен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и обучающихся, социальные компетен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ые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68360" y="764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освоения основных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5589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11280" y="6165720"/>
            <a:ext cx="799308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6f7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витие компетентности к обновлению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91320" y="0"/>
            <a:ext cx="874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С Н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бования к результатам – ведущая, системообразующая составля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2:03:33Z</dcterms:created>
  <dc:creator>Nataly</dc:creator>
  <dc:description/>
  <dc:language>en-US</dc:language>
  <cp:lastModifiedBy>Admin</cp:lastModifiedBy>
  <dcterms:modified xsi:type="dcterms:W3CDTF">2015-02-07T09:47:28Z</dcterms:modified>
  <cp:revision>35</cp:revision>
  <dc:subject/>
  <dc:title>Системно-деятельностный подход как технологическая основа ФГОС нового поколения</dc:title>
</cp:coreProperties>
</file>