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wmf" ContentType="image/x-wmf"/>
  <Override PartName="/ppt/media/image21.jpeg" ContentType="image/jpeg"/>
  <Override PartName="/ppt/media/image16.jpeg" ContentType="image/jpeg"/>
  <Override PartName="/ppt/media/image22.jpeg" ContentType="image/jpeg"/>
  <Override PartName="/ppt/media/image17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9B40-FC89-4BA6-8448-243E2BCAF7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F056-EA5F-4D2C-897B-EE06C22A32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Эти условия могут задаваться и описываться с помощью описани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бразцов деятельност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азличных методических или дидактических средств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следовательности выполняемых действий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собенностей организации урока или иной единицы учебного процесса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ожно также использовать понятие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учебной ситуации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как особой структурной единицы учебной деятельности, содержащей ее полный замкнутый цикл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Учебная ситуация – это такая особая единица учебного процесса, в которой дети с помощью учител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бнаруживают предмет свого действия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сследуют его, совершая разнообразные учебные действия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еобразуют его, например, переформулируют, или предлагают свое описание и т.д.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астично – запоминают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 этом изучаемый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учебный материал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выступает как материал для создания учебной ситуации, в которой, совершая некоторые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специфичные для данного учебного предмета действия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ребенок осваивает характерные для данной области способы действия, т.е. приобретает некоторые способности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тбор и использование учебных ситуаций встраивается в логику традиционного учебного процесса, позволяя не противопоставлять «ЗУНовскую» и «деятельностную» парадигмы друг другу, а напротив, формировать у каждого ученика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индивидуальные средства и способы действий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, позволяющие ему быть «компетентным» в различных сферах культуры, каждая из которых предполагает </a:t>
            </a: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особый способ действий относительно специфического содержания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C33F-18B6-4966-9E23-15F6071D7B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удачных примеров проектной деятельности в ходе обучения русскому языку (клавиатурному письму, алфавиту) является  проект «Моя первая записная книж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различных плакатов, памяток, моделей, организация и проведение выставок, викторин, конкурсов, спектаклей, проведение мини-исследований, предусматривающих обязательную презентацию полученных результатов – вот далеко не полный список примеров проектной деятельности в начальной шко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CA85-BA6D-4555-9CE8-BAA7EBE4F6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фференциация обучения на основе выделения обязательных требований к подготовке учащихся предполагает такую организацию учебного процесса, при которой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все школьники имеют возможность получать полноценное обучение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в соответствии с рекомендуемыми Министерством образования и науки программами и учебниками, и вместе с тем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иметь ясное представление о том минимально обязательном наборе требований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к их знаниям, интеллектуальным и практическим умениям, навыкам познавательной и коммуникативной деятельности, которые будут им предъявлены к моменту окончания изучения курса, раздела или каждой отдельной тем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еальные учебные достижения учеников, таким образом, могут быть самыми разными: от освоения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Calibri"/>
              </a:rPr>
              <a:t>всем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учебного материала, минимально необходимого для последующего обучения, до более глубокого и полного освоения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Calibri"/>
              </a:rPr>
              <a:t>частью детей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зученного курса, вплоть до овладения навыками поисковой и исследовательской деятельности. Существенно, что достижения учащихся не могут быть ниже уровня, определенного как обязательный (базовый), что отвечает требованию преемственности в образовани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спользование уровневой дифференциации вносит определенные изменения в учебный процесс, которые проявляются не столько в каких-либо особых методических приемах, применяемых учителем, сколько в изменении стиля взаимодействия с ученикам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условиях этой технологии ученик – это, прежде всего, партнер, имеющий право на принятие решений (на выбор содержания своего образования, уровня его усвоения и т.д.). Естественно, что и ответственность за выполнение принятого решения ложится на ученика. Главная же задача и обязанность учителя – помочь ребенку принять и выполнить принятое им решение. Помочь сделать правильный выбор, определиться в сфере своих познавательных интересов. Помочь составить или откорректировать программу самообразования, подобрать нужную литературу, поставить познавательную задачу, адекватную интересам и возможностям ученика, своевременно его проконсультировать и проконтролировать. Наконец, обеспечить своевременное достижение каждым, как минимум, обязательного уровня общеобразовательной подготовк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и этом данная технология предоставляет свободу учителю в выборе методов, средств и форм обучения – все это находится полностью в компетенции учителя, подчиняясь его личностным особенностям, методическим пристрастиям и т.п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пробация этого подхода свидетельствует о том, что он способствуе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озданию психологического комфорта в процессе обучения и атмосферы делового сотрудничества детей, педагогов и родителей, основанного на строгом выполнении взаимных обязательств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беспечению условий для индивидуальной траектории развития каждого школьника, отвечающей его интересам, потребностям и возможностям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ормированию системы опорных базовых знаний и умений, составляющих основу при последующем обучении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ормированию системы оценки и самооценки, адекватной реальным достижениям детей, созданию на этой основе условий для принятия ребенком самостоятельных ответственных решений в отношении выбора той иной образовательной траектори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ыбор данного подхода обусловлен тем, что основанные на нем педагогические технологии обладают значительным воспитательным и развивающим, а также здоровьесберегающим потенциалом, что отвечает современным приоритетным потребностям личности, общества и государств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1B59-4ED7-48C7-95A0-C0888FA366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методологии стандарта лежит деятельностная парадигма образования, которой обусловлено, в частности, и новое понимание основного результата образования – индивидуальный прогресс в развитии основных сфер личностного развития через освоение универсальных и специфических для отдельных предметов способов действий, достижение на этой основе способности к развитию «компетентности к обновлению компетенци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добства описания результаты образования условно разделены на три группы, в каждой из которых акцентирован один какой-либо аспек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ые результаты (жизненные установки, ценностные ориентации, отношения, саморегуляция и т.п.), в которых акцкент делается на эмоционально-волевой сферах личностного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предметные результаты или освоение универсальных способов деятельности, которые затрагивают все основные сферы личностного развития: когнитивную, эмоциональную, волеву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ные результаты, в которых акцент делается преимущественно на когнитивную сферу, на преломление универсальных способов учебных действий через призму учебных предм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ность такого описания очевидна, однако оно позволяет выделять доминирующие проблемы в общем ходе образовательного процесса в зависимости от приоритетной направленности совместной деятельности педагогов 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A939-D923-4243-8BAA-69B26E0992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общая 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щественные и личностные ожидания, «Требования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 результату освоения основных общеобразовательных программ», последовательно реализуя общую идеологию стандарта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арактеризуют основные ожидаемые результаты начального образования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дают рамки основной направленности образовательной деятельност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дают рамки планируемых результатов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рующихся по области их использования и средствам проверки их достиж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ют общую характеристику результатов, на достижение которых должны быть ориентиров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программа общеобразовательного учреждения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ы по учебным предмета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т процедуры, направленные на выявление и контроль за достижением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жидаемых результатов начального образова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 слайде представлены основные результаты начального образования, на достижение которых должна быть направлена деятельность всех участников образовательного процесса, деятельность системы образования и образующих ее инфраструкту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F81F-A1EE-4481-AC0D-84DB296BF4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ндарты являются документом опосредованного действия. Они воздействуют на образовательный процесс через совокупность нормативных и инструктивно-методических документов, некоторые их которых, как имеющие наибольшее воздействие на учебный процесс, представлены на слайд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метом дальнейшего обсуждения являются три последних, выделенных жирным шрифтом, механиз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анируемые результаты освоения примерных учебных программ по отдельным предмета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ценочная деятельность учителя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азовые образовательные технолог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F3B-3F18-4CBD-81A8-D7D885EC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3892-9364-4EBE-9AFF-AAA72B3B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0237-D993-4257-9614-9339A1AB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DB28-9FA1-4E70-AA33-6F508371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202F-5878-4001-AC6E-D4A9FCF0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88A5-43FE-4EDF-BE02-206DD48F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4E55-9C36-4176-8B1B-F2F0132C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8B9D-A7B5-412C-A915-38545A35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AC77-7395-497D-9948-F5BC4974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ACDD-6F72-4D9D-AED0-BD90CFEE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DC47-631B-4365-AF37-6EF88465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FA1E-70B5-462B-8EE6-9E566627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B09A-53AD-4F9C-A712-24AC74A5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CDED-325D-42BB-B343-B5EBCAC8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B197-6E40-4847-A0EF-1734F523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58AB-FFE9-4CFB-8E8D-8F0AABE5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A20D-6391-4CF2-B7F1-CB34C144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BDE36-1A73-447B-9420-10D61668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18FB2-864C-4614-B7B4-04C6F27C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A4104-08E0-4BCB-9D02-B31C7C38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63904-6E42-4B24-B5AD-15AB4E35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D862F-56B1-4C18-BD6B-E7966B09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AAAC-288B-4BDD-BFF9-984CC98E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CA6C7-102A-46B0-8CE0-BCB4B82C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626AB-F203-4B07-A026-40763C27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CAC0F-12A2-46FF-B1C3-9C20CE7A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33021-7172-4B5E-A2CE-D0D7C6D9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17D89-587F-4013-BA85-271880DF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05502-FBA7-4048-BC57-CAC7E895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680BF-1E74-427A-957B-FEAECF249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CB54D-72B4-4322-9884-C4FB7270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757E5-A9F8-4C91-8E25-726E37C3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D7877-4BEA-456A-80BB-5EA7BB27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226D-72E5-451E-B87C-00060CE4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6066C-32CE-45DD-82A8-6D286501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A2AA2-9CCD-4490-B42C-B6D66348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1EDA4-225B-44F4-A0C4-2761216B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75EE1-0F64-4E22-BE97-BEE75288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2414C-BCEF-4A56-9352-6FF0FBA5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C5C0A-0C4E-4E29-A109-6E9BD7D3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AA801-79EF-48A9-961D-86C05C9D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A269C-5F69-4364-B79F-DDECC312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29C1B-E835-443B-A350-E7CCDBF0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A52F-E77B-460F-93A2-FB5E88D6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B6FC-899C-44DB-B67F-6C7FF700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A597-69C5-4FC9-96DA-F7C46F62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8F2B-015E-4883-AC00-A50C1EE1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51F5-F148-43FC-9A70-DE8A2E78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3E9D-B2B9-4F49-A975-A3B36799F1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DDDA-C3C6-4691-B97B-D86D34DE15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DA90-C26A-46DB-9292-7EFA7602AD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6F32-A342-48A6-B3B4-9CF9275440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pn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23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ФГОС      второго поколения</a:t>
            </a:r>
            <a:br>
              <a:rPr sz="36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Универсальные учебные дейст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928800" y="3886200"/>
            <a:ext cx="75722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пособы их формир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Виды универсальных учебных действ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гулятив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щепознаватель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ммуникатив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сийская академия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Универсальные учебные действия 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стандарт второго поколения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)        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d0d0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0d"/>
                </a:solidFill>
                <a:latin typeface="Arial"/>
                <a:ea typeface="Arial"/>
              </a:rPr>
              <a:t>Личностные</a:t>
            </a:r>
            <a:r>
              <a:rPr b="0" lang="ru-RU" sz="3000" spc="-1" strike="noStrike">
                <a:solidFill>
                  <a:srgbClr val="0d0d0d"/>
                </a:solidFill>
                <a:latin typeface="Arial"/>
                <a:ea typeface="Arial"/>
              </a:rPr>
              <a:t>  УУД (самоопределение, нравственно-этическое  оценивание  …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d0d0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0d"/>
                </a:solidFill>
                <a:latin typeface="Arial"/>
                <a:ea typeface="Arial"/>
              </a:rPr>
              <a:t>Познавательные  УУД </a:t>
            </a:r>
            <a:r>
              <a:rPr b="0" lang="ru-RU" sz="3000" spc="-1" strike="noStrike">
                <a:solidFill>
                  <a:srgbClr val="0d0d0d"/>
                </a:solidFill>
                <a:latin typeface="Arial"/>
                <a:ea typeface="Arial"/>
              </a:rPr>
              <a:t>(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общие учебные умения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, постановка и решение </a:t>
            </a:r>
            <a:r>
              <a:rPr b="0" lang="ru-RU" sz="3000" spc="-1" strike="noStrike">
                <a:solidFill>
                  <a:srgbClr val="0d0d0d"/>
                </a:solidFill>
                <a:latin typeface="Arial"/>
                <a:ea typeface="Arial"/>
              </a:rPr>
              <a:t>практических задач, логические…)</a:t>
            </a:r>
            <a:r>
              <a:rPr b="1" lang="ru-RU" sz="3000" spc="-1" strike="noStrike">
                <a:solidFill>
                  <a:srgbClr val="0d0d0d"/>
                </a:solidFill>
                <a:latin typeface="Arial"/>
                <a:ea typeface="Arial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0d"/>
                </a:solidFill>
                <a:latin typeface="Arial"/>
                <a:ea typeface="Arial"/>
              </a:rPr>
              <a:t>Регулятивные  УУД </a:t>
            </a:r>
            <a:r>
              <a:rPr b="0" lang="ru-RU" sz="3000" spc="-1" strike="noStrike">
                <a:solidFill>
                  <a:srgbClr val="0d0d0d"/>
                </a:solidFill>
                <a:latin typeface="Arial"/>
                <a:ea typeface="Arial"/>
              </a:rPr>
              <a:t>(целеполагание, планирование, самоконтроль, самооценка …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d0d0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0d"/>
                </a:solidFill>
                <a:latin typeface="Arial"/>
                <a:ea typeface="Arial"/>
              </a:rPr>
              <a:t>Коммуникативные  УУД </a:t>
            </a:r>
            <a:r>
              <a:rPr b="0" lang="ru-RU" sz="3000" spc="-1" strike="noStrike">
                <a:solidFill>
                  <a:srgbClr val="0d0d0d"/>
                </a:solidFill>
                <a:latin typeface="Arial"/>
                <a:ea typeface="Arial"/>
              </a:rPr>
              <a:t>(планирование учебного сотрудничества, согласование действий с партнером, построение речевых высказываний, работа с информацией </a:t>
            </a:r>
            <a:r>
              <a:rPr b="1" i="1" lang="ru-RU" sz="3000" spc="-1" strike="noStrike">
                <a:solidFill>
                  <a:srgbClr val="0d0d0d"/>
                </a:solidFill>
                <a:latin typeface="Arial"/>
                <a:ea typeface="Arial"/>
              </a:rPr>
              <a:t>…</a:t>
            </a:r>
            <a:r>
              <a:rPr b="0" lang="ru-RU" sz="3000" spc="-1" strike="noStrike">
                <a:solidFill>
                  <a:srgbClr val="0d0d0d"/>
                </a:solidFill>
                <a:latin typeface="Arial"/>
                <a:ea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d0d0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8571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тандарты первого и второго поколения   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56760" y="857160"/>
            <a:ext cx="411156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щие учебные ум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1571760"/>
            <a:ext cx="4497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ознавательная 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Речевая деятельность и работа с информаци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деятель -ности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целеполагание, определение способов контроля и оценки деятельности</a:t>
            </a:r>
            <a:r>
              <a:rPr b="0" lang="ru-RU" sz="2800" spc="-1" strike="noStrike" u="sng">
                <a:solidFill>
                  <a:srgbClr val="00b050"/>
                </a:solidFill>
                <a:uFillTx/>
                <a:latin typeface="Calibri"/>
              </a:rPr>
              <a:t>, учебное сотрудничеств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1640" y="785520"/>
            <a:ext cx="404172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ниверсальные учебные действия (УУ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286160" y="1785600"/>
            <a:ext cx="4400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Личностные  УУ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ознавательные  УУ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Регулятивные  УУД </a:t>
            </a:r>
            <a:r>
              <a:rPr b="0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(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целеполагание, планирование, самоконтроль, самооцен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Коммуникативные  УУД </a:t>
            </a:r>
            <a:r>
              <a:rPr b="0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(</a:t>
            </a:r>
            <a:r>
              <a:rPr b="0" lang="ru-RU" sz="24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учебное сотрудничество, </a:t>
            </a:r>
            <a:r>
              <a:rPr b="0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согласование действий с партнером,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построение речевых высказываний</a:t>
            </a:r>
            <a:r>
              <a:rPr b="0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,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работа с информацией </a:t>
            </a:r>
            <a:r>
              <a:rPr b="0" i="1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…</a:t>
            </a:r>
            <a:r>
              <a:rPr b="0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Общие учебные умения, навыки и способы деятельности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Стандарт, 2004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знавательная деятельность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наблюдение объектов окружающего мира, опыты, работа с информацией, работа со знаковыми, графическими моделями, умение решать творческие задачи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чевая деятельность и работа с информацией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работа с учебными, художественными, научно-популярными текстами , участие в диалоге, передача, поиск, хранение информации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я деятельност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ыполнение инструкций, следование образцу и простейшим алгоритмам, определение способов контроля и оценки деятельности, учебное сотрудничество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Личностные УУ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2" name="Organization Chart 7"/>
          <p:cNvGrpSpPr/>
          <p:nvPr/>
        </p:nvGrpSpPr>
        <p:grpSpPr>
          <a:xfrm>
            <a:off x="271440" y="2418480"/>
            <a:ext cx="8598960" cy="3424680"/>
            <a:chOff x="271440" y="2418480"/>
            <a:chExt cx="8598960" cy="3424680"/>
          </a:xfrm>
        </p:grpSpPr>
        <p:cxnSp>
          <p:nvCxnSpPr>
            <p:cNvPr id="213" name="_s1028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5731560" y="2626200"/>
              <a:ext cx="685440" cy="3008520"/>
            </a:xfrm>
            <a:prstGeom prst="bentConnector3">
              <a:avLst>
                <a:gd name="adj1" fmla="val 166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1029"/>
            <p:cNvCxnSpPr>
              <a:stCxn id="217" idx="0"/>
              <a:endCxn id="215" idx="2"/>
            </p:cNvCxnSpPr>
            <p:nvPr/>
          </p:nvCxnSpPr>
          <p:spPr>
            <a:xfrm flipV="1">
              <a:off x="4570200" y="3787920"/>
              <a:ext cx="3960" cy="68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5" idx="2"/>
            </p:cNvCxnSpPr>
            <p:nvPr/>
          </p:nvCxnSpPr>
          <p:spPr>
            <a:xfrm flipH="1" flipV="1" rot="5400000">
              <a:off x="2724120" y="2626560"/>
              <a:ext cx="685440" cy="3007800"/>
            </a:xfrm>
            <a:prstGeom prst="bentConnector3">
              <a:avLst>
                <a:gd name="adj1" fmla="val 166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5" name="_s1031"/>
            <p:cNvSpPr/>
            <p:nvPr/>
          </p:nvSpPr>
          <p:spPr>
            <a:xfrm>
              <a:off x="3302640" y="2418480"/>
              <a:ext cx="2539080" cy="13698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Личностные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УУД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2"/>
            <p:cNvSpPr/>
            <p:nvPr/>
          </p:nvSpPr>
          <p:spPr>
            <a:xfrm>
              <a:off x="271440" y="4473360"/>
              <a:ext cx="2584080" cy="13698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Arial"/>
                </a:rPr>
                <a:t>Смысло-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Arial"/>
                </a:rPr>
                <a:t>образовани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33"/>
            <p:cNvSpPr/>
            <p:nvPr/>
          </p:nvSpPr>
          <p:spPr>
            <a:xfrm>
              <a:off x="3279240" y="4473360"/>
              <a:ext cx="2583360" cy="13698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Нравственно-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этическо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оценивани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4"/>
            <p:cNvSpPr/>
            <p:nvPr/>
          </p:nvSpPr>
          <p:spPr>
            <a:xfrm>
              <a:off x="6286320" y="4473360"/>
              <a:ext cx="2584080" cy="13698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Самопознание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и само-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определени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Виды УУД –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Регулятивные действ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Organization Chart 6"/>
          <p:cNvGrpSpPr/>
          <p:nvPr/>
        </p:nvGrpSpPr>
        <p:grpSpPr>
          <a:xfrm>
            <a:off x="-4680" y="2260440"/>
            <a:ext cx="9153000" cy="4247640"/>
            <a:chOff x="-4680" y="2260440"/>
            <a:chExt cx="9153000" cy="4247640"/>
          </a:xfrm>
        </p:grpSpPr>
        <p:cxnSp>
          <p:nvCxnSpPr>
            <p:cNvPr id="222" name="_s2052"/>
            <p:cNvCxnSpPr>
              <a:stCxn id="223" idx="0"/>
              <a:endCxn id="224" idx="2"/>
            </p:cNvCxnSpPr>
            <p:nvPr/>
          </p:nvCxnSpPr>
          <p:spPr>
            <a:xfrm flipV="1">
              <a:off x="5352120" y="4817880"/>
              <a:ext cx="1800" cy="46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3"/>
            <p:cNvCxnSpPr>
              <a:stCxn id="226" idx="0"/>
              <a:endCxn id="227" idx="2"/>
            </p:cNvCxnSpPr>
            <p:nvPr/>
          </p:nvCxnSpPr>
          <p:spPr>
            <a:xfrm flipV="1" rot="16200000">
              <a:off x="6292800" y="1703880"/>
              <a:ext cx="465120" cy="3905280"/>
            </a:xfrm>
            <a:prstGeom prst="bentConnector3">
              <a:avLst>
                <a:gd name="adj1" fmla="val 246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8" name="_s2054"/>
            <p:cNvCxnSpPr>
              <a:stCxn id="229" idx="0"/>
              <a:endCxn id="227" idx="2"/>
            </p:cNvCxnSpPr>
            <p:nvPr/>
          </p:nvCxnSpPr>
          <p:spPr>
            <a:xfrm flipV="1" rot="16200000">
              <a:off x="5511960" y="2484720"/>
              <a:ext cx="465120" cy="2343960"/>
            </a:xfrm>
            <a:prstGeom prst="bentConnector3">
              <a:avLst>
                <a:gd name="adj1" fmla="val 246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2055"/>
            <p:cNvCxnSpPr>
              <a:stCxn id="224" idx="0"/>
              <a:endCxn id="227" idx="2"/>
            </p:cNvCxnSpPr>
            <p:nvPr/>
          </p:nvCxnSpPr>
          <p:spPr>
            <a:xfrm flipV="1" rot="16200000">
              <a:off x="4730040" y="3266640"/>
              <a:ext cx="465120" cy="779760"/>
            </a:xfrm>
            <a:prstGeom prst="bentConnector3">
              <a:avLst>
                <a:gd name="adj1" fmla="val 246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1" name="_s2056"/>
            <p:cNvCxnSpPr>
              <a:stCxn id="232" idx="0"/>
              <a:endCxn id="227" idx="2"/>
            </p:cNvCxnSpPr>
            <p:nvPr/>
          </p:nvCxnSpPr>
          <p:spPr>
            <a:xfrm flipH="1" flipV="1" rot="5400000">
              <a:off x="3949560" y="3265560"/>
              <a:ext cx="465120" cy="782640"/>
            </a:xfrm>
            <a:prstGeom prst="bentConnector3">
              <a:avLst>
                <a:gd name="adj1" fmla="val 246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2057"/>
            <p:cNvCxnSpPr>
              <a:stCxn id="234" idx="0"/>
              <a:endCxn id="227" idx="2"/>
            </p:cNvCxnSpPr>
            <p:nvPr/>
          </p:nvCxnSpPr>
          <p:spPr>
            <a:xfrm flipH="1" flipV="1" rot="5400000">
              <a:off x="3167280" y="2483280"/>
              <a:ext cx="465120" cy="2346840"/>
            </a:xfrm>
            <a:prstGeom prst="bentConnector3">
              <a:avLst>
                <a:gd name="adj1" fmla="val 246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2058"/>
            <p:cNvCxnSpPr>
              <a:stCxn id="236" idx="0"/>
              <a:endCxn id="227" idx="2"/>
            </p:cNvCxnSpPr>
            <p:nvPr/>
          </p:nvCxnSpPr>
          <p:spPr>
            <a:xfrm flipH="1" flipV="1" rot="5400000">
              <a:off x="2386800" y="1702800"/>
              <a:ext cx="465120" cy="3908160"/>
            </a:xfrm>
            <a:prstGeom prst="bentConnector3">
              <a:avLst>
                <a:gd name="adj1" fmla="val 246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7" name="_s2059"/>
            <p:cNvSpPr/>
            <p:nvPr/>
          </p:nvSpPr>
          <p:spPr>
            <a:xfrm>
              <a:off x="3594240" y="2260440"/>
              <a:ext cx="1956600" cy="11642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Регулятив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действ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2060"/>
            <p:cNvSpPr/>
            <p:nvPr/>
          </p:nvSpPr>
          <p:spPr>
            <a:xfrm>
              <a:off x="-4680" y="3889080"/>
              <a:ext cx="1338840" cy="9288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 Black"/>
                </a:rPr>
                <a:t>Целепола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 Black"/>
                </a:rPr>
                <a:t>г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2061"/>
            <p:cNvSpPr/>
            <p:nvPr/>
          </p:nvSpPr>
          <p:spPr>
            <a:xfrm>
              <a:off x="1557720" y="3889080"/>
              <a:ext cx="1339200" cy="9288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 Black"/>
                </a:rPr>
                <a:t>Планиро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 Black"/>
                </a:rPr>
                <a:t>в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2062"/>
            <p:cNvSpPr/>
            <p:nvPr/>
          </p:nvSpPr>
          <p:spPr>
            <a:xfrm>
              <a:off x="3120840" y="3889080"/>
              <a:ext cx="1338840" cy="9288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 Black"/>
                </a:rPr>
                <a:t>Прогно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 Black"/>
                </a:rPr>
                <a:t>зиров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2063"/>
            <p:cNvSpPr/>
            <p:nvPr/>
          </p:nvSpPr>
          <p:spPr>
            <a:xfrm>
              <a:off x="4683240" y="3889080"/>
              <a:ext cx="1339200" cy="9288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Контро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2064"/>
            <p:cNvSpPr/>
            <p:nvPr/>
          </p:nvSpPr>
          <p:spPr>
            <a:xfrm>
              <a:off x="6246360" y="3889080"/>
              <a:ext cx="1339200" cy="9288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Коррек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65"/>
            <p:cNvSpPr/>
            <p:nvPr/>
          </p:nvSpPr>
          <p:spPr>
            <a:xfrm>
              <a:off x="7809480" y="3889080"/>
              <a:ext cx="1338840" cy="9288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Оцен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66"/>
            <p:cNvSpPr/>
            <p:nvPr/>
          </p:nvSpPr>
          <p:spPr>
            <a:xfrm>
              <a:off x="4683240" y="5282640"/>
              <a:ext cx="1339200" cy="12254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Волев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сам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регу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ля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знавательные УУ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Organization Chart 20"/>
          <p:cNvGrpSpPr/>
          <p:nvPr/>
        </p:nvGrpSpPr>
        <p:grpSpPr>
          <a:xfrm>
            <a:off x="2106720" y="2699640"/>
            <a:ext cx="5985720" cy="3157920"/>
            <a:chOff x="2106720" y="2699640"/>
            <a:chExt cx="5985720" cy="3157920"/>
          </a:xfrm>
        </p:grpSpPr>
        <p:cxnSp>
          <p:nvCxnSpPr>
            <p:cNvPr id="239" name="_s3076"/>
            <p:cNvCxnSpPr>
              <a:stCxn id="240" idx="0"/>
              <a:endCxn id="241" idx="2"/>
            </p:cNvCxnSpPr>
            <p:nvPr/>
          </p:nvCxnSpPr>
          <p:spPr>
            <a:xfrm flipV="1" rot="16200000">
              <a:off x="5795640" y="3239280"/>
              <a:ext cx="687240" cy="2077200"/>
            </a:xfrm>
            <a:prstGeom prst="bentConnector3">
              <a:avLst>
                <a:gd name="adj1" fmla="val 16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3077"/>
            <p:cNvCxnSpPr>
              <a:stCxn id="243" idx="0"/>
              <a:endCxn id="241" idx="2"/>
            </p:cNvCxnSpPr>
            <p:nvPr/>
          </p:nvCxnSpPr>
          <p:spPr>
            <a:xfrm flipV="1">
              <a:off x="5101200" y="3934440"/>
              <a:ext cx="2160" cy="687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3078"/>
            <p:cNvCxnSpPr>
              <a:stCxn id="245" idx="0"/>
              <a:endCxn id="241" idx="2"/>
            </p:cNvCxnSpPr>
            <p:nvPr/>
          </p:nvCxnSpPr>
          <p:spPr>
            <a:xfrm flipH="1" flipV="1" rot="5400000">
              <a:off x="3718800" y="3238920"/>
              <a:ext cx="687240" cy="2078640"/>
            </a:xfrm>
            <a:prstGeom prst="bentConnector3">
              <a:avLst>
                <a:gd name="adj1" fmla="val 16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1" name="_s3079"/>
            <p:cNvSpPr/>
            <p:nvPr/>
          </p:nvSpPr>
          <p:spPr>
            <a:xfrm>
              <a:off x="4371480" y="2699640"/>
              <a:ext cx="1457640" cy="12355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Black"/>
                </a:rPr>
                <a:t>Познава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Black"/>
                </a:rPr>
                <a:t>тельны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Black"/>
                </a:rPr>
                <a:t>действ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3080"/>
            <p:cNvSpPr/>
            <p:nvPr/>
          </p:nvSpPr>
          <p:spPr>
            <a:xfrm>
              <a:off x="2106720" y="4622040"/>
              <a:ext cx="1833120" cy="12355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Обще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учебные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3081"/>
            <p:cNvSpPr/>
            <p:nvPr/>
          </p:nvSpPr>
          <p:spPr>
            <a:xfrm>
              <a:off x="4183200" y="4622040"/>
              <a:ext cx="1833120" cy="12355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Логиче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3082"/>
            <p:cNvSpPr/>
            <p:nvPr/>
          </p:nvSpPr>
          <p:spPr>
            <a:xfrm>
              <a:off x="6259320" y="4622040"/>
              <a:ext cx="1833120" cy="12355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Постан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и реш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пробл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оммуникативные УУ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7" name="Organization Chart 6"/>
          <p:cNvGrpSpPr/>
          <p:nvPr/>
        </p:nvGrpSpPr>
        <p:grpSpPr>
          <a:xfrm>
            <a:off x="225360" y="2626920"/>
            <a:ext cx="8692920" cy="3402360"/>
            <a:chOff x="225360" y="2626920"/>
            <a:chExt cx="8692920" cy="3402360"/>
          </a:xfrm>
        </p:grpSpPr>
        <p:cxnSp>
          <p:nvCxnSpPr>
            <p:cNvPr id="248" name="_s4100"/>
            <p:cNvCxnSpPr>
              <a:stCxn id="249" idx="0"/>
              <a:endCxn id="250" idx="2"/>
            </p:cNvCxnSpPr>
            <p:nvPr/>
          </p:nvCxnSpPr>
          <p:spPr>
            <a:xfrm flipV="1" rot="16200000">
              <a:off x="5914440" y="2642040"/>
              <a:ext cx="679320" cy="3362040"/>
            </a:xfrm>
            <a:prstGeom prst="bentConnector3">
              <a:avLst>
                <a:gd name="adj1" fmla="val 16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1" name="_s4101"/>
            <p:cNvCxnSpPr>
              <a:stCxn id="252" idx="0"/>
              <a:endCxn id="250" idx="2"/>
            </p:cNvCxnSpPr>
            <p:nvPr/>
          </p:nvCxnSpPr>
          <p:spPr>
            <a:xfrm flipV="1" rot="16200000">
              <a:off x="4794120" y="3762360"/>
              <a:ext cx="679320" cy="1121400"/>
            </a:xfrm>
            <a:prstGeom prst="bentConnector3">
              <a:avLst>
                <a:gd name="adj1" fmla="val 16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3" name="_s4102"/>
            <p:cNvCxnSpPr>
              <a:stCxn id="254" idx="0"/>
              <a:endCxn id="250" idx="2"/>
            </p:cNvCxnSpPr>
            <p:nvPr/>
          </p:nvCxnSpPr>
          <p:spPr>
            <a:xfrm flipH="1" flipV="1" rot="5400000">
              <a:off x="3672720" y="3761280"/>
              <a:ext cx="679320" cy="1123920"/>
            </a:xfrm>
            <a:prstGeom prst="bentConnector3">
              <a:avLst>
                <a:gd name="adj1" fmla="val 16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5" name="_s4103"/>
            <p:cNvCxnSpPr>
              <a:stCxn id="256" idx="0"/>
              <a:endCxn id="250" idx="2"/>
            </p:cNvCxnSpPr>
            <p:nvPr/>
          </p:nvCxnSpPr>
          <p:spPr>
            <a:xfrm flipH="1" flipV="1" rot="5400000">
              <a:off x="2552400" y="2640960"/>
              <a:ext cx="679320" cy="3364560"/>
            </a:xfrm>
            <a:prstGeom prst="bentConnector3">
              <a:avLst>
                <a:gd name="adj1" fmla="val 16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0" name="_s4104"/>
            <p:cNvSpPr/>
            <p:nvPr/>
          </p:nvSpPr>
          <p:spPr>
            <a:xfrm>
              <a:off x="3746160" y="2626920"/>
              <a:ext cx="1653480" cy="1357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Коммуни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кат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действ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4105"/>
            <p:cNvSpPr/>
            <p:nvPr/>
          </p:nvSpPr>
          <p:spPr>
            <a:xfrm>
              <a:off x="225360" y="4662720"/>
              <a:ext cx="1965960" cy="13665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Планир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учебн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сотрудни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че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4106"/>
            <p:cNvSpPr/>
            <p:nvPr/>
          </p:nvSpPr>
          <p:spPr>
            <a:xfrm>
              <a:off x="2467440" y="4662720"/>
              <a:ext cx="1966320" cy="13665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Постановк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вопрос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4107"/>
            <p:cNvSpPr/>
            <p:nvPr/>
          </p:nvSpPr>
          <p:spPr>
            <a:xfrm>
              <a:off x="4709880" y="4662720"/>
              <a:ext cx="1965960" cy="13665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Постро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речев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высказы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Black"/>
                </a:rPr>
                <a:t>ва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4108"/>
            <p:cNvSpPr/>
            <p:nvPr/>
          </p:nvSpPr>
          <p:spPr>
            <a:xfrm>
              <a:off x="6952320" y="4662720"/>
              <a:ext cx="1965960" cy="13665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Лидерство 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соглас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действий 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партнер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Речевая деятельность и работа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    с  информацией- основа формирования КОММУНИКАТИВНЫХ    УУД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d0d0d"/>
                </a:solidFill>
                <a:latin typeface="Arial"/>
                <a:ea typeface="Arial"/>
              </a:rPr>
              <a:t>Первоначальные умения передачи, поиска, хранения, преобразования, использования информаци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d0d0d"/>
                </a:solidFill>
                <a:latin typeface="Arial"/>
                <a:ea typeface="Arial"/>
              </a:rPr>
              <a:t>умение работать с учебником, словарем,  схемами, таблицами, иллюстрациями, каталогом, художественными и адаптированными научно-популярными текста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d0d0d"/>
                </a:solidFill>
                <a:latin typeface="Arial"/>
                <a:ea typeface="Arial"/>
              </a:rPr>
              <a:t>умение использовать компьютерную техник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Основные читательские умения-коммуникативные  УУД     </a:t>
            </a:r>
            <a:br>
              <a:rPr sz="3600"/>
            </a:b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тандарт второго поколения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)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вык чтения - как общеучебное умение понимать  и воспроизводить смысл прочитанн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налитические умения работать  с  учебными, художественными и научно-популярными текст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иблиографические ум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владение алгоритмом информационного пои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 поиск информации из различных источник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кранное чт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85480" y="285480"/>
            <a:ext cx="3817800" cy="18810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деал работника -исполнитель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овременная эпоха требует созидател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5486400" y="1600200"/>
            <a:ext cx="3276720" cy="1943280"/>
          </a:xfrm>
          <a:prstGeom prst="rect">
            <a:avLst/>
          </a:pr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звитие навыков самостоятельного изучения материала и оценки результатов своей дея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4648320" y="2666880"/>
            <a:ext cx="64764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0" y="392904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Технологические процессы его осво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Как учить:     новые знания «открывают де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Рефлексия как способ развития само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324000" y="3860640"/>
            <a:ext cx="8351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Аналитические умения работы с  учебной, художественной  и научно-популярной литературой (стандарт второго поколения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мение воспринимать изобразительно-выразительные средства языка, авторскую позицию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мение устанавливать причинно-следственные связи, выделять главную мысль текст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Библиографические умения работы с  учебной, художественной  и научно-популярной литературой</a:t>
            </a:r>
            <a:br>
              <a:rPr sz="2800"/>
            </a:b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(стандарт второго поколения)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ние правильно называть  книгу - автора и заглавие произве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ние  ориентироваться в учебной книге – пользоваться оглавлением,  прикнижными словар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ние пользоваться методическим  и справочным аппаратом учеб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НШ» СЛОВАРИ РУССКОГО ЯЗЫКА   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фографический («Пиши правильно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лковый («Толковый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фоэпический («Произноси правильно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имологический («Происхождения слов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мматический («Обратный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зеологический  («Устойчивых выражений») (с 3-го класс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ообразовательный  (с 4-го класс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6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школьная ступень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0" y="620640"/>
          <a:ext cx="9144000" cy="6418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развития У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 для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остные –самоопределение и смысло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ПШ (внутренняя позиция школьни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тивация 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познавательные и коммуникати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одоление эгоцентризма и децентрация в мышлении и межличностном взаимодей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осылки формирования понятия числа. Условие освоения матема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познавательные знаково-символ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фференциация планов – знак-симв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осылка и условие успешности овладения чтением (грамотой) и письм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улятивные У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льность поведения – действие по образцу и правил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ность на овладение эталонами обобщенных способов действ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уникативные У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уникация как общение, кооперация, условие осознания и усво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учебного сотрудни-чества с учителем и сверст-никами. Осознание и усвоение учебного содерж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51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альное образ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39640" y="620640"/>
          <a:ext cx="8305920" cy="668196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91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развития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 для об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остные УУД смыслообразование и самоопредел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остные и регулятивные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екватная школьная мотивац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флексивная адек-ватная само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чение в зоне ближайшего развития ребенка. Адекватная постановка целей – Высокая самоэффектив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улятивные, лично-стные, познаватель-ные, коммуникатив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ормированность учебной деятельности (УД). Произвольность восприятия, внимания, памяти, вообра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успешность в усвоении учебного содержания. Предпосылка перехо-да к самообразова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уникативные (речевые), регулятив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ий план действ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действовать «в уме»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уникативные, регулятив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флек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знанность и критичность учебных дейст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Новая технология – сущностная часть содержания образования (1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1071360"/>
            <a:ext cx="91440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d0d0d"/>
                </a:solidFill>
                <a:latin typeface="Arial"/>
                <a:ea typeface="Arial"/>
              </a:rPr>
              <a:t>- изменение характера взаимодействия учителя с классом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Arial"/>
                <a:ea typeface="Arial"/>
              </a:rPr>
              <a:t>- </a:t>
            </a:r>
            <a:r>
              <a:rPr b="1" lang="ru-RU" sz="2700" spc="-1" strike="noStrike">
                <a:solidFill>
                  <a:srgbClr val="0d0d0d"/>
                </a:solidFill>
                <a:latin typeface="Arial"/>
                <a:ea typeface="Arial"/>
              </a:rPr>
              <a:t>личностное включение</a:t>
            </a:r>
            <a:r>
              <a:rPr b="0" lang="ru-RU" sz="2700" spc="-1" strike="noStrike">
                <a:solidFill>
                  <a:srgbClr val="0d0d0d"/>
                </a:solidFill>
                <a:latin typeface="Arial"/>
                <a:ea typeface="Arial"/>
              </a:rPr>
              <a:t> всех учащихся в </a:t>
            </a:r>
            <a:r>
              <a:rPr b="1" lang="ru-RU" sz="2700" spc="-1" strike="noStrike">
                <a:solidFill>
                  <a:srgbClr val="0d0d0d"/>
                </a:solidFill>
                <a:latin typeface="Arial"/>
                <a:ea typeface="Arial"/>
              </a:rPr>
              <a:t>процесс взаимного общен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0d0d0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Arial"/>
                <a:ea typeface="Arial"/>
              </a:rPr>
              <a:t>внешняя мотивация вытесняется формированием </a:t>
            </a:r>
            <a:r>
              <a:rPr b="1" lang="ru-RU" sz="2700" spc="-1" strike="noStrike">
                <a:solidFill>
                  <a:srgbClr val="0d0d0d"/>
                </a:solidFill>
                <a:latin typeface="Arial"/>
                <a:ea typeface="Arial"/>
              </a:rPr>
              <a:t>осознанного мотива учен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0d0d0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Arial"/>
                <a:ea typeface="Arial"/>
              </a:rPr>
              <a:t>репродукция знаний заменяется </a:t>
            </a:r>
            <a:r>
              <a:rPr b="1" lang="ru-RU" sz="2700" spc="-1" strike="noStrike">
                <a:solidFill>
                  <a:srgbClr val="0d0d0d"/>
                </a:solidFill>
                <a:latin typeface="Arial"/>
                <a:ea typeface="Arial"/>
              </a:rPr>
              <a:t>решением творческих  учебных и </a:t>
            </a:r>
            <a:r>
              <a:rPr b="1" lang="ru-RU" sz="2700" spc="-1" strike="noStrike">
                <a:solidFill>
                  <a:srgbClr val="ff0000"/>
                </a:solidFill>
                <a:latin typeface="Arial"/>
                <a:ea typeface="Arial"/>
              </a:rPr>
              <a:t>практических задач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95A8-FBB4-4A36-8DD0-285895D4F9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276720" y="2990520"/>
            <a:ext cx="586728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ПРОБЛЕМНОЕ ОБУЧЕНИЕ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ОСНОВЕ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УЧЕБНЫХ  СИТУАЦ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792000" y="189000"/>
            <a:ext cx="7525080" cy="1260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Базовые образов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5435640" y="1285920"/>
            <a:ext cx="3708360" cy="1643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5572080" y="1648440"/>
            <a:ext cx="3375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ежду обучением и психическ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азвитием человека всег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оит его деятель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1"/>
          <p:cNvSpPr/>
          <p:nvPr/>
        </p:nvSpPr>
        <p:spPr>
          <a:xfrm>
            <a:off x="190440" y="4429080"/>
            <a:ext cx="4381560" cy="21495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6012000" y="5229360"/>
            <a:ext cx="26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500040" y="5000760"/>
            <a:ext cx="39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бразовательная задач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стоит в организации условий, провоцирующих детское действ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4" descr="fourth%20class"/>
          <p:cNvPicPr/>
          <p:nvPr/>
        </p:nvPicPr>
        <p:blipFill>
          <a:blip r:embed="rId1"/>
          <a:stretch/>
        </p:blipFill>
        <p:spPr>
          <a:xfrm>
            <a:off x="287280" y="216864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5" descr="Картинка 156 из 2872"/>
          <p:cNvPicPr/>
          <p:nvPr/>
        </p:nvPicPr>
        <p:blipFill>
          <a:blip r:embed="rId2"/>
          <a:stretch/>
        </p:blipFill>
        <p:spPr>
          <a:xfrm>
            <a:off x="5959440" y="4524480"/>
            <a:ext cx="2665440" cy="20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D671-D123-4134-B790-83A6A13948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"/>
          <p:cNvSpPr/>
          <p:nvPr/>
        </p:nvSpPr>
        <p:spPr>
          <a:xfrm>
            <a:off x="142920" y="152280"/>
            <a:ext cx="8821800" cy="118908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Некоторые примеры учеб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деятельности: Русский язы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0" y="1736640"/>
            <a:ext cx="914400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гры и эксперимен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о звуками и буквами, словами, грамматическими структурами, текстами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с учебными моделя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лов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ные высказывания, текс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блюдения, обсуждения, описание и анали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лова и конструкции, тексты; особенности их построения и употребления; порядок действий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ировка, упорядочивание, маркировка, классификация, сравн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образование и созд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писки слов, тексты, памятки, плакаты и т.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жедневное чт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слух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 себ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письм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писывание, письмо под диктовку, ведение дневников, творческие работы и т.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BB0B-186F-4454-A728-48E8EADC97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792000" y="189000"/>
            <a:ext cx="7525080" cy="1260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Базовые образов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3384720" y="2133720"/>
            <a:ext cx="32050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ПРОЕК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6"/>
          <p:cNvSpPr/>
          <p:nvPr/>
        </p:nvSpPr>
        <p:spPr>
          <a:xfrm>
            <a:off x="6715080" y="1571760"/>
            <a:ext cx="2016000" cy="2908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риа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мысел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реализация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проду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0" descr="Картинка 233 из 2872"/>
          <p:cNvPicPr/>
          <p:nvPr/>
        </p:nvPicPr>
        <p:blipFill>
          <a:blip r:embed="rId1"/>
          <a:stretch/>
        </p:blipFill>
        <p:spPr>
          <a:xfrm>
            <a:off x="5715000" y="4786200"/>
            <a:ext cx="2124000" cy="1592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Картинка 823 из 2872"/>
          <p:cNvPicPr/>
          <p:nvPr/>
        </p:nvPicPr>
        <p:blipFill>
          <a:blip r:embed="rId2"/>
          <a:stretch/>
        </p:blipFill>
        <p:spPr>
          <a:xfrm>
            <a:off x="214200" y="3786120"/>
            <a:ext cx="3729240" cy="2551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2" descr="image_0002005"/>
          <p:cNvPicPr/>
          <p:nvPr/>
        </p:nvPicPr>
        <p:blipFill>
          <a:blip r:embed="rId3"/>
          <a:stretch/>
        </p:blipFill>
        <p:spPr>
          <a:xfrm>
            <a:off x="4214880" y="3643200"/>
            <a:ext cx="1714320" cy="13240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3" descr="Картинка 436 из 2872"/>
          <p:cNvPicPr/>
          <p:nvPr/>
        </p:nvPicPr>
        <p:blipFill>
          <a:blip r:embed="rId4"/>
          <a:stretch/>
        </p:blipFill>
        <p:spPr>
          <a:xfrm>
            <a:off x="576360" y="1592280"/>
            <a:ext cx="2555640" cy="19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00040" y="35712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МЕТОД ПРОЕКТОВ КАК ПЕДАГОГИЧЕСКАЯ ТЕХНОЛОГИЯ ОБУЧЕНИЯ СОТРУДНИЧЕСТВУ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alibri"/>
              </a:rPr>
              <a:t>Программно формируется умение детей работать в группе, принимать  помощь  от одноклассников  и оказывать помощь, вести урок (фрагмент урока), формулировать содержательную часть проекта, оформлять результат (доклад, выпуск газеты, репортаж, презентация…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alibri"/>
              </a:rPr>
              <a:t>Особое внимание уделяется  обучению детей работе с источниками информации ( оглавление учебника  как  программа ученика; таблицы, диаграммы, иллюстрации учебников, их справочники и словари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3962520" cy="28195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еники решают предметные задачи, а в жизни все проблемы межпредмет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267080" y="3276720"/>
            <a:ext cx="4608720" cy="236196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ормирование общеучебных умений, навыков и  компетен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3505320" y="3809880"/>
            <a:ext cx="93636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1066680" y="6324480"/>
            <a:ext cx="69850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BFFC-A2F5-4CF9-977A-DD5C2C9122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571400" y="3071880"/>
            <a:ext cx="529092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ВНЕВ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500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ФФЕРЕНЦИ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AutoShape 3"/>
          <p:cNvSpPr/>
          <p:nvPr/>
        </p:nvSpPr>
        <p:spPr>
          <a:xfrm>
            <a:off x="792000" y="189000"/>
            <a:ext cx="7525080" cy="1260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Базовые образов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216000" y="3786120"/>
            <a:ext cx="8136000" cy="3071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eeece1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eeece1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Основные принци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открытость системы требова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предъявление образцов деяте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«ножницы» между базовым и повышенными уровнями требова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посильность базового уровня, обязательность его освоения всеми уч-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добровольность в освоении повышенных уровней требова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работа с группами «подвижного» соста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накопительная система оцени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4968720" y="1071720"/>
            <a:ext cx="4175280" cy="221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фференциация треб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уровню освоения, явное вы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зового и повышенных уров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IMGA0477"/>
          <p:cNvPicPr/>
          <p:nvPr/>
        </p:nvPicPr>
        <p:blipFill>
          <a:blip r:embed="rId1"/>
          <a:stretch/>
        </p:blipFill>
        <p:spPr>
          <a:xfrm>
            <a:off x="250920" y="1700280"/>
            <a:ext cx="26287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7795-30A2-40D2-BFBF-6D7ACAC7CC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2125800" y="3063600"/>
            <a:ext cx="4752720" cy="16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ИНФОРМАЦИОННЫЕ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724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КОММУНИКАЦИОН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724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ТЕХН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AutoShape 3"/>
          <p:cNvSpPr/>
          <p:nvPr/>
        </p:nvSpPr>
        <p:spPr>
          <a:xfrm>
            <a:off x="792000" y="189000"/>
            <a:ext cx="7525080" cy="1152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Базовые образов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5"/>
          <p:cNvSpPr/>
          <p:nvPr/>
        </p:nvSpPr>
        <p:spPr>
          <a:xfrm>
            <a:off x="5038560" y="1092240"/>
            <a:ext cx="4105440" cy="21175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ОР как новое дидактиче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редство обу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кранное чт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0" y="4524480"/>
            <a:ext cx="6470640" cy="204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тельная деятельность на основе И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ытое (но контролируемое) простр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ых источни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ая поддержка учебного процесса</a:t>
            </a:r>
            <a:r>
              <a:rPr b="0" lang="ru-RU" sz="2000" spc="-1" strike="noStrike">
                <a:solidFill>
                  <a:srgbClr val="eeece1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2" descr="EA348E4FAB2BF7F"/>
          <p:cNvPicPr/>
          <p:nvPr/>
        </p:nvPicPr>
        <p:blipFill>
          <a:blip r:embed="rId1"/>
          <a:stretch/>
        </p:blipFill>
        <p:spPr>
          <a:xfrm>
            <a:off x="0" y="1449360"/>
            <a:ext cx="2519280" cy="16765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3" descr="it6"/>
          <p:cNvPicPr/>
          <p:nvPr/>
        </p:nvPicPr>
        <p:blipFill>
          <a:blip r:embed="rId2"/>
          <a:stretch/>
        </p:blipFill>
        <p:spPr>
          <a:xfrm>
            <a:off x="6156360" y="4292640"/>
            <a:ext cx="2808360" cy="20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F0B8-5878-491E-A0CE-FC660C49CE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3"/>
          <p:cNvSpPr/>
          <p:nvPr/>
        </p:nvSpPr>
        <p:spPr>
          <a:xfrm>
            <a:off x="250920" y="0"/>
            <a:ext cx="8713800" cy="1152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Образовательная сред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учебное и игровое простран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1"/>
          <p:cNvSpPr/>
          <p:nvPr/>
        </p:nvSpPr>
        <p:spPr>
          <a:xfrm>
            <a:off x="3348000" y="1160640"/>
            <a:ext cx="5796000" cy="1908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eeece1"/>
                </a:solidFill>
                <a:latin typeface="Arial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знач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одвижных занятий и для спокойной раб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бщения и для уедин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«пробы сил» и для демонстрации достиж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оиска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3"/>
          <p:cNvSpPr/>
          <p:nvPr/>
        </p:nvSpPr>
        <p:spPr>
          <a:xfrm>
            <a:off x="0" y="3105000"/>
            <a:ext cx="4500720" cy="36198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ранст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сто учител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бодно оформляемое мес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работы учащих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центральное» место для выступлен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центральная» дос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чие дос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голок книг и других информацио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чник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удио- и видеоцентр, центр «письм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л с раздаточными материал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тавки, стенды и т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4" descr="Картинка 252 из 2872"/>
          <p:cNvPicPr/>
          <p:nvPr/>
        </p:nvPicPr>
        <p:blipFill>
          <a:blip r:embed="rId1"/>
          <a:stretch/>
        </p:blipFill>
        <p:spPr>
          <a:xfrm>
            <a:off x="6443640" y="5300640"/>
            <a:ext cx="1800360" cy="12016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5" descr="Картинка 287 из 2872"/>
          <p:cNvPicPr/>
          <p:nvPr/>
        </p:nvPicPr>
        <p:blipFill>
          <a:blip r:embed="rId2"/>
          <a:stretch/>
        </p:blipFill>
        <p:spPr>
          <a:xfrm>
            <a:off x="395280" y="1268280"/>
            <a:ext cx="1655640" cy="1497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6" descr="Картинка 571 из 2872"/>
          <p:cNvPicPr/>
          <p:nvPr/>
        </p:nvPicPr>
        <p:blipFill>
          <a:blip r:embed="rId3"/>
          <a:stretch/>
        </p:blipFill>
        <p:spPr>
          <a:xfrm>
            <a:off x="7056360" y="3357720"/>
            <a:ext cx="1835280" cy="18349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1" descr="633_35"/>
          <p:cNvPicPr/>
          <p:nvPr/>
        </p:nvPicPr>
        <p:blipFill>
          <a:blip r:embed="rId4"/>
          <a:stretch/>
        </p:blipFill>
        <p:spPr>
          <a:xfrm>
            <a:off x="4248000" y="3753000"/>
            <a:ext cx="247680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BC92-B317-46E8-8D82-0B9D41BEE1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2"/>
          <p:cNvSpPr/>
          <p:nvPr/>
        </p:nvSpPr>
        <p:spPr>
          <a:xfrm>
            <a:off x="179280" y="260280"/>
            <a:ext cx="8748720" cy="115272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Некоторые образ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учебного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9" descr="aq11octL"/>
          <p:cNvPicPr/>
          <p:nvPr/>
        </p:nvPicPr>
        <p:blipFill>
          <a:blip r:embed="rId1"/>
          <a:stretch/>
        </p:blipFill>
        <p:spPr>
          <a:xfrm>
            <a:off x="2637000" y="2114640"/>
            <a:ext cx="2917800" cy="21556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Мобильный класс AquaCart"/>
          <p:cNvPicPr/>
          <p:nvPr/>
        </p:nvPicPr>
        <p:blipFill>
          <a:blip r:embed="rId2"/>
          <a:stretch/>
        </p:blipFill>
        <p:spPr>
          <a:xfrm>
            <a:off x="0" y="5616720"/>
            <a:ext cx="1379520" cy="124128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2"/>
          <p:cNvSpPr/>
          <p:nvPr/>
        </p:nvSpPr>
        <p:spPr>
          <a:xfrm>
            <a:off x="3276720" y="1773360"/>
            <a:ext cx="25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обильный клас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3" descr="233_11"/>
          <p:cNvPicPr/>
          <p:nvPr/>
        </p:nvPicPr>
        <p:blipFill>
          <a:blip r:embed="rId3"/>
          <a:stretch/>
        </p:blipFill>
        <p:spPr>
          <a:xfrm>
            <a:off x="250920" y="2349360"/>
            <a:ext cx="2124000" cy="262728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14"/>
          <p:cNvSpPr/>
          <p:nvPr/>
        </p:nvSpPr>
        <p:spPr>
          <a:xfrm>
            <a:off x="324000" y="166536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носная лабора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6" descr="278_35"/>
          <p:cNvPicPr/>
          <p:nvPr/>
        </p:nvPicPr>
        <p:blipFill>
          <a:blip r:embed="rId4"/>
          <a:stretch/>
        </p:blipFill>
        <p:spPr>
          <a:xfrm>
            <a:off x="1650960" y="5364000"/>
            <a:ext cx="828720" cy="7876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17"/>
          <p:cNvSpPr/>
          <p:nvPr/>
        </p:nvSpPr>
        <p:spPr>
          <a:xfrm>
            <a:off x="3924360" y="494172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ые мо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19" descr="268_11"/>
          <p:cNvPicPr/>
          <p:nvPr/>
        </p:nvPicPr>
        <p:blipFill>
          <a:blip r:embed="rId5"/>
          <a:stretch/>
        </p:blipFill>
        <p:spPr>
          <a:xfrm>
            <a:off x="2600280" y="4487760"/>
            <a:ext cx="1630440" cy="1228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1" descr="cuisenairerodspic"/>
          <p:cNvPicPr/>
          <p:nvPr/>
        </p:nvPicPr>
        <p:blipFill>
          <a:blip r:embed="rId6"/>
          <a:stretch/>
        </p:blipFill>
        <p:spPr>
          <a:xfrm>
            <a:off x="2782800" y="6031080"/>
            <a:ext cx="827280" cy="826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3" descr="GR0500"/>
          <p:cNvPicPr/>
          <p:nvPr/>
        </p:nvPicPr>
        <p:blipFill>
          <a:blip r:embed="rId7"/>
          <a:stretch/>
        </p:blipFill>
        <p:spPr>
          <a:xfrm>
            <a:off x="4189320" y="5364000"/>
            <a:ext cx="2724120" cy="1494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5" descr="MCBD05091_0000%255B1%255D"/>
          <p:cNvPicPr/>
          <p:nvPr/>
        </p:nvPicPr>
        <p:blipFill>
          <a:blip r:embed="rId8"/>
          <a:stretch/>
        </p:blipFill>
        <p:spPr>
          <a:xfrm>
            <a:off x="6835680" y="3976560"/>
            <a:ext cx="1001880" cy="9129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635_35"/>
          <p:cNvPicPr/>
          <p:nvPr/>
        </p:nvPicPr>
        <p:blipFill>
          <a:blip r:embed="rId9"/>
          <a:stretch/>
        </p:blipFill>
        <p:spPr>
          <a:xfrm>
            <a:off x="5886360" y="1457280"/>
            <a:ext cx="3067200" cy="22273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1" descr="TUB_HORIZONS_6_FILLER_100"/>
          <p:cNvPicPr/>
          <p:nvPr/>
        </p:nvPicPr>
        <p:blipFill>
          <a:blip r:embed="rId10"/>
          <a:stretch/>
        </p:blipFill>
        <p:spPr>
          <a:xfrm>
            <a:off x="5703840" y="3794040"/>
            <a:ext cx="900000" cy="12286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3" descr="IntelliMathics-3"/>
          <p:cNvPicPr/>
          <p:nvPr/>
        </p:nvPicPr>
        <p:blipFill>
          <a:blip r:embed="rId11"/>
          <a:stretch/>
        </p:blipFill>
        <p:spPr>
          <a:xfrm>
            <a:off x="7056360" y="5035680"/>
            <a:ext cx="1944720" cy="17967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5" descr="LER0177"/>
          <p:cNvPicPr/>
          <p:nvPr/>
        </p:nvPicPr>
        <p:blipFill>
          <a:blip r:embed="rId12"/>
          <a:stretch/>
        </p:blipFill>
        <p:spPr>
          <a:xfrm>
            <a:off x="8024760" y="3575160"/>
            <a:ext cx="1119240" cy="120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Планируемые результаты  (русский язык, литературное чтение)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         </a:t>
            </a:r>
            <a:r>
              <a:rPr b="1" lang="ru-RU" sz="2800" spc="-1" strike="noStrike">
                <a:solidFill>
                  <a:srgbClr val="0d0d0d"/>
                </a:solidFill>
                <a:latin typeface="Calibri"/>
              </a:rPr>
              <a:t>УУ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Классифицировать,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маркировать</a:t>
            </a: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, обозначать,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находить по оглавлению</a:t>
            </a: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Экспериментировать, выявлять, находить, выполнять, анализировать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Демонстрировать понимание/осознание, использовать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Слышать, артикулировать, интонировать 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Распознавать, определять, пояснять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Оказывать и принимать помощь при затруднен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Планируемые результаты (математика) УУ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57120" y="1357200"/>
            <a:ext cx="8258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26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d0d0d"/>
                </a:solidFill>
                <a:latin typeface="Calibri"/>
              </a:rPr>
              <a:t>Находить решение, вычислять, измерять, моделировать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26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d0d0d"/>
                </a:solidFill>
                <a:latin typeface="Calibri"/>
              </a:rPr>
              <a:t>Решать практические задачи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26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d0d0d"/>
                </a:solidFill>
                <a:latin typeface="Calibri"/>
              </a:rPr>
              <a:t>Оказывать и принимать помощь при затруднениях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26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d0d0d"/>
                </a:solidFill>
                <a:latin typeface="Calibri"/>
              </a:rPr>
              <a:t>Экспериментировать, исследовать, выявлять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42976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Arial"/>
                <a:ea typeface="Arial"/>
              </a:rPr>
              <a:t>Примеры заданий для оценки достижений требований к результатам </a:t>
            </a:r>
            <a:br>
              <a:rPr sz="3000"/>
            </a:br>
            <a:r>
              <a:rPr b="1" lang="ru-RU" sz="3000" spc="-1" strike="noStrike">
                <a:solidFill>
                  <a:srgbClr val="7030a0"/>
                </a:solidFill>
                <a:latin typeface="Arial"/>
                <a:ea typeface="Arial"/>
              </a:rPr>
              <a:t>освоения программы начального общего образования (31)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22147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d0d0d"/>
                </a:solidFill>
                <a:latin typeface="Arial"/>
                <a:ea typeface="Arial"/>
              </a:rPr>
              <a:t>Что оценивается: </a:t>
            </a:r>
            <a:r>
              <a:rPr b="1" lang="ru-RU" sz="3200" spc="-1" strike="noStrike">
                <a:solidFill>
                  <a:srgbClr val="0d0d0d"/>
                </a:solidFill>
                <a:latin typeface="Arial"/>
                <a:ea typeface="Arial"/>
              </a:rPr>
              <a:t>функциональная грамотность</a:t>
            </a:r>
            <a:r>
              <a:rPr b="0" lang="ru-RU" sz="3200" spc="-1" strike="noStrike">
                <a:solidFill>
                  <a:srgbClr val="0d0d0d"/>
                </a:solidFill>
                <a:latin typeface="Arial"/>
                <a:ea typeface="Arial"/>
              </a:rPr>
              <a:t> в области математики, чтения и русского языка, естествознания, </a:t>
            </a:r>
            <a:r>
              <a:rPr b="1" lang="ru-RU" sz="3200" spc="-1" strike="noStrike">
                <a:solidFill>
                  <a:srgbClr val="0d0d0d"/>
                </a:solidFill>
                <a:latin typeface="Arial"/>
                <a:ea typeface="Arial"/>
              </a:rPr>
              <a:t>т.е. способность решать учебные задачи на основе сформированных предметных и универсальных способов действ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"/>
          <p:cNvSpPr/>
          <p:nvPr/>
        </p:nvSpPr>
        <p:spPr>
          <a:xfrm>
            <a:off x="642960" y="43560"/>
            <a:ext cx="8286840" cy="69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  <a:ea typeface="Times New Roman"/>
              </a:rPr>
              <a:t>Математика, 4 класс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том четвероклассники отдыхали в лагере. Для проведения соревнований понадобилось оборудовать  спортивную площадку. Было решено расположить на ней яму для прыжков в длину, волейбольную площадку, мишень для стрельбы из лука и доску для записи результатов соревнован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ан спортивной площ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789120" y="0"/>
            <a:ext cx="7783560" cy="685800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  <a:ea typeface="Arial"/>
              </a:rPr>
              <a:t>Задание 1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00080"/>
            <a:ext cx="86868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Вожатая дала четвероклассникам план спортивной площадк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Она попросила отметить на нём расположение мишени и доски, соблюдая следующие условия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– </a:t>
            </a:r>
            <a:r>
              <a:rPr b="0" i="1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мишень надо расположить в пяти метрах от лестниц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– </a:t>
            </a:r>
            <a:r>
              <a:rPr b="0" i="1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доску надо расположить более чем в шести метрах от лестницы, между флагом и елью, но ближе к е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--Отметь</a:t>
            </a:r>
            <a:r>
              <a:rPr b="0" i="1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 на плане  место расположения мишени знаком</a:t>
            </a:r>
            <a:r>
              <a:rPr b="1" i="1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 М</a:t>
            </a:r>
            <a:r>
              <a:rPr b="0" i="1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, а  доски для записи результатов    </a:t>
            </a:r>
            <a:r>
              <a:rPr b="1" i="1" lang="ru-RU" sz="3200" spc="-1" strike="noStrike">
                <a:solidFill>
                  <a:srgbClr val="0d0d0d"/>
                </a:solidFill>
                <a:latin typeface="Calibri"/>
                <a:ea typeface="Times New Roman"/>
              </a:rPr>
              <a:t>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729640" cy="63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Возникновение понятия </a:t>
            </a:r>
            <a:r>
              <a:rPr b="1" i="1" lang="ru-RU" sz="3600" spc="-1" strike="noStrike">
                <a:solidFill>
                  <a:srgbClr val="ff0000"/>
                </a:solidFill>
                <a:latin typeface="Arial Black"/>
              </a:rPr>
              <a:t>«универсальные учебные действия»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связано с изменением парадигмы образования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от цели усвоения знаний, умений и навыков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к цели развития личности учащего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 Black"/>
              </a:rPr>
              <a:t>4</a:t>
            </a:r>
            <a:r>
              <a:rPr b="0" lang="ru-RU" sz="2400" spc="-1" strike="noStrike">
                <a:solidFill>
                  <a:srgbClr val="a50021"/>
                </a:solidFill>
                <a:latin typeface="Arial Black"/>
              </a:rPr>
              <a:t>. Творческие работы: сообщения, сочин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a50021"/>
                </a:solidFill>
                <a:latin typeface="Arial Black"/>
              </a:rPr>
              <a:t>(устные и письменные), графические работы, разыгрывание воображаемых ситуа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витие речи . 4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ИМСЯ  ДЕЛАТЬ  НАУЧНОЕ СООБЩ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крой   первую   часть   своего   учебника   «Наш   мир»   на   с.   70.   Прочитай   доклад Миши      Иванова      о      животных      Арктики. Понравился ли тебе  Мишин доклад? Хочешь узнать,  как  Миша его подготовил? Мне  помогал   Костя   Погодин,   —   признался Миша.  — Сначала мы  подобрали  в библиотеке нужные   книги.   Потом   я   составил   план   своего доклада.  Вот как он  выгляде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ивотные Арк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Птицы Аркт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Птичьи база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Как птицы  и звери защищаются о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олод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Чем  питаются животные Аркти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2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0" descr=""/>
          <p:cNvPicPr/>
          <p:nvPr/>
        </p:nvPicPr>
        <p:blipFill>
          <a:blip r:embed="rId1"/>
          <a:stretch/>
        </p:blipFill>
        <p:spPr>
          <a:xfrm>
            <a:off x="4500720" y="0"/>
            <a:ext cx="4419360" cy="248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5" name=""/>
          <p:cNvGraphicFramePr/>
          <p:nvPr/>
        </p:nvGraphicFramePr>
        <p:xfrm>
          <a:off x="-3840120" y="-3405240"/>
          <a:ext cx="4527360" cy="762120"/>
        </p:xfrm>
        <a:graphic>
          <a:graphicData uri="http://schemas.openxmlformats.org/drawingml/2006/table">
            <a:tbl>
              <a:tblPr/>
              <a:tblGrid>
                <a:gridCol w="45273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3f9ae2"/>
                          </a:solidFill>
                          <a:latin typeface="Arial"/>
                          <a:ea typeface="Times New Roman"/>
                        </a:rPr>
                        <a:t>3. ПУТЕШЕСТВИЕ ПО ПРИРОДНЫМ ЗОНАМ РОСС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Rectangle 51"/>
          <p:cNvSpPr/>
          <p:nvPr/>
        </p:nvSpPr>
        <p:spPr>
          <a:xfrm>
            <a:off x="-3838680" y="-22032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4343400" y="2643120"/>
          <a:ext cx="4626000" cy="4092480"/>
        </p:xfrm>
        <a:graphic>
          <a:graphicData uri="http://schemas.openxmlformats.org/drawingml/2006/table">
            <a:tbl>
              <a:tblPr/>
              <a:tblGrid>
                <a:gridCol w="4626000"/>
              </a:tblGrid>
              <a:tr h="4092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ДЯНАЯ З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Второе заседание клуб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дание для всех присутствующих: подготовить </a:t>
                      </a: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Arial"/>
                          <a:ea typeface="Times New Roman"/>
                        </a:rPr>
                        <a:t>доклад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 Арктике. Можно воспользоваться планом: </a:t>
                      </a: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Arial"/>
                          <a:ea typeface="Times New Roman"/>
                        </a:rPr>
                        <a:t>1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тоположение ледяной зоны (на карте); 2) осо­бенности природы (неживая природа, живая природа, взаимосвязи в природе); 3) значение Арктики для </a:t>
                      </a: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Arial"/>
                          <a:ea typeface="Times New Roman"/>
                        </a:rPr>
                        <a:t>че­ловека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ё использование; 4) влияние человека на природу Арктики;  5) охрана Аркти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Rectangle 61"/>
          <p:cNvSpPr/>
          <p:nvPr/>
        </p:nvSpPr>
        <p:spPr>
          <a:xfrm>
            <a:off x="-3838680" y="83052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-3840120" y="1533600"/>
          <a:ext cx="208080" cy="5173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Rectangle 72"/>
          <p:cNvSpPr/>
          <p:nvPr/>
        </p:nvSpPr>
        <p:spPr>
          <a:xfrm>
            <a:off x="-3838680" y="20505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4"/>
          <p:cNvSpPr/>
          <p:nvPr/>
        </p:nvSpPr>
        <p:spPr>
          <a:xfrm>
            <a:off x="304920" y="1003680"/>
            <a:ext cx="3962160" cy="43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ОТОВИМСЯ  К ШКОЛЬНОЙ ОЛИМПИАД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Times New Roman"/>
              </a:rPr>
              <a:t>1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зобрази   Солнце   и   орбиту   вращения   Земли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Times New Roman"/>
              </a:rPr>
              <a:t>арису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емлю и её ось вращения. Какое время года в 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Times New Roman"/>
              </a:rPr>
              <a:t>Северном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шарии на твоём  рисун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Times New Roman"/>
              </a:rPr>
              <a:t>2.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смотри   рисунок.   В  первом  случае  Солнце ид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Times New Roman"/>
              </a:rPr>
              <a:t>ёт по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изкой  дуге,  во  втором  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Times New Roman"/>
              </a:rPr>
              <a:t>—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ходит  по более 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  <a:ea typeface="Times New Roman"/>
              </a:rPr>
              <a:t>высоко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у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ш мир. 4 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80BF-A46B-49DA-BD54-8C448F171F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Схема 6" descr=""/>
          <p:cNvPicPr/>
          <p:nvPr/>
        </p:nvPicPr>
        <p:blipFill>
          <a:blip r:embed="rId1"/>
          <a:stretch/>
        </p:blipFill>
        <p:spPr>
          <a:xfrm>
            <a:off x="669960" y="1847880"/>
            <a:ext cx="7797600" cy="342576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12"/>
          <p:cNvSpPr/>
          <p:nvPr/>
        </p:nvSpPr>
        <p:spPr>
          <a:xfrm>
            <a:off x="287280" y="5697360"/>
            <a:ext cx="8567640" cy="9082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ятельностный под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остроении УВП ( урок в логике формирования У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4"/>
          <p:cNvSpPr/>
          <p:nvPr/>
        </p:nvSpPr>
        <p:spPr>
          <a:xfrm>
            <a:off x="0" y="152280"/>
            <a:ext cx="9144000" cy="17067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обенности стандар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омпетентностный  под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 образов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трелка вниз 7"/>
          <p:cNvSpPr/>
          <p:nvPr/>
        </p:nvSpPr>
        <p:spPr>
          <a:xfrm flipH="1">
            <a:off x="4580640" y="5108400"/>
            <a:ext cx="319320" cy="438480"/>
          </a:xfrm>
          <a:prstGeom prst="downArrow">
            <a:avLst>
              <a:gd name="adj1" fmla="val 50000"/>
              <a:gd name="adj2" fmla="val 5005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FB8F-148B-4208-B5C0-7C5F786D12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"/>
          <p:cNvSpPr/>
          <p:nvPr/>
        </p:nvSpPr>
        <p:spPr>
          <a:xfrm>
            <a:off x="216000" y="189000"/>
            <a:ext cx="8712000" cy="154764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Основные 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начального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2369160"/>
            <a:ext cx="93250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ормирование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едметных и универса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чебных действ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беспечивающих возмож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сть продолжения образования в основной школ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ндивидуальный прогресс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новных сфе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чностного развития – эмоциональной, познав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ьной, саморегуля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 flipV="1" rot="10800000">
            <a:off x="3741480" y="4851360"/>
            <a:ext cx="81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71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71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ЧТО  ЗАМЕРЯЕ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  <a:ea typeface="Arial"/>
              </a:rPr>
              <a:t>Результаты общего начального обра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Arial"/>
                <a:ea typeface="Arial"/>
              </a:rPr>
              <a:t>Предметные результаты </a:t>
            </a:r>
            <a:r>
              <a:rPr b="0" lang="ru-RU" sz="2800" spc="-1" strike="noStrike">
                <a:solidFill>
                  <a:srgbClr val="0d0d0d"/>
                </a:solidFill>
                <a:latin typeface="Arial"/>
                <a:ea typeface="Arial"/>
              </a:rPr>
              <a:t>(ЗУНы, опыт творческой деятельности и д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Arial"/>
                <a:ea typeface="Arial"/>
              </a:rPr>
              <a:t>Общепредметные результат</a:t>
            </a:r>
            <a:r>
              <a:rPr b="0" lang="ru-RU" sz="2800" spc="-1" strike="noStrike">
                <a:solidFill>
                  <a:srgbClr val="0d0d0d"/>
                </a:solidFill>
                <a:latin typeface="Arial"/>
                <a:ea typeface="Arial"/>
              </a:rPr>
              <a:t>ы (УУД, освоенные на базе предметного содержания, применяемые как в области образовательного процесса, так и в реальных жизненных ситуациях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Arial"/>
                <a:ea typeface="Arial"/>
              </a:rPr>
              <a:t>Личностные результаты </a:t>
            </a:r>
            <a:r>
              <a:rPr b="0" lang="ru-RU" sz="2800" spc="-1" strike="noStrike">
                <a:solidFill>
                  <a:srgbClr val="0d0d0d"/>
                </a:solidFill>
                <a:latin typeface="Arial"/>
                <a:ea typeface="Arial"/>
              </a:rPr>
              <a:t>(система ценностных ориентаций, интересы, толерантност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    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ЧЕМ  УПРАВЛЯЕМ? (объект контроля, инструментари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1071720"/>
            <a:ext cx="9144000" cy="5572080"/>
          </a:xfrm>
          <a:prstGeom prst="rect">
            <a:avLst/>
          </a:prstGeom>
          <a:solidFill>
            <a:srgbClr val="002060"/>
          </a:solidFill>
          <a:ln w="9360">
            <a:solidFill>
              <a:srgbClr val="ffc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Знания, умения, навыки предметного содержания </a:t>
            </a:r>
            <a:r>
              <a:rPr b="0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(программы обучения по русскому языку, литературному чтению, иностранному языку, математике, окружающему миру, музыке+ИЗО, технологии, физической культуре</a:t>
            </a:r>
            <a:r>
              <a:rPr b="0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Универсальные учебные действия</a:t>
            </a:r>
            <a:r>
              <a:rPr b="0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, освоенные на базе предметного содержания, применяемые как в области образовательного процесса, так и в реальных жизненных ситуац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616A-79AB-4FDE-BFD0-F84ADAC8B0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0" y="297000"/>
            <a:ext cx="8964720" cy="1152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1f497d"/>
                </a:solidFill>
                <a:latin typeface="Arial"/>
              </a:rPr>
              <a:t>Механизмы воздействия стандарт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1f497d"/>
                </a:solidFill>
                <a:latin typeface="Arial"/>
              </a:rPr>
              <a:t>на учебный процесс (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документация 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объект контро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 flipV="1" rot="10800000">
            <a:off x="3741480" y="4851360"/>
            <a:ext cx="81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71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71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142920" y="1571760"/>
            <a:ext cx="90010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6602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зисный образовательный 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6602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рамма формирования и развития универсальных учебных 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6602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ируемые результат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примерные учебные программы по отдельным предме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6602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 оценоч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602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зовые образовательные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6:15:47Z</dcterms:created>
  <dc:creator>Роза</dc:creator>
  <dc:description/>
  <dc:language>en-US</dc:language>
  <cp:lastModifiedBy>Admin</cp:lastModifiedBy>
  <dcterms:modified xsi:type="dcterms:W3CDTF">2015-02-07T09:50:00Z</dcterms:modified>
  <cp:revision>199</cp:revision>
  <dc:subject/>
  <dc:title>Содержание образования (1)</dc:title>
</cp:coreProperties>
</file>