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10.gif" ContentType="image/gif"/>
  <Override PartName="/ppt/media/image12.jpeg" ContentType="image/jpeg"/>
  <Override PartName="/ppt/media/image9.gif" ContentType="image/gif"/>
  <Override PartName="/ppt/media/image11.jpeg" ContentType="image/jpeg"/>
  <Override PartName="/ppt/media/image6.jpeg" ContentType="image/jpeg"/>
  <Override PartName="/ppt/media/image20.gif" ContentType="image/gif"/>
  <Override PartName="/ppt/media/image18.jpeg" ContentType="image/jpeg"/>
  <Override PartName="/ppt/media/image19.gif" ContentType="image/gif"/>
  <Override PartName="/ppt/media/image1.jpeg" ContentType="image/jpeg"/>
  <Override PartName="/ppt/media/image17.gif" ContentType="image/gif"/>
  <Override PartName="/ppt/media/image3.png" ContentType="image/png"/>
  <Override PartName="/ppt/media/image15.jpeg" ContentType="image/jpeg"/>
  <Override PartName="/ppt/media/image14.png" ContentType="image/png"/>
  <Override PartName="/ppt/media/image7.jpeg" ContentType="image/jpeg"/>
  <Override PartName="/ppt/media/image4.png" ContentType="image/png"/>
  <Override PartName="/ppt/media/image2.gif" ContentType="image/gif"/>
  <Override PartName="/ppt/media/image8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1529-2B16-48D7-8299-A21824E9A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6746-0348-423A-9DDA-A173D910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BC17-D10E-4C6E-A703-D09BA9E22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EA46-FB9E-4273-8E02-7B5C3A4A2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CDF9C-07A7-411C-AF75-670566F58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4720C-9ABD-4E5A-B1CC-0DFF02A1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C95AD-CAB5-4913-957E-32080E37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A4FA9-8814-426C-9B00-C8307B7D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801582-68A7-4940-BB4D-C2DB5E28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BF281-6715-4068-A2D5-46595E5F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D6406F-E9D3-4581-8DED-990050BB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8207-82BD-409E-A992-2F80241A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46ADA5-1792-4C3E-AC1E-E93FC869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987380-ADD8-4DE4-8615-F828EA33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AEB2F-831C-427B-9910-ABE661FB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701944-86B5-456C-AFF3-1A75C0CBD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98D23-334E-47F3-9BC7-76889D81E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855CF-61F3-4941-A6C8-61A19FAD5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53DF9-AEC3-4777-B513-A7D548A39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0BFFE-2188-4187-ADB1-E99D9A64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A848E-540E-46B3-AF32-5AB3C0B7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16C9D-5F69-4E42-8798-BDF600A3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2A9D-89D9-420C-8CAE-B2236B85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049E2-14D2-4F7A-9E1C-D2939318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ED62E-2678-471F-B073-F6DA02F2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E3E58-3574-4860-A743-B0213641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EC9A8-C25E-4D31-BE2E-B3C381A8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C6AC4-44C5-404C-AC7E-D88073E7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8EC82-0824-4FBC-889F-7D9F8A0A4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0D38B-D70C-4DB5-86A6-1BDCE68B0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5EBA9B-8427-4E7F-B5F2-066CAE9E4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20198E-7336-4414-B9FD-DAB96B63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D1AE7D-6E0B-44B9-9443-636C4C82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3900-3B71-4B80-B3DD-23BF7E2E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8BBE75-1863-4AAB-90ED-BCB23A6D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553E31-4B00-4EE1-843A-707C9F34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4C9927-A354-4179-ADD0-A361EB96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982EA8-50EC-4151-AE44-106476FE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A9D8A7-DBB6-4083-974F-48D3585D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D8A7ED-332B-416D-BC48-6C7864BB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ACAB4F-3DAC-4A5D-8C50-28DC6BBA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5A536D-AD0A-44F9-943B-E4EAC20FC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CC06D7-4049-4794-8FCD-325B86019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8E46-C44C-41CF-98BD-EFCD47D3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6FA1-F46A-4753-B30F-CE90B5B5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99C5-841F-4763-B5A4-9C830E0C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1C11-41B7-455A-8382-1050A340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96BF-9071-48BA-928A-8FABEEC0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F407-09A5-4AE2-B669-343C51F22F82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8C53-7060-4746-87DA-00F978A62C4E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6B47-E389-4456-A3F3-FAFA6FFECB0C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9B27-CBF8-42D3-9A18-C0C0EEC82985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1.jpeg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online-watch-serial-movie.ru/2012/08/04/" TargetMode="External"/><Relationship Id="rId2" Type="http://schemas.openxmlformats.org/officeDocument/2006/relationships/hyperlink" Target="http://www.mir-la.com/1859-olimpiyskie-igry-2012-v-londone-prognozy-hodba-na-20-kilometrov.html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4"/>
          <p:cNvSpPr/>
          <p:nvPr/>
        </p:nvSpPr>
        <p:spPr>
          <a:xfrm>
            <a:off x="755640" y="765000"/>
            <a:ext cx="7632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Автор работы: Маркин Андрей Владимирови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МБОУ «Учхозская СОШ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.Преображенский Краснослободский район, Республика Мордовия, 4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азвание работы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езентация «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Valery Borchin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», английский язы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Руководитель: Мартынова Валентина Александровна учитель английского язы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11"/>
          <p:cNvSpPr txBox="1"/>
          <p:nvPr/>
        </p:nvSpPr>
        <p:spPr>
          <a:xfrm>
            <a:off x="684360" y="549360"/>
            <a:ext cx="7416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2" name="Прямоугольник 7" descr=""/>
          <p:cNvPicPr/>
          <p:nvPr/>
        </p:nvPicPr>
        <p:blipFill>
          <a:blip r:embed="rId4"/>
          <a:stretch/>
        </p:blipFill>
        <p:spPr>
          <a:xfrm>
            <a:off x="858960" y="785880"/>
            <a:ext cx="7499160" cy="1414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5" descr="http://online-watch-serial-movie.ru/uploads/posts/2012-08/1343983157_olimpiada-2012-legkaya-atletika-beg.jpg"/>
          <p:cNvPicPr/>
          <p:nvPr/>
        </p:nvPicPr>
        <p:blipFill>
          <a:blip r:embed="rId5"/>
          <a:stretch/>
        </p:blipFill>
        <p:spPr>
          <a:xfrm>
            <a:off x="1422360" y="2214720"/>
            <a:ext cx="6154920" cy="4228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6"/>
          <p:cNvSpPr/>
          <p:nvPr/>
        </p:nvSpPr>
        <p:spPr>
          <a:xfrm>
            <a:off x="428760" y="928800"/>
            <a:ext cx="3429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My name is Andre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I do sports every da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I would like to be a champion like Valery Borchin</a:t>
            </a: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Valery Borchin goes racewalking</a:t>
            </a: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He wins silver and gold medal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I would like to have such medals</a:t>
            </a: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.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When I grow up, I will win such medals too</a:t>
            </a: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6" descr="C:\Documents and Settings\Администратор\Рабочий стол\спорт\Фото0538.jpg"/>
          <p:cNvPicPr/>
          <p:nvPr/>
        </p:nvPicPr>
        <p:blipFill>
          <a:blip r:embed="rId1"/>
          <a:stretch/>
        </p:blipFill>
        <p:spPr>
          <a:xfrm>
            <a:off x="5929200" y="357120"/>
            <a:ext cx="2714760" cy="3619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C:\Documents and Settings\Администратор\Рабочий стол\спорт\Фото0541.jpg"/>
          <p:cNvPicPr/>
          <p:nvPr/>
        </p:nvPicPr>
        <p:blipFill>
          <a:blip r:embed="rId2"/>
          <a:stretch/>
        </p:blipFill>
        <p:spPr>
          <a:xfrm>
            <a:off x="3857760" y="2571840"/>
            <a:ext cx="2894040" cy="3857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7"/>
          <p:cNvSpPr/>
          <p:nvPr/>
        </p:nvSpPr>
        <p:spPr>
          <a:xfrm>
            <a:off x="214200" y="1143000"/>
            <a:ext cx="3429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Valeriy Borchin is a Russian race walker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He was born in Mordovia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He won the gold medal in the 20 km race at both the 2008 Summer Olympics and the 2009 World Championship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11" descr="C:\Documents and Settings\Администратор\Рабочий стол\борчин1.jpg"/>
          <p:cNvPicPr/>
          <p:nvPr/>
        </p:nvPicPr>
        <p:blipFill>
          <a:blip r:embed="rId1"/>
          <a:stretch/>
        </p:blipFill>
        <p:spPr>
          <a:xfrm>
            <a:off x="3929040" y="357120"/>
            <a:ext cx="4030560" cy="2857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D:\Старые\Документы Вальчик\My funny pictures\анимашки\симис.gif"/>
          <p:cNvPicPr/>
          <p:nvPr/>
        </p:nvPicPr>
        <p:blipFill>
          <a:blip r:embed="rId2"/>
          <a:stretch/>
        </p:blipFill>
        <p:spPr>
          <a:xfrm>
            <a:off x="2786040" y="1357200"/>
            <a:ext cx="857160" cy="1071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D:\Старые\Документы Вальчик\My funny pictures\getImageCA0KDGAW.gif"/>
          <p:cNvPicPr/>
          <p:nvPr/>
        </p:nvPicPr>
        <p:blipFill>
          <a:blip r:embed="rId3"/>
          <a:stretch/>
        </p:blipFill>
        <p:spPr>
          <a:xfrm>
            <a:off x="5286240" y="2214720"/>
            <a:ext cx="357480" cy="395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D:\Старые\Документы Вальчик\My funny pictures\getImageCA0KDGAW.gif"/>
          <p:cNvPicPr/>
          <p:nvPr/>
        </p:nvPicPr>
        <p:blipFill>
          <a:blip r:embed="rId4"/>
          <a:stretch/>
        </p:blipFill>
        <p:spPr>
          <a:xfrm>
            <a:off x="5429160" y="1928880"/>
            <a:ext cx="500040" cy="5540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D:\Старые\Документы Вальчик\My funny pictures\getImageCA0KDGAW.gif"/>
          <p:cNvPicPr/>
          <p:nvPr/>
        </p:nvPicPr>
        <p:blipFill>
          <a:blip r:embed="rId5"/>
          <a:stretch/>
        </p:blipFill>
        <p:spPr>
          <a:xfrm>
            <a:off x="5786280" y="2071800"/>
            <a:ext cx="500400" cy="554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C:\Documents and Settings\Администратор\Рабочий стол\борчин и медаль.jpg"/>
          <p:cNvPicPr/>
          <p:nvPr/>
        </p:nvPicPr>
        <p:blipFill>
          <a:blip r:embed="rId6"/>
          <a:stretch/>
        </p:blipFill>
        <p:spPr>
          <a:xfrm>
            <a:off x="3786120" y="3429000"/>
            <a:ext cx="4102200" cy="2644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D:\Старые\Документы Вальчик\My funny pictures\getImageCA0KDGAW.gif"/>
          <p:cNvPicPr/>
          <p:nvPr/>
        </p:nvPicPr>
        <p:blipFill>
          <a:blip r:embed="rId7"/>
          <a:stretch/>
        </p:blipFill>
        <p:spPr>
          <a:xfrm>
            <a:off x="5643720" y="4929120"/>
            <a:ext cx="500040" cy="55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7"/>
          <p:cNvSpPr/>
          <p:nvPr/>
        </p:nvSpPr>
        <p:spPr>
          <a:xfrm>
            <a:off x="214200" y="1143000"/>
            <a:ext cx="3357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Valery Borchin is known  all over the world.</a:t>
            </a: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Well done!</a:t>
            </a: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» – 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shout people</a:t>
            </a: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He gets around the stadium carrying Russian flag</a:t>
            </a: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12" descr="C:\Documents and Settings\Администратор\Рабочий стол\борчин с флагом.jpg"/>
          <p:cNvPicPr/>
          <p:nvPr/>
        </p:nvPicPr>
        <p:blipFill>
          <a:blip r:embed="rId1"/>
          <a:stretch/>
        </p:blipFill>
        <p:spPr>
          <a:xfrm>
            <a:off x="3714840" y="1357200"/>
            <a:ext cx="5000400" cy="39290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D:\Старые\Документы Вальчик\My funny pictures\анимашки\притпри.gif"/>
          <p:cNvPicPr/>
          <p:nvPr/>
        </p:nvPicPr>
        <p:blipFill>
          <a:blip r:embed="rId2"/>
          <a:stretch/>
        </p:blipFill>
        <p:spPr>
          <a:xfrm>
            <a:off x="3643200" y="1309680"/>
            <a:ext cx="5500800" cy="1191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D:\Старые\Документы Вальчик\My funny pictures\анимашки\притпри.gif"/>
          <p:cNvPicPr/>
          <p:nvPr/>
        </p:nvPicPr>
        <p:blipFill>
          <a:blip r:embed="rId3"/>
          <a:stretch/>
        </p:blipFill>
        <p:spPr>
          <a:xfrm>
            <a:off x="3714840" y="5214960"/>
            <a:ext cx="5072040" cy="10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Rectangle 4" descr=""/>
          <p:cNvPicPr/>
          <p:nvPr/>
        </p:nvPicPr>
        <p:blipFill>
          <a:blip r:embed="rId1"/>
          <a:stretch/>
        </p:blipFill>
        <p:spPr>
          <a:xfrm>
            <a:off x="1603440" y="609480"/>
            <a:ext cx="7540560" cy="114624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9"/>
          <p:cNvSpPr/>
          <p:nvPr/>
        </p:nvSpPr>
        <p:spPr>
          <a:xfrm>
            <a:off x="611280" y="3730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8"/>
          <p:cNvSpPr/>
          <p:nvPr/>
        </p:nvSpPr>
        <p:spPr>
          <a:xfrm>
            <a:off x="214200" y="1071720"/>
            <a:ext cx="3643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Viktor Chegin is a prominent Olympic-level coach in Mordovia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In 2004 Valery  began practising with his training group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14" descr="C:\Documents and Settings\Администратор\Рабочий стол\чёгин.jpg"/>
          <p:cNvPicPr/>
          <p:nvPr/>
        </p:nvPicPr>
        <p:blipFill>
          <a:blip r:embed="rId2"/>
          <a:stretch/>
        </p:blipFill>
        <p:spPr>
          <a:xfrm>
            <a:off x="3786120" y="1214280"/>
            <a:ext cx="4476960" cy="3357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1"/>
          <p:cNvSpPr/>
          <p:nvPr/>
        </p:nvSpPr>
        <p:spPr>
          <a:xfrm>
            <a:off x="428760" y="785880"/>
            <a:ext cx="36432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Valery Borchin is my favourite sportsman</a:t>
            </a: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Dmitry Medvedev awarded him in the Kremlin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Viva Borchin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2" descr="C:\Documents and Settings\Администратор\Рабочий стол\борчин и медведев.jpg"/>
          <p:cNvPicPr/>
          <p:nvPr/>
        </p:nvPicPr>
        <p:blipFill>
          <a:blip r:embed="rId1"/>
          <a:stretch/>
        </p:blipFill>
        <p:spPr>
          <a:xfrm>
            <a:off x="3643200" y="928800"/>
            <a:ext cx="4813560" cy="32144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D:\Старые\Документы Вальчик\My funny pictures\троица.gif"/>
          <p:cNvPicPr/>
          <p:nvPr/>
        </p:nvPicPr>
        <p:blipFill>
          <a:blip r:embed="rId2"/>
          <a:stretch/>
        </p:blipFill>
        <p:spPr>
          <a:xfrm>
            <a:off x="2143080" y="250020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D:\Старые\Документы Вальчик\My funny pictures\троица.gif"/>
          <p:cNvPicPr/>
          <p:nvPr/>
        </p:nvPicPr>
        <p:blipFill>
          <a:blip r:embed="rId3"/>
          <a:stretch/>
        </p:blipFill>
        <p:spPr>
          <a:xfrm>
            <a:off x="2357280" y="228600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D:\Старые\Документы Вальчик\My funny pictures\троица.gif"/>
          <p:cNvPicPr/>
          <p:nvPr/>
        </p:nvPicPr>
        <p:blipFill>
          <a:blip r:embed="rId4"/>
          <a:stretch/>
        </p:blipFill>
        <p:spPr>
          <a:xfrm>
            <a:off x="2428920" y="2500200"/>
            <a:ext cx="428760" cy="42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2"/>
          <p:cNvSpPr/>
          <p:nvPr/>
        </p:nvSpPr>
        <p:spPr>
          <a:xfrm>
            <a:off x="1000080" y="1071720"/>
            <a:ext cx="307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I will be like Valery Borchi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I will win the medal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7" descr="C:\Documents and Settings\Администратор\Рабочий стол\спорт\Фото0546.jpg"/>
          <p:cNvPicPr/>
          <p:nvPr/>
        </p:nvPicPr>
        <p:blipFill>
          <a:blip r:embed="rId1"/>
          <a:stretch/>
        </p:blipFill>
        <p:spPr>
          <a:xfrm>
            <a:off x="4714920" y="928800"/>
            <a:ext cx="3803760" cy="5072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http://animo2.ucoz.ru/_ph/14/1/864119683.jpg"/>
          <p:cNvPicPr/>
          <p:nvPr/>
        </p:nvPicPr>
        <p:blipFill>
          <a:blip r:embed="rId2"/>
          <a:stretch/>
        </p:blipFill>
        <p:spPr>
          <a:xfrm>
            <a:off x="3929040" y="1571760"/>
            <a:ext cx="808200" cy="1768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D:\Старые\Документы Вальчик\My funny pictures\кубок.gif"/>
          <p:cNvPicPr/>
          <p:nvPr/>
        </p:nvPicPr>
        <p:blipFill>
          <a:blip r:embed="rId3"/>
          <a:stretch/>
        </p:blipFill>
        <p:spPr>
          <a:xfrm rot="214200">
            <a:off x="7383240" y="1312560"/>
            <a:ext cx="877680" cy="82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2"/>
          <p:cNvSpPr/>
          <p:nvPr/>
        </p:nvSpPr>
        <p:spPr>
          <a:xfrm>
            <a:off x="1428840" y="2357280"/>
            <a:ext cx="664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e58b6"/>
                </a:solidFill>
                <a:uFillTx/>
                <a:latin typeface="Arial"/>
                <a:hlinkClick r:id="rId1"/>
              </a:rPr>
              <a:t>http://online-watch-serial-movie.ru/2012/08/04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 </a:t>
            </a:r>
            <a:r>
              <a:rPr b="0" lang="ru-RU" sz="1800" spc="-1" strike="noStrike" u="sng">
                <a:solidFill>
                  <a:srgbClr val="8e58b6"/>
                </a:solidFill>
                <a:uFillTx/>
                <a:latin typeface="Arial"/>
                <a:hlinkClick r:id="rId2"/>
              </a:rPr>
              <a:t>http://www.mir-la.com/1859-olimpiyskie-igry-2012-v-londone-prognozy-hodba-na-20-kilometrov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http://lifenews.ru/news/9878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http://www.rusathletics.com/sor/calendar.1443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http://www.olymps.ru/rubrics/news/page/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 </a:t>
            </a:r>
            <a:r>
              <a:rPr b="0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http://olimp-history.ru/node/5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http://animo2.ucoz.ru/photo/animacii_malogo_razmera/sklad_animacij/animacija_medal/14-0-56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Box 3"/>
          <p:cNvSpPr/>
          <p:nvPr/>
        </p:nvSpPr>
        <p:spPr>
          <a:xfrm>
            <a:off x="1500120" y="1357200"/>
            <a:ext cx="64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Internet Resources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7T11:14:47Z</dcterms:created>
  <dc:creator>sTUDENT212</dc:creator>
  <dc:description/>
  <dc:language>en-US</dc:language>
  <cp:lastModifiedBy>Admin</cp:lastModifiedBy>
  <dcterms:modified xsi:type="dcterms:W3CDTF">2013-07-21T16:00:17Z</dcterms:modified>
  <cp:revision>134</cp:revision>
  <dc:subject/>
  <dc:title>Слайд 1</dc:title>
</cp:coreProperties>
</file>