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11.jpeg" ContentType="image/jpeg"/>
  <Override PartName="/ppt/media/image6.jpeg" ContentType="image/jpeg"/>
  <Override PartName="/ppt/media/image20.gif" ContentType="image/gif"/>
  <Override PartName="/ppt/media/image18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3.png" ContentType="image/png"/>
  <Override PartName="/ppt/media/image15.jpeg" ContentType="image/jpeg"/>
  <Override PartName="/ppt/media/image14.png" ContentType="image/png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AE3-1347-4AE4-9C79-34F0A9B8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2E7-4C8F-46FD-8187-6EECAF0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F12-A5A7-4224-95A2-11777E6F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390-1053-4977-BB7D-B18CB60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2671-438A-4695-9FCE-1824AB7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0A087-EA97-4DDD-8BD8-EC79DCD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65A10-5A41-4019-A3BA-865AB83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0AC2-849B-4450-ACE3-585CA8FD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B903-2A27-4C5C-8C3A-50EB7AF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6F49-6543-4CC9-AB6F-0E795A81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CEDC-B28D-48CB-92A0-14B96F2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85B-0BB2-466B-8E8D-DA3E249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44592-04D6-4DFA-A6F6-CFC0371B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D05A0-633E-442A-B153-A8338EE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4F611-A9D6-4558-8BE2-08E57EF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AD69F-3B41-4BAF-A947-7D479430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66768-278D-45DC-B17C-0F450A14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B32A-8DA1-496D-9E0A-E1CBD862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026C-24C0-4778-B5CF-2E679CD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B22D-B23D-48D2-9701-9464EEB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B543-AC4F-42C8-AC7D-7EE18B2B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F6B6-8579-48F6-B7C4-0965A367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AF3-C438-4D6E-A0BC-5ECA1AAD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2E9C-86B7-45EB-8F04-0E1DB9D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7DB5-11B5-403A-AF28-F4B74F1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7069-A393-495E-8BB0-250501A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7241-A3E4-4631-8661-E2EBCC8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E60A-D1B4-40FA-8937-A2BA310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9EE4-8E36-443A-8373-C5B973FE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CAD6-FA31-4F51-B86C-E9EC368D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C2567-DAA3-4365-9478-795EEC45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B156BD-D40A-4CDC-8D1C-626DA433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0A9D3-2DAD-43CB-B9FE-53E7A341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6BE-CE64-425D-AFC9-7406072C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6DA4A-BDA2-49AA-BF83-FCBCDC5F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974E5-393C-46A2-8B0D-87F8026E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119D4-B4A6-4575-A624-91B33E93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3594A-2DBA-4536-BAA7-CD3ED09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241DC-A670-4CA8-95AB-E0852A5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60041-4777-4949-8716-4FF2B0E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14F6E-B872-4243-B393-27D7490D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6EE26-962A-487D-80A9-DF6F91B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5D360-4015-4F0F-93AC-0375B213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FB3-9D15-426D-A6B3-9A9EDA5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933-E872-4C84-9695-FC93B62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727-69DF-44FF-B778-6FE7D8D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D69-2133-47B7-B089-AF242BC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1F9-5E46-4517-BBF2-8E940F17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C8F8-F900-4552-A381-C35BF6FC78E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AB16-4C52-40C3-9C7F-A3EB247407F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FA49-C948-4E63-837B-AE8D9D9D4FE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551-0B8E-4CB5-B07E-8E959719FC1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nline-watch-serial-movie.ru/2012/08/04/" TargetMode="External"/><Relationship Id="rId2" Type="http://schemas.openxmlformats.org/officeDocument/2006/relationships/hyperlink" Target="http://www.mir-la.com/1859-olimpiyskie-igry-2012-v-londone-prognozy-hodba-na-20-kilometrov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755640" y="76500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втор работы: Маркин Андрей Владими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БОУ «Учхоз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.Преображенский Краснослободский район, Республика Мордовия, 4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вание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зентация «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Valery Borchin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», английский язы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уководитель: Мартынова Валентина Александровна учитель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11"/>
          <p:cNvSpPr txBox="1"/>
          <p:nvPr/>
        </p:nvSpPr>
        <p:spPr>
          <a:xfrm>
            <a:off x="684360" y="549360"/>
            <a:ext cx="741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4"/>
          <a:stretch/>
        </p:blipFill>
        <p:spPr>
          <a:xfrm>
            <a:off x="858960" y="785880"/>
            <a:ext cx="7499160" cy="141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http://online-watch-serial-movie.ru/uploads/posts/2012-08/1343983157_olimpiada-2012-legkaya-atletika-beg.jpg"/>
          <p:cNvPicPr/>
          <p:nvPr/>
        </p:nvPicPr>
        <p:blipFill>
          <a:blip r:embed="rId5"/>
          <a:stretch/>
        </p:blipFill>
        <p:spPr>
          <a:xfrm>
            <a:off x="1422360" y="2214720"/>
            <a:ext cx="6154920" cy="4228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6"/>
          <p:cNvSpPr/>
          <p:nvPr/>
        </p:nvSpPr>
        <p:spPr>
          <a:xfrm>
            <a:off x="428760" y="928800"/>
            <a:ext cx="3429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My name is Andre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do sports every da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would like to be a champion like Valery Borchin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goes racewalking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ins silver and gold med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 would like to have such medals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When I grow up, I will win such medals too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C:\Documents and Settings\Администратор\Рабочий стол\спорт\Фото0538.jpg"/>
          <p:cNvPicPr/>
          <p:nvPr/>
        </p:nvPicPr>
        <p:blipFill>
          <a:blip r:embed="rId1"/>
          <a:stretch/>
        </p:blipFill>
        <p:spPr>
          <a:xfrm>
            <a:off x="5929200" y="35712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Documents and Settings\Администратор\Рабочий стол\спорт\Фото0541.jpg"/>
          <p:cNvPicPr/>
          <p:nvPr/>
        </p:nvPicPr>
        <p:blipFill>
          <a:blip r:embed="rId2"/>
          <a:stretch/>
        </p:blipFill>
        <p:spPr>
          <a:xfrm>
            <a:off x="3857760" y="2571840"/>
            <a:ext cx="2894040" cy="38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7"/>
          <p:cNvSpPr/>
          <p:nvPr/>
        </p:nvSpPr>
        <p:spPr>
          <a:xfrm>
            <a:off x="214200" y="114300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iy Borchin is a Russian race walk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as born in Mordovi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won the gold medal in the 20 km race at both the 2008 Summer Olympics and the 2009 World Championshi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1" descr="C:\Documents and Settings\Администратор\Рабочий стол\борчин1.jpg"/>
          <p:cNvPicPr/>
          <p:nvPr/>
        </p:nvPicPr>
        <p:blipFill>
          <a:blip r:embed="rId1"/>
          <a:stretch/>
        </p:blipFill>
        <p:spPr>
          <a:xfrm>
            <a:off x="3929040" y="357120"/>
            <a:ext cx="4030560" cy="285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:\Старые\Документы Вальчик\My funny pictures\анимашки\симис.gif"/>
          <p:cNvPicPr/>
          <p:nvPr/>
        </p:nvPicPr>
        <p:blipFill>
          <a:blip r:embed="rId2"/>
          <a:stretch/>
        </p:blipFill>
        <p:spPr>
          <a:xfrm>
            <a:off x="2786040" y="1357200"/>
            <a:ext cx="857160" cy="10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Старые\Документы Вальчик\My funny pictures\getImageCA0KDGAW.gif"/>
          <p:cNvPicPr/>
          <p:nvPr/>
        </p:nvPicPr>
        <p:blipFill>
          <a:blip r:embed="rId3"/>
          <a:stretch/>
        </p:blipFill>
        <p:spPr>
          <a:xfrm>
            <a:off x="5286240" y="2214720"/>
            <a:ext cx="357480" cy="39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D:\Старые\Документы Вальчик\My funny pictures\getImageCA0KDGAW.gif"/>
          <p:cNvPicPr/>
          <p:nvPr/>
        </p:nvPicPr>
        <p:blipFill>
          <a:blip r:embed="rId4"/>
          <a:stretch/>
        </p:blipFill>
        <p:spPr>
          <a:xfrm>
            <a:off x="5429160" y="1928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D:\Старые\Документы Вальчик\My funny pictures\getImageCA0KDGAW.gif"/>
          <p:cNvPicPr/>
          <p:nvPr/>
        </p:nvPicPr>
        <p:blipFill>
          <a:blip r:embed="rId5"/>
          <a:stretch/>
        </p:blipFill>
        <p:spPr>
          <a:xfrm>
            <a:off x="5786280" y="2071800"/>
            <a:ext cx="500400" cy="554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:\Documents and Settings\Администратор\Рабочий стол\борчин и медаль.jpg"/>
          <p:cNvPicPr/>
          <p:nvPr/>
        </p:nvPicPr>
        <p:blipFill>
          <a:blip r:embed="rId6"/>
          <a:stretch/>
        </p:blipFill>
        <p:spPr>
          <a:xfrm>
            <a:off x="3786120" y="3429000"/>
            <a:ext cx="4102200" cy="264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D:\Старые\Документы Вальчик\My funny pictures\getImageCA0KDGAW.gif"/>
          <p:cNvPicPr/>
          <p:nvPr/>
        </p:nvPicPr>
        <p:blipFill>
          <a:blip r:embed="rId7"/>
          <a:stretch/>
        </p:blipFill>
        <p:spPr>
          <a:xfrm>
            <a:off x="5643720" y="4929120"/>
            <a:ext cx="5000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7"/>
          <p:cNvSpPr/>
          <p:nvPr/>
        </p:nvSpPr>
        <p:spPr>
          <a:xfrm>
            <a:off x="214200" y="1143000"/>
            <a:ext cx="3357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is known  all over the world.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Well done!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» –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shout people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He gets around the stadium carrying Russian flag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2" descr="C:\Documents and Settings\Администратор\Рабочий стол\борчин с флагом.jpg"/>
          <p:cNvPicPr/>
          <p:nvPr/>
        </p:nvPicPr>
        <p:blipFill>
          <a:blip r:embed="rId1"/>
          <a:stretch/>
        </p:blipFill>
        <p:spPr>
          <a:xfrm>
            <a:off x="3714840" y="1357200"/>
            <a:ext cx="5000400" cy="3929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:\Старые\Документы Вальчик\My funny pictures\анимашки\притпри.gif"/>
          <p:cNvPicPr/>
          <p:nvPr/>
        </p:nvPicPr>
        <p:blipFill>
          <a:blip r:embed="rId2"/>
          <a:stretch/>
        </p:blipFill>
        <p:spPr>
          <a:xfrm>
            <a:off x="3643200" y="1309680"/>
            <a:ext cx="5500800" cy="11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D:\Старые\Документы Вальчик\My funny pictures\анимашки\притпри.gif"/>
          <p:cNvPicPr/>
          <p:nvPr/>
        </p:nvPicPr>
        <p:blipFill>
          <a:blip r:embed="rId3"/>
          <a:stretch/>
        </p:blipFill>
        <p:spPr>
          <a:xfrm>
            <a:off x="3714840" y="5214960"/>
            <a:ext cx="5072040" cy="10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4" descr=""/>
          <p:cNvPicPr/>
          <p:nvPr/>
        </p:nvPicPr>
        <p:blipFill>
          <a:blip r:embed="rId1"/>
          <a:stretch/>
        </p:blipFill>
        <p:spPr>
          <a:xfrm>
            <a:off x="1603440" y="609480"/>
            <a:ext cx="7540560" cy="11462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611280" y="3730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14200" y="1071720"/>
            <a:ext cx="36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iktor Chegin is a prominent Olympic-level coach in Mordovi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In 2004 Valery  began practising with his training gro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4" descr="C:\Documents and Settings\Администратор\Рабочий стол\чёгин.jpg"/>
          <p:cNvPicPr/>
          <p:nvPr/>
        </p:nvPicPr>
        <p:blipFill>
          <a:blip r:embed="rId2"/>
          <a:stretch/>
        </p:blipFill>
        <p:spPr>
          <a:xfrm>
            <a:off x="3786120" y="1214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428760" y="785880"/>
            <a:ext cx="36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alery Borchin is my favourite sportsman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Dmitry Medvedev awarded him in the Kremli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Viva Borch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Documents and Settings\Администратор\Рабочий стол\борчин и медведев.jpg"/>
          <p:cNvPicPr/>
          <p:nvPr/>
        </p:nvPicPr>
        <p:blipFill>
          <a:blip r:embed="rId1"/>
          <a:stretch/>
        </p:blipFill>
        <p:spPr>
          <a:xfrm>
            <a:off x="3643200" y="928800"/>
            <a:ext cx="4813560" cy="3214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:\Старые\Документы Вальчик\My funny pictures\троица.gif"/>
          <p:cNvPicPr/>
          <p:nvPr/>
        </p:nvPicPr>
        <p:blipFill>
          <a:blip r:embed="rId2"/>
          <a:stretch/>
        </p:blipFill>
        <p:spPr>
          <a:xfrm>
            <a:off x="2143080" y="25002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D:\Старые\Документы Вальчик\My funny pictures\троица.gif"/>
          <p:cNvPicPr/>
          <p:nvPr/>
        </p:nvPicPr>
        <p:blipFill>
          <a:blip r:embed="rId3"/>
          <a:stretch/>
        </p:blipFill>
        <p:spPr>
          <a:xfrm>
            <a:off x="2357280" y="2286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:\Старые\Документы Вальчик\My funny pictures\троица.gif"/>
          <p:cNvPicPr/>
          <p:nvPr/>
        </p:nvPicPr>
        <p:blipFill>
          <a:blip r:embed="rId4"/>
          <a:stretch/>
        </p:blipFill>
        <p:spPr>
          <a:xfrm>
            <a:off x="2428920" y="250020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1000080" y="10717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 will be like Valery Borch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 will win the med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C:\Documents and Settings\Администратор\Рабочий стол\спорт\Фото0546.jpg"/>
          <p:cNvPicPr/>
          <p:nvPr/>
        </p:nvPicPr>
        <p:blipFill>
          <a:blip r:embed="rId1"/>
          <a:stretch/>
        </p:blipFill>
        <p:spPr>
          <a:xfrm>
            <a:off x="4714920" y="928800"/>
            <a:ext cx="3803760" cy="5072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animo2.ucoz.ru/_ph/14/1/864119683.jpg"/>
          <p:cNvPicPr/>
          <p:nvPr/>
        </p:nvPicPr>
        <p:blipFill>
          <a:blip r:embed="rId2"/>
          <a:stretch/>
        </p:blipFill>
        <p:spPr>
          <a:xfrm>
            <a:off x="3929040" y="1571760"/>
            <a:ext cx="808200" cy="1768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D:\Старые\Документы Вальчик\My funny pictures\кубок.gif"/>
          <p:cNvPicPr/>
          <p:nvPr/>
        </p:nvPicPr>
        <p:blipFill>
          <a:blip r:embed="rId3"/>
          <a:stretch/>
        </p:blipFill>
        <p:spPr>
          <a:xfrm rot="214200">
            <a:off x="7383240" y="1312560"/>
            <a:ext cx="877680" cy="8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1428840" y="2357280"/>
            <a:ext cx="664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1"/>
              </a:rPr>
              <a:t>http://online-watch-serial-movie.ru/2012/08/04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www.mir-la.com/1859-olimpiyskie-igry-2012-v-londone-prognozy-hodba-na-20-kilometrov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lifenews.ru/news/987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www.rusathletics.com/sor/calendar.1443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www.olymps.ru/rubrics/news/page/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http://olimp-history.ru/node/5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animo2.ucoz.ru/photo/animacii_malogo_razmera/sklad_animacij/animacija_medal/14-0-56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1500120" y="1357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Internet Resources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1:14:47Z</dcterms:created>
  <dc:creator>sTUDENT212</dc:creator>
  <dc:description/>
  <dc:language>en-US</dc:language>
  <cp:lastModifiedBy>Admin</cp:lastModifiedBy>
  <dcterms:modified xsi:type="dcterms:W3CDTF">2013-07-21T16:00:17Z</dcterms:modified>
  <cp:revision>134</cp:revision>
  <dc:subject/>
  <dc:title>Слайд 1</dc:title>
</cp:coreProperties>
</file>