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C18-2294-451E-9BE2-3F5348A0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322-9776-4E07-B528-EAEE7D3E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E22-6D57-456C-8579-823104B6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503-8540-4728-95E9-51AB4625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693-B3AB-4FB8-BE01-7301E6A1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427-D1A4-449A-B825-A7AA5C72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ED6-4EED-4CE6-8A68-28EDD6F3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A10-81EE-48B3-BD57-83EF2C48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E50-76E6-4531-B775-9FCA8086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69F-478C-4FBE-8A2A-B5A048A5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328-9C7A-4606-9C28-55A9EA18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935-5FC0-4AF9-9ABC-6F500253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FF64-6B74-4A16-83FA-30F46E71E80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331800" y="461520"/>
            <a:ext cx="4784760" cy="13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Тема: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7640" y="2421000"/>
            <a:ext cx="921708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Развитие коммуникативной компетенции на уроках английского языка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Спасибо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за внимание!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043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ль обучения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ностранному язы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360" y="2362320"/>
            <a:ext cx="82087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развитие иноязычной коммуникативной компетенции, т.е. способности и готовности осуществлять иноязычные межличностное и межкультурное общение с носителями языка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51640" y="908640"/>
            <a:ext cx="5609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Компетенция -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совокупность знаний, навыков, умений, формируемых в процессе обучения иностранному языку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КОММУНИКАЦИЯ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Устная (звуковая)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обмен информацией между людьми в звуковой форме, по слуховому каналу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Письменная (графическая)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обмен информацией на письме, по зрительному каналу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1528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уровень  - Упражнения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459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имитативное предлож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It is a book, isn</a:t>
            </a:r>
            <a:r>
              <a:rPr b="1" i="1" lang="en-US" sz="2800" spc="-1" strike="noStrike" baseline="42000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t  it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Yes,  it  is. It is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переспрос, предположение, вопрос – сомн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Is it a book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Yes, it is. It is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27640" y="83412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уровень  - Упражнения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58560" y="2362320"/>
            <a:ext cx="769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зражение, опроверж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s it a pen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o, it isn</a:t>
            </a:r>
            <a:r>
              <a:rPr b="1" i="1" lang="en-US" sz="2800" spc="-1" strike="noStrike" baseline="54000">
                <a:solidFill>
                  <a:srgbClr val="003366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. It is not a pen. It is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прос информ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at</a:t>
            </a:r>
            <a:r>
              <a:rPr b="1" i="1" lang="en-US" sz="2800" spc="-1" strike="noStrike" baseline="52000">
                <a:solidFill>
                  <a:srgbClr val="003366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  this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t is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елительное предлож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upil 1 asks pupil 2 whether it is a book or not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48000" y="333360"/>
            <a:ext cx="51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619280" y="2421000"/>
            <a:ext cx="58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дносторонний или двусторон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иалог – расспро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иалог – обмен мнени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4360" y="3933720"/>
            <a:ext cx="845964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уровен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 развёрнутые диалоги и монолог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уровен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 свободная диалогическа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 монологическая реч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907920"/>
            <a:ext cx="83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уровень  -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ИКРОДИАЛОГ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166920" y="40464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ёмы, направленные на развитие коммуникативной компетен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05928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42920" y="24922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16000" y="2276640"/>
          <a:ext cx="7848720" cy="4568760"/>
        </p:xfrm>
        <a:graphic>
          <a:graphicData uri="http://schemas.openxmlformats.org/drawingml/2006/table">
            <a:tbl>
              <a:tblPr/>
              <a:tblGrid>
                <a:gridCol w="3456000"/>
                <a:gridCol w="4392720"/>
              </a:tblGrid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ловые игры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рок – концер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идео – урок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рок – интервью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бучающие игры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рок – экскурсия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олевые игры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тод проектов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раматизация литературных произведений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нкурсы – марафоны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2362320"/>
            <a:ext cx="85694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это не только признак культурного развития человека, но и условие его успешной деятельности в самых разных сферах жизни. Поэтому не случайно одной из целей, которые ставит Концепция модернизации образования перед современной школой, является развитие у учащихся коммуникативной компетенции, и нам, как профессионалам своего дела, необходимо сделать всё, чтобы помочь учащимся достичь этой це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907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 настоящее время знани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иностранных языков –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49:57Z</dcterms:created>
  <dc:creator>1</dc:creator>
  <dc:description/>
  <dc:language>en-US</dc:language>
  <cp:lastModifiedBy>maria</cp:lastModifiedBy>
  <dcterms:modified xsi:type="dcterms:W3CDTF">2010-03-29T05:13:48Z</dcterms:modified>
  <cp:revision>6</cp:revision>
  <dc:subject/>
  <dc:title>Тема:</dc:title>
</cp:coreProperties>
</file>