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228-EE2A-4026-BC1D-AD1FACCB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FF5-80FE-4A3E-B38A-2C599D3E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00A-6EC4-4122-8BBA-1FF7A801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BE7-AC76-4AE5-A91A-1E606151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861-91AA-4D06-A215-B35ED2D3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777-9D43-4C45-98E8-7BEAFBEC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F93-9C23-480D-9613-EB5CBD2B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F5C-91CE-4B83-8597-BA5D7246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62D-380B-412D-9AE9-D16C5ED5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3F9-7B77-4A07-8B77-3F17B3D4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787-376F-4FE7-969A-3034B84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44C-B095-4C38-8671-9212418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ADE5-E9DC-4C18-9F57-F17D46990E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331800" y="461520"/>
            <a:ext cx="4784760" cy="13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Тема: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7640" y="2421000"/>
            <a:ext cx="921708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Развитие коммуникативной компетенции на уроках английского языка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Спасибо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за внимание!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43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ль обучения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ностранному язы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2362320"/>
            <a:ext cx="82087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развитие иноязычной коммуникативной компетенции, т.е. способности и готовности осуществлять иноязычные межличностное и межкультурное общение с носителями язык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51640" y="908640"/>
            <a:ext cx="5609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Компетенция -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совокупность знаний, навыков, умений, формируемых в процессе обучения иностранному языку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КОММУНИКАЦИЯ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Устная (звуковая)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обмен информацией между людьми в звуковой форме, по слуховому каналу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исьменная (графическая)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обмен информацией на письме, по зрительному каналу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1528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уровень  - Упражнени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459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имитативное предлож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It is a book, isn</a:t>
            </a:r>
            <a:r>
              <a:rPr b="1" i="1" lang="en-US" sz="2800" spc="-1" strike="noStrike" baseline="42000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t  it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Yes,  it  is. It is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переспрос, предположение, вопрос – сомн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Is it a book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Yes, it is. It is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27640" y="83412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уровень  - Упражнени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58560" y="2362320"/>
            <a:ext cx="769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ражение, опроверж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s it a pen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o, it isn</a:t>
            </a:r>
            <a:r>
              <a:rPr b="1" i="1" lang="en-US" sz="2800" spc="-1" strike="noStrike" baseline="54000">
                <a:solidFill>
                  <a:srgbClr val="003366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. It is not a pen. It is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прос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at</a:t>
            </a:r>
            <a:r>
              <a:rPr b="1" i="1" lang="en-US" sz="2800" spc="-1" strike="noStrike" baseline="52000">
                <a:solidFill>
                  <a:srgbClr val="003366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  this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t is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елительное предлож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upil 1 asks pupil 2 whether it is a book or no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48000" y="333360"/>
            <a:ext cx="51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619280" y="242100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дносторонний или двусторон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иалог – расспро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иалог – обмен мнени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4360" y="3933720"/>
            <a:ext cx="845964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уровен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 развёрнутые диалоги и монолог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уровен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 свободная диалогическа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 монологическая реч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907920"/>
            <a:ext cx="83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уровень  -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ИКРОДИАЛОГ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166920" y="40464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ёмы, направленные на развитие коммуникативной компетен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05928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42920" y="24922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16000" y="2276640"/>
          <a:ext cx="7848720" cy="4568760"/>
        </p:xfrm>
        <a:graphic>
          <a:graphicData uri="http://schemas.openxmlformats.org/drawingml/2006/table">
            <a:tbl>
              <a:tblPr/>
              <a:tblGrid>
                <a:gridCol w="3456000"/>
                <a:gridCol w="439272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ловые игры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рок – концер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идео – урок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рок – интервью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учающие игры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рок – экскурсия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олевые игры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тод проектов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раматизация литературных произведений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курсы – марафоны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362320"/>
            <a:ext cx="8569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это не только признак культурного развития человека, но и условие его успешной деятельности в самых разных сферах жизни. Поэтому не случайно одной из целей, которые ставит Концепция модернизации образования перед современной школой, является развитие у учащихся коммуникативной компетенции, и нам, как профессионалам своего дела, необходимо сделать всё, чтобы помочь учащимся достичь этой це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907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 настоящее время знан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иностранных языков –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49:57Z</dcterms:created>
  <dc:creator>1</dc:creator>
  <dc:description/>
  <dc:language>en-US</dc:language>
  <cp:lastModifiedBy>maria</cp:lastModifiedBy>
  <dcterms:modified xsi:type="dcterms:W3CDTF">2010-03-29T05:13:48Z</dcterms:modified>
  <cp:revision>6</cp:revision>
  <dc:subject/>
  <dc:title>Тема:</dc:title>
</cp:coreProperties>
</file>