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8CA-4A9A-4A8B-921A-93C0261C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67F-F16F-4AC6-A6EB-BC3699EF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593-090A-4C5F-B233-70FAABBE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BB5-A90F-45B5-A7EA-EFF648D2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431C-D1EB-4DAF-82BD-4AD1422A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476C-D216-46CC-BF71-04363063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5F5F-7389-453A-83D2-73E00CAB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EF02-BEC9-4C43-8AC7-F5DDFBEE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50C2-BA90-4CDC-AC26-FB2FD19C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A1D5-8ADD-44AC-899A-027399B5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0712-BF21-477E-8F32-BBB328F4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C24-9113-4ABE-BED9-426596B3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A1EF-9B7D-436C-B81E-D830F5DA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DC42-509B-4160-B7B2-9BE3B0EE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CBA3-F75D-4946-B645-D89F5F86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88EB-A692-4EBD-A9A5-8FF2A121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AF3C-DA59-43F6-90C6-2D2A4E8F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7788-7EC2-4FCC-8057-7DEA8C10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42B40-F77E-401D-B6CC-D181AD61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8F794-D0B6-4AA3-8769-654450DD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69C69-073B-42DE-A76C-90BA3F4A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1F154-0AAF-4CA7-A4E6-1BC46F9A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9C7-DE76-42A3-85C3-29F63B1D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A9C5A-8B71-44EC-AA20-F0507BD7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8D6B8-A0F8-4F06-8D2C-F098870D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32549-F3A8-4362-8DC2-D23DE7E4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2ABEA-3B06-426E-8B69-B9D6F299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85B9C-BC24-40DB-9C75-87559787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299A-623E-475E-9028-D9F463EB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A4051-21E0-4B29-BD54-AF4C9370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C70F7-4F20-4718-8A66-8205009F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7FEDA-5655-4FE7-904D-0CA9B74A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87579-7642-472D-B579-E07397AF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6313-B0BF-4F70-85D7-6E84A0F5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45818-64D8-47AC-AE1B-16790D69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CDCA0-1149-43D5-9A15-BD3A4620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D4E7B-819F-43E2-8004-4D8DE085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004D5-32AA-4EF2-B3C7-15C8B750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25B94-D95C-4ADC-A8D6-26D5EA76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D4668-A5E4-427D-8402-B6D0D3AA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205F2-D907-4CF0-94EE-854BF668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10B8C-8AAB-44A3-92F2-0BC03469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3C90A-6BB9-42EA-A7C4-5E544572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AE575-85A8-4AA4-87DE-A23B1767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363-193E-4664-8D1E-B510F8FC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BFA31-F1D1-47A2-A146-11674B26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BFC2F-CC2D-4977-8431-99333B7B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8358B-A3BA-4C21-A604-6B4F6214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217B1-E78F-4410-83E5-EC9F7F14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5376F-964E-4373-A76D-763B99B4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B3EF3-3015-4D73-A20E-785FA5E2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F8F4E-DED8-4FA5-A9FE-2BCA0D28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F8785-BC36-4AD7-B380-A4C00F3E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20281-D6EE-4D7C-AB90-2AB91DF5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45411-A7F5-41D8-83FC-DA7D0F11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C3B-EA8F-49E5-A10D-9FE5A409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3D08C-111E-4DC8-9BA9-FD39B935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79A8C-9410-439E-A1E9-D05082DD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BD46E-D3D0-41AD-9BBA-CD513582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F7650-E23B-423A-8BC9-AD0204E8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C10F5-A6F4-414C-A495-01112FCB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3FDB1-EDCF-4D63-9A80-2E3314FC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EA31B-70BC-476F-BF5C-0759F3AA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9BF80-7B4B-4658-B465-A4B6F48C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38ED7-DDB4-47BC-8D46-48EF9129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DC2AA-88B5-456A-A831-FCD687F8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6877-9C5F-44DA-BB59-541EB4EF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6143B-60D1-4034-A47D-94500935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327A6-DE8F-4DC8-872A-A49E04BB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C8F48-5071-4286-8A7E-B531C374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24313-B7B6-42FC-A7E0-FCEB85BB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C093C-4C6A-4CB6-904B-BEAB8596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B0F56-3086-4364-A8AE-E3E81812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27A2E-9E13-453B-90D2-5F6F3B3D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EB7B4-18FB-4B93-B3E8-8F4C5DB6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6FB3A-FD82-4E9D-8968-D8DD9ACE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3F63B-6D7C-4DC7-BA18-8EF04AAC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B16-4045-42BB-BBDD-C0B3CBAA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5215C-3D9D-497E-A8FE-CFCBC654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4E8B3-7853-446C-A0B0-11F6C35D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B40DB-3055-41A6-AF0F-4D1DF938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5D4B3-84FD-4F21-8A9B-4CECFEC6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74E95-903F-4B16-8DD1-C7193EDD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2839E-68EF-465F-B6D0-3BE3BE2E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BF748-2055-44E6-93D0-4F16AAAD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4D9FB-E9A4-44FC-9291-20A29248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CA433-3D6B-48DA-A9BA-9EEF094F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8EAB8-A187-4051-84FE-B452031F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B97-715C-4E84-B81D-FBA6423C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67122-B7CE-4CB4-9F62-6765A096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C3A33-E425-4F51-95C7-746851B9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748ED-05C4-45EF-9A62-75DC1BAA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38539-560A-416E-8A1C-CFD15154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96DD6-5202-475D-B8D1-DAC6FE94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98809-9A4A-4280-B2F3-7855137C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9D909-973E-4CE6-A4BD-CE9AD654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A6E6-B039-49A7-A789-C14930665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D029-D4B0-4359-BAB5-35180E3545D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584F-5E09-4953-A6BE-40F9A4779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E1F6-AA50-4130-BC4B-78798B3DA3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C0F3-640E-4D21-9DC0-FE3E73997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B393-EA4F-46AE-A9B5-BBACB37DD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24EC-5FD7-4D54-A34E-191AA89AA4A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EA35-0E6B-4FB3-B326-74611502189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345520" cy="17985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463680" y="2170080"/>
            <a:ext cx="8345520" cy="18414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3"/>
          <p:cNvSpPr/>
          <p:nvPr/>
        </p:nvSpPr>
        <p:spPr>
          <a:xfrm>
            <a:off x="1000080" y="5000760"/>
            <a:ext cx="41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з опыта  работы учител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ОУ СОШ № 25  Шпет В.В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Picture 2" descr="C:\Program Files\Microsoft Office\MEDIA\CAGCAT10\j0301480.wmf"/>
          <p:cNvPicPr/>
          <p:nvPr/>
        </p:nvPicPr>
        <p:blipFill>
          <a:blip r:embed="rId3"/>
          <a:stretch/>
        </p:blipFill>
        <p:spPr>
          <a:xfrm>
            <a:off x="1000080" y="3286080"/>
            <a:ext cx="179856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4"/>
          <p:cNvSpPr/>
          <p:nvPr/>
        </p:nvSpPr>
        <p:spPr>
          <a:xfrm>
            <a:off x="928800" y="28584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Тревожность в объединенной (контрольной и экспериментальной) группе юношей и девушек показала следующую картину 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9" name="Picture 2" descr="http://lib.sportedu.ru/press/fkvot/2006n3/Images/p58_pic6.JPG"/>
          <p:cNvPicPr/>
          <p:nvPr/>
        </p:nvPicPr>
        <p:blipFill>
          <a:blip r:embed="rId1"/>
          <a:stretch/>
        </p:blipFill>
        <p:spPr>
          <a:xfrm>
            <a:off x="785880" y="1352520"/>
            <a:ext cx="784368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"/>
          <p:cNvSpPr/>
          <p:nvPr/>
        </p:nvSpPr>
        <p:spPr>
          <a:xfrm>
            <a:off x="642960" y="42876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Педагогическая характеристика учащихся (данные юношей и девушек объединены) контрольная группа и экспериментальная группа после проведения эксперимента представлена на рисунк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2" descr="http://lib.sportedu.ru/press/fkvot/2006n3/Images/p58_pic7.JPG"/>
          <p:cNvPicPr/>
          <p:nvPr/>
        </p:nvPicPr>
        <p:blipFill>
          <a:blip r:embed="rId1"/>
          <a:stretch/>
        </p:blipFill>
        <p:spPr>
          <a:xfrm>
            <a:off x="857160" y="1714680"/>
            <a:ext cx="76723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4"/>
          <p:cNvSpPr/>
          <p:nvPr/>
        </p:nvSpPr>
        <p:spPr>
          <a:xfrm>
            <a:off x="642960" y="928800"/>
            <a:ext cx="77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Выявлено, что все исследованные показатели педагогической характеристики достоверно лучше у представителей экспериментальной группы по сравнению с показателями их сверстников из контрольной группы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642960" y="1214280"/>
            <a:ext cx="7715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разработанная программа школьно-спортивного клуба в рамках целевой программы «Здоровье» способствует повышению у школьников  культурологических стремлений и социально значимых качеств личности, а также культуры движений, двигательной подготовленности и уровня знаний по физической культуре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TextBox 2"/>
          <p:cNvSpPr/>
          <p:nvPr/>
        </p:nvSpPr>
        <p:spPr>
          <a:xfrm>
            <a:off x="571680" y="357120"/>
            <a:ext cx="5857560" cy="70344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1"/>
          <p:cNvSpPr/>
          <p:nvPr/>
        </p:nvSpPr>
        <p:spPr>
          <a:xfrm>
            <a:off x="571680" y="357120"/>
            <a:ext cx="5857560" cy="70344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642960" y="1444680"/>
            <a:ext cx="7715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в работе  школьного  спортивного  клуба наиболее эффективно формируются телесно-регулятивные, эстетические и познавательные культурологические стремления; социально значимые качества личности: желание приносить пользу; трудолюбие; целеустремленность, а также мотивы занятий физической культурой: чувство удовлетворения физкультурной деятельностью; чувства самореализации и самоутверждения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C:\Documents and Settings\ВЕРА.VERA\Рабочий стол\для презентации 2\img558.jpg"/>
          <p:cNvPicPr/>
          <p:nvPr/>
        </p:nvPicPr>
        <p:blipFill>
          <a:blip r:embed="rId1"/>
          <a:stretch/>
        </p:blipFill>
        <p:spPr>
          <a:xfrm>
            <a:off x="163440" y="0"/>
            <a:ext cx="8980560" cy="63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79" name="Picture 2" descr="C:\Documents and Settings\ВЕРА.VERA\Рабочий стол\для презентации 2\img559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81" name="Picture 2" descr="C:\Documents and Settings\ВЕРА.VERA\Рабочий стол\для презентации 2\img560.jpg"/>
          <p:cNvPicPr/>
          <p:nvPr/>
        </p:nvPicPr>
        <p:blipFill>
          <a:blip r:embed="rId1"/>
          <a:stretch/>
        </p:blipFill>
        <p:spPr>
          <a:xfrm>
            <a:off x="0" y="0"/>
            <a:ext cx="885816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C:\Documents and Settings\ВЕРА.VERA\Рабочий стол\для презентации 2\img561.jpg"/>
          <p:cNvPicPr/>
          <p:nvPr/>
        </p:nvPicPr>
        <p:blipFill>
          <a:blip r:embed="rId1"/>
          <a:stretch/>
        </p:blipFill>
        <p:spPr>
          <a:xfrm>
            <a:off x="357120" y="0"/>
            <a:ext cx="857268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84" name="Picture 2" descr="C:\Documents and Settings\ВЕРА.VERA\Рабочий стол\для презентации 2\img562.jpg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16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Documents and Settings\ВЕРА.VERA\Рабочий стол\для презентации 2\img563.jpg"/>
          <p:cNvPicPr/>
          <p:nvPr/>
        </p:nvPicPr>
        <p:blipFill>
          <a:blip r:embed="rId2"/>
          <a:stretch/>
        </p:blipFill>
        <p:spPr>
          <a:xfrm>
            <a:off x="-765000" y="-351000"/>
            <a:ext cx="10674000" cy="75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3" descr=""/>
          <p:cNvPicPr/>
          <p:nvPr/>
        </p:nvPicPr>
        <p:blipFill>
          <a:blip r:embed="rId1"/>
          <a:stretch/>
        </p:blipFill>
        <p:spPr>
          <a:xfrm>
            <a:off x="774720" y="260280"/>
            <a:ext cx="8369280" cy="146844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4"/>
          <p:cNvSpPr/>
          <p:nvPr/>
        </p:nvSpPr>
        <p:spPr>
          <a:xfrm>
            <a:off x="642960" y="200016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был проведен в течение одного год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 исследовании участвовали 58 учащихся 8-х классов. Контрольную группу составили 30 человек; экспериментальную - 28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Уроки физической культуры в контрольной группе проводились в соответствии с комплексной программой физического воспитания, а в экспериментальной группе –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 соответствии с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разработанным в нашем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сследовании содержанием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школьно-спортивного клуба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Picture 1" descr="C:\Documents and Settings\ВЕРА.VERA\Рабочий стол\Шпет\2009_08_07_IMG_9999_27.JPG"/>
          <p:cNvPicPr/>
          <p:nvPr/>
        </p:nvPicPr>
        <p:blipFill>
          <a:blip r:embed="rId2"/>
          <a:stretch/>
        </p:blipFill>
        <p:spPr>
          <a:xfrm>
            <a:off x="5786280" y="4622760"/>
            <a:ext cx="33577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3"/>
          <p:cNvSpPr/>
          <p:nvPr/>
        </p:nvSpPr>
        <p:spPr>
          <a:xfrm>
            <a:off x="2286000" y="13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Заголовок 8" descr=""/>
          <p:cNvPicPr/>
          <p:nvPr/>
        </p:nvPicPr>
        <p:blipFill>
          <a:blip r:embed="rId1"/>
          <a:stretch/>
        </p:blipFill>
        <p:spPr>
          <a:xfrm>
            <a:off x="395280" y="0"/>
            <a:ext cx="84916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. Упражнения на внимание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2. Упражнения для профилактики нарушений осанк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3. Физическая подготовка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4. Дыхательная гимнастика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5. Спортивные игры: волейбол, футбол, баскетбол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3"/>
          <p:cNvSpPr/>
          <p:nvPr/>
        </p:nvSpPr>
        <p:spPr>
          <a:xfrm>
            <a:off x="2286000" y="13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Заголовок 8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491680" cy="22003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6. Упражнения для профилактики простуды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7.упражнения из разных систем физического воспитания и оздоровления, используемые для формирования устойчивости к нежелательным эмоциональным реакциям - страху, волнению, обидам, тревога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3"/>
          <p:cNvSpPr/>
          <p:nvPr/>
        </p:nvSpPr>
        <p:spPr>
          <a:xfrm>
            <a:off x="714240" y="285840"/>
            <a:ext cx="821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Содержание тренировки школьно-спортивного клуба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42960" y="1849320"/>
          <a:ext cx="7786800" cy="4627800"/>
        </p:xfrm>
        <a:graphic>
          <a:graphicData uri="http://schemas.openxmlformats.org/drawingml/2006/table">
            <a:tbl>
              <a:tblPr/>
              <a:tblGrid>
                <a:gridCol w="5500800"/>
                <a:gridCol w="2286000"/>
              </a:tblGrid>
              <a:tr h="3366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м, м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Упражнения на вним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Профилактика нарушений осан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Физическая подготов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Дыхательная гимнас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84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Спортивные игры: волейбол, футбол, баскетб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Упражнения для профилактики просту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Упражнения для психорегуля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 Знания по основам оздоровительной физической культу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трениров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428760" y="21420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После проведения педагогического эксперимента в течение 11 месяцев получены следующие данные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У юношей экспериментальной группы по всем исследованным показателям зарегистрированы достоверно более высокие уровни по сравнению с юношами контрольной групп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Picture 2" descr="http://lib.sportedu.ru/press/fkvot/2006n3/Images/p57_pic2.JPG"/>
          <p:cNvPicPr/>
          <p:nvPr/>
        </p:nvPicPr>
        <p:blipFill>
          <a:blip r:embed="rId1"/>
          <a:stretch/>
        </p:blipFill>
        <p:spPr>
          <a:xfrm>
            <a:off x="785880" y="2357280"/>
            <a:ext cx="700092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1"/>
          <p:cNvSpPr/>
          <p:nvPr/>
        </p:nvSpPr>
        <p:spPr>
          <a:xfrm>
            <a:off x="571680" y="571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Итоговое тестирование в группах девушек показало картину, практически аналогичную таковой групп юношей 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Picture 2" descr="http://lib.sportedu.ru/press/fkvot/2006n3/Images/p57_pic3.JPG"/>
          <p:cNvPicPr/>
          <p:nvPr/>
        </p:nvPicPr>
        <p:blipFill>
          <a:blip r:embed="rId1"/>
          <a:stretch/>
        </p:blipFill>
        <p:spPr>
          <a:xfrm>
            <a:off x="857160" y="1571760"/>
            <a:ext cx="72867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785880" y="5000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Уровни сформированности мотивов занятий физической культурой в контрольной и экспериментальной  группах юношей статистически достоверно выше у представителей экспериментальной, за исключением мотива общения (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http://lib.sportedu.ru/press/fkvot/2006n3/Images/p57_pic4.JPG"/>
          <p:cNvPicPr/>
          <p:nvPr/>
        </p:nvPicPr>
        <p:blipFill>
          <a:blip r:embed="rId1"/>
          <a:stretch/>
        </p:blipFill>
        <p:spPr>
          <a:xfrm>
            <a:off x="1214280" y="2214720"/>
            <a:ext cx="7372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"/>
          <p:cNvSpPr/>
          <p:nvPr/>
        </p:nvSpPr>
        <p:spPr>
          <a:xfrm>
            <a:off x="714240" y="642960"/>
            <a:ext cx="785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Уровни сформированности исследованных мотивов к занятиям физической культурой девушек обеих групп статистически достоверно выше у представительниц экспериментальной группы , за исключением мотивов общения и смелости, где различий не выявлено 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2" descr="p58_pic5"/>
          <p:cNvPicPr/>
          <p:nvPr/>
        </p:nvPicPr>
        <p:blipFill>
          <a:blip r:embed="rId1"/>
          <a:stretch/>
        </p:blipFill>
        <p:spPr>
          <a:xfrm>
            <a:off x="928800" y="2428920"/>
            <a:ext cx="72864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5:32:46Z</dcterms:created>
  <dc:creator>vera</dc:creator>
  <dc:description/>
  <dc:language>en-US</dc:language>
  <cp:lastModifiedBy>Admin</cp:lastModifiedBy>
  <dcterms:modified xsi:type="dcterms:W3CDTF">2011-09-04T14:04:49Z</dcterms:modified>
  <cp:revision>13</cp:revision>
  <dc:subject/>
  <dc:title>Система работы спортивного клуба учащихся  </dc:title>
</cp:coreProperties>
</file>