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156-CE31-4859-9A98-2DB9AE68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175-4D94-4412-B068-9558C3F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8CC-D69B-4550-A911-296C8F5A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03F-7D69-47EB-BF53-A82BB07A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1DF-32AD-4C05-ABD7-016C3738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8441-4E5B-496D-A880-58660A28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56A3-FAE5-4E95-B179-857A49E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25B5-402E-4884-91A2-F461CD0A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84FB-D921-4EFA-B235-006D0F23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3B08-1058-4427-86DA-37049CF8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078-1DF4-4670-9340-0458C0D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973-FAB8-4B2C-ACF1-3C4ABC6D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117F-0DA0-4631-8E49-055DFFA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A29-1791-48B3-8DA7-07D7E35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7C91-01C4-450D-A82B-3A1CF0F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7968-3BE1-42BA-80C9-2E6C396F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A210-A3A1-4585-B057-D629F9CF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331C-9578-437A-A154-8E6F69A4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4B08-37FF-4D0D-ADAC-3D2B1AE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7315-A87A-4BB9-A86C-ACD72BC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328B-1771-4919-8AD8-F7A81DC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6E76E-BA6D-4F18-85D6-063BBD32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0C3-970A-430E-97BF-A081AAAE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08D1-6220-45CB-8D20-378621A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0BB0-D31B-4F98-9B38-1DC8EE3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484E-0363-4B3B-A8CF-0E5DDE3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DAD4-6A29-403F-89C8-AADEFD6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C588-44C5-471F-8D6E-1A67654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5018-1D9C-4EAE-85C0-E20DEF3B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165D-7E74-48B8-A5DC-76083C30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450E0-67CD-4135-B50D-FBA9F7A3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A405-A70E-4B7C-AEB1-8DD229DB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FDE4-6B26-4478-BE1E-3CD4D58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B0D-64DB-4A57-8EE9-42DDAE8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E9EF-39D7-4B78-80DD-0B5F1F6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A3A2-B885-4521-99D0-C75737D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A2DF-C193-4123-B101-B8967DC3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65D9-4DE0-4F12-9825-64ADAB2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19F0-E69E-4323-9FDF-3EB965F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5A8E-E4E2-4B37-BBB3-D776B88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B65B-5301-4ABD-AF27-1958EB2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CE27-DA85-4940-8D7C-08C68956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A13E1-3670-4AD8-8C8E-01469408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7A90-B691-4191-9720-874C2A61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F3E-10E4-482A-8AD1-5500556C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12AF-5799-4DFA-88EC-5885C42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FD34-01FF-4FD1-AB5B-86AB87C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C7D3-4217-465C-9C61-46914827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1450-E783-4BE9-8798-BA5DEEC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CEE72-035D-4E71-9762-FDB27A93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A9F0-3BDD-4A87-A5FC-3973775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2091-5D0F-4708-B8A5-50FE95B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3403-5E5C-45FC-998E-88DA3C8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3E1C-7741-4198-8958-3AC07CE4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B46C-B4E9-45AB-B78E-1326DF6E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943-860D-417B-8735-2604F3E1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EB94-9D3E-48F0-ABE9-8CBAD0D2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82CE-24CC-465D-A1C7-0686792F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BB61-8469-4CF3-AC4F-EA1DF1F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714E-F878-452F-8A3E-B4EBC31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1945-43BC-4D7E-8241-F725B44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E43F-D822-4DB1-974D-33A2B68C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6489-2400-4CDC-AFBA-613DF31F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7C2C-C539-48FD-BFAB-86D331E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6E15-A658-4FEB-A730-69F6B1E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BB3A9-B93B-45E3-9008-2806DF5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544-2A3B-4A35-AAF0-9D3F2D3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14C2-1AE2-4A8A-992F-2E557538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4F74-67D1-40B0-8AB1-AFF4803E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5A78-6B39-4E2C-A258-6F7BB407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277B-0C00-46FB-A0F0-0C2136C6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1AF7-55C9-401B-B41C-CEE4356F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E18D-0050-493C-A867-C92129E1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CCA4A-5780-43EF-A31B-A45FC08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76C9-6AEE-4806-85DC-3A30D4F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DC1F-8AF1-44FC-834E-9D517F8E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F3D8-FA29-4C05-85DF-9177D8C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150-5D71-40D2-94A4-6CBC4E1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17BB-6E74-434C-9818-C2F41C3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C6C6-6F84-494C-B2B5-E351F78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545D-E8CB-4C98-AFD4-F37C4A21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9574A-34C1-4E50-868E-A3F5A3A6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79F95-1865-48B1-86BB-3E739D31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AD005-4EE5-4FDC-A190-FD28E0CA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BDB6-F574-4A42-919D-BA3EA416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B9D3-9CEE-4795-969D-95283FC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AC731-9EE2-4D8E-B797-CDBD9E9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A2243-2E95-4E56-AA6B-458C5C3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6DC-B596-4DD4-85D3-D2EA1CB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D954-0E5A-4196-9D4A-D628D4E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936A-C9B0-4CD0-ABBA-15BEB17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24BB-8A82-4BA3-A7F3-DE89645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FE51-C9C5-41AB-A3AA-FD5112A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F567-A7E1-452E-87AB-1B9283AA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E877-9BA8-48A5-8003-72BCF6F3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A8F0E-C05E-4D7F-9AF0-DAAF2F7A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B7C-E245-4F72-8253-EE66912DD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E840-BD67-4D8C-9588-1F8CA9FB9E7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FFF5-3CF0-45BF-82F1-6D71E459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2E0E-647D-4D5E-9D65-12810331C4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085E-9D85-45BD-B11D-A98EE354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A25-5DE7-4D3D-86FB-9844BABC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CCF-37F8-406F-A8C3-878D92F6081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56CA-E28D-4AF3-8D0A-A9CE766F8C1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45520" cy="17985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3680" y="2170080"/>
            <a:ext cx="8345520" cy="18414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1000080" y="500076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з опыта  работы учител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У СОШ № 25  Шпет В.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2" descr="C:\Program Files\Microsoft Office\MEDIA\CAGCAT10\j0301480.wmf"/>
          <p:cNvPicPr/>
          <p:nvPr/>
        </p:nvPicPr>
        <p:blipFill>
          <a:blip r:embed="rId3"/>
          <a:stretch/>
        </p:blipFill>
        <p:spPr>
          <a:xfrm>
            <a:off x="1000080" y="3286080"/>
            <a:ext cx="17985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928800" y="2858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Тревожность в объединенной (контрольной и экспериментальной) группе юношей и девушек показала следующую картину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Picture 2" descr="http://lib.sportedu.ru/press/fkvot/2006n3/Images/p58_pic6.JPG"/>
          <p:cNvPicPr/>
          <p:nvPr/>
        </p:nvPicPr>
        <p:blipFill>
          <a:blip r:embed="rId1"/>
          <a:stretch/>
        </p:blipFill>
        <p:spPr>
          <a:xfrm>
            <a:off x="785880" y="1352520"/>
            <a:ext cx="78436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642960" y="4287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едагогическая характеристика учащихся (данные юношей и девушек объединены) контрольная группа и экспериментальная группа после проведения эксперимента представлена на рисунк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2" descr="http://lib.sportedu.ru/press/fkvot/2006n3/Images/p58_pic7.JPG"/>
          <p:cNvPicPr/>
          <p:nvPr/>
        </p:nvPicPr>
        <p:blipFill>
          <a:blip r:embed="rId1"/>
          <a:stretch/>
        </p:blipFill>
        <p:spPr>
          <a:xfrm>
            <a:off x="857160" y="1714680"/>
            <a:ext cx="7672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4"/>
          <p:cNvSpPr/>
          <p:nvPr/>
        </p:nvSpPr>
        <p:spPr>
          <a:xfrm>
            <a:off x="642960" y="928800"/>
            <a:ext cx="77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ыявлено, что все исследованные показатели педагогической характеристики достоверно лучше у представителей экспериментальной группы по сравнению с показателями их сверстников из контрольной группы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642960" y="121428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разработанная программа школьно-спортивного клуба в рамках целевой программы «Здоровье» способствует повышению у школьников  культурологических стремлений и социально значимых качеств личности, а также культуры движений, двигательной подготовленности и уровня знаний по физической культуре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571680" y="357120"/>
            <a:ext cx="5857560" cy="70344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571680" y="357120"/>
            <a:ext cx="5857560" cy="70344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642960" y="1444680"/>
            <a:ext cx="7715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 работе  школьного  спортивного  клуба наиболее эффективно формируются телесно-регулятивные, эстетические и познавательные культурологические стремления; социально значимые качества личности: желание приносить пользу; трудолюбие; целеустремленность, а также мотивы занятий физической культурой: чувство удовлетворения физкультурной деятельностью; чувства самореализации и самоутверждени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Documents and Settings\ВЕРА.VERA\Рабочий стол\для презентации 2\img558.jpg"/>
          <p:cNvPicPr/>
          <p:nvPr/>
        </p:nvPicPr>
        <p:blipFill>
          <a:blip r:embed="rId1"/>
          <a:stretch/>
        </p:blipFill>
        <p:spPr>
          <a:xfrm>
            <a:off x="163440" y="0"/>
            <a:ext cx="898056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9" name="Picture 2" descr="C:\Documents and Settings\ВЕРА.VERA\Рабочий стол\для презентации 2\img55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1" name="Picture 2" descr="C:\Documents and Settings\ВЕРА.VERA\Рабочий стол\для презентации 2\img560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:\Documents and Settings\ВЕРА.VERA\Рабочий стол\для презентации 2\img561.jpg"/>
          <p:cNvPicPr/>
          <p:nvPr/>
        </p:nvPicPr>
        <p:blipFill>
          <a:blip r:embed="rId1"/>
          <a:stretch/>
        </p:blipFill>
        <p:spPr>
          <a:xfrm>
            <a:off x="357120" y="0"/>
            <a:ext cx="85726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84" name="Picture 2" descr="C:\Documents and Settings\ВЕРА.VERA\Рабочий стол\для презентации 2\img562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16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Documents and Settings\ВЕРА.VERA\Рабочий стол\для презентации 2\img563.jpg"/>
          <p:cNvPicPr/>
          <p:nvPr/>
        </p:nvPicPr>
        <p:blipFill>
          <a:blip r:embed="rId2"/>
          <a:stretch/>
        </p:blipFill>
        <p:spPr>
          <a:xfrm>
            <a:off x="-765000" y="-351000"/>
            <a:ext cx="10674000" cy="75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3" descr=""/>
          <p:cNvPicPr/>
          <p:nvPr/>
        </p:nvPicPr>
        <p:blipFill>
          <a:blip r:embed="rId1"/>
          <a:stretch/>
        </p:blipFill>
        <p:spPr>
          <a:xfrm>
            <a:off x="774720" y="260280"/>
            <a:ext cx="8369280" cy="1468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642960" y="20001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был проведен в течение одного год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исследовании участвовали 58 учащихся 8-х классов. Контрольную группу составили 30 человек; экспериментальную - 28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роки физической культуры в контрольной группе проводились в соответствии с комплексной программой физического воспитания, а в экспериментальной группе –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соответствии с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зработанным в наше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следовании содержание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кольно-спортивного клуба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1" descr="C:\Documents and Settings\ВЕРА.VERA\Рабочий стол\Шпет\2009_08_07_IMG_9999_27.JPG"/>
          <p:cNvPicPr/>
          <p:nvPr/>
        </p:nvPicPr>
        <p:blipFill>
          <a:blip r:embed="rId2"/>
          <a:stretch/>
        </p:blipFill>
        <p:spPr>
          <a:xfrm>
            <a:off x="5786280" y="4622760"/>
            <a:ext cx="3357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3"/>
          <p:cNvSpPr/>
          <p:nvPr/>
        </p:nvSpPr>
        <p:spPr>
          <a:xfrm>
            <a:off x="2286000" y="13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Заголовок 8" descr=""/>
          <p:cNvPicPr/>
          <p:nvPr/>
        </p:nvPicPr>
        <p:blipFill>
          <a:blip r:embed="rId1"/>
          <a:stretch/>
        </p:blipFill>
        <p:spPr>
          <a:xfrm>
            <a:off x="395280" y="0"/>
            <a:ext cx="84916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. Упражнения на внимание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2. Упражнения для профилактики нарушений осанк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3. Физическая подготовка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. Дыхательная гимнастика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. Спортивные игры: волейбол, футбол, баскетбол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3"/>
          <p:cNvSpPr/>
          <p:nvPr/>
        </p:nvSpPr>
        <p:spPr>
          <a:xfrm>
            <a:off x="2286000" y="13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Заголовок 8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491680" cy="2200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6. Упражнения для профилактики простуды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.упражнения из разных систем физического воспитания и оздоровления, используемые для формирования устойчивости к нежелательным эмоциональным реакциям - страху, волнению, обидам, тревога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3"/>
          <p:cNvSpPr/>
          <p:nvPr/>
        </p:nvSpPr>
        <p:spPr>
          <a:xfrm>
            <a:off x="714240" y="28584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Содержание тренировки школьно-спортивного клуб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42960" y="1849320"/>
          <a:ext cx="7786800" cy="4627800"/>
        </p:xfrm>
        <a:graphic>
          <a:graphicData uri="http://schemas.openxmlformats.org/drawingml/2006/table">
            <a:tbl>
              <a:tblPr/>
              <a:tblGrid>
                <a:gridCol w="5500800"/>
                <a:gridCol w="2286000"/>
              </a:tblGrid>
              <a:tr h="3366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, 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Упражнения на вним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рофилактика нарушений оса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Физическая подготов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ыхательная гимна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Спортивные игры: волейбол, футбол, баскетб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Упражнения для профилактики просту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Упражнения для психорегуля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Знания по основам оздоровительной физической куль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трениров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428760" y="21420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После проведения педагогического эксперимента в течение 11 месяцев получены следующие данные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У юношей экспериментальной группы по всем исследованным показателям зарегистрированы достоверно более высокие уровни по сравнению с юношами контрольной групп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http://lib.sportedu.ru/press/fkvot/2006n3/Images/p57_pic2.JPG"/>
          <p:cNvPicPr/>
          <p:nvPr/>
        </p:nvPicPr>
        <p:blipFill>
          <a:blip r:embed="rId1"/>
          <a:stretch/>
        </p:blipFill>
        <p:spPr>
          <a:xfrm>
            <a:off x="785880" y="2357280"/>
            <a:ext cx="7000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571680" y="571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Итоговое тестирование в группах девушек показало картину, практически аналогичную таковой групп юношей 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http://lib.sportedu.ru/press/fkvot/2006n3/Images/p57_pic3.JPG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785880" y="5000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ровни сформированности мотивов занятий физической культурой в контрольной и экспериментальной  группах юношей статистически достоверно выше у представителей экспериментальной, за исключением мотива общения (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http://lib.sportedu.ru/press/fkvot/2006n3/Images/p57_pic4.JPG"/>
          <p:cNvPicPr/>
          <p:nvPr/>
        </p:nvPicPr>
        <p:blipFill>
          <a:blip r:embed="rId1"/>
          <a:stretch/>
        </p:blipFill>
        <p:spPr>
          <a:xfrm>
            <a:off x="1214280" y="2214720"/>
            <a:ext cx="7372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14240" y="642960"/>
            <a:ext cx="785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ровни сформированности исследованных мотивов к занятиям физической культурой девушек обеих групп статистически достоверно выше у представительниц экспериментальной группы , за исключением мотивов общения и смелости, где различий не выявлено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p58_pic5"/>
          <p:cNvPicPr/>
          <p:nvPr/>
        </p:nvPicPr>
        <p:blipFill>
          <a:blip r:embed="rId1"/>
          <a:stretch/>
        </p:blipFill>
        <p:spPr>
          <a:xfrm>
            <a:off x="928800" y="2428920"/>
            <a:ext cx="7286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5:32:46Z</dcterms:created>
  <dc:creator>vera</dc:creator>
  <dc:description/>
  <dc:language>en-US</dc:language>
  <cp:lastModifiedBy>Admin</cp:lastModifiedBy>
  <dcterms:modified xsi:type="dcterms:W3CDTF">2011-09-04T14:04:49Z</dcterms:modified>
  <cp:revision>13</cp:revision>
  <dc:subject/>
  <dc:title>Система работы спортивного клуба учащихся  </dc:title>
</cp:coreProperties>
</file>