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96E3-6D90-4D45-BE4C-3FCDD4D3D5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703E-1C2C-4282-890D-18A5BB4C6C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8998-FC01-4DEF-A536-5CB5FA07B9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9916-72D3-4561-873A-AEC130E873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C383-61DD-42DC-AB44-C2F18EA0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34C-EE43-4B84-893E-2F73E4B0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120B3-68CD-427A-A988-EB5D2668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3453F-EF88-4FE8-84BC-B24D2E2F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DFEF2-2734-4FEF-9D04-0A880868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4949F-D8A9-4E35-B1C1-D89879CC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D0100-D1B5-4C07-BD76-2E448878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FF01E-9672-43E6-ABF0-59A7C361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04990-6214-4EC4-974D-C1FDC321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BB028-EB23-43E9-B371-C07EA087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C7E69-3F07-4DBC-8B4D-59CE5FE0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E4F-7785-4F08-B64C-887FC948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924-9CA2-4EC3-B90B-4B074519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C65A-55C4-4DCB-A71A-B529351E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C0E7-D6BD-4A6C-B7CD-7A66F1A7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0D86-8436-47CE-B34B-75CD201E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DC7B-B603-40E3-8828-A2902E67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1B93-B9F8-4AAD-AC51-C578CC9B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1563-D8CF-4A07-96E6-A4137ADC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264A-002A-4BB8-9CF5-4DAE8723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568-3891-438B-816E-9EC7200F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33A5-18BA-4825-ADCF-52852BC8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50DA-1388-4FB1-AE1D-CE5CCF72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E414-118A-4F0B-9099-B3054313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4B4E-9A71-4021-A952-5B038204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7DC7-D787-4720-BB4F-23E3E87F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47841-12B2-4B5C-ADD1-7FC803E6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FD136-A09F-4B26-9237-E93BFCB4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E1CB3-8AA2-436C-B3E8-B35C547D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C1B07-C50E-4ABF-AF0A-E9D6E8C5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0BF05-6F1A-4D8B-83BB-3DE24427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7C8A-70A8-4C20-89C2-7C713F61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1F8BD-D5A1-4DDD-8AFF-E9F62AB5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73AD5-D5A5-47AB-BF85-2F0B1EFA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A5551-7CF1-42C1-9D51-52294037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B7BE2-34BD-4DB5-9349-29967C0B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25882-05F2-4E85-908F-19770A83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515A6-3E8B-498C-B878-3E9F7A4C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36424-09CB-4B16-8930-543F6B6A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95D1A-5CBB-44A9-B05A-E86E735C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DC2E2-3E2B-42A8-9325-4D3DDFFA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44B22-CFF6-4AFF-BE1D-F7E80C7F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0D1E-4556-4AC6-9170-02CB8877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5D004-940E-4A2D-8A74-82650402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0B12B-DEA1-44BE-A4F6-53C6E398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DBA81-0B35-4E1E-84BC-18CF7CE3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3586A-75E6-415D-AC93-8E319D02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3F243-25F0-4FD5-A9D1-8568073B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7B946-D531-4B5B-8AF3-6663B97B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DA75A-741B-44B3-8B21-A12E6FCC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2DDC7-C28E-46C7-BC15-4444E1E9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508DF-1CCA-4F55-8E60-C6A2B3AA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9F52B-B0FB-45E8-A468-F2CC6AD8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787-126F-42C5-9D76-3574CA0B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8A6F5-4EF0-44E6-853B-FBAF70CF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6A66B-063F-40A8-898F-721F4C46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9F588-0064-4E4B-9D38-68837DA2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012C8-0CF4-44F3-A4D1-7B983C9C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9B7B5-0A51-40D8-9543-4525FD60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D6A13-673D-4739-B453-BED641D8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96F5A-983B-4D71-9523-9ED389C7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EF9D6-5D47-4BFB-A204-F1CA037E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3F914-DD2F-46EE-84CE-A9623174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1EED8-8EF8-47CF-A919-341BA1DB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0255-EF5A-45DB-82F0-2BDCE037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9DC66-E0FC-4F60-A7EA-2AA4A4A9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84CF4-E245-47FD-9541-D4DC4BF3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1900D-909D-45CF-80A1-B482C83C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85AF3-27E6-4394-8FFF-B196F1C7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DF191-32C9-48BC-B756-CFB62B63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CD74A-27EC-464F-83BA-F16776F3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B62EB-0ABA-431B-BC20-A43C5D86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A3F49-24E6-40BC-B056-A9D1DB4C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F4EA9-185D-4F13-8163-55664004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5C1E1-8368-4927-B20D-B72ED45E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6ABB-1192-421C-AA66-384A18F6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BF0E0-4970-4EA7-B5FE-C4DCE32B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45C7D-A129-4A1C-9EFC-4785ED0D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4AF3D-DD66-4A3A-8011-A0BE35E3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3746A-C756-4E87-9C0C-6E214830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56BA2-27B5-4734-939A-77F43A1F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FF5B4-922C-4EBE-BFFD-FEAA8C8A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2084A-8D00-4D21-A357-B06451CF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8441D-DCAD-419D-A099-9B7D56C4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EA25F-5CC8-4EE4-8B4A-013DCA34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6600E-0928-4181-BD0C-3F3FC875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E0E0-253D-4706-A77E-BD4A9625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D9122-C1BA-4EA7-9417-4F48E68B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E953A-4E2F-489E-A47C-2AAE9F6C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76305-8109-4947-B1D7-559DA497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4AD19-B1C1-4BBE-98B9-02963EF5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A9909-8AE4-4AF1-9B51-487A5C99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F6049-21AD-440D-B9A1-84889685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90DEF-4E2A-4F83-8376-69643142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479F6-3900-4663-8767-3DB35D8C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B217C-B3F2-416C-A44F-10728DA8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F0175-81DF-403F-8779-C37C3AEF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F917-EAA8-4BA8-9FE8-66B624E8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DF823-574E-4D1C-B6B1-F5F5CFA8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91A2D-4D5F-4434-B7FE-CAC3CBA7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A92A5-CF43-4202-AF52-A235A22C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99262-0587-4D48-8594-AF306A57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F391D-42CC-4CA6-ACA7-588E76B6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1EAE7-0CC1-4EB8-B9CF-A96E898C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8A64C-DDEC-403E-8F52-2DE0725E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526EE-4D5B-4624-9B72-C65C59C8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573CE-6B01-4FEC-AEB1-B675DE5B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07AA2-FD97-4ED2-9A92-F61E43D4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576A-CA80-4DB5-9441-F021287B42F0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0254-B7C6-4ADB-8E5A-763D09CBDC54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51F0-26CD-4C87-9352-8C54D8608F75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1249-7E6E-446D-B586-0E266701B9A1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0CE9-EEF6-4156-BEB5-8BE0F5EFCD70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1599-C6C8-469E-84C3-B264A8236047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3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C217-2252-4495-8153-DEEE38CFBB23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94E2-CB8D-405D-8392-89113F789C47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EE3A-9646-4354-AC68-195BDC44FCF0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rudvsem.ru/" TargetMode="External"/><Relationship Id="rId2" Type="http://schemas.openxmlformats.org/officeDocument/2006/relationships/hyperlink" Target="http://www.ve.perm.ru/" TargetMode="External"/><Relationship Id="rId3" Type="http://schemas.openxmlformats.org/officeDocument/2006/relationships/hyperlink" Target="http://www.vakansy.com/" TargetMode="External"/><Relationship Id="rId4" Type="http://schemas.openxmlformats.org/officeDocument/2006/relationships/hyperlink" Target="http://www.ru.perm.ru/" TargetMode="External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2"/>
          <a:stretch/>
        </p:blipFill>
        <p:spPr>
          <a:xfrm>
            <a:off x="0" y="2249640"/>
            <a:ext cx="9144000" cy="34318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547640" y="5444640"/>
            <a:ext cx="6400800" cy="100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ac00"/>
                </a:solidFill>
                <a:latin typeface="Franklin Gothic Book"/>
              </a:rPr>
              <a:t>Учитель географии Голдырева Е.В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ac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b0ac00"/>
                </a:solidFill>
                <a:latin typeface="Franklin Gothic Book"/>
              </a:rPr>
              <a:t>МАОУ «Лицей №8»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Группа 1"/>
          <p:cNvGrpSpPr/>
          <p:nvPr/>
        </p:nvGrpSpPr>
        <p:grpSpPr>
          <a:xfrm>
            <a:off x="249120" y="212760"/>
            <a:ext cx="8680680" cy="6512040"/>
            <a:chOff x="249120" y="212760"/>
            <a:chExt cx="8680680" cy="6512040"/>
          </a:xfrm>
        </p:grpSpPr>
        <p:sp>
          <p:nvSpPr>
            <p:cNvPr id="409" name="Скругленный прямоугольник 5"/>
            <p:cNvSpPr/>
            <p:nvPr/>
          </p:nvSpPr>
          <p:spPr>
            <a:xfrm>
              <a:off x="3000240" y="928440"/>
              <a:ext cx="3233880" cy="50940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селение Росс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Прямоугольник 6"/>
            <p:cNvSpPr/>
            <p:nvPr/>
          </p:nvSpPr>
          <p:spPr>
            <a:xfrm>
              <a:off x="2357280" y="214200"/>
              <a:ext cx="65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ОСТАВ ТРУДОВЫХ РЕСУРС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Прямоугольник 7"/>
            <p:cNvSpPr/>
            <p:nvPr/>
          </p:nvSpPr>
          <p:spPr>
            <a:xfrm>
              <a:off x="285480" y="1643040"/>
              <a:ext cx="2428920" cy="8240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аселение молож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трудоспособного возрас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Прямоугольник 8"/>
            <p:cNvSpPr/>
            <p:nvPr/>
          </p:nvSpPr>
          <p:spPr>
            <a:xfrm>
              <a:off x="3214440" y="1857240"/>
              <a:ext cx="2714760" cy="82404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ас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 трудоспособном возраст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Прямоугольник 9"/>
            <p:cNvSpPr/>
            <p:nvPr/>
          </p:nvSpPr>
          <p:spPr>
            <a:xfrm>
              <a:off x="6215040" y="1643040"/>
              <a:ext cx="2714760" cy="824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аселение старше трудоспособного возрас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Прямая соединительная линия 11"/>
            <p:cNvSpPr/>
            <p:nvPr/>
          </p:nvSpPr>
          <p:spPr>
            <a:xfrm flipV="1">
              <a:off x="1714320" y="1214280"/>
              <a:ext cx="1214280" cy="35712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Прямая соединительная линия 13"/>
            <p:cNvSpPr/>
            <p:nvPr/>
          </p:nvSpPr>
          <p:spPr>
            <a:xfrm>
              <a:off x="6234120" y="1184040"/>
              <a:ext cx="1766880" cy="45864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Прямая соединительная линия 15"/>
            <p:cNvSpPr/>
            <p:nvPr/>
          </p:nvSpPr>
          <p:spPr>
            <a:xfrm flipH="1">
              <a:off x="4786200" y="1428840"/>
              <a:ext cx="1440" cy="42840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Прямоугольник 18"/>
            <p:cNvSpPr/>
            <p:nvPr/>
          </p:nvSpPr>
          <p:spPr>
            <a:xfrm>
              <a:off x="2648520" y="3071880"/>
              <a:ext cx="2103840" cy="5806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етрудоспособ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ас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Прямоугольник 19"/>
            <p:cNvSpPr/>
            <p:nvPr/>
          </p:nvSpPr>
          <p:spPr>
            <a:xfrm>
              <a:off x="4929120" y="3071880"/>
              <a:ext cx="2143080" cy="5806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Трудоспособ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ас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Прямая соединительная линия 21"/>
            <p:cNvSpPr/>
            <p:nvPr/>
          </p:nvSpPr>
          <p:spPr>
            <a:xfrm flipH="1">
              <a:off x="3700080" y="2643120"/>
              <a:ext cx="585720" cy="42840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Прямая соединительная линия 23"/>
            <p:cNvSpPr/>
            <p:nvPr/>
          </p:nvSpPr>
          <p:spPr>
            <a:xfrm>
              <a:off x="5214960" y="2643120"/>
              <a:ext cx="785520" cy="42840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Прямоугольник 30"/>
            <p:cNvSpPr/>
            <p:nvPr/>
          </p:nvSpPr>
          <p:spPr>
            <a:xfrm>
              <a:off x="7364160" y="3071880"/>
              <a:ext cx="1527840" cy="580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аботающ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енсионер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Прямая соединительная линия 32"/>
            <p:cNvSpPr/>
            <p:nvPr/>
          </p:nvSpPr>
          <p:spPr>
            <a:xfrm flipH="1">
              <a:off x="8215560" y="2428920"/>
              <a:ext cx="1440" cy="64296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Прямоугольник 37"/>
            <p:cNvSpPr/>
            <p:nvPr/>
          </p:nvSpPr>
          <p:spPr>
            <a:xfrm>
              <a:off x="3290040" y="4071960"/>
              <a:ext cx="2998440" cy="398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РУДОВЫЕ РЕСУРС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Прямая соединительная линия 41"/>
            <p:cNvSpPr/>
            <p:nvPr/>
          </p:nvSpPr>
          <p:spPr>
            <a:xfrm>
              <a:off x="1258560" y="2492280"/>
              <a:ext cx="2017800" cy="158436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Прямая соединительная линия 44"/>
            <p:cNvSpPr/>
            <p:nvPr/>
          </p:nvSpPr>
          <p:spPr>
            <a:xfrm flipH="1">
              <a:off x="6292440" y="3656160"/>
              <a:ext cx="1834920" cy="61596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Прямая соединительная линия 47"/>
            <p:cNvSpPr/>
            <p:nvPr/>
          </p:nvSpPr>
          <p:spPr>
            <a:xfrm flipH="1">
              <a:off x="5428800" y="3643560"/>
              <a:ext cx="214200" cy="42840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Прямоугольник 48"/>
            <p:cNvSpPr/>
            <p:nvPr/>
          </p:nvSpPr>
          <p:spPr>
            <a:xfrm>
              <a:off x="356760" y="4286520"/>
              <a:ext cx="2571840" cy="82404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Занят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 личном подсобном хозяйств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Прямоугольник 49"/>
            <p:cNvSpPr/>
            <p:nvPr/>
          </p:nvSpPr>
          <p:spPr>
            <a:xfrm>
              <a:off x="4214880" y="4857840"/>
              <a:ext cx="1428840" cy="33732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Учащиес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Прямоугольник 50"/>
            <p:cNvSpPr/>
            <p:nvPr/>
          </p:nvSpPr>
          <p:spPr>
            <a:xfrm>
              <a:off x="6370200" y="4857840"/>
              <a:ext cx="2219760" cy="5806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Экономическ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активное нас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Прямоугольник 51"/>
            <p:cNvSpPr/>
            <p:nvPr/>
          </p:nvSpPr>
          <p:spPr>
            <a:xfrm>
              <a:off x="3938400" y="6143760"/>
              <a:ext cx="2576520" cy="3373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аботающее нас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Прямоугольник 52"/>
            <p:cNvSpPr/>
            <p:nvPr/>
          </p:nvSpPr>
          <p:spPr>
            <a:xfrm>
              <a:off x="7150680" y="6143760"/>
              <a:ext cx="1532520" cy="3373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Безработ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Picture 5" descr=""/>
            <p:cNvPicPr/>
            <p:nvPr/>
          </p:nvPicPr>
          <p:blipFill>
            <a:blip r:embed="rId1"/>
            <a:stretch/>
          </p:blipFill>
          <p:spPr>
            <a:xfrm>
              <a:off x="426600" y="212760"/>
              <a:ext cx="2054160" cy="12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6" descr=""/>
            <p:cNvPicPr/>
            <p:nvPr/>
          </p:nvPicPr>
          <p:blipFill>
            <a:blip r:embed="rId2"/>
            <a:stretch/>
          </p:blipFill>
          <p:spPr>
            <a:xfrm>
              <a:off x="999720" y="5310360"/>
              <a:ext cx="22604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Прямая соединительная линия 56"/>
            <p:cNvSpPr/>
            <p:nvPr/>
          </p:nvSpPr>
          <p:spPr>
            <a:xfrm flipV="1">
              <a:off x="2928960" y="4500720"/>
              <a:ext cx="1000080" cy="35712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Прямая соединительная линия 60"/>
            <p:cNvSpPr/>
            <p:nvPr/>
          </p:nvSpPr>
          <p:spPr>
            <a:xfrm flipH="1">
              <a:off x="5143680" y="4500720"/>
              <a:ext cx="1440" cy="35856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Прямая соединительная линия 64"/>
            <p:cNvSpPr/>
            <p:nvPr/>
          </p:nvSpPr>
          <p:spPr>
            <a:xfrm>
              <a:off x="6143760" y="4500720"/>
              <a:ext cx="1214280" cy="35712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Прямая соединительная линия 68"/>
            <p:cNvSpPr/>
            <p:nvPr/>
          </p:nvSpPr>
          <p:spPr>
            <a:xfrm flipH="1">
              <a:off x="5227200" y="5429520"/>
              <a:ext cx="1701720" cy="71424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Прямая соединительная линия 71"/>
            <p:cNvSpPr/>
            <p:nvPr/>
          </p:nvSpPr>
          <p:spPr>
            <a:xfrm>
              <a:off x="7857720" y="5429520"/>
              <a:ext cx="214200" cy="71424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9" name="Picture 33" descr=""/>
            <p:cNvPicPr/>
            <p:nvPr/>
          </p:nvPicPr>
          <p:blipFill>
            <a:blip r:embed="rId3"/>
            <a:stretch/>
          </p:blipFill>
          <p:spPr>
            <a:xfrm>
              <a:off x="249120" y="2998800"/>
              <a:ext cx="1585800" cy="113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4" descr=""/>
          <p:cNvPicPr/>
          <p:nvPr/>
        </p:nvPicPr>
        <p:blipFill>
          <a:blip r:embed="rId1"/>
          <a:stretch/>
        </p:blipFill>
        <p:spPr>
          <a:xfrm>
            <a:off x="6643800" y="2428920"/>
            <a:ext cx="2286000" cy="15048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"/>
          <p:cNvPicPr/>
          <p:nvPr/>
        </p:nvPicPr>
        <p:blipFill>
          <a:blip r:embed="rId2"/>
          <a:stretch/>
        </p:blipFill>
        <p:spPr>
          <a:xfrm>
            <a:off x="6572160" y="285840"/>
            <a:ext cx="2357640" cy="2143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"/>
          <p:cNvPicPr/>
          <p:nvPr/>
        </p:nvPicPr>
        <p:blipFill>
          <a:blip r:embed="rId3"/>
          <a:stretch/>
        </p:blipFill>
        <p:spPr>
          <a:xfrm>
            <a:off x="214200" y="214200"/>
            <a:ext cx="65725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1"/>
          <a:stretch/>
        </p:blipFill>
        <p:spPr>
          <a:xfrm>
            <a:off x="0" y="857160"/>
            <a:ext cx="6500880" cy="6000840"/>
          </a:xfrm>
          <a:prstGeom prst="rect">
            <a:avLst/>
          </a:prstGeom>
          <a:ln w="0">
            <a:noFill/>
          </a:ln>
        </p:spPr>
      </p:pic>
      <p:sp>
        <p:nvSpPr>
          <p:cNvPr id="444" name="Прямоугольник 6"/>
          <p:cNvSpPr/>
          <p:nvPr/>
        </p:nvSpPr>
        <p:spPr>
          <a:xfrm>
            <a:off x="6454440" y="857160"/>
            <a:ext cx="26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батывающ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7"/>
          <p:cNvSpPr/>
          <p:nvPr/>
        </p:nvSpPr>
        <p:spPr>
          <a:xfrm>
            <a:off x="6500880" y="13572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льское хозяйство, охота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сн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8"/>
          <p:cNvSpPr/>
          <p:nvPr/>
        </p:nvSpPr>
        <p:spPr>
          <a:xfrm>
            <a:off x="6500880" y="18572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ство и распреде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лектроэнергии, газа и 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9"/>
          <p:cNvSpPr/>
          <p:nvPr/>
        </p:nvSpPr>
        <p:spPr>
          <a:xfrm>
            <a:off x="6507360" y="250020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10"/>
          <p:cNvSpPr/>
          <p:nvPr/>
        </p:nvSpPr>
        <p:spPr>
          <a:xfrm>
            <a:off x="6500880" y="30002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товая и розничная торгов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луги ремо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11"/>
          <p:cNvSpPr/>
          <p:nvPr/>
        </p:nvSpPr>
        <p:spPr>
          <a:xfrm>
            <a:off x="6500880" y="3500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с.управление и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енной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12"/>
          <p:cNvSpPr/>
          <p:nvPr/>
        </p:nvSpPr>
        <p:spPr>
          <a:xfrm>
            <a:off x="6500880" y="407196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и с недвижим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уществом, аренда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оставление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13"/>
          <p:cNvSpPr/>
          <p:nvPr/>
        </p:nvSpPr>
        <p:spPr>
          <a:xfrm>
            <a:off x="6576840" y="485784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14"/>
          <p:cNvSpPr/>
          <p:nvPr/>
        </p:nvSpPr>
        <p:spPr>
          <a:xfrm>
            <a:off x="6500880" y="521496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равоохранение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оставление соци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15"/>
          <p:cNvSpPr/>
          <p:nvPr/>
        </p:nvSpPr>
        <p:spPr>
          <a:xfrm>
            <a:off x="6500880" y="5857920"/>
            <a:ext cx="46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оста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мунальных и прочи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16"/>
          <p:cNvSpPr/>
          <p:nvPr/>
        </p:nvSpPr>
        <p:spPr>
          <a:xfrm>
            <a:off x="6506640" y="648828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го по ст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Прямоугольник 17" descr=""/>
          <p:cNvPicPr/>
          <p:nvPr/>
        </p:nvPicPr>
        <p:blipFill>
          <a:blip r:embed="rId2"/>
          <a:stretch/>
        </p:blipFill>
        <p:spPr>
          <a:xfrm>
            <a:off x="158760" y="182520"/>
            <a:ext cx="8845560" cy="5238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"/>
          <p:cNvPicPr/>
          <p:nvPr/>
        </p:nvPicPr>
        <p:blipFill>
          <a:blip r:embed="rId3"/>
          <a:stretch/>
        </p:blipFill>
        <p:spPr>
          <a:xfrm>
            <a:off x="4359240" y="927000"/>
            <a:ext cx="16876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215200" cy="5357880"/>
          </a:xfrm>
          <a:prstGeom prst="rect">
            <a:avLst/>
          </a:prstGeom>
          <a:ln w="0">
            <a:noFill/>
          </a:ln>
        </p:spPr>
      </p:pic>
      <p:pic>
        <p:nvPicPr>
          <p:cNvPr id="458" name="Прямоугольник 2" descr=""/>
          <p:cNvPicPr/>
          <p:nvPr/>
        </p:nvPicPr>
        <p:blipFill>
          <a:blip r:embed="rId2"/>
          <a:stretch/>
        </p:blipFill>
        <p:spPr>
          <a:xfrm>
            <a:off x="573120" y="195120"/>
            <a:ext cx="8285040" cy="12798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"/>
          <p:cNvPicPr/>
          <p:nvPr/>
        </p:nvPicPr>
        <p:blipFill>
          <a:blip r:embed="rId3"/>
          <a:stretch/>
        </p:blipFill>
        <p:spPr>
          <a:xfrm>
            <a:off x="2214720" y="5143680"/>
            <a:ext cx="50004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500040" y="1712880"/>
            <a:ext cx="2786040" cy="23590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"/>
          <p:cNvPicPr/>
          <p:nvPr/>
        </p:nvPicPr>
        <p:blipFill>
          <a:blip r:embed="rId2"/>
          <a:stretch/>
        </p:blipFill>
        <p:spPr>
          <a:xfrm>
            <a:off x="6215040" y="1857240"/>
            <a:ext cx="2786040" cy="20005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"/>
          <p:cNvPicPr/>
          <p:nvPr/>
        </p:nvPicPr>
        <p:blipFill>
          <a:blip r:embed="rId3"/>
          <a:stretch/>
        </p:blipFill>
        <p:spPr>
          <a:xfrm>
            <a:off x="3425760" y="2571840"/>
            <a:ext cx="2719440" cy="40734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"/>
          <p:cNvPicPr/>
          <p:nvPr/>
        </p:nvPicPr>
        <p:blipFill>
          <a:blip r:embed="rId4"/>
          <a:stretch/>
        </p:blipFill>
        <p:spPr>
          <a:xfrm>
            <a:off x="785880" y="4211640"/>
            <a:ext cx="2573280" cy="22860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"/>
          <p:cNvPicPr/>
          <p:nvPr/>
        </p:nvPicPr>
        <p:blipFill>
          <a:blip r:embed="rId5"/>
          <a:stretch/>
        </p:blipFill>
        <p:spPr>
          <a:xfrm>
            <a:off x="6321600" y="4071960"/>
            <a:ext cx="2822400" cy="23590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7" descr=""/>
          <p:cNvPicPr/>
          <p:nvPr/>
        </p:nvPicPr>
        <p:blipFill>
          <a:blip r:embed="rId6"/>
          <a:stretch/>
        </p:blipFill>
        <p:spPr>
          <a:xfrm>
            <a:off x="3932280" y="1000080"/>
            <a:ext cx="1785960" cy="1571760"/>
          </a:xfrm>
          <a:prstGeom prst="rect">
            <a:avLst/>
          </a:prstGeom>
          <a:ln w="0">
            <a:noFill/>
          </a:ln>
        </p:spPr>
      </p:pic>
      <p:pic>
        <p:nvPicPr>
          <p:cNvPr id="466" name="Прямоугольник 7" descr=""/>
          <p:cNvPicPr/>
          <p:nvPr/>
        </p:nvPicPr>
        <p:blipFill>
          <a:blip r:embed="rId7"/>
          <a:stretch/>
        </p:blipFill>
        <p:spPr>
          <a:xfrm>
            <a:off x="360360" y="249120"/>
            <a:ext cx="83566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"/>
          <p:cNvSpPr/>
          <p:nvPr/>
        </p:nvSpPr>
        <p:spPr>
          <a:xfrm>
            <a:off x="857160" y="146160"/>
            <a:ext cx="7715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формационный портал Федеральной службы по труду и занятости (общероссийский банк ваканс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</a:t>
            </a:r>
            <a:r>
              <a:rPr b="0" lang="ru-RU" sz="1800" spc="-1" strike="noStrike" u="sng">
                <a:solidFill>
                  <a:srgbClr val="5f5f5f"/>
                </a:solidFill>
                <a:uFillTx/>
                <a:latin typeface="Calibri"/>
                <a:ea typeface="Times New Roman"/>
                <a:hlinkClick r:id="rId1"/>
              </a:rPr>
              <a:t>http://www.trudvsem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бота, обучение в Перми (газеты "Вакансии сегодня", "Новости Пермского образования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</a:t>
            </a:r>
            <a:r>
              <a:rPr b="0" lang="ru-RU" sz="1800" spc="-1" strike="noStrike" u="sng">
                <a:solidFill>
                  <a:srgbClr val="5f5f5f"/>
                </a:solidFill>
                <a:uFillTx/>
                <a:latin typeface="Calibri"/>
                <a:ea typeface="Times New Roman"/>
                <a:hlinkClick r:id="rId2"/>
              </a:rPr>
              <a:t>www.ve.perm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</a:t>
            </a:r>
            <a:r>
              <a:rPr b="0" lang="ru-RU" sz="1800" spc="-1" strike="noStrike" u="sng">
                <a:solidFill>
                  <a:srgbClr val="5f5f5f"/>
                </a:solidFill>
                <a:uFillTx/>
                <a:latin typeface="Calibri"/>
                <a:ea typeface="Times New Roman"/>
                <a:hlinkClick r:id="rId3"/>
              </a:rPr>
              <a:t>www.vakans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кансии, резюме, обучение (газета "Работа и услуги в Пермском крае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</a:t>
            </a:r>
            <a:r>
              <a:rPr b="0" lang="ru-RU" sz="1800" spc="-1" strike="noStrike" u="sng">
                <a:solidFill>
                  <a:srgbClr val="5f5f5f"/>
                </a:solidFill>
                <a:uFillTx/>
                <a:latin typeface="Calibri"/>
                <a:ea typeface="Times New Roman"/>
                <a:hlinkClick r:id="rId4"/>
              </a:rPr>
              <a:t>www.ru.perm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кансии, обучение, резюме (газета «Работа для Вас. Пермский выпуск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http://www.perm.rabota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йты по трудоустрой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www.rosrabota.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59.ru/job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www.rabota.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www.rezume-bank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www.job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www.superjob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www.zarplat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лодежный информационный центр г.Пер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http://www.ypic.perm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выучить схему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«Трудовые ресурсы России»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60640" indent="-260640" algn="ctr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проектировать траекторию профессионального самоопределения (обоснование выбора    будущей профессии; указание учебных заведений, в которых возможно  ее получение; предполагаемые места работы, предположение возможных рисков в данной траектории). 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60640" indent="-260640" algn="ctr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60640" indent="-260640" algn="ctr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60640" indent="-2606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260640" indent="-2606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260640" indent="-2606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0" name="Picture 5" descr="D:\Мои документы\Мои рисунки\смайлики\s9-3.jpg"/>
          <p:cNvPicPr/>
          <p:nvPr/>
        </p:nvPicPr>
        <p:blipFill>
          <a:blip r:embed="rId2"/>
          <a:stretch/>
        </p:blipFill>
        <p:spPr>
          <a:xfrm>
            <a:off x="5784840" y="212760"/>
            <a:ext cx="276228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0:11:46Z</dcterms:created>
  <dc:creator>Елена Валерьевна</dc:creator>
  <dc:description/>
  <dc:language>en-US</dc:language>
  <cp:lastModifiedBy>Валерковна</cp:lastModifiedBy>
  <dcterms:modified xsi:type="dcterms:W3CDTF">2015-02-06T22:17:17Z</dcterms:modified>
  <cp:revision>38</cp:revision>
  <dc:subject/>
  <dc:title>Слайд 1</dc:title>
</cp:coreProperties>
</file>