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2890-2721-4AE3-B8C4-37F90DC086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D7C0-4225-4A0B-83E7-417A060832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A90C-0B49-4918-AFC3-4A68542EBC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AE7B-F1B4-493C-B744-AE82CB1DE2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92D2-D305-4533-B517-243C218B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438-F3AA-42E9-9880-0522F09E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E3442-F85B-44A6-B781-8D1B76B0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68F6D-E84E-46D1-A80C-35D2F445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BCBCA-3601-4171-A97B-1034BE64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FC621-F314-4FCF-8870-29C14AAF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7EE43-0911-4200-8EAC-B0A63794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EAE01-8CDF-4C76-A7C4-BB6B1368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B1E6A-F300-4174-A5C2-0A6F6E8E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A573E-60E9-4626-86F2-AB84EFEF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266E5-7E2B-468B-A6DB-CF48FE34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A82-00B9-4067-9369-74591ED3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B7D-1377-46A8-9EC1-0E0EE1D4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C337-2C6A-4D71-9F60-F40F32BF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3592-125C-4D60-9BE5-1E8E66CF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53C6-323D-4EB6-AED3-B63D8EFE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9F8C-250E-4CAE-8309-5F65CBEC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750B-D6F2-4218-B612-ABC4EA1C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93E2-179A-4156-83CA-E9116690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3D76-44DE-4CEC-9C12-AD041FD4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E0ED-A1DD-464F-8277-3E5199E4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0516-7521-4F5E-B1F6-0B8B44FF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028E-E8CA-495F-903B-238852E9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4AC8-24A1-4241-8E10-77440DF6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B871-F201-4A96-A566-89C0ACBB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A4D3-92C1-4234-826D-101E8386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8E740-97D7-451B-9963-2D853E50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99DEB-2768-4EBB-901B-2D07AA76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0C95C-3D8A-45D4-AFDC-CBFF0F4B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41878-5D5A-4813-A6BA-F949E49E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D80C6-5DA6-4222-8394-2C424F0C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DBD-B885-4F2E-873B-F194DF55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54703-6A8A-4A6B-B032-00A219EE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8C64B-4BA0-42EE-9876-9D6E4AA4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E35CA-2F94-40EE-BF0A-41CD1E82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A7A79-CBDD-499A-94FA-B325AAFC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D0D50-BAC7-40CF-AB40-41C72781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22DBA-B925-4848-81CB-78919654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6BADC-5CCA-4976-830F-518ED914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65397-6580-4942-BAFF-BFBA35D7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D0BD4-E056-4D0C-8D41-955C00BF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EDBA1-A10A-472D-B9C3-6C90A49D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F7E-E67D-49EC-8F30-D7A42AAE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6306C-8385-40BD-A7C3-ABC207D4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7FA14-8A0F-4202-A71E-BE30481E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44344-3013-481E-9E75-041DB934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72B54-8DD4-4E30-BBB4-BA084A56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2A5CE-F11E-44CF-AEC6-1D9CD3FF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077B8-030A-46DF-9790-B9178E2D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34EA8-7959-4AEE-9EBD-23F9E48E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CCA03-46EC-4370-AADE-59064E4F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19213-BA70-4813-B616-266E9B36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3A847-E1DC-4061-ADA7-4035ED78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7192-99A5-47BB-86C8-3BD48D0D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404F1-26BC-441D-8609-F1BD6077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95FC0-C70C-40E9-837A-8A0318F4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A2FBD-D5EB-48B2-80D1-7A7FC0E1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BFE5D-FD64-446A-AC9C-F5DCFB48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EAE35-1213-4613-B4DB-B977D5FA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C5A7C-B990-41EB-B488-911F78A0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2182C-7B65-43F3-AEB3-E3FB4936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5F15C-8BB2-4BDB-90B6-73DF07A5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EC846-70CB-4D3A-9FBA-2984E186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67DEF-F9A5-41DB-8ED4-337702B5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26FB-24EF-4713-B770-E9F79FF3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608E7-86D5-4E61-AFBD-A89E4E37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29E6F-DD43-4C8E-A59A-75CF4065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75779-C9BF-4053-AC2E-54D55B88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DB839-B12E-4A36-9A21-9CF8D570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9ED89-F27F-4D66-BDDB-539D8681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08813-A177-4E4B-B753-13B0D696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A8A1D-4F56-4711-8D2D-DDB14004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19F15-3988-4FB7-8E32-FD156E91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0C217-EC0B-4B33-8D71-FFAB3AE9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181B4-5F88-47AE-8446-1B03A61F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8D4-291E-4E61-86FA-DC870016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EA525-E3AA-49F5-8C75-CCE0FB9E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79403-2674-44A4-A042-3EFDE008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9CB9A-31FA-457F-BE61-B40C093B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4BA15-112D-43EF-BB92-505204F8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A0231-FA9A-4E56-836E-43DED178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9D286-0A9E-43D8-A080-A33D4798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5F8EA-C24E-48C2-A1AF-FB37B610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9E035-C48E-4124-B541-964E61E3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08475-6833-4CEA-8FE2-67907707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622A4-F512-4E61-B422-8511D4C9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25FD-F871-42A5-8C66-21429FC4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0F5D3-21CE-408D-8973-A1E525BE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D132E-5B3B-42F3-8C1F-1441909C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20964-8C9B-46AC-9F1E-B5E21B24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5A83D-6CEF-40C7-9428-C9D0FC24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04076-E138-49F1-9BEE-D5EC2B80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D5905-47BE-4588-9FE8-8D7AD1BC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CCBE0-08F2-442B-801D-7EA2EAC6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73323-F4A4-4AE6-ABF7-86F2461D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C046B-52E0-4CD4-8EE7-AF75EF2C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294A1-ACBC-472D-A57E-D7CB2BB9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F04F-D046-48BB-ACDF-535A35A1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1DBD7-B028-4027-8DBD-A98B8DCD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E7B1D-A369-4943-AE86-54D2B9ED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8D368-5B31-4366-979A-2758C927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75F9C-21F6-45CF-9271-1D60E0F2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8E545-80A8-4332-8BEB-479A1849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21BD0-89F1-4AB7-8554-B1253907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52C9D-C21E-4C01-AC6D-4D622D74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78DB7-E684-4F29-A057-2235DAE6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C2A8F-20D3-4CF4-8381-DE4F6F8B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D92E1-88E1-4E3D-8EF9-E31CA7BB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69A4-B7C3-4017-8C33-6E347E6ED6C7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C6A0-5A28-477E-AAAB-59896B97B73C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42FE-DCCC-43C6-97C9-8A88A6D64AD7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E14A-4A69-4117-B688-F0A034F3E4DF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4264-3D14-4D5E-B702-EF374AFF0E73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C0B1-EF13-44FA-AEB3-F0B220BC05E1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EE21-79D1-4E2C-A0D8-52C41484055A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ABD5-2DA0-42A5-9049-3B70BFAE9B7B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A8B7-499B-4C25-86A7-6854DB290FE9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rudvsem.ru/" TargetMode="External"/><Relationship Id="rId2" Type="http://schemas.openxmlformats.org/officeDocument/2006/relationships/hyperlink" Target="http://www.ve.perm.ru/" TargetMode="External"/><Relationship Id="rId3" Type="http://schemas.openxmlformats.org/officeDocument/2006/relationships/hyperlink" Target="http://www.vakansy.com/" TargetMode="External"/><Relationship Id="rId4" Type="http://schemas.openxmlformats.org/officeDocument/2006/relationships/hyperlink" Target="http://www.ru.perm.ru/" TargetMode="External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2"/>
          <a:stretch/>
        </p:blipFill>
        <p:spPr>
          <a:xfrm>
            <a:off x="0" y="2249640"/>
            <a:ext cx="9144000" cy="34318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547640" y="5444640"/>
            <a:ext cx="6400800" cy="100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ac00"/>
                </a:solidFill>
                <a:latin typeface="Franklin Gothic Book"/>
              </a:rPr>
              <a:t>Учитель географии Голдырева Е.В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ac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b0ac00"/>
                </a:solidFill>
                <a:latin typeface="Franklin Gothic Book"/>
              </a:rPr>
              <a:t>МАОУ «Лицей №8»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Группа 1"/>
          <p:cNvGrpSpPr/>
          <p:nvPr/>
        </p:nvGrpSpPr>
        <p:grpSpPr>
          <a:xfrm>
            <a:off x="249120" y="212760"/>
            <a:ext cx="8680680" cy="6512040"/>
            <a:chOff x="249120" y="212760"/>
            <a:chExt cx="8680680" cy="6512040"/>
          </a:xfrm>
        </p:grpSpPr>
        <p:sp>
          <p:nvSpPr>
            <p:cNvPr id="409" name="Скругленный прямоугольник 5"/>
            <p:cNvSpPr/>
            <p:nvPr/>
          </p:nvSpPr>
          <p:spPr>
            <a:xfrm>
              <a:off x="3000240" y="928440"/>
              <a:ext cx="3233880" cy="50940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селение Росс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Прямоугольник 6"/>
            <p:cNvSpPr/>
            <p:nvPr/>
          </p:nvSpPr>
          <p:spPr>
            <a:xfrm>
              <a:off x="2357280" y="214200"/>
              <a:ext cx="65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ОСТАВ ТРУДОВЫХ РЕСУРС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Прямоугольник 7"/>
            <p:cNvSpPr/>
            <p:nvPr/>
          </p:nvSpPr>
          <p:spPr>
            <a:xfrm>
              <a:off x="285480" y="1643040"/>
              <a:ext cx="2428920" cy="8240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селение молож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трудоспособного возрас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Прямоугольник 8"/>
            <p:cNvSpPr/>
            <p:nvPr/>
          </p:nvSpPr>
          <p:spPr>
            <a:xfrm>
              <a:off x="3214440" y="1857240"/>
              <a:ext cx="2714760" cy="82404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с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 трудоспособном возраст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Прямоугольник 9"/>
            <p:cNvSpPr/>
            <p:nvPr/>
          </p:nvSpPr>
          <p:spPr>
            <a:xfrm>
              <a:off x="6215040" y="1643040"/>
              <a:ext cx="2714760" cy="824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селение старше трудоспособного возрас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Прямая соединительная линия 11"/>
            <p:cNvSpPr/>
            <p:nvPr/>
          </p:nvSpPr>
          <p:spPr>
            <a:xfrm flipV="1">
              <a:off x="1714320" y="1214280"/>
              <a:ext cx="1214280" cy="35712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Прямая соединительная линия 13"/>
            <p:cNvSpPr/>
            <p:nvPr/>
          </p:nvSpPr>
          <p:spPr>
            <a:xfrm>
              <a:off x="6234120" y="1184040"/>
              <a:ext cx="1766880" cy="45864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Прямая соединительная линия 15"/>
            <p:cNvSpPr/>
            <p:nvPr/>
          </p:nvSpPr>
          <p:spPr>
            <a:xfrm flipH="1">
              <a:off x="4786200" y="1428840"/>
              <a:ext cx="1440" cy="42840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Прямоугольник 18"/>
            <p:cNvSpPr/>
            <p:nvPr/>
          </p:nvSpPr>
          <p:spPr>
            <a:xfrm>
              <a:off x="2648520" y="3071880"/>
              <a:ext cx="2103840" cy="5806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етрудоспособ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с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Прямоугольник 19"/>
            <p:cNvSpPr/>
            <p:nvPr/>
          </p:nvSpPr>
          <p:spPr>
            <a:xfrm>
              <a:off x="4929120" y="3071880"/>
              <a:ext cx="2143080" cy="5806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Трудоспособ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с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Прямая соединительная линия 21"/>
            <p:cNvSpPr/>
            <p:nvPr/>
          </p:nvSpPr>
          <p:spPr>
            <a:xfrm flipH="1">
              <a:off x="3700080" y="2643120"/>
              <a:ext cx="585720" cy="42840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Прямая соединительная линия 23"/>
            <p:cNvSpPr/>
            <p:nvPr/>
          </p:nvSpPr>
          <p:spPr>
            <a:xfrm>
              <a:off x="5214960" y="2643120"/>
              <a:ext cx="785520" cy="42840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Прямоугольник 30"/>
            <p:cNvSpPr/>
            <p:nvPr/>
          </p:nvSpPr>
          <p:spPr>
            <a:xfrm>
              <a:off x="7364160" y="3071880"/>
              <a:ext cx="1527840" cy="580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аботающ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енсионер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Прямая соединительная линия 32"/>
            <p:cNvSpPr/>
            <p:nvPr/>
          </p:nvSpPr>
          <p:spPr>
            <a:xfrm flipH="1">
              <a:off x="8215560" y="2428920"/>
              <a:ext cx="1440" cy="64296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Прямоугольник 37"/>
            <p:cNvSpPr/>
            <p:nvPr/>
          </p:nvSpPr>
          <p:spPr>
            <a:xfrm>
              <a:off x="3290040" y="4071960"/>
              <a:ext cx="2998440" cy="398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РУДОВЫЕ РЕСУРС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Прямая соединительная линия 41"/>
            <p:cNvSpPr/>
            <p:nvPr/>
          </p:nvSpPr>
          <p:spPr>
            <a:xfrm>
              <a:off x="1258560" y="2492280"/>
              <a:ext cx="2017800" cy="158436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Прямая соединительная линия 44"/>
            <p:cNvSpPr/>
            <p:nvPr/>
          </p:nvSpPr>
          <p:spPr>
            <a:xfrm flipH="1">
              <a:off x="6292440" y="3656160"/>
              <a:ext cx="1834920" cy="61596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47"/>
            <p:cNvSpPr/>
            <p:nvPr/>
          </p:nvSpPr>
          <p:spPr>
            <a:xfrm flipH="1">
              <a:off x="5428800" y="3643560"/>
              <a:ext cx="214200" cy="42840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Прямоугольник 48"/>
            <p:cNvSpPr/>
            <p:nvPr/>
          </p:nvSpPr>
          <p:spPr>
            <a:xfrm>
              <a:off x="356760" y="4286520"/>
              <a:ext cx="2571840" cy="82404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Занят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 личном подсобном хозяйств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Прямоугольник 49"/>
            <p:cNvSpPr/>
            <p:nvPr/>
          </p:nvSpPr>
          <p:spPr>
            <a:xfrm>
              <a:off x="4214880" y="4857840"/>
              <a:ext cx="1428840" cy="33732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Учащиес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Прямоугольник 50"/>
            <p:cNvSpPr/>
            <p:nvPr/>
          </p:nvSpPr>
          <p:spPr>
            <a:xfrm>
              <a:off x="6370200" y="4857840"/>
              <a:ext cx="2219760" cy="5806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Экономическ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активное нас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Прямоугольник 51"/>
            <p:cNvSpPr/>
            <p:nvPr/>
          </p:nvSpPr>
          <p:spPr>
            <a:xfrm>
              <a:off x="3938400" y="6143760"/>
              <a:ext cx="2576520" cy="3373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аботающее нас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Прямоугольник 52"/>
            <p:cNvSpPr/>
            <p:nvPr/>
          </p:nvSpPr>
          <p:spPr>
            <a:xfrm>
              <a:off x="7150680" y="6143760"/>
              <a:ext cx="1532520" cy="3373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Безработ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Picture 5" descr=""/>
            <p:cNvPicPr/>
            <p:nvPr/>
          </p:nvPicPr>
          <p:blipFill>
            <a:blip r:embed="rId1"/>
            <a:stretch/>
          </p:blipFill>
          <p:spPr>
            <a:xfrm>
              <a:off x="426600" y="212760"/>
              <a:ext cx="2054160" cy="12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6" descr=""/>
            <p:cNvPicPr/>
            <p:nvPr/>
          </p:nvPicPr>
          <p:blipFill>
            <a:blip r:embed="rId2"/>
            <a:stretch/>
          </p:blipFill>
          <p:spPr>
            <a:xfrm>
              <a:off x="999720" y="5310360"/>
              <a:ext cx="22604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Прямая соединительная линия 56"/>
            <p:cNvSpPr/>
            <p:nvPr/>
          </p:nvSpPr>
          <p:spPr>
            <a:xfrm flipV="1">
              <a:off x="2928960" y="4500720"/>
              <a:ext cx="1000080" cy="35712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Прямая соединительная линия 60"/>
            <p:cNvSpPr/>
            <p:nvPr/>
          </p:nvSpPr>
          <p:spPr>
            <a:xfrm flipH="1">
              <a:off x="5143680" y="4500720"/>
              <a:ext cx="1440" cy="35856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Прямая соединительная линия 64"/>
            <p:cNvSpPr/>
            <p:nvPr/>
          </p:nvSpPr>
          <p:spPr>
            <a:xfrm>
              <a:off x="6143760" y="4500720"/>
              <a:ext cx="1214280" cy="35712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Прямая соединительная линия 68"/>
            <p:cNvSpPr/>
            <p:nvPr/>
          </p:nvSpPr>
          <p:spPr>
            <a:xfrm flipH="1">
              <a:off x="5227200" y="5429520"/>
              <a:ext cx="1701720" cy="71424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Прямая соединительная линия 71"/>
            <p:cNvSpPr/>
            <p:nvPr/>
          </p:nvSpPr>
          <p:spPr>
            <a:xfrm>
              <a:off x="7857720" y="5429520"/>
              <a:ext cx="214200" cy="714240"/>
            </a:xfrm>
            <a:prstGeom prst="line">
              <a:avLst/>
            </a:prstGeom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9" name="Picture 33" descr=""/>
            <p:cNvPicPr/>
            <p:nvPr/>
          </p:nvPicPr>
          <p:blipFill>
            <a:blip r:embed="rId3"/>
            <a:stretch/>
          </p:blipFill>
          <p:spPr>
            <a:xfrm>
              <a:off x="249120" y="2998800"/>
              <a:ext cx="1585800" cy="113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4" descr=""/>
          <p:cNvPicPr/>
          <p:nvPr/>
        </p:nvPicPr>
        <p:blipFill>
          <a:blip r:embed="rId1"/>
          <a:stretch/>
        </p:blipFill>
        <p:spPr>
          <a:xfrm>
            <a:off x="6643800" y="2428920"/>
            <a:ext cx="2286000" cy="15048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"/>
          <p:cNvPicPr/>
          <p:nvPr/>
        </p:nvPicPr>
        <p:blipFill>
          <a:blip r:embed="rId2"/>
          <a:stretch/>
        </p:blipFill>
        <p:spPr>
          <a:xfrm>
            <a:off x="6572160" y="285840"/>
            <a:ext cx="2357640" cy="2143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3"/>
          <a:stretch/>
        </p:blipFill>
        <p:spPr>
          <a:xfrm>
            <a:off x="214200" y="214200"/>
            <a:ext cx="65725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1"/>
          <a:stretch/>
        </p:blipFill>
        <p:spPr>
          <a:xfrm>
            <a:off x="0" y="857160"/>
            <a:ext cx="6500880" cy="6000840"/>
          </a:xfrm>
          <a:prstGeom prst="rect">
            <a:avLst/>
          </a:prstGeom>
          <a:ln w="0">
            <a:noFill/>
          </a:ln>
        </p:spPr>
      </p:pic>
      <p:sp>
        <p:nvSpPr>
          <p:cNvPr id="444" name="Прямоугольник 6"/>
          <p:cNvSpPr/>
          <p:nvPr/>
        </p:nvSpPr>
        <p:spPr>
          <a:xfrm>
            <a:off x="6454440" y="857160"/>
            <a:ext cx="26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батывающ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7"/>
          <p:cNvSpPr/>
          <p:nvPr/>
        </p:nvSpPr>
        <p:spPr>
          <a:xfrm>
            <a:off x="6500880" y="13572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льское хозяйство, охота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сн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8"/>
          <p:cNvSpPr/>
          <p:nvPr/>
        </p:nvSpPr>
        <p:spPr>
          <a:xfrm>
            <a:off x="6500880" y="18572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ство и распреде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лектроэнергии, газа и 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9"/>
          <p:cNvSpPr/>
          <p:nvPr/>
        </p:nvSpPr>
        <p:spPr>
          <a:xfrm>
            <a:off x="6507360" y="250020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10"/>
          <p:cNvSpPr/>
          <p:nvPr/>
        </p:nvSpPr>
        <p:spPr>
          <a:xfrm>
            <a:off x="6500880" y="30002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товая и розничная торгов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луги ремо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11"/>
          <p:cNvSpPr/>
          <p:nvPr/>
        </p:nvSpPr>
        <p:spPr>
          <a:xfrm>
            <a:off x="6500880" y="3500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с.управление и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енной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12"/>
          <p:cNvSpPr/>
          <p:nvPr/>
        </p:nvSpPr>
        <p:spPr>
          <a:xfrm>
            <a:off x="6500880" y="407196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и с недвижим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уществом, аренда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оставление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13"/>
          <p:cNvSpPr/>
          <p:nvPr/>
        </p:nvSpPr>
        <p:spPr>
          <a:xfrm>
            <a:off x="6576840" y="485784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14"/>
          <p:cNvSpPr/>
          <p:nvPr/>
        </p:nvSpPr>
        <p:spPr>
          <a:xfrm>
            <a:off x="6500880" y="521496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равоохранение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оставление соци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15"/>
          <p:cNvSpPr/>
          <p:nvPr/>
        </p:nvSpPr>
        <p:spPr>
          <a:xfrm>
            <a:off x="6500880" y="5857920"/>
            <a:ext cx="46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оста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мунальных и прочи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16"/>
          <p:cNvSpPr/>
          <p:nvPr/>
        </p:nvSpPr>
        <p:spPr>
          <a:xfrm>
            <a:off x="6506640" y="648828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го по ст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Прямоугольник 17" descr=""/>
          <p:cNvPicPr/>
          <p:nvPr/>
        </p:nvPicPr>
        <p:blipFill>
          <a:blip r:embed="rId2"/>
          <a:stretch/>
        </p:blipFill>
        <p:spPr>
          <a:xfrm>
            <a:off x="158760" y="182520"/>
            <a:ext cx="8845560" cy="5238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"/>
          <p:cNvPicPr/>
          <p:nvPr/>
        </p:nvPicPr>
        <p:blipFill>
          <a:blip r:embed="rId3"/>
          <a:stretch/>
        </p:blipFill>
        <p:spPr>
          <a:xfrm>
            <a:off x="4359240" y="927000"/>
            <a:ext cx="16876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215200" cy="5357880"/>
          </a:xfrm>
          <a:prstGeom prst="rect">
            <a:avLst/>
          </a:prstGeom>
          <a:ln w="0">
            <a:noFill/>
          </a:ln>
        </p:spPr>
      </p:pic>
      <p:pic>
        <p:nvPicPr>
          <p:cNvPr id="458" name="Прямоугольник 2" descr=""/>
          <p:cNvPicPr/>
          <p:nvPr/>
        </p:nvPicPr>
        <p:blipFill>
          <a:blip r:embed="rId2"/>
          <a:stretch/>
        </p:blipFill>
        <p:spPr>
          <a:xfrm>
            <a:off x="573120" y="195120"/>
            <a:ext cx="8285040" cy="12798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"/>
          <p:cNvPicPr/>
          <p:nvPr/>
        </p:nvPicPr>
        <p:blipFill>
          <a:blip r:embed="rId3"/>
          <a:stretch/>
        </p:blipFill>
        <p:spPr>
          <a:xfrm>
            <a:off x="2214720" y="5143680"/>
            <a:ext cx="50004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500040" y="1712880"/>
            <a:ext cx="2786040" cy="23590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"/>
          <p:cNvPicPr/>
          <p:nvPr/>
        </p:nvPicPr>
        <p:blipFill>
          <a:blip r:embed="rId2"/>
          <a:stretch/>
        </p:blipFill>
        <p:spPr>
          <a:xfrm>
            <a:off x="6215040" y="1857240"/>
            <a:ext cx="2786040" cy="20005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"/>
          <p:cNvPicPr/>
          <p:nvPr/>
        </p:nvPicPr>
        <p:blipFill>
          <a:blip r:embed="rId3"/>
          <a:stretch/>
        </p:blipFill>
        <p:spPr>
          <a:xfrm>
            <a:off x="3425760" y="2571840"/>
            <a:ext cx="2719440" cy="40734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"/>
          <p:cNvPicPr/>
          <p:nvPr/>
        </p:nvPicPr>
        <p:blipFill>
          <a:blip r:embed="rId4"/>
          <a:stretch/>
        </p:blipFill>
        <p:spPr>
          <a:xfrm>
            <a:off x="785880" y="4211640"/>
            <a:ext cx="2573280" cy="22860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"/>
          <p:cNvPicPr/>
          <p:nvPr/>
        </p:nvPicPr>
        <p:blipFill>
          <a:blip r:embed="rId5"/>
          <a:stretch/>
        </p:blipFill>
        <p:spPr>
          <a:xfrm>
            <a:off x="6321600" y="4071960"/>
            <a:ext cx="2822400" cy="23590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7" descr=""/>
          <p:cNvPicPr/>
          <p:nvPr/>
        </p:nvPicPr>
        <p:blipFill>
          <a:blip r:embed="rId6"/>
          <a:stretch/>
        </p:blipFill>
        <p:spPr>
          <a:xfrm>
            <a:off x="3932280" y="1000080"/>
            <a:ext cx="1785960" cy="1571760"/>
          </a:xfrm>
          <a:prstGeom prst="rect">
            <a:avLst/>
          </a:prstGeom>
          <a:ln w="0">
            <a:noFill/>
          </a:ln>
        </p:spPr>
      </p:pic>
      <p:pic>
        <p:nvPicPr>
          <p:cNvPr id="466" name="Прямоугольник 7" descr=""/>
          <p:cNvPicPr/>
          <p:nvPr/>
        </p:nvPicPr>
        <p:blipFill>
          <a:blip r:embed="rId7"/>
          <a:stretch/>
        </p:blipFill>
        <p:spPr>
          <a:xfrm>
            <a:off x="360360" y="249120"/>
            <a:ext cx="83566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"/>
          <p:cNvSpPr/>
          <p:nvPr/>
        </p:nvSpPr>
        <p:spPr>
          <a:xfrm>
            <a:off x="857160" y="146160"/>
            <a:ext cx="7715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формационный портал Федеральной службы по труду и занятости (общероссийский банк ваканс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Calibri"/>
                <a:ea typeface="Times New Roman"/>
                <a:hlinkClick r:id="rId1"/>
              </a:rPr>
              <a:t>http://www.trudvsem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бота, обучение в Перми (газеты "Вакансии сегодня", "Новости Пермского образования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Calibri"/>
                <a:ea typeface="Times New Roman"/>
                <a:hlinkClick r:id="rId2"/>
              </a:rPr>
              <a:t>www.ve.perm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Calibri"/>
                <a:ea typeface="Times New Roman"/>
                <a:hlinkClick r:id="rId3"/>
              </a:rPr>
              <a:t>www.vakans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кансии, резюме, обучение (газета "Работа и услуги в Пермском крае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Calibri"/>
                <a:ea typeface="Times New Roman"/>
                <a:hlinkClick r:id="rId4"/>
              </a:rPr>
              <a:t>www.ru.perm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кансии, обучение, резюме (газета «Работа для Вас. Пермский выпуск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http://www.perm.rabota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йты по трудоустрой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www.rosrabota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59.ru/job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www.rabota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www.rezume-bank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www.job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www.superjob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www.zarplat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лодежный информационный центр г.Пер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http://www.ypic.perm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выучить схему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«Трудовые ресурсы России»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60640" indent="-260640" algn="ctr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проектировать траекторию профессионального самоопределения (обоснование выбора    будущей профессии; указание учебных заведений, в которых возможно  ее получение; предполагаемые места работы, предположение возможных рисков в данной траектории). 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60640" indent="-260640" algn="ctr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60640" indent="-260640" algn="ctr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60640" indent="-2606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260640" indent="-2606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260640" indent="-2606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0" name="Picture 5" descr="D:\Мои документы\Мои рисунки\смайлики\s9-3.jpg"/>
          <p:cNvPicPr/>
          <p:nvPr/>
        </p:nvPicPr>
        <p:blipFill>
          <a:blip r:embed="rId2"/>
          <a:stretch/>
        </p:blipFill>
        <p:spPr>
          <a:xfrm>
            <a:off x="5784840" y="212760"/>
            <a:ext cx="276228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0:11:46Z</dcterms:created>
  <dc:creator>Елена Валерьевна</dc:creator>
  <dc:description/>
  <dc:language>en-US</dc:language>
  <cp:lastModifiedBy>Валерковна</cp:lastModifiedBy>
  <dcterms:modified xsi:type="dcterms:W3CDTF">2015-02-06T22:17:17Z</dcterms:modified>
  <cp:revision>38</cp:revision>
  <dc:subject/>
  <dc:title>Слайд 1</dc:title>
</cp:coreProperties>
</file>