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351-9367-4D36-9DA8-7679A697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15A-57D5-4035-9301-C9B71829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B7B-8283-4F6B-BF05-4AF913F5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186-9514-48BC-9152-83263732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B16-45FA-4577-A94F-E8D76CE0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A83-535F-40F4-8162-A01F640C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45B-1F9D-421E-92C0-F7EE576A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511-C3F0-4A64-8FFA-3A938D34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BE3-229F-4355-A5D9-A165B2A8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B34-9CA0-427A-B869-B1A9D328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BB7-ADB1-42EC-A364-018B8242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533-6858-4F90-BB8E-ED5D0D2E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A9E7-034D-4F2E-9685-1483BCDE6D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Удивительный мир научных книг – 2015»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00680" y="5714640"/>
            <a:ext cx="482904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7в класс МоУ "СОШ №3 г.Ершова Саратовской области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open_booook.jpg"/>
          <p:cNvPicPr/>
          <p:nvPr/>
        </p:nvPicPr>
        <p:blipFill>
          <a:blip r:embed="rId1"/>
          <a:stretch/>
        </p:blipFill>
        <p:spPr>
          <a:xfrm>
            <a:off x="2643120" y="2071800"/>
            <a:ext cx="40039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071680" y="356760"/>
            <a:ext cx="3614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ычно все дети любят чита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ы предлагаем Вам удивительную книг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итая ее вы не заметите, как быстро пролетело время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 узнаете много интересного! Эта книга поможет в творческом освоении истории Отече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а адресована всем: учителям, родителям и школьника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1357373957_0778036.jpg"/>
          <p:cNvPicPr/>
          <p:nvPr/>
        </p:nvPicPr>
        <p:blipFill>
          <a:blip r:embed="rId1"/>
          <a:stretch/>
        </p:blipFill>
        <p:spPr>
          <a:xfrm>
            <a:off x="549360" y="189000"/>
            <a:ext cx="433368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7840" y="785880"/>
            <a:ext cx="3828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ая глава откроет тайны определенного этапа истории нашего государ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книгу, мы не только представляли эту эпоху, но и отражали ее особенности в своих проек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Zalman\Desktop\конкурс саратов\ХРАМ\DSCN0427.JPG"/>
          <p:cNvPicPr/>
          <p:nvPr/>
        </p:nvPicPr>
        <p:blipFill>
          <a:blip r:embed="rId1"/>
          <a:stretch/>
        </p:blipFill>
        <p:spPr>
          <a:xfrm>
            <a:off x="446040" y="500040"/>
            <a:ext cx="41274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86040" y="35676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адачизаставят задуматься, предположить ответ и доказать его достоверными фактами – и вы почувствуете себя настоящими ученым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840" y="4429080"/>
            <a:ext cx="8329680" cy="22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0000"/>
                </a:solidFill>
                <a:uFillTx/>
                <a:latin typeface="Calibri"/>
              </a:rPr>
              <a:t>Например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 каком Родстве был Владимир мономах с княгиней 0льгой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чему  поход Андрея Боголюбского на Киев был успешным, а его поход на Новгород окончился провалом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4388043-c00e2d1305449e58.jpg"/>
          <p:cNvPicPr/>
          <p:nvPr/>
        </p:nvPicPr>
        <p:blipFill>
          <a:blip r:embed="rId1"/>
          <a:stretch/>
        </p:blipFill>
        <p:spPr>
          <a:xfrm>
            <a:off x="0" y="142920"/>
            <a:ext cx="2897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тите изучение «Истории» в удивительную сказку, как это делаем мы. Мы не только много знаем теперь сами, но и рассказываем об этом други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Zalman\Downloads\Изображение 014.jpg"/>
          <p:cNvPicPr/>
          <p:nvPr/>
        </p:nvPicPr>
        <p:blipFill>
          <a:blip r:embed="rId1"/>
          <a:stretch/>
        </p:blipFill>
        <p:spPr>
          <a:xfrm>
            <a:off x="357120" y="2786040"/>
            <a:ext cx="3703680" cy="247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Zalman\Downloads\Изображение 020 (1).jpg"/>
          <p:cNvPicPr/>
          <p:nvPr/>
        </p:nvPicPr>
        <p:blipFill>
          <a:blip r:embed="rId2"/>
          <a:stretch/>
        </p:blipFill>
        <p:spPr>
          <a:xfrm>
            <a:off x="4608360" y="2786040"/>
            <a:ext cx="37036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7T11:18:06Z</dcterms:created>
  <dc:creator>Zalman</dc:creator>
  <dc:description/>
  <dc:language>en-US</dc:language>
  <cp:lastModifiedBy>Zalman</cp:lastModifiedBy>
  <dcterms:modified xsi:type="dcterms:W3CDTF">2015-02-07T11:42:51Z</dcterms:modified>
  <cp:revision>3</cp:revision>
  <dc:subject/>
  <dc:title>«Удивительный мир научных книг – 2015»</dc:title>
</cp:coreProperties>
</file>