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699B-050D-4068-967D-E7E78035E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E989-2232-4D79-816C-5B709D656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8DD3-EDB4-443B-94B2-5CDF12114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C0F6-E42C-4638-B835-8E5F34BA2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AD64-29AB-4FB2-AEC0-D81A2C78C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B7C8-2919-44FC-8291-83060A195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679C-5D9C-4470-8577-3DA44639D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1769-152E-4093-833F-8039B1E5A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A3A3-57EF-45A7-806D-0419D9EA2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67F7-A0DC-4885-9470-B3EB7CAC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E714-6817-41E6-8C26-146928AB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A307-CA03-40E5-BB21-CF759684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0272D-C212-4A15-8D1D-8002F185B4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«Удивительный мир научных книг – 2015»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000680" y="5714640"/>
            <a:ext cx="4829040" cy="8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898989"/>
                </a:solidFill>
                <a:latin typeface="Calibri"/>
              </a:rPr>
              <a:t>7в класс МоУ "СОШ №3 г.Ершова Саратовской области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open_booook.jpg"/>
          <p:cNvPicPr/>
          <p:nvPr/>
        </p:nvPicPr>
        <p:blipFill>
          <a:blip r:embed="rId1"/>
          <a:stretch/>
        </p:blipFill>
        <p:spPr>
          <a:xfrm>
            <a:off x="2643120" y="2071800"/>
            <a:ext cx="400392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5071680" y="356760"/>
            <a:ext cx="361476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бычно все дети любят читать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ы предлагаем Вам удивительную книгу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Читая ее вы не заметите, как быстро пролетело время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ы узнаете много интересного! Эта книга поможет в творческом освоении истории Отечеств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на адресована всем: учителям, родителям и школьникам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3" descr="1357373957_0778036.jpg"/>
          <p:cNvPicPr/>
          <p:nvPr/>
        </p:nvPicPr>
        <p:blipFill>
          <a:blip r:embed="rId1"/>
          <a:stretch/>
        </p:blipFill>
        <p:spPr>
          <a:xfrm>
            <a:off x="549360" y="189000"/>
            <a:ext cx="4333680" cy="59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857840" y="785880"/>
            <a:ext cx="382896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ждая глава откроет тайны определенного этапа истории нашего государств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итая книгу, мы не только представляли эту эпоху, но и отражали ее особенности в своих проектах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C:\Users\Zalman\Desktop\конкурс саратов\ХРАМ\DSCN0427.JPG"/>
          <p:cNvPicPr/>
          <p:nvPr/>
        </p:nvPicPr>
        <p:blipFill>
          <a:blip r:embed="rId1"/>
          <a:stretch/>
        </p:blipFill>
        <p:spPr>
          <a:xfrm>
            <a:off x="446040" y="500040"/>
            <a:ext cx="412740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86040" y="356760"/>
            <a:ext cx="594360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3адачизаставят задуматься, предположить ответ и доказать его достоверными фактами – и вы почувствуете себя настоящими учеными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85840" y="4429080"/>
            <a:ext cx="8329680" cy="22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ff0000"/>
                </a:solidFill>
                <a:uFillTx/>
                <a:latin typeface="Calibri"/>
              </a:rPr>
              <a:t>Например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 каком Родстве был Владимир мономах с княгиней 0льгой 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чему  поход Андрея Боголюбского на Киев был успешным, а его поход на Новгород окончился провалом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3" descr="4388043-c00e2d1305449e58.jpg"/>
          <p:cNvPicPr/>
          <p:nvPr/>
        </p:nvPicPr>
        <p:blipFill>
          <a:blip r:embed="rId1"/>
          <a:stretch/>
        </p:blipFill>
        <p:spPr>
          <a:xfrm>
            <a:off x="0" y="142920"/>
            <a:ext cx="2897280" cy="26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2920" y="571680"/>
            <a:ext cx="850104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вратите изучение «Истории» в удивительную сказку, как это делаем мы. Мы не только много знаем теперь сами, но и рассказываем об этом другим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Users\Zalman\Downloads\Изображение 014.jpg"/>
          <p:cNvPicPr/>
          <p:nvPr/>
        </p:nvPicPr>
        <p:blipFill>
          <a:blip r:embed="rId1"/>
          <a:stretch/>
        </p:blipFill>
        <p:spPr>
          <a:xfrm>
            <a:off x="357120" y="2786040"/>
            <a:ext cx="3703680" cy="2470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C:\Users\Zalman\Downloads\Изображение 020 (1).jpg"/>
          <p:cNvPicPr/>
          <p:nvPr/>
        </p:nvPicPr>
        <p:blipFill>
          <a:blip r:embed="rId2"/>
          <a:stretch/>
        </p:blipFill>
        <p:spPr>
          <a:xfrm>
            <a:off x="4608360" y="2786040"/>
            <a:ext cx="370368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7T11:18:06Z</dcterms:created>
  <dc:creator>Zalman</dc:creator>
  <dc:description/>
  <dc:language>en-US</dc:language>
  <cp:lastModifiedBy>Zalman</cp:lastModifiedBy>
  <dcterms:modified xsi:type="dcterms:W3CDTF">2015-02-07T11:42:51Z</dcterms:modified>
  <cp:revision>3</cp:revision>
  <dc:subject/>
  <dc:title>«Удивительный мир научных книг – 2015»</dc:title>
</cp:coreProperties>
</file>