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4.jpeg" ContentType="image/jpeg"/>
  <Override PartName="/ppt/media/image25.jpeg" ContentType="image/jpeg"/>
  <Override PartName="/ppt/media/image3.gif" ContentType="image/gif"/>
  <Override PartName="/ppt/media/image23.jpeg" ContentType="image/jpeg"/>
  <Override PartName="/ppt/media/image21.jpeg" ContentType="image/jpeg"/>
  <Override PartName="/ppt/media/image29.png" ContentType="image/png"/>
  <Override PartName="/ppt/media/image2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52C7-2549-4C60-BBE9-2E64CC0C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ED0-98FD-43FA-87B3-00C09FCD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049-B7C7-4FB5-B4C9-A160AD76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145-FF7A-447C-B797-A131DDE5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D1D-9FD2-409F-984D-608494C6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8CA-FAA1-4CED-905D-84E91ABF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A51-AAB6-4765-B66E-1CD11C70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EFF-715A-4E3D-B440-6A3C6D5E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75A-C260-4C1E-B6C2-2983E6C7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2F0-1EE7-4D29-9312-36D3F2E0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91C-A368-4FBB-8F43-9D3DE423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B47D-0921-478A-8BCE-ADB7A5BE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29AF-22EA-479E-8A78-FC155657B8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Викторина</a:t>
            </a:r>
            <a:r>
              <a:rPr b="1" lang="ru-RU" sz="4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1848600" y="692280"/>
            <a:ext cx="551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2009b"/>
                </a:solidFill>
                <a:latin typeface="Times New Roman"/>
              </a:rPr>
              <a:t>«У истоков искусств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03280" y="1844640"/>
          <a:ext cx="6553440" cy="237636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  <a:gridCol w="1638360"/>
                <a:gridCol w="16383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Первобытны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Древний Егип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Древняя Гре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Древний Ри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99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20" descr="j0299125"/>
          <p:cNvPicPr/>
          <p:nvPr/>
        </p:nvPicPr>
        <p:blipFill>
          <a:blip r:embed="rId1"/>
          <a:stretch/>
        </p:blipFill>
        <p:spPr>
          <a:xfrm>
            <a:off x="0" y="4508640"/>
            <a:ext cx="1432080" cy="2349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627280" y="4508640"/>
            <a:ext cx="5184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99"/>
                </a:solidFill>
                <a:uFillTx/>
                <a:latin typeface="Times New Roman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Вставь номера слайдов в нужную колонку табл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8" descr="j0356713.gif"/>
          <p:cNvPicPr/>
          <p:nvPr/>
        </p:nvPicPr>
        <p:blipFill>
          <a:blip r:embed="rId2"/>
          <a:stretch/>
        </p:blipFill>
        <p:spPr>
          <a:xfrm flipH="1">
            <a:off x="7740720" y="549360"/>
            <a:ext cx="1008000" cy="95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357120" y="714240"/>
            <a:ext cx="8572680" cy="556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 какой эпохе можно отнести эти особенности искус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Архитектурные постройки имеют строгую геометрическую форму, гладкую отшлифованную поверхность, стены украшены фресками и надписями, описывающими жизнь царей и бог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28760" y="500040"/>
            <a:ext cx="835812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 какой эпохе можно отнести эти особенности искус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2.  Архитектурные постройки в форме базилики, имеют большое количество колонн, стены и фасад зданий украшены барельефами и скульптура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428760" y="642960"/>
            <a:ext cx="8143920" cy="538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 какой эпохе можно отнести эти особенности искус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остройки складываются из природных материалов, необработанного камн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500040" y="857160"/>
            <a:ext cx="8143920" cy="501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 какой эпохе можно отнести эти особенности искус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4.  Архитектурные постройки из бетона, огромных размеров, в форме ротонды (круглая постройка, перекрытая куполом) с большим количеством арок (аркады).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500040" y="571680"/>
            <a:ext cx="8143920" cy="550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 какой эпохе можно отнести эти особенности искус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Изображение людей, богов и животных символическое, плоское, фаснопрофильно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Размер изображения зависит от социального положения и знатности того, кого изображаю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428760" y="1000080"/>
            <a:ext cx="8286480" cy="446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 какой эпохе можно отнести эти особенности искус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6.  Изображение реальных людей (полководцев, императоров) со всеми достоинствами и недостатками внешност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500040" y="714240"/>
            <a:ext cx="8143920" cy="457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 какой эпохе можно отнести эти особенности искус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Изображение людей и животных в действии, во время охоты. Рисунок плоский схематичны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500040" y="714240"/>
            <a:ext cx="8001000" cy="457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 какой эпохе можно отнести эти особенности искусст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Изображение людей, богов и животных реалистичное, объемное (в скульптуре), совершенное в своей природной красот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2139840" y="201600"/>
            <a:ext cx="5004000" cy="10476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 2"/>
          <p:cNvSpPr/>
          <p:nvPr/>
        </p:nvSpPr>
        <p:spPr>
          <a:xfrm>
            <a:off x="3143160" y="1857240"/>
            <a:ext cx="3000600" cy="128592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кусство древнего 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71680" y="3929040"/>
            <a:ext cx="814356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Составь «Карту памяти» по пройденным тем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Используй термины, изученные на уроках и собственные слова-ассоциац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ая соединительная линия 13"/>
          <p:cNvSpPr/>
          <p:nvPr/>
        </p:nvSpPr>
        <p:spPr>
          <a:xfrm flipV="1">
            <a:off x="5715000" y="1643040"/>
            <a:ext cx="1143000" cy="285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ая соединительная линия 16"/>
          <p:cNvSpPr/>
          <p:nvPr/>
        </p:nvSpPr>
        <p:spPr>
          <a:xfrm>
            <a:off x="6072120" y="3071880"/>
            <a:ext cx="1571760" cy="214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ая соединительная линия 18"/>
          <p:cNvSpPr/>
          <p:nvPr/>
        </p:nvSpPr>
        <p:spPr>
          <a:xfrm flipH="1" flipV="1">
            <a:off x="2071440" y="1643040"/>
            <a:ext cx="1214280" cy="357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ая соединительная линия 21"/>
          <p:cNvSpPr/>
          <p:nvPr/>
        </p:nvSpPr>
        <p:spPr>
          <a:xfrm flipH="1">
            <a:off x="2000160" y="2856960"/>
            <a:ext cx="1000080" cy="214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2" descr=""/>
          <p:cNvPicPr/>
          <p:nvPr/>
        </p:nvPicPr>
        <p:blipFill>
          <a:blip r:embed="rId1"/>
          <a:stretch/>
        </p:blipFill>
        <p:spPr>
          <a:xfrm>
            <a:off x="895320" y="993600"/>
            <a:ext cx="7284960" cy="2901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Documents and Settings\Admin\Рабочий стол\марафон в мире музыки\картинки\1276760708.gif"/>
          <p:cNvPicPr/>
          <p:nvPr/>
        </p:nvPicPr>
        <p:blipFill>
          <a:blip r:embed="rId2"/>
          <a:stretch/>
        </p:blipFill>
        <p:spPr>
          <a:xfrm>
            <a:off x="2771640" y="2421000"/>
            <a:ext cx="380052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714240" y="1285920"/>
            <a:ext cx="792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62699"/>
                </a:solidFill>
                <a:latin typeface="Times New Roman"/>
              </a:rPr>
              <a:t>I. </a:t>
            </a:r>
            <a:r>
              <a:rPr b="1" i="1" lang="ru-RU" sz="4400" spc="-1" strike="noStrike">
                <a:solidFill>
                  <a:srgbClr val="262699"/>
                </a:solidFill>
                <a:latin typeface="Times New Roman"/>
              </a:rPr>
              <a:t>К какой культурной эпохе можно отнести эти произведения искусств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Documents and Settings\Пользователь\Рабочий стол\2\Рисунок1.jpg"/>
          <p:cNvPicPr/>
          <p:nvPr/>
        </p:nvPicPr>
        <p:blipFill>
          <a:blip r:embed="rId1"/>
          <a:stretch/>
        </p:blipFill>
        <p:spPr>
          <a:xfrm>
            <a:off x="4857840" y="3714840"/>
            <a:ext cx="329256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Picture 5" descr="C:\Documents and Settings\Пользователь\Рабочий стол\2\Рисунок3.jpg"/>
          <p:cNvPicPr/>
          <p:nvPr/>
        </p:nvPicPr>
        <p:blipFill>
          <a:blip r:embed="rId2"/>
          <a:stretch/>
        </p:blipFill>
        <p:spPr>
          <a:xfrm>
            <a:off x="4876920" y="714240"/>
            <a:ext cx="350352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6" descr="C:\Documents and Settings\Пользователь\Рабочий стол\2\Рисунок2.jpg"/>
          <p:cNvPicPr/>
          <p:nvPr/>
        </p:nvPicPr>
        <p:blipFill>
          <a:blip r:embed="rId3"/>
          <a:stretch/>
        </p:blipFill>
        <p:spPr>
          <a:xfrm>
            <a:off x="714240" y="571680"/>
            <a:ext cx="3138480" cy="23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4" descr="C:\Documents and Settings\Пользователь\Рабочий стол\2\Рисунок4.jpg"/>
          <p:cNvPicPr/>
          <p:nvPr/>
        </p:nvPicPr>
        <p:blipFill>
          <a:blip r:embed="rId4"/>
          <a:stretch/>
        </p:blipFill>
        <p:spPr>
          <a:xfrm>
            <a:off x="857160" y="3714840"/>
            <a:ext cx="2928960" cy="253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TextBox 5"/>
          <p:cNvSpPr/>
          <p:nvPr/>
        </p:nvSpPr>
        <p:spPr>
          <a:xfrm>
            <a:off x="3500280" y="257184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500280" y="592920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7858080" y="585792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8072280" y="228600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:\Documents and Settings\Пользователь\Рабочий стол\2\Рисунок5.jpg"/>
          <p:cNvPicPr/>
          <p:nvPr/>
        </p:nvPicPr>
        <p:blipFill>
          <a:blip r:embed="rId1"/>
          <a:stretch/>
        </p:blipFill>
        <p:spPr>
          <a:xfrm>
            <a:off x="5000760" y="571680"/>
            <a:ext cx="3019320" cy="228600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" name="Picture 6" descr="C:\Documents and Settings\Пользователь\Рабочий стол\2\Рисунок6.jpg"/>
          <p:cNvPicPr/>
          <p:nvPr/>
        </p:nvPicPr>
        <p:blipFill>
          <a:blip r:embed="rId2"/>
          <a:stretch/>
        </p:blipFill>
        <p:spPr>
          <a:xfrm>
            <a:off x="1285920" y="3429000"/>
            <a:ext cx="2000160" cy="294336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7" descr="C:\Documents and Settings\Пользователь\Рабочий стол\2\Рисунок7.jpg"/>
          <p:cNvPicPr/>
          <p:nvPr/>
        </p:nvPicPr>
        <p:blipFill>
          <a:blip r:embed="rId3"/>
          <a:stretch/>
        </p:blipFill>
        <p:spPr>
          <a:xfrm>
            <a:off x="1357200" y="357120"/>
            <a:ext cx="2186280" cy="242892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10" descr=""/>
          <p:cNvPicPr/>
          <p:nvPr/>
        </p:nvPicPr>
        <p:blipFill>
          <a:blip r:embed="rId4"/>
          <a:stretch/>
        </p:blipFill>
        <p:spPr>
          <a:xfrm>
            <a:off x="4786200" y="3500280"/>
            <a:ext cx="3326040" cy="250056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TextBox 5"/>
          <p:cNvSpPr/>
          <p:nvPr/>
        </p:nvSpPr>
        <p:spPr>
          <a:xfrm>
            <a:off x="3286080" y="250020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3000240" y="607212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7715160" y="250020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7858080" y="571500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3421080" cy="257184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5572080" y="285840"/>
            <a:ext cx="2500200" cy="309888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714240" y="3643200"/>
            <a:ext cx="3516480" cy="264348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7" name="Picture 8" descr=""/>
          <p:cNvPicPr/>
          <p:nvPr/>
        </p:nvPicPr>
        <p:blipFill>
          <a:blip r:embed="rId4"/>
          <a:stretch/>
        </p:blipFill>
        <p:spPr>
          <a:xfrm>
            <a:off x="5000760" y="3892680"/>
            <a:ext cx="3214440" cy="241776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TextBox 5"/>
          <p:cNvSpPr/>
          <p:nvPr/>
        </p:nvSpPr>
        <p:spPr>
          <a:xfrm>
            <a:off x="4286160" y="271476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7715160" y="307188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786120" y="592920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7858080" y="600084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785880" y="3643200"/>
            <a:ext cx="3241440" cy="242748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785880" y="500040"/>
            <a:ext cx="3233520" cy="242892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5143680" y="3857760"/>
            <a:ext cx="2814480" cy="228600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8" descr="C:\Documents and Settings\Пользователь\Рабочий стол\1\Рисунок16.jpg"/>
          <p:cNvPicPr/>
          <p:nvPr/>
        </p:nvPicPr>
        <p:blipFill>
          <a:blip r:embed="rId4"/>
          <a:stretch/>
        </p:blipFill>
        <p:spPr>
          <a:xfrm>
            <a:off x="5143680" y="357120"/>
            <a:ext cx="2563560" cy="285768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TextBox 5"/>
          <p:cNvSpPr/>
          <p:nvPr/>
        </p:nvSpPr>
        <p:spPr>
          <a:xfrm>
            <a:off x="7286760" y="285768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7500960" y="578628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3643200" y="571500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3571920" y="257184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42960" y="3786120"/>
            <a:ext cx="3610080" cy="271296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4572000" y="571680"/>
            <a:ext cx="3341520" cy="196200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1214280" y="285840"/>
            <a:ext cx="2176560" cy="300024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5" descr=""/>
          <p:cNvPicPr/>
          <p:nvPr/>
        </p:nvPicPr>
        <p:blipFill>
          <a:blip r:embed="rId4"/>
          <a:stretch/>
        </p:blipFill>
        <p:spPr>
          <a:xfrm>
            <a:off x="4929120" y="3214800"/>
            <a:ext cx="3517920" cy="264312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TextBox 5"/>
          <p:cNvSpPr/>
          <p:nvPr/>
        </p:nvSpPr>
        <p:spPr>
          <a:xfrm>
            <a:off x="3857760" y="607212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8072280" y="557208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7500960" y="221472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071880" y="292896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2652840" cy="257184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714240" y="3571920"/>
            <a:ext cx="2071800" cy="278604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000840" y="428760"/>
            <a:ext cx="2357280" cy="311616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6" descr=""/>
          <p:cNvPicPr/>
          <p:nvPr/>
        </p:nvPicPr>
        <p:blipFill>
          <a:blip r:embed="rId4"/>
          <a:stretch/>
        </p:blipFill>
        <p:spPr>
          <a:xfrm>
            <a:off x="3500280" y="1285920"/>
            <a:ext cx="1713240" cy="419112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7" descr=""/>
          <p:cNvPicPr/>
          <p:nvPr/>
        </p:nvPicPr>
        <p:blipFill>
          <a:blip r:embed="rId5"/>
          <a:stretch/>
        </p:blipFill>
        <p:spPr>
          <a:xfrm>
            <a:off x="5572080" y="4143240"/>
            <a:ext cx="3062160" cy="2286000"/>
          </a:xfrm>
          <a:prstGeom prst="rect">
            <a:avLst/>
          </a:prstGeom>
          <a:ln w="9360">
            <a:solidFill>
              <a:srgbClr val="606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TextBox 6"/>
          <p:cNvSpPr/>
          <p:nvPr/>
        </p:nvSpPr>
        <p:spPr>
          <a:xfrm>
            <a:off x="7858080" y="314316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8143920" y="607212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2286000" y="600084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4786200" y="514368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2500200" y="2571840"/>
            <a:ext cx="5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42920" y="357120"/>
            <a:ext cx="8858160" cy="61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imes New Roman"/>
              </a:rPr>
              <a:t>II. </a:t>
            </a:r>
            <a:r>
              <a:rPr b="1" lang="ru-RU" sz="2400" spc="-1" strike="noStrike">
                <a:solidFill>
                  <a:srgbClr val="262699"/>
                </a:solidFill>
                <a:latin typeface="Times New Roman"/>
              </a:rPr>
              <a:t>К какой культурной эпохе можно отнести эти высказыва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Человек – венец творенья, он подобен бог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Все виды искусства объединены в обрядовых действиях, синкретич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Одна из задач искусства – подготовка человека к жизни после смер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62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Идея величия империи, призванной господствовать над народами, воплотилась в монументальных памятниках архитекту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11-05T08:43:29Z</dcterms:modified>
  <cp:revision>29</cp:revision>
  <dc:subject/>
  <dc:title>PowerPoint Presentation</dc:title>
</cp:coreProperties>
</file>