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DAA-A82E-4EC1-BE02-2D7BE67A2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25B-4279-4CFE-A5C5-03BAE83D02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5892-C2C0-48ED-BF09-362513391F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E5A-0C28-4CE5-A626-D04F64F9D4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FC90-30A2-4010-828D-69E553E259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5E8-AC84-45C7-AB63-B872D99E3D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DB86-53BA-416D-B524-7C5F60F88E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CEF9-B1B8-4093-981E-9DBBFE4F83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84D8-1DAD-4A9F-B0B4-6F675A21C4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A07A-DD97-493B-8FAD-921243CA072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663F-95D4-4C31-8CAC-0F2243B4DA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9FF-50D0-48EF-B52C-25ECEE89EB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D071-911E-4AC8-920C-54AF0411C75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027-5EA7-45E3-A1FB-4791B1D3ABB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400D-7487-4521-A096-9FE2A48138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35D-C14B-48D8-92CB-3BBCC9D3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FF5-E9FE-4CA0-9333-1A8E1B78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31A-EC1E-46C4-9B46-52114A1C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D30-6091-49C6-8EB9-56151776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1F092-86B9-4B13-B368-17193293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63EAD-4C6F-4C04-A960-0F2D1875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B7B1-C32B-4E4B-8CA5-50BFB47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1D10-4C00-44BD-88BB-565E189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E1E5E-4544-471F-B55A-2EF3E61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E732A-AEE1-4E5F-9C49-CCF00141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92085-870F-4717-88BB-E7E9620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402-E4EC-417B-9FCB-02EE70DD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788D1-C150-4D18-8414-304A885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F0B79-3B62-4190-952A-2A708A51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79D90-90B5-4F3D-AFE4-BD702762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C14BD-24A0-4F64-A658-9FCE06C2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E8C3E-222E-4A1C-B15C-E8E24FEE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F47-7471-42FA-B422-AF2EBB51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E87-C1ED-4072-959C-A7A296D1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4EE-FF30-480A-A814-BDE36C0C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B52-91F8-412F-AC78-22345AD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F51-D4A4-4832-A263-A88E45B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C94-09C3-4128-A6CC-46BF88B6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E04-B15D-441D-BC7B-2E12917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3489-024B-4363-B9CA-0F5A4B392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5B43-4FA8-42B7-A4C7-CC85FCBD4E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252360" y="270792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Волосы и уход за ни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789360"/>
            <a:ext cx="64008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Автор:Рыбалкина Вик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Руководитель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Антонова Л.В. учи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МОУ  «Гимназия №5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Г. Сарат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14-44-2b"/>
          <p:cNvPicPr/>
          <p:nvPr/>
        </p:nvPicPr>
        <p:blipFill>
          <a:blip r:embed="rId1"/>
          <a:stretch/>
        </p:blipFill>
        <p:spPr>
          <a:xfrm>
            <a:off x="6156360" y="2133720"/>
            <a:ext cx="2666880" cy="43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Уход за волосами"/>
          <p:cNvPicPr/>
          <p:nvPr/>
        </p:nvPicPr>
        <p:blipFill>
          <a:blip r:embed="rId2"/>
          <a:stretch/>
        </p:blipFill>
        <p:spPr>
          <a:xfrm>
            <a:off x="324000" y="2602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 Промокните волосы мягким полотенце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yzv"/>
          <p:cNvPicPr/>
          <p:nvPr/>
        </p:nvPicPr>
        <p:blipFill>
          <a:blip r:embed="rId1"/>
          <a:stretch/>
        </p:blipFill>
        <p:spPr>
          <a:xfrm>
            <a:off x="6227640" y="386064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47968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721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причёсывания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аляется пыль, частички перхоти, стимулируется кровообращение и работа сальных желё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mediumh33"/>
          <p:cNvPicPr/>
          <p:nvPr/>
        </p:nvPicPr>
        <p:blipFill>
          <a:blip r:embed="rId1"/>
          <a:stretch/>
        </p:blipFill>
        <p:spPr>
          <a:xfrm>
            <a:off x="755640" y="2924280"/>
            <a:ext cx="2670120" cy="2670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087440" y="3336840"/>
            <a:ext cx="457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чёсывайте вол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днев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ром и вече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минут или больш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066920" y="836280"/>
            <a:ext cx="56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ска с редкими зубьями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Annetstudio.ru. Выбор расчесок и щеток."/>
          <p:cNvPicPr/>
          <p:nvPr/>
        </p:nvPicPr>
        <p:blipFill>
          <a:blip r:embed="rId1"/>
          <a:stretch/>
        </p:blipFill>
        <p:spPr>
          <a:xfrm>
            <a:off x="324000" y="47628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nnetstudio.ru. Выбор расчесок и щеток."/>
          <p:cNvPicPr/>
          <p:nvPr/>
        </p:nvPicPr>
        <p:blipFill>
          <a:blip r:embed="rId2"/>
          <a:stretch/>
        </p:blipFill>
        <p:spPr>
          <a:xfrm>
            <a:off x="324000" y="2421000"/>
            <a:ext cx="3809880" cy="1409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572000" y="3213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ёска с руч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Annetstudio.ru. Выбор расчесок и щеток."/>
          <p:cNvPicPr/>
          <p:nvPr/>
        </p:nvPicPr>
        <p:blipFill>
          <a:blip r:embed="rId3"/>
          <a:stretch/>
        </p:blipFill>
        <p:spPr>
          <a:xfrm>
            <a:off x="395280" y="4869000"/>
            <a:ext cx="3809880" cy="1409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4216320" y="5084640"/>
            <a:ext cx="43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ёска с «хвостиком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н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6" descr="Annetstudio.ru. Выбор расчесок и щеток."/>
          <p:cNvPicPr/>
          <p:nvPr/>
        </p:nvPicPr>
        <p:blipFill>
          <a:blip r:embed="rId1"/>
          <a:stretch/>
        </p:blipFill>
        <p:spPr>
          <a:xfrm>
            <a:off x="395280" y="33336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Annetstudio.ru. Выбор расчесок и щеток."/>
          <p:cNvPicPr/>
          <p:nvPr/>
        </p:nvPicPr>
        <p:blipFill>
          <a:blip r:embed="rId2"/>
          <a:stretch/>
        </p:blipFill>
        <p:spPr>
          <a:xfrm>
            <a:off x="4932360" y="33336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Выбор расчесок и щеток."/>
          <p:cNvPicPr/>
          <p:nvPr/>
        </p:nvPicPr>
        <p:blipFill>
          <a:blip r:embed="rId3"/>
          <a:stretch/>
        </p:blipFill>
        <p:spPr>
          <a:xfrm>
            <a:off x="2556000" y="2637000"/>
            <a:ext cx="3809880" cy="1409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9"/>
          <p:cNvSpPr/>
          <p:nvPr/>
        </p:nvSpPr>
        <p:spPr>
          <a:xfrm>
            <a:off x="329400" y="19162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Металлические расчё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4385520" y="19890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Щётки из натуральной щет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2519280" y="436572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Щётки с закруглённ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пластиковым «ёжико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900000" y="595008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льзуйтесь чужими расчёскам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picture868639"/>
          <p:cNvPicPr/>
          <p:nvPr/>
        </p:nvPicPr>
        <p:blipFill>
          <a:blip r:embed="rId1"/>
          <a:stretch/>
        </p:blipFill>
        <p:spPr>
          <a:xfrm>
            <a:off x="324000" y="476280"/>
            <a:ext cx="1490400" cy="22273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23"/>
          <p:cNvSpPr txBox="1"/>
          <p:nvPr/>
        </p:nvSpPr>
        <p:spPr>
          <a:xfrm>
            <a:off x="324000" y="2276640"/>
            <a:ext cx="7029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ход за волосам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лжен приносить удовольствие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25" descr=""/>
          <p:cNvPicPr/>
          <p:nvPr/>
        </p:nvPicPr>
        <p:blipFill>
          <a:blip r:embed="rId2"/>
          <a:stretch/>
        </p:blipFill>
        <p:spPr>
          <a:xfrm>
            <a:off x="7596360" y="1844640"/>
            <a:ext cx="140004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79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Мойте голову, как только вам показалось, что ваши волосы выглядят грязн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5477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волосы 2 м"/>
          <p:cNvPicPr/>
          <p:nvPr/>
        </p:nvPicPr>
        <p:blipFill>
          <a:blip r:embed="rId1"/>
          <a:stretch/>
        </p:blipFill>
        <p:spPr>
          <a:xfrm>
            <a:off x="2987640" y="1844640"/>
            <a:ext cx="3459240" cy="466560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1619280" y="765000"/>
            <a:ext cx="633744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Оптимальная темп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оды 35-40 граду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4656240" cy="33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Мыть голову: </a:t>
            </a:r>
            <a:br>
              <a:rPr sz="4000"/>
            </a:b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кипячёной водой</a:t>
            </a:r>
            <a:br>
              <a:rPr sz="4000"/>
            </a:b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или </a:t>
            </a:r>
            <a:br>
              <a:rPr sz="4000"/>
            </a:b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 смягчённой питьевой сод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img"/>
          <p:cNvPicPr/>
          <p:nvPr/>
        </p:nvPicPr>
        <p:blipFill>
          <a:blip r:embed="rId1"/>
          <a:srcRect l="-95" t="27034" r="31931" b="0"/>
          <a:stretch/>
        </p:blipFill>
        <p:spPr>
          <a:xfrm>
            <a:off x="5148360" y="1197000"/>
            <a:ext cx="3800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d8d0"/>
                </a:solidFill>
                <a:latin typeface="Tahoma"/>
              </a:rPr>
              <a:t>Средства ухода за волос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ампу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ьза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867280" y="1557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дицио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8" descr="шапунь"/>
          <p:cNvPicPr/>
          <p:nvPr/>
        </p:nvPicPr>
        <p:blipFill>
          <a:blip r:embed="rId1"/>
          <a:stretch/>
        </p:blipFill>
        <p:spPr>
          <a:xfrm>
            <a:off x="1042920" y="2637000"/>
            <a:ext cx="936720" cy="2512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lide0005_image014"/>
          <p:cNvPicPr/>
          <p:nvPr/>
        </p:nvPicPr>
        <p:blipFill>
          <a:blip r:embed="rId2"/>
          <a:stretch/>
        </p:blipFill>
        <p:spPr>
          <a:xfrm>
            <a:off x="7020000" y="2492280"/>
            <a:ext cx="72072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9480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ic1331_13990"/>
          <p:cNvPicPr/>
          <p:nvPr/>
        </p:nvPicPr>
        <p:blipFill>
          <a:blip r:embed="rId1"/>
          <a:stretch/>
        </p:blipFill>
        <p:spPr>
          <a:xfrm>
            <a:off x="539640" y="1197000"/>
            <a:ext cx="2772000" cy="5210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708360" y="356040"/>
            <a:ext cx="4751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cc83f"/>
                </a:solidFill>
                <a:latin typeface="Arial"/>
              </a:rPr>
              <a:t>Т в ё р д ы е шампу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пециализированные косметические средства для различных состояний воло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могут использовать твердые шампуни с 10-12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хема правильного мытья голов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923920"/>
            <a:ext cx="4038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щательно расчешите голо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ируйте кожу голо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05400" y="2057400"/>
            <a:ext cx="2524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4508640"/>
            <a:ext cx="896472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Смочите кожу  головы под душ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Распределите 1ч.л. шампуня по всей поверх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Смойте пену тёплой вод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p4"/>
          <p:cNvPicPr/>
          <p:nvPr/>
        </p:nvPicPr>
        <p:blipFill>
          <a:blip r:embed="rId1"/>
          <a:stretch/>
        </p:blipFill>
        <p:spPr>
          <a:xfrm>
            <a:off x="2916360" y="333360"/>
            <a:ext cx="3740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1052640"/>
            <a:ext cx="40388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Прополощите воло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004"/>
          <p:cNvPicPr/>
          <p:nvPr/>
        </p:nvPicPr>
        <p:blipFill>
          <a:blip r:embed="rId1"/>
          <a:stretch/>
        </p:blipFill>
        <p:spPr>
          <a:xfrm>
            <a:off x="468360" y="3645000"/>
            <a:ext cx="1908000" cy="2543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2698920" y="4653000"/>
            <a:ext cx="611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Нанесите кондиционер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льзам и смо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3" descr="13"/>
          <p:cNvPicPr/>
          <p:nvPr/>
        </p:nvPicPr>
        <p:blipFill>
          <a:blip r:embed="rId2"/>
          <a:stretch/>
        </p:blipFill>
        <p:spPr>
          <a:xfrm>
            <a:off x="6156360" y="765000"/>
            <a:ext cx="22255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1:12:15Z</dcterms:created>
  <dc:creator>учитель</dc:creator>
  <dc:description/>
  <dc:language>en-US</dc:language>
  <cp:lastModifiedBy>Учитель</cp:lastModifiedBy>
  <dcterms:modified xsi:type="dcterms:W3CDTF">2011-07-19T09:33:05Z</dcterms:modified>
  <cp:revision>12</cp:revision>
  <dc:subject/>
  <dc:title>Как мыть и расчёсывать волосы</dc:title>
</cp:coreProperties>
</file>