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E145-B6C9-4058-9345-392663E448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5E01-332C-4560-94C7-708F3A86F8F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C6D8-DDD5-41AB-ADE4-519A84BCE35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D44C-4706-469D-9CFC-05F444DA1A0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484E-F5CE-4567-A316-E1FC84CCC34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2BE5-4BB9-4A9E-809C-C03EE171A5F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BF62-A8F8-482C-88A3-FADA1AD3FE1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08C6-55CB-40D1-932A-8018D526801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2643-A2DB-4716-82E4-082F47D57E0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4F57-55FB-4E23-BD62-C7CDB13D3F6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AF92-0035-4924-AC19-EF3DBF5670D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D5C0-C4A8-4CE0-9333-06E96676A23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7E07-3691-4E65-A2FB-D9214E551E1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FC22-FA47-4FD7-B700-C8946BC8871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903A-2F79-43A9-8CFB-D2D6AE1867C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688-7A69-457A-A55E-14CA0376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B9A-4A92-4CCE-9EE7-C457B998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6128-A68E-451D-BEAD-2C663FC4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0CA-7646-4BC8-852B-ED9FAFD2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2E9CB-0097-4B1C-B4FF-953A6395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6EDE7-69DE-425C-8314-6652874E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6E420-0D72-4026-A38E-43CC0301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B5B32-6976-4B37-AF4A-B29C3BC1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D0522-EFE2-4353-9B8F-AFFEA834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293A7-F45E-459A-92BA-22FCA8C8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DF0FD-5EB8-46F1-92EA-ADA91E40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5D2-DF09-438D-97E9-55B5D297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8DACC-17A2-487A-B1BA-A3582345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2C98F-0CB6-4374-AAA4-2389F692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0B56C-4029-4750-A719-A798110E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FF499-D3FC-4E1A-8DBF-B1DD00EE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1AB14-4056-4B59-8199-BF565102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30F-FF3E-489B-9B6B-F5C72103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78B-9FCD-49E7-AF0E-987616F2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838B-8AD1-46D2-B9C5-A135102E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1A3-AC47-4508-86B5-F004AE38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8E2-F83A-493B-ADF6-DD9AF046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3C1-64B9-4357-9FE5-F70DBAAA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0C3-DC68-46C8-AE5E-03119A80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AAFB-11AD-4F03-9893-4276F7DC00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182D-DA81-45A8-A466-D742B5C47E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252360" y="270792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Волосы и уход за ним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789360"/>
            <a:ext cx="64008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e00"/>
                </a:solidFill>
                <a:latin typeface="Tahoma"/>
              </a:rPr>
              <a:t>Автор:Рыбалкина Викто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e00"/>
                </a:solidFill>
                <a:latin typeface="Tahoma"/>
              </a:rPr>
              <a:t>Руководитель проек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e00"/>
                </a:solidFill>
                <a:latin typeface="Tahoma"/>
              </a:rPr>
              <a:t>Антонова Л.В. учит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e00"/>
                </a:solidFill>
                <a:latin typeface="Tahoma"/>
              </a:rPr>
              <a:t>МОУ  «Гимназия №5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e00"/>
                </a:solidFill>
                <a:latin typeface="Tahoma"/>
              </a:rPr>
              <a:t>Г. Сарат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e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fe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14-44-2b"/>
          <p:cNvPicPr/>
          <p:nvPr/>
        </p:nvPicPr>
        <p:blipFill>
          <a:blip r:embed="rId1"/>
          <a:stretch/>
        </p:blipFill>
        <p:spPr>
          <a:xfrm>
            <a:off x="6156360" y="2133720"/>
            <a:ext cx="2666880" cy="435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Уход за волосами"/>
          <p:cNvPicPr/>
          <p:nvPr/>
        </p:nvPicPr>
        <p:blipFill>
          <a:blip r:embed="rId2"/>
          <a:stretch/>
        </p:blipFill>
        <p:spPr>
          <a:xfrm>
            <a:off x="324000" y="26028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8 Промокните волосы мягким полотенце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yzv"/>
          <p:cNvPicPr/>
          <p:nvPr/>
        </p:nvPicPr>
        <p:blipFill>
          <a:blip r:embed="rId1"/>
          <a:stretch/>
        </p:blipFill>
        <p:spPr>
          <a:xfrm>
            <a:off x="6227640" y="386064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47968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721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ремя причёсывания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даляется пыль, частички перхоти, стимулируется кровообращение и работа сальных желё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mediumh33"/>
          <p:cNvPicPr/>
          <p:nvPr/>
        </p:nvPicPr>
        <p:blipFill>
          <a:blip r:embed="rId1"/>
          <a:stretch/>
        </p:blipFill>
        <p:spPr>
          <a:xfrm>
            <a:off x="755640" y="2924280"/>
            <a:ext cx="2670120" cy="2670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4087440" y="3336840"/>
            <a:ext cx="457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чёсывайте воло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жедневн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ром и вечер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 минут или больш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066920" y="836280"/>
            <a:ext cx="5616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ческа с редкими зубьями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Annetstudio.ru. Выбор расчесок и щеток."/>
          <p:cNvPicPr/>
          <p:nvPr/>
        </p:nvPicPr>
        <p:blipFill>
          <a:blip r:embed="rId1"/>
          <a:stretch/>
        </p:blipFill>
        <p:spPr>
          <a:xfrm>
            <a:off x="324000" y="476280"/>
            <a:ext cx="3809880" cy="1409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nnetstudio.ru. Выбор расчесок и щеток."/>
          <p:cNvPicPr/>
          <p:nvPr/>
        </p:nvPicPr>
        <p:blipFill>
          <a:blip r:embed="rId2"/>
          <a:stretch/>
        </p:blipFill>
        <p:spPr>
          <a:xfrm>
            <a:off x="324000" y="2421000"/>
            <a:ext cx="3809880" cy="1409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4572000" y="32130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чёска с ручк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Annetstudio.ru. Выбор расчесок и щеток."/>
          <p:cNvPicPr/>
          <p:nvPr/>
        </p:nvPicPr>
        <p:blipFill>
          <a:blip r:embed="rId3"/>
          <a:stretch/>
        </p:blipFill>
        <p:spPr>
          <a:xfrm>
            <a:off x="395280" y="4869000"/>
            <a:ext cx="3809880" cy="1409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4216320" y="5084640"/>
            <a:ext cx="43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чёска с «хвостиком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кон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6" descr="Annetstudio.ru. Выбор расчесок и щеток."/>
          <p:cNvPicPr/>
          <p:nvPr/>
        </p:nvPicPr>
        <p:blipFill>
          <a:blip r:embed="rId1"/>
          <a:stretch/>
        </p:blipFill>
        <p:spPr>
          <a:xfrm>
            <a:off x="395280" y="333360"/>
            <a:ext cx="3809880" cy="1409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Annetstudio.ru. Выбор расчесок и щеток."/>
          <p:cNvPicPr/>
          <p:nvPr/>
        </p:nvPicPr>
        <p:blipFill>
          <a:blip r:embed="rId2"/>
          <a:stretch/>
        </p:blipFill>
        <p:spPr>
          <a:xfrm>
            <a:off x="4932360" y="333360"/>
            <a:ext cx="3809880" cy="1409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Выбор расчесок и щеток."/>
          <p:cNvPicPr/>
          <p:nvPr/>
        </p:nvPicPr>
        <p:blipFill>
          <a:blip r:embed="rId3"/>
          <a:stretch/>
        </p:blipFill>
        <p:spPr>
          <a:xfrm>
            <a:off x="2556000" y="2637000"/>
            <a:ext cx="3809880" cy="14094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9"/>
          <p:cNvSpPr/>
          <p:nvPr/>
        </p:nvSpPr>
        <p:spPr>
          <a:xfrm>
            <a:off x="329400" y="191628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cc"/>
                </a:solidFill>
                <a:latin typeface="Tahoma"/>
              </a:rPr>
              <a:t>Металлические расчё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4385520" y="1989000"/>
            <a:ext cx="49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cc"/>
                </a:solidFill>
                <a:latin typeface="Tahoma"/>
              </a:rPr>
              <a:t>Щётки из натуральной щети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2519280" y="4365720"/>
            <a:ext cx="37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cc"/>
                </a:solidFill>
                <a:latin typeface="Tahoma"/>
              </a:rPr>
              <a:t>Щётки с закруглённы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cc"/>
                </a:solidFill>
                <a:latin typeface="Tahoma"/>
              </a:rPr>
              <a:t>пластиковым «ёжиком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900000" y="595008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пользуйтесь чужими расчёсками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picture868639"/>
          <p:cNvPicPr/>
          <p:nvPr/>
        </p:nvPicPr>
        <p:blipFill>
          <a:blip r:embed="rId1"/>
          <a:stretch/>
        </p:blipFill>
        <p:spPr>
          <a:xfrm>
            <a:off x="324000" y="476280"/>
            <a:ext cx="1490400" cy="2227320"/>
          </a:xfrm>
          <a:prstGeom prst="rect">
            <a:avLst/>
          </a:prstGeom>
          <a:ln w="0">
            <a:noFill/>
          </a:ln>
        </p:spPr>
      </p:pic>
      <p:sp>
        <p:nvSpPr>
          <p:cNvPr id="138" name="WordArt 23"/>
          <p:cNvSpPr txBox="1"/>
          <p:nvPr/>
        </p:nvSpPr>
        <p:spPr>
          <a:xfrm>
            <a:off x="324000" y="2276640"/>
            <a:ext cx="702936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ход за волосам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лжен приносить удовольствие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25" descr=""/>
          <p:cNvPicPr/>
          <p:nvPr/>
        </p:nvPicPr>
        <p:blipFill>
          <a:blip r:embed="rId2"/>
          <a:stretch/>
        </p:blipFill>
        <p:spPr>
          <a:xfrm>
            <a:off x="7596360" y="1844640"/>
            <a:ext cx="140004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797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Мойте голову, как только вам показалось, что ваши волосы выглядят грязны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54772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волосы 2 м"/>
          <p:cNvPicPr/>
          <p:nvPr/>
        </p:nvPicPr>
        <p:blipFill>
          <a:blip r:embed="rId1"/>
          <a:stretch/>
        </p:blipFill>
        <p:spPr>
          <a:xfrm>
            <a:off x="2987640" y="1844640"/>
            <a:ext cx="3459240" cy="4665600"/>
          </a:xfrm>
          <a:prstGeom prst="rect">
            <a:avLst/>
          </a:prstGeom>
          <a:ln w="0">
            <a:noFill/>
          </a:ln>
        </p:spPr>
      </p:pic>
      <p:sp>
        <p:nvSpPr>
          <p:cNvPr id="97" name="WordArt 5"/>
          <p:cNvSpPr txBox="1"/>
          <p:nvPr/>
        </p:nvSpPr>
        <p:spPr>
          <a:xfrm>
            <a:off x="1619280" y="765000"/>
            <a:ext cx="6337440" cy="104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Оптимальная темпер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воды 35-40 граду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4656240" cy="33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ff"/>
                </a:solidFill>
                <a:latin typeface="Tahoma"/>
              </a:rPr>
              <a:t>Мыть голову: </a:t>
            </a:r>
            <a:br>
              <a:rPr sz="4000"/>
            </a:br>
            <a:r>
              <a:rPr b="0" lang="ru-RU" sz="4000" spc="-1" strike="noStrike">
                <a:solidFill>
                  <a:srgbClr val="ffccff"/>
                </a:solidFill>
                <a:latin typeface="Tahoma"/>
              </a:rPr>
              <a:t>кипячёной водой</a:t>
            </a:r>
            <a:br>
              <a:rPr sz="4000"/>
            </a:br>
            <a:r>
              <a:rPr b="0" lang="ru-RU" sz="4000" spc="-1" strike="noStrike">
                <a:solidFill>
                  <a:srgbClr val="ffccff"/>
                </a:solidFill>
                <a:latin typeface="Tahoma"/>
              </a:rPr>
              <a:t>или </a:t>
            </a:r>
            <a:br>
              <a:rPr sz="4000"/>
            </a:br>
            <a:r>
              <a:rPr b="0" lang="ru-RU" sz="4000" spc="-1" strike="noStrike">
                <a:solidFill>
                  <a:srgbClr val="ffccff"/>
                </a:solidFill>
                <a:latin typeface="Tahoma"/>
              </a:rPr>
              <a:t> смягчённой питьевой содо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img"/>
          <p:cNvPicPr/>
          <p:nvPr/>
        </p:nvPicPr>
        <p:blipFill>
          <a:blip r:embed="rId1"/>
          <a:srcRect l="-95" t="27034" r="31931" b="0"/>
          <a:stretch/>
        </p:blipFill>
        <p:spPr>
          <a:xfrm>
            <a:off x="5148360" y="1197000"/>
            <a:ext cx="3800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6d8d0"/>
                </a:solidFill>
                <a:latin typeface="Tahoma"/>
              </a:rPr>
              <a:t>Средства ухода за волоса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ампу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55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льза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867280" y="1557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дицион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8" descr="шапунь"/>
          <p:cNvPicPr/>
          <p:nvPr/>
        </p:nvPicPr>
        <p:blipFill>
          <a:blip r:embed="rId1"/>
          <a:stretch/>
        </p:blipFill>
        <p:spPr>
          <a:xfrm>
            <a:off x="1042920" y="2637000"/>
            <a:ext cx="936720" cy="2512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slide0005_image014"/>
          <p:cNvPicPr/>
          <p:nvPr/>
        </p:nvPicPr>
        <p:blipFill>
          <a:blip r:embed="rId2"/>
          <a:stretch/>
        </p:blipFill>
        <p:spPr>
          <a:xfrm>
            <a:off x="7020000" y="2492280"/>
            <a:ext cx="720720" cy="302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3203640" y="3068640"/>
            <a:ext cx="294804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pic1331_13990"/>
          <p:cNvPicPr/>
          <p:nvPr/>
        </p:nvPicPr>
        <p:blipFill>
          <a:blip r:embed="rId1"/>
          <a:stretch/>
        </p:blipFill>
        <p:spPr>
          <a:xfrm>
            <a:off x="539640" y="1197000"/>
            <a:ext cx="2772000" cy="5210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3708360" y="356040"/>
            <a:ext cx="47512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cc83f"/>
                </a:solidFill>
                <a:latin typeface="Arial"/>
              </a:rPr>
              <a:t>Т в ё р д ы е шампун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специализированные косметические средства для различных состояний волос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и могут использовать твердые шампуни с 10-12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хема правильного мытья голов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923920"/>
            <a:ext cx="40388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щательно расчешите голов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сируйте кожу голо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405400" y="2057400"/>
            <a:ext cx="2524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9280" y="4508640"/>
            <a:ext cx="896472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 Смочите кожу  головы под душ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 Распределите 1ч.л. шампуня по всей поверх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 Смойте пену тёплой вод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p4"/>
          <p:cNvPicPr/>
          <p:nvPr/>
        </p:nvPicPr>
        <p:blipFill>
          <a:blip r:embed="rId1"/>
          <a:stretch/>
        </p:blipFill>
        <p:spPr>
          <a:xfrm>
            <a:off x="2916360" y="333360"/>
            <a:ext cx="3740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99640" y="1052640"/>
            <a:ext cx="40388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 Прополощите воло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9" descr="004"/>
          <p:cNvPicPr/>
          <p:nvPr/>
        </p:nvPicPr>
        <p:blipFill>
          <a:blip r:embed="rId1"/>
          <a:stretch/>
        </p:blipFill>
        <p:spPr>
          <a:xfrm>
            <a:off x="468360" y="3645000"/>
            <a:ext cx="1908000" cy="25430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2"/>
          <p:cNvSpPr/>
          <p:nvPr/>
        </p:nvSpPr>
        <p:spPr>
          <a:xfrm>
            <a:off x="2698920" y="4653000"/>
            <a:ext cx="611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 Нанесите кондиционер и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льзам и смой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3" descr="13"/>
          <p:cNvPicPr/>
          <p:nvPr/>
        </p:nvPicPr>
        <p:blipFill>
          <a:blip r:embed="rId2"/>
          <a:stretch/>
        </p:blipFill>
        <p:spPr>
          <a:xfrm>
            <a:off x="6156360" y="765000"/>
            <a:ext cx="22255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1:12:15Z</dcterms:created>
  <dc:creator>учитель</dc:creator>
  <dc:description/>
  <dc:language>en-US</dc:language>
  <cp:lastModifiedBy>Учитель</cp:lastModifiedBy>
  <dcterms:modified xsi:type="dcterms:W3CDTF">2011-07-19T09:33:05Z</dcterms:modified>
  <cp:revision>12</cp:revision>
  <dc:subject/>
  <dc:title>Как мыть и расчёсывать волосы</dc:title>
</cp:coreProperties>
</file>