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637-E879-4190-AB37-7C52C49F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ECE-6107-477D-AD28-D8E4B661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4CB-2475-4C93-8CAF-243468A4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18F-CD89-4C54-B946-F9553609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92F-A60D-4380-A827-3815B953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7F9-7145-4791-8CD6-1F7E106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379-E726-4CCC-890E-8DA2F7DD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4CD-640E-4164-ADDB-AEBDFF1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80F-92C7-455E-B3A0-F41F6FC9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D2C-98FE-4FEE-B269-CE88E523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205-9685-4094-A42C-494E188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F0F-63A1-44FA-988B-30AE0A3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9EA7-CBA4-48D0-B102-1465C6F64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85960" y="2685960"/>
            <a:ext cx="737208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Arial"/>
              </a:rPr>
              <a:t>ГЛАГОЛ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рошедшем времен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чают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Что делал? Что сдел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Что делали? Что сдел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овал рисов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Настоящее врем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иходит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тепер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ождик иде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крывается двер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Arial"/>
              </a:rPr>
              <a:t>ГЛАГ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настоящем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чают на вопрос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Что делаю?  Что делаеш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Что делают? Что дела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ижу   чита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А в будущ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олечу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на раке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Хочу побывать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 далекой плане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Arial"/>
              </a:rPr>
              <a:t>ГЛАГ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буду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чают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Что сделаем? Что буде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Что сделает? Что будет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исуем  будем рис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Време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глаго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Прошедш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Настоя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Буду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Отсканировано 07"/>
          <p:cNvPicPr/>
          <p:nvPr/>
        </p:nvPicPr>
        <p:blipFill>
          <a:blip r:embed="rId1"/>
          <a:stretch/>
        </p:blipFill>
        <p:spPr>
          <a:xfrm>
            <a:off x="1547640" y="1557360"/>
            <a:ext cx="59770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Отсканировано 23"/>
          <p:cNvPicPr/>
          <p:nvPr/>
        </p:nvPicPr>
        <p:blipFill>
          <a:blip r:embed="rId1"/>
          <a:stretch/>
        </p:blipFill>
        <p:spPr>
          <a:xfrm>
            <a:off x="2627280" y="2133720"/>
            <a:ext cx="4032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Отсканировано 05"/>
          <p:cNvPicPr/>
          <p:nvPr/>
        </p:nvPicPr>
        <p:blipFill>
          <a:blip r:embed="rId1"/>
          <a:stretch/>
        </p:blipFill>
        <p:spPr>
          <a:xfrm>
            <a:off x="2268360" y="2492280"/>
            <a:ext cx="4175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а и Миша … в кустах на берегу речки. Вдруг кусты …. Высокая стройная лосиха … к воде. Она напилась и … голову в сторону леса. Из чащи … маленький лосёнок. Он вошел в воду и … пить. Вдруг лосенок … тонуть. Вова и Миша быстро прибежали и … лосенка. Спасенный лосенок бросился в лес, где его …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ТЕМА УРОКА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ff"/>
                </a:solidFill>
                <a:latin typeface="Arial"/>
              </a:rPr>
              <a:t>ВРЕМЕНА ГЛАГО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ва и Миша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стояли</a:t>
            </a: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устах на берегу речки. Вдруг кусты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зашевелилис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Высокая стройная лосиха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подош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 воде. Она напилась 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поверну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олову в сторону леса. Из чащ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выбеж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аленький лосёнок. Он вошел в воду 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нач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ить. Вдруг лосенок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ст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онуть. Вова и Миша быстро прибежали 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спа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лосенка. Спасенный лосенок бросился в лес, где его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жда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сячи звуков родятся весною в ожившем лесу. От пенька к пеньку пробежала, тонень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ь,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укнулся о берёзу и грузно упал жук. На макушке берёзы гром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кушка. На самой вершине дуба, важно надувая зоб,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кий голубь. На закате солнца страшно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есу фи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для справ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огудел, воркует,                   пискнула, ухнет, кук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и звуков родятся весною в ожившем лесу. От пенька к пеньку пробежала, тонень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искну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ышь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рогуд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укнулся о берёзу и грузно упал жук. На макушке берёзы гром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у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укушка. На самой вершине дуба, важно надувая зоб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ор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кий голубь. На закате солнца страшно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ух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лесу ф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70879951-00"/>
          <p:cNvPicPr/>
          <p:nvPr/>
        </p:nvPicPr>
        <p:blipFill>
          <a:blip r:embed="rId1"/>
          <a:stretch/>
        </p:blipFill>
        <p:spPr>
          <a:xfrm>
            <a:off x="3203640" y="148428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и звуков родятся весною в ожившем лесу. От пенька к пеньку пробежала, тонень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искну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ышь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рогуд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укнулся о берёзу и грузно упал жук. На макушке берёзы гром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у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укушка. На самой вершине дуба, важно надувая зоб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ор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кий голубь. На закате солнца страшно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ух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лесу ф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Отсканировано 05"/>
          <p:cNvPicPr/>
          <p:nvPr/>
        </p:nvPicPr>
        <p:blipFill>
          <a:blip r:embed="rId1"/>
          <a:stretch/>
        </p:blipFill>
        <p:spPr>
          <a:xfrm>
            <a:off x="826920" y="1628640"/>
            <a:ext cx="7632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текст. В каком времени употреблены глаго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ы весной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сажал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сад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Семён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лежал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 гря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т мы яблоки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еди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Семёну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не дади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ы узнали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Чему вы научились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1809720" y="2293920"/>
            <a:ext cx="552456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вторять знания о существенных признаках глаго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вать умение различать временные формы глагола и правильно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отребля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сширить и обогащать активный словарь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вышать речевую культуру младших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Что они дел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Отсканировано 05"/>
          <p:cNvPicPr/>
          <p:nvPr/>
        </p:nvPicPr>
        <p:blipFill>
          <a:blip r:embed="rId1"/>
          <a:stretch/>
        </p:blipFill>
        <p:spPr>
          <a:xfrm>
            <a:off x="762120" y="1600200"/>
            <a:ext cx="34290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Отсканировано 05"/>
          <p:cNvPicPr/>
          <p:nvPr/>
        </p:nvPicPr>
        <p:blipFill>
          <a:blip r:embed="rId2"/>
          <a:stretch/>
        </p:blipFill>
        <p:spPr>
          <a:xfrm>
            <a:off x="5076720" y="1600200"/>
            <a:ext cx="30956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Отсканировано 05"/>
          <p:cNvPicPr/>
          <p:nvPr/>
        </p:nvPicPr>
        <p:blipFill>
          <a:blip r:embed="rId3"/>
          <a:stretch/>
        </p:blipFill>
        <p:spPr>
          <a:xfrm>
            <a:off x="1258920" y="3938760"/>
            <a:ext cx="266544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Отсканировано 05"/>
          <p:cNvPicPr/>
          <p:nvPr/>
        </p:nvPicPr>
        <p:blipFill>
          <a:blip r:embed="rId4"/>
          <a:stretch/>
        </p:blipFill>
        <p:spPr>
          <a:xfrm>
            <a:off x="4932360" y="4005360"/>
            <a:ext cx="33544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Отсканировано 05"/>
          <p:cNvPicPr/>
          <p:nvPr/>
        </p:nvPicPr>
        <p:blipFill>
          <a:blip r:embed="rId1"/>
          <a:stretch/>
        </p:blipFill>
        <p:spPr>
          <a:xfrm>
            <a:off x="2276640" y="1849320"/>
            <a:ext cx="45925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гла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глагол» в переводе с лат. означает «слово, речь» В словаре В.И. Даля оно означа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лово,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речи: разряд слов, выражающих действие,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i?id=79604622-01"/>
          <p:cNvPicPr/>
          <p:nvPr/>
        </p:nvPicPr>
        <p:blipFill>
          <a:blip r:embed="rId1"/>
          <a:stretch/>
        </p:blipFill>
        <p:spPr>
          <a:xfrm>
            <a:off x="5796000" y="2205000"/>
            <a:ext cx="172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го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это часть речи, которая обозначает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дейст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предмета, и отвечает на вопросы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то делать?, что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мер: кричать, крикну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Време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глаго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Прошедш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Настоя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Буду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рошедшее врем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то, что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рош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чера мы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иса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лнце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уш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9:57:09Z</dcterms:created>
  <dc:creator>USER</dc:creator>
  <dc:description/>
  <dc:language>en-US</dc:language>
  <cp:lastModifiedBy>Пользователь Windows</cp:lastModifiedBy>
  <dcterms:modified xsi:type="dcterms:W3CDTF">2015-02-07T19:40:41Z</dcterms:modified>
  <cp:revision>63</cp:revision>
  <dc:subject/>
  <dc:title>ТЕМА УРОКА :</dc:title>
</cp:coreProperties>
</file>