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326-D6FD-479D-94BC-97B792CF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D87-FEF2-4767-A51A-F327DD7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CD1-F2F5-40AB-A884-56B431B4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721-DD51-4A5F-B345-0EE20BC9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77A-CACA-43EA-9013-542E2E40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343-B51E-45DF-96A3-1EC3E43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5F9-06DC-4241-93F3-8788D531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430-FD35-49A9-8F4C-2455008E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B7A-2BDE-4D74-8BBB-D335249C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949-3BFA-486D-B714-F508661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7CC-D0B8-460D-A68C-A258E16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37A-BC25-4191-8CFB-78817BA1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2B48-3222-404F-B2D8-075E333ED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05947523_11885263680.jpg"/>
          <p:cNvPicPr/>
          <p:nvPr/>
        </p:nvPicPr>
        <p:blipFill>
          <a:blip r:embed="rId2"/>
          <a:stretch/>
        </p:blipFill>
        <p:spPr>
          <a:xfrm>
            <a:off x="3000240" y="2214720"/>
            <a:ext cx="320832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1" lang="ru-RU" sz="54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класс.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: Болдырева Н. 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Calibri"/>
              </a:rPr>
              <a:t>Решение</a:t>
            </a:r>
            <a:br>
              <a:rPr sz="7200"/>
            </a:br>
            <a:br>
              <a:rPr sz="72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 + 4 = 9</a:t>
            </a:r>
            <a:br>
              <a:rPr sz="6000"/>
            </a:br>
            <a:r>
              <a:rPr b="0" lang="ru-RU" sz="7200" spc="-1" strike="noStrike">
                <a:solidFill>
                  <a:srgbClr val="7030a0"/>
                </a:solidFill>
                <a:latin typeface="Calibri"/>
              </a:rPr>
              <a:t>Ответ: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9 карандаше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годня я узнал(а)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ло трудно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ерь я могу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почувствовал(а), что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получилось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дал мне для жизни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е захотелось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007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тица красна своим пером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человек знани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129200" y="3714840"/>
            <a:ext cx="50148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нье – све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неученье – ть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839688d55411.jpg"/>
          <p:cNvPicPr/>
          <p:nvPr/>
        </p:nvPicPr>
        <p:blipFill>
          <a:blip r:embed="rId2"/>
          <a:stretch/>
        </p:blipFill>
        <p:spPr>
          <a:xfrm>
            <a:off x="0" y="2225520"/>
            <a:ext cx="4211640" cy="46324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03a5b123776c.jpg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3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gallery_2_418_7413.gif"/>
          <p:cNvPicPr/>
          <p:nvPr/>
        </p:nvPicPr>
        <p:blipFill>
          <a:blip r:embed="rId2"/>
          <a:stretch/>
        </p:blipFill>
        <p:spPr>
          <a:xfrm>
            <a:off x="1928880" y="142884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80"/>
                </a:solidFill>
                <a:latin typeface="Arial"/>
              </a:rPr>
              <a:t>Девиз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иши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Считай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Отгадывай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2fe33cdc56f8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2"/>
          <p:cNvSpPr/>
          <p:nvPr/>
        </p:nvSpPr>
        <p:spPr>
          <a:xfrm>
            <a:off x="1527120" y="100008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95280" y="549360"/>
            <a:ext cx="7777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0080"/>
                </a:solidFill>
                <a:latin typeface="Arial"/>
              </a:rPr>
              <a:t>Устный сч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Составь квадра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d1f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d1fd4"/>
                </a:solidFill>
                <a:latin typeface="Arial"/>
              </a:rPr>
              <a:t>Реши примеры</a:t>
            </a:r>
            <a:r>
              <a:rPr b="0" lang="ru-RU" sz="5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айди отлич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осчит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Arial"/>
              </a:rPr>
              <a:t>Продолж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3280" y="-360"/>
            <a:ext cx="540072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с головой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олова на мес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4489560"/>
            <a:ext cx="53722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а голова хорош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две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shkole.jpg"/>
          <p:cNvPicPr/>
          <p:nvPr/>
        </p:nvPicPr>
        <p:blipFill>
          <a:blip r:embed="rId2"/>
          <a:stretch/>
        </p:blipFill>
        <p:spPr>
          <a:xfrm>
            <a:off x="1928880" y="1928880"/>
            <a:ext cx="485784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7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765000"/>
            <a:ext cx="6593040" cy="42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d1fd4"/>
                </a:solidFill>
                <a:latin typeface="Arial"/>
              </a:rPr>
              <a:t>Решение зада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429000" y="4143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2143080" y="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6143760" y="0"/>
            <a:ext cx="971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4857840" y="4143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7858080" y="4143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4214880" y="271476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143160" y="598968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7786800" y="1857240"/>
            <a:ext cx="971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071800" y="3214800"/>
            <a:ext cx="971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500040" y="178596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500280" y="1857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786040" y="4643280"/>
            <a:ext cx="9716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651640" y="4581360"/>
            <a:ext cx="9712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4786200" y="1857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215040" y="321480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4286160" y="571500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Задача.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аши было 5 карандашей, а у Вани – 4 фломастер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было у них всего карандаше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428760" y="142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500040" y="3143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00040" y="500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Задач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 маши было 5 карандашей, а у Вани –4карандаша  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колько было у них всего карандаше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50720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и пядей во лб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а пал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4357800" y="3714840"/>
            <a:ext cx="4786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 да раз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доумят сраз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1191268711_c4103.jpg"/>
          <p:cNvPicPr/>
          <p:nvPr/>
        </p:nvPicPr>
        <p:blipFill>
          <a:blip r:embed="rId2"/>
          <a:stretch/>
        </p:blipFill>
        <p:spPr>
          <a:xfrm>
            <a:off x="0" y="1071720"/>
            <a:ext cx="45007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3" descr="2fe33cdc56f8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642960" y="563256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0"/>
          <p:cNvSpPr/>
          <p:nvPr/>
        </p:nvSpPr>
        <p:spPr>
          <a:xfrm>
            <a:off x="1143000" y="5429160"/>
            <a:ext cx="207180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5"/>
          <p:cNvSpPr/>
          <p:nvPr/>
        </p:nvSpPr>
        <p:spPr>
          <a:xfrm>
            <a:off x="1116000" y="1628640"/>
            <a:ext cx="64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7"/>
          <p:cNvSpPr/>
          <p:nvPr/>
        </p:nvSpPr>
        <p:spPr>
          <a:xfrm>
            <a:off x="1116000" y="314172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Левая круглая скобка 8"/>
          <p:cNvSpPr/>
          <p:nvPr/>
        </p:nvSpPr>
        <p:spPr>
          <a:xfrm rot="10800000">
            <a:off x="7811640" y="1341360"/>
            <a:ext cx="576360" cy="2448000"/>
          </a:xfrm>
          <a:custGeom>
            <a:avLst/>
            <a:gdLst>
              <a:gd name="textAreaLeft" fmla="*/ 169200 w 576360"/>
              <a:gd name="textAreaRight" fmla="*/ 576720 w 576360"/>
              <a:gd name="textAreaTop" fmla="*/ 23760 h 2448000"/>
              <a:gd name="textAreaBottom" fmla="*/ 242424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2"/>
                  <a:pt x="0" y="424"/>
                </a:cubicBezTo>
                <a:lnTo>
                  <a:pt x="0" y="21176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276720" y="549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419640" y="234936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755640" y="549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82692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8388360" y="170028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4:58Z</dcterms:created>
  <dc:creator>Алексей</dc:creator>
  <dc:description/>
  <dc:language>en-US</dc:language>
  <cp:lastModifiedBy>Первый</cp:lastModifiedBy>
  <dcterms:modified xsi:type="dcterms:W3CDTF">2015-01-29T17:25:56Z</dcterms:modified>
  <cp:revision>43</cp:revision>
  <dc:subject/>
  <dc:title>Тема: Решение задач</dc:title>
</cp:coreProperties>
</file>