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06E-C5C0-4453-9CAC-9DD9F9D6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D3A-6F1F-4A6C-86CD-91B4FEE8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54B-1D91-4425-80C9-B6D779E3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1F7-6584-4C2A-9C99-C9D6C824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E7F-ADA3-4E7A-94D8-C2B8B4A8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2C6F-9F37-4A06-9F1A-1BC155FE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705E-DC7C-496A-8C8E-AACF5FBB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694B-C3F6-4D83-B20B-49163A78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1DAA-7455-45B7-A077-5287EEA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C46-0C60-4509-8DB5-49ACB75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B89-62B0-461F-B2F2-6093172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096-7D03-44D1-A764-5F36BA7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CE4-78F6-4860-BA83-43769FA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1344-9532-4AD3-8992-3A36350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4CCD-8663-43AE-A16E-997BCCE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8B06-EBE2-452B-89EA-48196E2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067-7006-4AF4-9E4F-8487C62D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C24-2E28-40CE-BF5F-4CA8CCC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FD4-0798-42D6-903C-E357A75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D1F-D020-4510-931F-3882AB56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1C4-7478-45C6-B864-0F74CD31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24D-3111-4F62-9EF3-235C385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B5A-740B-4CFD-8600-790DEBE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F10-9D16-43DA-B484-0BB55A67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2F8-8D77-4DB3-A9DF-EB3592B78CD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C08B-9B09-4EEC-9C97-DD6D6582C14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по геометрии в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К урокам  геометрии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  9  классе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кажите номера вер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утвержд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мма вертикальных углов равна 180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  <a:ea typeface="Arial"/>
              </a:rPr>
              <a:t>°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 любой ромб можно вписать окружность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Если два угла одного треугольника соответственно равны двум углам другого треугольника, то эти треугольники подоб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Если расстояние от центра окружности до прямой меньше радиуса этой окружности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о прямая пересекает окружность в двух точк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твет:  23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         утвержд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невер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.   Средняя линия трапеции с основаниями 2 см и 8 см равна 6 с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.  Радиус окружности, описанной около правильного четырёхугольника со стороной 8 см, равен 4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√3с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3.    Центром окружности, вписанной 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угольник,  является   точка      пересечения биссектрис треугольник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4. Периметр правильного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-угольника  в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п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 раз больше его стороны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твет: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и проектировании торговог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центра запланирована построй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эскалатора для подъёма на выс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м под углом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к горизонту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Найдите длину эскалатора(в метрах)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есл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sin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Arial"/>
              </a:rPr>
              <a:t> = 0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  <a:ea typeface="Arial"/>
              </a:rPr>
              <a:t>,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гол В равнобедренной трапец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с основаниям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2 раза больше угла А. Найдит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гол С. Ответ дайте в градусах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Ответ:   12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иссектриса угла С параллелограм-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а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пересекает сторону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чке М. Докажите, что треугольни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M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– равнобедренны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задачу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асть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трапеции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расстояние от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ершины А до прямой, содержащей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оковую сторону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равно 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йдите расстояние от середины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боковой стороны АВ до прямой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 = 5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: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1:09:41Z</dcterms:created>
  <dc:creator>Star</dc:creator>
  <dc:description/>
  <dc:language>en-US</dc:language>
  <cp:lastModifiedBy>Star</cp:lastModifiedBy>
  <dcterms:modified xsi:type="dcterms:W3CDTF">2014-01-13T15:21:56Z</dcterms:modified>
  <cp:revision>4</cp:revision>
  <dc:subject/>
  <dc:title>Задачи по геометрии в ГИА</dc:title>
</cp:coreProperties>
</file>