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8FC-3185-4893-978E-EF23C34F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9D4-C95B-4EB5-8685-A40EB54D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6DB-395A-494F-B02C-5918C8CF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6BF-C9E9-4FE1-B05A-3CCF456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D5CC-17D4-44EE-A2A1-49CBCD65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B43-4433-4284-A666-F9CF6AC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188B-9BF5-47ED-8AE3-CD6A53D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8186-886E-438F-A03C-50423E5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8B0-0FBC-4EC0-8CA4-C9DA125E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57B-7581-4222-9671-9EE6231F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5554-46AD-4DB9-B9DB-6AC7C72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967-03C2-4436-BE8A-01D97DD3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FEF0-E4F7-4F88-AE8C-B6C9C7F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C695-4455-418A-8BCC-22EE9DF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4DFB-EAA4-45C7-9A2D-C9C7D7F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16A-24CF-4149-9C1B-78D50EA4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344-9C53-4F42-BF7D-EAFEAA1F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41F-C8F8-4D8A-9B10-D87A3D3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BDD-CCD4-4BED-B72C-01041BD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81-B339-44E8-B567-F693BB8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656-8451-4172-A505-8E8E1EC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BEA-2E56-473E-B7C4-7665C621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3E4-467B-44B6-A477-F60CCBF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0F4-0FED-4300-8D92-F645AF3A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0F9-61E3-4462-A11C-F2E35CF5407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FC48-D9D7-46E2-B77A-23FDDB2FAAE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по геометрии в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К урокам  геометрии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  9  классе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 номера вер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утвержд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мма вертикальных углов равна 180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 любой ромб можно вписать окружность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Если два угла одного треугольника соответственно равны двум углам другого треугольника, то эти треугольники подоб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Если расстояние от центра окружности до прямой меньше радиуса этой окружности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о прямая пересекает окружность в двух точк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твет:  23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         утвержд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невер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.   Средняя линия трапеции с основаниями 2 см и 8 см равна 6 с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.  Радиус окружности, описанной около правильного четырёхугольника со стороной 8 см, равен 4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√3с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3.    Центром окружности, вписанной 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угольник,  является   точка      пересечения биссектрис треугольник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4. Периметр правильного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-угольника  в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п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раз больше его сторо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твет: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и проектировании торговог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центра запланирована построй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эскалатора для подъёма на выс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м под углом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к горизонт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Найдите длину эскалатора(в метрах)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есл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sin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 = 0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,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гол В равнобедренной трапец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с основаниям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2 раза больше угла А. Найдит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гол С. Ответ дайте в градуса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Ответ:   12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иссектриса угла С параллелограм-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а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пересекает сторону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чке М. Докажите, что треугольни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M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– равнобедренны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трапеци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расстояние от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ершины А до прямой, содержащей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оковую сторону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равно 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дите расстояние от середины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оковой стороны АВ до прямой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 = 5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: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1:09:41Z</dcterms:created>
  <dc:creator>Star</dc:creator>
  <dc:description/>
  <dc:language>en-US</dc:language>
  <cp:lastModifiedBy>Star</cp:lastModifiedBy>
  <dcterms:modified xsi:type="dcterms:W3CDTF">2014-01-13T15:21:56Z</dcterms:modified>
  <cp:revision>4</cp:revision>
  <dc:subject/>
  <dc:title>Задачи по геометрии в ГИА</dc:title>
</cp:coreProperties>
</file>