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7A8-8CBC-4962-A7F1-B0D7D3D2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0DD-A32C-43C5-9B0D-8CC9FC6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5A8-D109-4C32-8AB7-1511E83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12D-1B77-486D-88B2-DB04889B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EEC-EEF5-4A20-995B-A9EF2ED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D3A-982C-4581-AF28-05AE736D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D56-B7E7-4F78-9D00-60993C5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E56-D84D-45E5-9178-0286635B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699-06CF-4550-8C9D-B9AC55D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3AD-9644-4E6E-9343-1CC9A7C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F0F-81AC-4249-97EB-B643D25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E4D-9051-40FA-BAE8-9002529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DB79-9D5A-4C71-836A-098649B11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утешественник пришел в 06:00 на железнодорожную станцию на­селенного пункта СЫРОЕЖКИНО и обнаружил следующее расписание электрич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72200" cy="307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4800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 самое раннее время, когда путешественник сможет ока­заться в на станции ЛЕСНАЯ согласно этому рас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09 : 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09 :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09 : 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дверью в компьютерный класс висит табличка, на которой описан алгоритм получения числового кода замка: «в последовательности цифр 74263 из каждой нечётной цифры вычесть 3, а к каждой чётной цифре прибавить 1, затем удалить цифры, стоящие на чётных местах». Какой код должен получиться в результате выполнения этого алгорит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59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4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4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ка имени файла представляет собой последовательность букв, цифр и прочих допустимых в именах файлов символов, в которой также могут встречаться следующие символы: Символ «?» (вопросительный знак) означает ровно один произв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 «*» (звёздочка) означает любую последовательность символов произвольной длины, в том числе «*» может задавать и пустую последо­вательность. Определите, какое из указанных имён файлов удовлетворяет маске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*ch??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chl.tmp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het.c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dacha.doc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h.h A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мальчика подшутили над Катей — один из них спрятал её портфель. Катя знает, что их зовут Кирилл, Сеня и Миша, один из ребят всегда говорит правду, другой всегда лжёт, а третий говорит через раз то ложь, то правду; но не знает, кто из них правдив, а кто — нет. Девочка хотела узнать, кто спрятал её портфель, она думала, что это сделал Сеня. Кирилл сказал: «Это я спрятал, а не Сеня». Миша сказал: «Это Сеня спрятал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ирилл всегда лжёт». Сеня сказал: «Это сделал не Миша, а Кирилл всегда говорит правду». Катя догадалась, кто из них спрятал. Укажите первую букву имени мальчика, который спрятал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таблице приведены данные об успеваемости учеников 10-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две четверти и количество учеников в этих классах в четырё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ах. В какой из школ средний показатель успеваемости за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четверти самый низк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1055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№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2) №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) №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) №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86600" cy="214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уя записи в тетради одного из пиратов, кладоискатели обнаружили следующие указ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 шагов на ю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шагов на в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шагов на сев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 шагов на ю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положительно, этому алгоритму должен следовать человек, желающий найти закопанный клад. Продолжив свои исследования, кладоискатели обнаружили также и карту острова, на котором должен располагаться тайник с кладом. Сторона каждого квадрата на этой карте приблизительно равна 30 шагам. Заштрихованный квадрат означает непроходимую местность (например, море), белый квадрат — проходимые участки с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обидное то, что на карте не обозначено место, в котором должен стоять кладоискатель перед началом выполнения указанной выше после­довательности действий. Однако, учитывая неправильную форму острова, кладоискатели пришли к выводу, что такое место можно однозначно опре­делить, используя алгоритм. Укажите, в центре какого квадрата, согласно имеющейся информации, должен находиться 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А4       2) Е4      3) Г6       4) Б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4238640" cy="2695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значение переменной х после выполнения фрагмента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943280"/>
            <a:ext cx="5257800" cy="3924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1 – ответ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2 – ответ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3 – ответ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4 – ответ: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5 – ответ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6 – ответ: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7 – ответ: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07T13:16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