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17DB-BF7E-479F-827E-D3A513F1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D051-1C8E-435E-B057-BD65F4BF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29D2-8B02-42C1-9EC8-6415D6C9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A5E9-8D7C-4936-B629-C7E4BECC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B119-E168-4350-BE33-C14588C3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2D3D-4678-4A42-83C6-87D3657C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F86B-563F-4250-BA1C-252BAC66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316B-D77D-4B5E-A439-1E8037A8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6E35-F6CD-421F-9822-D89F8A09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2A74-2C6F-422B-97FF-19205E2B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E808-15AC-4B5A-8DE9-3951BA47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6024-370F-4E61-B268-A581C604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E37B-6D6B-49DA-BAA9-903E904893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дача №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утешественник пришел в 06:00 на железнодорожную станцию на­селенного пункта СЫРОЕЖКИНО и обнаружил следующее расписание электриче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72200" cy="3078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14400" y="48006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ите самое раннее время, когда путешественник сможет ока­заться в на станции ЛЕСНАЯ согласно этому распис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09 : 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09 : 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09 : 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а №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 дверью в компьютерный класс висит табличка, на которой описан алгоритм получения числового кода замка: «в последовательности цифр 74263 из каждой нечётной цифры вычесть 3, а к каждой чётной цифре прибавить 1, затем удалить цифры, стоящие на чётных местах». Какой код должен получиться в результате выполнения этого алгорит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59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43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4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3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а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ка имени файла представляет собой последовательность букв, цифр и прочих допустимых в именах файлов символов, в которой также могут встречаться следующие символы: Символ «?» (вопросительный знак) означает ровно один произво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мво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мвол «*» (звёздочка) означает любую последовательность символов произвольной длины, в том числе «*» может задавать и пустую последо­вательность. Определите, какое из указанных имён файлов удовлетворяет маске: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*ch??.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chl.tmp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chet.c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dacha.doc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ch.h A1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а №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 мальчика подшутили над Катей — один из них спрятал её портфель. Катя знает, что их зовут Кирилл, Сеня и Миша, один из ребят всегда говорит правду, другой всегда лжёт, а третий говорит через раз то ложь, то правду; но не знает, кто из них правдив, а кто — нет. Девочка хотела узнать, кто спрятал её портфель, она думала, что это сделал Сеня. Кирилл сказал: «Это я спрятал, а не Сеня». Миша сказал: «Это Сеня спрятал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Кирилл всегда лжёт». Сеня сказал: «Это сделал не Миша, а Кирилл всегда говорит правду». Катя догадалась, кто из них спрятал. Укажите первую букву имени мальчика, который спрятал портф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а №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таблице приведены данные об успеваемости учеников 10-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 две четверти и количество учеников в этих классах в четырё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колах. В какой из школ средний показатель успеваемости за э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ве четверти самый низки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51055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№2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2) №3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3) №12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4) №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7086600" cy="2146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971800" y="3581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ча №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53352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сследуя записи в тетради одного из пиратов, кладоискатели обнаружили следующие указ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 шагов на ю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 шагов на вос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 шагов на сев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 шагов на ю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положительно, этому алгоритму должен следовать человек, желающий найти закопанный клад. Продолжив свои исследования, кладоискатели обнаружили также и карту острова, на котором должен располагаться тайник с кладом. Сторона каждого квадрата на этой карте приблизительно равна 30 шагам. Заштрихованный квадрат означает непроходимую местность (например, море), белый квадрат — проходимые участки суш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971800"/>
            <a:ext cx="4419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е обидное то, что на карте не обозначено место, в котором должен стоять кладоискатель перед началом выполнения указанной выше после­довательности действий. Однако, учитывая неправильную форму острова, кладоискатели пришли к выводу, что такое место можно однозначно опре­делить, используя алгоритм. Укажите, в центре какого квадрата, согласно имеющейся информации, должен находиться кл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А4       2) Е4      3) Г6       4) Б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3581280"/>
            <a:ext cx="4238640" cy="26956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а №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ите значение переменной х после выполнения фрагмента алгорит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28800" y="1943280"/>
            <a:ext cx="5257800" cy="3924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№1 – ответ: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№2 – ответ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№3 – ответ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№4 – ответ: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№5 – ответ: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№6 – ответ: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№7 – ответ: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5-02-07T13:16:0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