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16E-A854-4637-A6E4-4506D7B1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B96-9410-4B73-A56A-A5CC2983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383-88F9-4759-86E3-F5CF6E6E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0B9-F00E-495E-8F86-2D261172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923C-D2CE-4E39-812D-2CC1F322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5C31-F305-49CD-A9E3-08464E05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28C8-5204-4DA4-A683-ECAC54D8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91E9-9F49-4EB6-AB43-53F25110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031B-3337-4725-9B26-38D1952F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E962-B1BC-46A7-A765-1625F131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8817-92F0-4A5E-8801-666DD23C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A72-D20A-4993-9E0D-63696C7A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B5FD-09A7-46CD-9DC9-4526A28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6FA6-5CC8-4B06-871B-27DFCFD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F599-AA56-4E09-A70A-BA4C2DE7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90C0-994A-4900-88D5-0DFF036F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B089-BEA5-46D2-9414-22C2AAF5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FB6-46A3-48E2-94C6-121612A8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805-DBBC-4F82-86EF-075E54A2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DEA-E755-4A82-8993-042F8CD6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21A-B9AE-40E9-89EE-06E8CB53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A1C-5DA2-4B92-972B-FBE182D7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773-0DC1-4D80-BCA5-C3B53054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A95-17F9-4F9B-92D9-8F5B0DA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698D-823A-4DA8-BB47-C6D4984854D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58EE-3329-4D06-AC41-87136783942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Животный мир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Австралии.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219640" y="5084640"/>
            <a:ext cx="345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одготовила: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иль А. С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риняла: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Лаврентьева С. Ф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66"/>
                </a:solidFill>
                <a:latin typeface="Times New Roman"/>
              </a:rPr>
              <a:t>Животный мир.</a:t>
            </a:r>
            <a:br>
              <a:rPr sz="4000"/>
            </a:br>
            <a:r>
              <a:rPr b="0" i="1" lang="en-US" sz="4000" spc="-1" strike="noStrike">
                <a:solidFill>
                  <a:srgbClr val="006666"/>
                </a:solidFill>
                <a:latin typeface="Times New Roman"/>
              </a:rPr>
              <a:t>Коала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692000"/>
            <a:ext cx="8424720" cy="47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Arial"/>
              </a:rPr>
              <a:t>Коала— передвигающееся по деревьям травоядное сумчатое, обитающее в Австралии. Единственный представитель семейства Коаловые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Arial"/>
              </a:rPr>
              <a:t>Коала обитает в прибрежных районах на востоке и юге Австралии. Также они распространены в регионах с достаточным количеством влаги для поддержки подходящих коалам лесов. Коалы населяют эвкалиптовые леса, почти всю жизнь проводя в кронах этих деревьев. Днём коала спит, устроившись на ветке или в развилках ветвей; ночью лазает по деревьям, отыскивая корм. Даже если коала не спит, он обычно часами сидит совершенно неподвижно, обхватив ветку или ствол дерева передними лапами. Коала неподвижен 16-18 часов в сутки. На землю он спускается только для перехода на новое дерево, до которого не может допрыгнуть. Прыгают коалы с дерева на дерево на удивление ловко и уверенно; спасаясь бегством, эти обычно медлительные и флегматичные звери переходят на энергичный галоп и быстро взбираются на ближайшее дерево. Умеют плавать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Arial"/>
              </a:rPr>
              <a:t>Чтобы не отравиться, коалы выбирают в пищу только те виды эвкалиптов, которые содержат меньше фенольных соединений, и предпочитают деревья, произрастающие на плодородных почвах (особенно вдоль берегов рек), в чьих листьях концентрация яда ниже, чем у эвкалиптов, растущих на бедных, неплодородных землях. Как следствие, из 800 видов эвкалипта коалы питаются всего 120 видами. Выбирать подходящую пищу коалам, видимо, помогает развитое обоняние. В неволе, где выбор у животного обычно меньше, оно способно даже отравиться пищей в результате кумулятивного эффекта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Arial"/>
              </a:rPr>
              <a:t>Всю необходимую влагу коала получает из листьев эвкалиптов, а также из росы на листьях. Воду они пьют только в периоды длительных засух и во время болезни. Чтобы восполнить дефицит минеральных веществ в организме, коалы время от времени поедают землю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Обои на kards.qip.ru - Животные - Дикие - Коала - Закач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Животный мир.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енгуру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Кенгуру  — общеупотребительное название группы животных из отряда двурезцовых сумчатых млекопитающих. В узком смысле это название применяется по отношению к наиболее крупным представителям этого семейства, тогда как более мелкие называются валлару и валлаби. Кенгуру живут от 8 до 16 лет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У кенгуру мощные задние ноги, массивный хвост, узкие плечи, маленькие, похожие на человеческие руки, передние лапы, которыми кенгуру выкапывают клубни и корни. В случае опасности кенгуру переносит всю тяжесть тела на хвост, и тогда обе задние ноги, освободившись, одним движением сверху вниз наносят страшные раны противнику. Отталкиваясь мощными задними ногами, они мчатся прыжками до 12 м в длину и до 3 м в высоту. Масса тела составляет до 80 кг. Кенгуру является неофициальным символом Австралии. Кенгуру изображён на гербе Австралии, некоторых австралийских монетах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Лисяра - Сайт Хорошего Настроения. - Прикольная фотоподборка - 184 (81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Животный мир.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бака Динго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инго — вторично одичавшая домашняя собака, единственный плацентарный хищник в фауне Австралии до прихода европейцев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инго выглядит как хорошо сложенная собака средней величины: высота в холке 47—67 см, длина тела с головой 86—122 см, длина хвоста 26—38 см. Вес 9,60—19 кг, редко — до 24 кг. Самцы значительно крупнее самок, а азиатские динго мельче австралийских сородичей, видимо, из-за рациона, бедного белками. Телосложением динго напоминает гончую. Морда квадратная; уши небольшие, стоячие. Хвост пушистый, саблевидны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ех у динго короткий и густой, типичный окрас — ржаво-рыжий или рыже-бурый, на морде и брюхе светлее. Изредка встречаются особи почти чёрного цвета, белые и пегие. На юго-востоке Австралии обитает порода динго серо-белой масти. Динго чёрно-подпалого окраса (по типу окраса ротвейлера) считаются гибридами динго с домашними собаками, вероятно, немецкими овчаркам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Canis lupus dingo Picture Gallery - Photo Gallery - 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4:43:21Z</dcterms:created>
  <dc:creator>user</dc:creator>
  <dc:description/>
  <dc:language>en-US</dc:language>
  <cp:lastModifiedBy>user</cp:lastModifiedBy>
  <dcterms:modified xsi:type="dcterms:W3CDTF">2015-01-30T15:57:15Z</dcterms:modified>
  <cp:revision>2</cp:revision>
  <dc:subject/>
  <dc:title>Животный мир Австралии.</dc:title>
</cp:coreProperties>
</file>