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FCA-089C-4BD9-80A7-249A5858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7C0-4224-49A1-BDE6-892121EC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291-B8D2-4E75-B4DE-FC51325A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8E0-D531-44F5-A118-BD9ADE29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1498-455F-4A90-A43D-E6593629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C038-7234-441F-A962-BFFC4E5A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9099-5C1A-49A8-B76A-54546A83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3C02-BC3A-46B4-ADE3-467B1D1B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C11B-5495-42A2-9688-875A63A8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C928-7A21-4786-97F7-20F11014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62BF-14DB-40CD-AA15-863CD87C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846-DF6B-44BE-BBAB-75BEE95D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8B93-B188-4200-AB71-EE0F6997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7DC1-40C9-4BF5-99A0-AE4880F5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D41B-4EDA-452E-996E-A9EF1CD0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ED2F-F3D2-467E-BA17-1B0A50F0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057F-13DF-4DB2-866A-63FE7857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50C-1BEF-4518-96B3-148470BA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1FA-47E7-4981-BA51-2A46CE64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5FB-AFAD-4FCC-93D8-0B6F04F4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635-44C3-49A2-BC36-AB1FFFA1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E63-7275-437D-A987-42BEC7D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B39-9DB4-4083-889E-5B0C93BB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374-98DE-46C3-A955-3E0D5210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FB23-D526-4EC5-B18F-86789DBCD62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C52C-DA3E-4E84-A868-A9215A008E0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Животный мир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Австралии.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219640" y="5084640"/>
            <a:ext cx="345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Подготовила:</a:t>
            </a:r>
            <a:br>
              <a:rPr sz="2000"/>
            </a:b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Диль А. С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Приняла:</a:t>
            </a:r>
            <a:br>
              <a:rPr sz="2000"/>
            </a:b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Лаврентьева С. Ф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66"/>
                </a:solidFill>
                <a:latin typeface="Times New Roman"/>
              </a:rPr>
              <a:t>Животный мир.</a:t>
            </a:r>
            <a:br>
              <a:rPr sz="4000"/>
            </a:br>
            <a:r>
              <a:rPr b="0" i="1" lang="en-US" sz="4000" spc="-1" strike="noStrike">
                <a:solidFill>
                  <a:srgbClr val="006666"/>
                </a:solidFill>
                <a:latin typeface="Times New Roman"/>
              </a:rPr>
              <a:t>Коала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   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692000"/>
            <a:ext cx="8424720" cy="47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Arial"/>
              </a:rPr>
              <a:t>Коала— передвигающееся по деревьям травоядное сумчатое, обитающее в Австралии. Единственный представитель семейства Коаловые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Arial"/>
              </a:rPr>
              <a:t>Коала обитает в прибрежных районах на востоке и юге Австралии. Также они распространены в регионах с достаточным количеством влаги для поддержки подходящих коалам лесов. Коалы населяют эвкалиптовые леса, почти всю жизнь проводя в кронах этих деревьев. Днём коала спит, устроившись на ветке или в развилках ветвей; ночью лазает по деревьям, отыскивая корм. Даже если коала не спит, он обычно часами сидит совершенно неподвижно, обхватив ветку или ствол дерева передними лапами. Коала неподвижен 16-18 часов в сутки. На землю он спускается только для перехода на новое дерево, до которого не может допрыгнуть. Прыгают коалы с дерева на дерево на удивление ловко и уверенно; спасаясь бегством, эти обычно медлительные и флегматичные звери переходят на энергичный галоп и быстро взбираются на ближайшее дерево. Умеют плавать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Arial"/>
              </a:rPr>
              <a:t>Чтобы не отравиться, коалы выбирают в пищу только те виды эвкалиптов, которые содержат меньше фенольных соединений, и предпочитают деревья, произрастающие на плодородных почвах (особенно вдоль берегов рек), в чьих листьях концентрация яда ниже, чем у эвкалиптов, растущих на бедных, неплодородных землях. Как следствие, из 800 видов эвкалипта коалы питаются всего 120 видами. Выбирать подходящую пищу коалам, видимо, помогает развитое обоняние. В неволе, где выбор у животного обычно меньше, оно способно даже отравиться пищей в результате кумулятивного эффекта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Arial"/>
              </a:rPr>
              <a:t>Всю необходимую влагу коала получает из листьев эвкалиптов, а также из росы на листьях. Воду они пьют только в периоды длительных засух и во время болезни. Чтобы восполнить дефицит минеральных веществ в организме, коалы время от времени поедают землю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Обои на kards.qip.ru - Животные - Дикие - Коала - Закач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Животный мир.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енгуру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Кенгуру  — общеупотребительное название группы животных из отряда двурезцовых сумчатых млекопитающих. В узком смысле это название применяется по отношению к наиболее крупным представителям этого семейства, тогда как более мелкие называются валлару и валлаби. Кенгуру живут от 8 до 16 лет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У кенгуру мощные задние ноги, массивный хвост, узкие плечи, маленькие, похожие на человеческие руки, передние лапы, которыми кенгуру выкапывают клубни и корни. В случае опасности кенгуру переносит всю тяжесть тела на хвост, и тогда обе задние ноги, освободившись, одним движением сверху вниз наносят страшные раны противнику. Отталкиваясь мощными задними ногами, они мчатся прыжками до 12 м в длину и до 3 м в высоту. Масса тела составляет до 80 кг. Кенгуру является неофициальным символом Австралии. Кенгуру изображён на гербе Австралии, некоторых австралийских монетах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Лисяра - Сайт Хорошего Настроения. - Прикольная фотоподборка - 184 (81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Животный мир.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обака Динго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инго — вторично одичавшая домашняя собака, единственный плацентарный хищник в фауне Австралии до прихода европейцев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инго выглядит как хорошо сложенная собака средней величины: высота в холке 47—67 см, длина тела с головой 86—122 см, длина хвоста 26—38 см. Вес 9,60—19 кг, редко — до 24 кг. Самцы значительно крупнее самок, а азиатские динго мельче австралийских сородичей, видимо, из-за рациона, бедного белками. Телосложением динго напоминает гончую. Морда квадратная; уши небольшие, стоячие. Хвост пушистый, саблевидны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ех у динго короткий и густой, типичный окрас — ржаво-рыжий или рыже-бурый, на морде и брюхе светлее. Изредка встречаются особи почти чёрного цвета, белые и пегие. На юго-востоке Австралии обитает порода динго серо-белой масти. Динго чёрно-подпалого окраса (по типу окраса ротвейлера) считаются гибридами динго с домашними собаками, вероятно, немецкими овчаркам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Canis lupus dingo Picture Gallery - Photo Gallery - 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4:43:21Z</dcterms:created>
  <dc:creator>user</dc:creator>
  <dc:description/>
  <dc:language>en-US</dc:language>
  <cp:lastModifiedBy>user</cp:lastModifiedBy>
  <dcterms:modified xsi:type="dcterms:W3CDTF">2015-01-30T15:57:15Z</dcterms:modified>
  <cp:revision>2</cp:revision>
  <dc:subject/>
  <dc:title>Животный мир Австралии.</dc:title>
</cp:coreProperties>
</file>