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20.png" ContentType="image/pn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9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C26-FE27-4EBA-B85F-E3507328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31E-EDB8-4823-A5EF-ABD804A0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ECF-353E-4695-AF66-96E81DE9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272-7585-4972-BC85-28D6576C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47E-A375-428E-B0B3-4B49817A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43F-6D4D-4DFF-8289-0127914F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4A9-742A-4437-B040-3200AB2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A4D-94B9-4544-8DC9-6E645225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F1A-1F6B-4E5B-8880-FE9FCF9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E5E-FD4A-4683-892B-00934C0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853-C7A0-438F-B743-1B7844D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821-1469-44F4-8535-C2BB024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46A-920A-4A4C-8DC1-8EDAD8AC7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1podarok.ru/gi/1453_m.jpg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eremeev.by.ru/china/Gen109.jpg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antur.ua/scripts/image.php?get_key=product_id&amp;get_id=615&amp;table=store_products&amp;img_field=product_img&amp;img_mime=product_img_mime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hyperlink" Target="http://ru.wikipedia.org/wiki/&#1060;&#1072;&#1081;&#1083;:Boussole_fantassin_russe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Boussole_fantassin_russe.jpg" TargetMode="External"/><Relationship Id="rId3" Type="http://schemas.openxmlformats.org/officeDocument/2006/relationships/image" Target="../media/image1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39625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80"/>
                </a:solidFill>
                <a:uFillTx/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ОУ СОШ № 138 г.Санкт - 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брик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154320" cy="316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895480" y="1676520"/>
            <a:ext cx="3276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80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Из истории возникновения</a:t>
            </a: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давних времён люди научилис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ять стороны горизонта по местным природны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знакам: по солнцу,  деревьям, муравейник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компас был изобретён в Кита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династии Сун боле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 тысяч лет назад и использовался он для указания направления движения по пустын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Европе изобретение компаса относят к 12-13 ве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глядел он так — магнитная стрелка, укрепленная на пробке и опущенная в сосуд с водой. В воде пробка со стрелкой ориентировалась нужным обр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чале 14 века итальянец Флавио Джойя усовершенствовал компас. Магнитную стрелку он надел на вертикальную шпильку, а к стрелке прикрепил лёгкий круг — картуш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 u="sng">
                <a:solidFill>
                  <a:srgbClr val="800080"/>
                </a:solidFill>
                <a:uFillTx/>
                <a:latin typeface="Arial"/>
              </a:rPr>
              <a:t>Компас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- это прибор, который столетиями помогал ориентироваться мореплавателям, первооткрывателям, летчикам, то есть всем тем, кто передвигался по планет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6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51272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90" name="Picture 5" descr="Копия storony_gorizonta"/>
          <p:cNvPicPr/>
          <p:nvPr/>
        </p:nvPicPr>
        <p:blipFill>
          <a:blip r:embed="rId2"/>
          <a:stretch/>
        </p:blipFill>
        <p:spPr>
          <a:xfrm>
            <a:off x="304920" y="685800"/>
            <a:ext cx="1295280" cy="884160"/>
          </a:xfrm>
          <a:prstGeom prst="rect">
            <a:avLst/>
          </a:prstGeom>
          <a:ln w="0">
            <a:noFill/>
          </a:ln>
        </p:spPr>
      </p:pic>
      <p:sp>
        <p:nvSpPr>
          <p:cNvPr id="9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Из истории возникновения компа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eclipse_96_gps"/>
          <p:cNvPicPr/>
          <p:nvPr/>
        </p:nvPicPr>
        <p:blipFill>
          <a:blip r:embed="rId1"/>
          <a:stretch/>
        </p:blipFill>
        <p:spPr>
          <a:xfrm>
            <a:off x="324000" y="333360"/>
            <a:ext cx="1655640" cy="1030320"/>
          </a:xfrm>
          <a:prstGeom prst="rect">
            <a:avLst/>
          </a:prstGeom>
          <a:ln w="0">
            <a:noFill/>
          </a:ln>
        </p:spPr>
      </p:pic>
      <p:sp>
        <p:nvSpPr>
          <p:cNvPr id="94" name="WordArt 13"/>
          <p:cNvSpPr txBox="1"/>
          <p:nvPr/>
        </p:nvSpPr>
        <p:spPr>
          <a:xfrm>
            <a:off x="5435640" y="1700280"/>
            <a:ext cx="3309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"Синан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95" name="AutoShape 16"/>
          <p:cNvSpPr/>
          <p:nvPr/>
        </p:nvSpPr>
        <p:spPr>
          <a:xfrm rot="9498600">
            <a:off x="4140000" y="2133720"/>
            <a:ext cx="1009440" cy="287280"/>
          </a:xfrm>
          <a:custGeom>
            <a:avLst/>
            <a:gdLst>
              <a:gd name="textAreaLeft" fmla="*/ 126000 w 1009440"/>
              <a:gd name="textAreaRight" fmla="*/ 883440 w 10094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Картинка 8 из 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3357720"/>
            <a:ext cx="2289240" cy="324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Картинка 4 из 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4221000"/>
            <a:ext cx="2342880" cy="2476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Gen108"/>
          <p:cNvPicPr/>
          <p:nvPr/>
        </p:nvPicPr>
        <p:blipFill>
          <a:blip r:embed="rId6"/>
          <a:stretch/>
        </p:blipFill>
        <p:spPr>
          <a:xfrm>
            <a:off x="324000" y="1413000"/>
            <a:ext cx="3876480" cy="26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Cot-61"/>
          <p:cNvPicPr/>
          <p:nvPr/>
        </p:nvPicPr>
        <p:blipFill>
          <a:blip r:embed="rId7"/>
          <a:stretch/>
        </p:blipFill>
        <p:spPr>
          <a:xfrm>
            <a:off x="3564000" y="3429000"/>
            <a:ext cx="2349360" cy="3213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27"/>
          <p:cNvSpPr txBox="1"/>
          <p:nvPr/>
        </p:nvSpPr>
        <p:spPr>
          <a:xfrm>
            <a:off x="5508720" y="2637000"/>
            <a:ext cx="33098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ервый комп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0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е же бывают компас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57913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Радио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корректировку направления при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овол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858000" y="914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Механический 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28800" y="114300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Магни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705720" y="5472000"/>
            <a:ext cx="2438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Спортивный жидкостный 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уристов и альпин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Картинка 13 из 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200400"/>
            <a:ext cx="2439720" cy="2440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4495680" y="3276720"/>
            <a:ext cx="22860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иро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риентации в Мировом оке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27432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Астрокомп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правление относительно положения Солнца или зв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505320" y="57150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орный 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 для маршрутов геологов и географ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5" descr=""/>
          <p:cNvPicPr/>
          <p:nvPr/>
        </p:nvPicPr>
        <p:blipFill>
          <a:blip r:embed="rId3"/>
          <a:stretch/>
        </p:blipFill>
        <p:spPr>
          <a:xfrm>
            <a:off x="684360" y="4343400"/>
            <a:ext cx="143964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4"/>
          <a:stretch/>
        </p:blipFill>
        <p:spPr>
          <a:xfrm>
            <a:off x="4800600" y="1905120"/>
            <a:ext cx="181944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"/>
          <p:cNvPicPr/>
          <p:nvPr/>
        </p:nvPicPr>
        <p:blipFill>
          <a:blip r:embed="rId5"/>
          <a:stretch/>
        </p:blipFill>
        <p:spPr>
          <a:xfrm>
            <a:off x="1752480" y="2209680"/>
            <a:ext cx="1148040" cy="105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"/>
          <p:cNvPicPr/>
          <p:nvPr/>
        </p:nvPicPr>
        <p:blipFill>
          <a:blip r:embed="rId6"/>
          <a:stretch/>
        </p:blipFill>
        <p:spPr>
          <a:xfrm>
            <a:off x="3733920" y="4267080"/>
            <a:ext cx="1676160" cy="149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50px-Boussole_fantassin_russ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914400"/>
            <a:ext cx="1523880" cy="1147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"/>
          <p:cNvPicPr/>
          <p:nvPr/>
        </p:nvPicPr>
        <p:blipFill>
          <a:blip r:embed="rId9"/>
          <a:stretch/>
        </p:blipFill>
        <p:spPr>
          <a:xfrm>
            <a:off x="6934320" y="1447920"/>
            <a:ext cx="1757160" cy="132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ВШЛ\Desktop\1315390418_247835986_1-GPS-GPS---.jpg"/>
          <p:cNvPicPr/>
          <p:nvPr/>
        </p:nvPicPr>
        <p:blipFill>
          <a:blip r:embed="rId10"/>
          <a:stretch/>
        </p:blipFill>
        <p:spPr>
          <a:xfrm>
            <a:off x="3276720" y="838080"/>
            <a:ext cx="1361880" cy="1063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2"/>
          <p:cNvSpPr/>
          <p:nvPr/>
        </p:nvSpPr>
        <p:spPr>
          <a:xfrm>
            <a:off x="4572000" y="838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Электронный 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9"/>
          <p:cNvSpPr/>
          <p:nvPr/>
        </p:nvSpPr>
        <p:spPr>
          <a:xfrm>
            <a:off x="8001000" y="6400800"/>
            <a:ext cx="11430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8686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Правила пользования компа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ожите компас на ладонь или на ровную горизонтальную поверх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8"/>
          <p:cNvPicPr/>
          <p:nvPr/>
        </p:nvPicPr>
        <p:blipFill>
          <a:blip r:embed="rId1"/>
          <a:stretch/>
        </p:blipFill>
        <p:spPr>
          <a:xfrm>
            <a:off x="1600200" y="1371600"/>
            <a:ext cx="6264360" cy="313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hfh0001"/>
          <p:cNvPicPr/>
          <p:nvPr/>
        </p:nvPicPr>
        <p:blipFill>
          <a:blip r:embed="rId2"/>
          <a:stretch/>
        </p:blipFill>
        <p:spPr>
          <a:xfrm>
            <a:off x="3048120" y="1828800"/>
            <a:ext cx="2736720" cy="2633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457200" y="5410080"/>
            <a:ext cx="81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тяните предохранитель и подож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ка стрелка успоко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940000" y="1484280"/>
            <a:ext cx="187164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 rot="19147200">
            <a:off x="5148000" y="2492280"/>
            <a:ext cx="647640" cy="216000"/>
          </a:xfrm>
          <a:prstGeom prst="rect">
            <a:avLst/>
          </a:prstGeom>
          <a:solidFill>
            <a:srgbClr val="90916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Копия hfh0001"/>
          <p:cNvPicPr/>
          <p:nvPr/>
        </p:nvPicPr>
        <p:blipFill>
          <a:blip r:embed="rId3"/>
          <a:stretch/>
        </p:blipFill>
        <p:spPr>
          <a:xfrm>
            <a:off x="5435640" y="1955880"/>
            <a:ext cx="743040" cy="752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Копия (2) hfh0001"/>
          <p:cNvPicPr/>
          <p:nvPr/>
        </p:nvPicPr>
        <p:blipFill>
          <a:blip r:embed="rId4"/>
          <a:stretch/>
        </p:blipFill>
        <p:spPr>
          <a:xfrm>
            <a:off x="2971800" y="1676520"/>
            <a:ext cx="2736720" cy="2631960"/>
          </a:xfrm>
          <a:prstGeom prst="rect">
            <a:avLst/>
          </a:prstGeom>
          <a:ln w="0">
            <a:noFill/>
          </a:ln>
        </p:spPr>
      </p:pic>
      <p:sp>
        <p:nvSpPr>
          <p:cNvPr id="129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Правила пользования компа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5280" y="1628280"/>
            <a:ext cx="4691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верните компас так, чтобы 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синий конец стрелк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овпал с буквой </a:t>
            </a: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евер), 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 буквой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юг); тогда все буквы укажут направление сторон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рол"/>
          <p:cNvPicPr/>
          <p:nvPr/>
        </p:nvPicPr>
        <p:blipFill>
          <a:blip r:embed="rId1"/>
          <a:stretch/>
        </p:blipFill>
        <p:spPr>
          <a:xfrm>
            <a:off x="468360" y="1773360"/>
            <a:ext cx="3736800" cy="3887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33" name="Text Box 5"/>
          <p:cNvSpPr/>
          <p:nvPr/>
        </p:nvSpPr>
        <p:spPr>
          <a:xfrm>
            <a:off x="4500720" y="5105520"/>
            <a:ext cx="405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чив раб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тавьте стрел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предохран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 flipH="1" flipV="1">
            <a:off x="3779640" y="4868640"/>
            <a:ext cx="187164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право 9"/>
          <p:cNvSpPr/>
          <p:nvPr/>
        </p:nvSpPr>
        <p:spPr>
          <a:xfrm>
            <a:off x="7924680" y="6400800"/>
            <a:ext cx="121932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Почему стрелка компаса всё время показывает на сев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 компаса основано на явлении магнетизма. Стрелка движется потому, что сама Земля является огромным магнитом. Возьмите два магнита и вы увидите, как они притягиваются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 вращающаяся стрелка компаса показывает одним из своих ярко - окрашенных конц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верный полюс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опия storony_gorizonta"/>
          <p:cNvPicPr/>
          <p:nvPr/>
        </p:nvPicPr>
        <p:blipFill>
          <a:blip r:embed="rId1"/>
          <a:stretch/>
        </p:blipFill>
        <p:spPr>
          <a:xfrm>
            <a:off x="5791320" y="4562640"/>
            <a:ext cx="3352680" cy="2295360"/>
          </a:xfrm>
          <a:prstGeom prst="rect">
            <a:avLst/>
          </a:prstGeom>
          <a:ln w="0">
            <a:noFill/>
          </a:ln>
        </p:spPr>
      </p:pic>
      <p:sp>
        <p:nvSpPr>
          <p:cNvPr id="139" name="Стрелка вправо 9"/>
          <p:cNvSpPr/>
          <p:nvPr/>
        </p:nvSpPr>
        <p:spPr>
          <a:xfrm>
            <a:off x="7696080" y="6400800"/>
            <a:ext cx="1447920" cy="4572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Литературная странич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114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ается стрелка туда и сю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жет нам север и юг без труд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Компа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с тобою этот друг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ы можешь без дорог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ать на север и на юг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, на восток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па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тране в поход идем —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а мы с собой бере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не даст нам заблудиться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маршрута уклонить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м покажет верный друг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ь на север и на ю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па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Поговор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пас сломался»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шутливо говоря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еловеке, который не знает, куда идти дальш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Хильнуть по компасу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начи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йти откуда-либо (о человеке, которого выгнал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343400" y="457200"/>
            <a:ext cx="46483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любом корабле, что не чтит берегов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плывет посреди океан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 коробок и бочек, мешков и тюков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и я, как душа капитан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жет шторм налететь, и тогда океа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утанет, как волчок, наш корабль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-лево, верх-низ – все проглотит туман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забудет, где север, где юг, капитан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где запад, восток – не поймет капита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й пляске бушующих сабель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лько голову мне не удастся вскружи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же самой пленительной бур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любой круговерти нащупаю ни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штурман увидел, куда ему плы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моей разлинованной шкуре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не только моряк. В рюкзаке за спи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горам, по тайге – километры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сегда поклонялся богине одно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лонить мою стрелку от оси зем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смогли ни вулканы, ни ветры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азняли и запад меня, и восто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лько им никогда я не верил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рошел и проплыл сотни миль и дорог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душа вечно рвется на север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верно, что свой есть у каждого пу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 не часто он прост и привычен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пройти по нему – не плутать, не свернуть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ожет тот, кто как я – намагнич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вел Великж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1224000" cy="92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3505320" y="3429000"/>
            <a:ext cx="113652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Копия storony_gorizonta"/>
          <p:cNvPicPr/>
          <p:nvPr/>
        </p:nvPicPr>
        <p:blipFill>
          <a:blip r:embed="rId3"/>
          <a:stretch/>
        </p:blipFill>
        <p:spPr>
          <a:xfrm>
            <a:off x="3276720" y="2133720"/>
            <a:ext cx="1295280" cy="88416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право 9"/>
          <p:cNvSpPr/>
          <p:nvPr/>
        </p:nvSpPr>
        <p:spPr>
          <a:xfrm>
            <a:off x="7620120" y="6629400"/>
            <a:ext cx="1523880" cy="228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Заключе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теперь я знаю значение этого удивительного термина «компас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нял для чего нужен компас и как им пользов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ыяснил из чего состоит компас и какими они бы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, когда я куда-нибудь отправлюс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у, скажем в лес за грибами)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 несомненно возьму этот чудо-прибор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15"/>
          <p:cNvPicPr/>
          <p:nvPr/>
        </p:nvPicPr>
        <p:blipFill>
          <a:blip r:embed="rId1"/>
          <a:stretch/>
        </p:blipFill>
        <p:spPr>
          <a:xfrm>
            <a:off x="0" y="4876920"/>
            <a:ext cx="1717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Копия storony_gorizonta"/>
          <p:cNvPicPr/>
          <p:nvPr/>
        </p:nvPicPr>
        <p:blipFill>
          <a:blip r:embed="rId2"/>
          <a:stretch/>
        </p:blipFill>
        <p:spPr>
          <a:xfrm>
            <a:off x="1371600" y="6019920"/>
            <a:ext cx="685800" cy="46836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80"/>
                </a:solidFill>
                <a:uFillTx/>
                <a:latin typeface="Arial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irslovar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.Я. Дмитриева, А.Н. Казаков Окружающий мир, 2 класс. Часть 1. Самара: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«Я познаю мир». Детская энциклопедия. Автор-составитель: В.А.Мар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«Хочу всё знать!» М.: Эксмо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Большая книга «Почему». Перевод с итальянского О. Жив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Большая энциклопедия знаний. Перевод с немецкого Л.С. Беловой. М.: Эксмо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http://enc-dic.com/Kom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xod.com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http://abc-24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cluboche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12720" cy="2666880"/>
          </a:xfrm>
          <a:prstGeom prst="rect">
            <a:avLst/>
          </a:prstGeom>
          <a:ln w="0">
            <a:noFill/>
          </a:ln>
        </p:spPr>
      </p:pic>
      <p:sp>
        <p:nvSpPr>
          <p:cNvPr id="15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4244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Структура и навиг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Что такое комп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пределение термина «компас» в словар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фера употребления терм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начение компаса. В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История возникновения комп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пользоваться компа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Это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итературная страни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Источник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1"/>
          <a:stretch/>
        </p:blipFill>
        <p:spPr>
          <a:xfrm>
            <a:off x="6172200" y="112680"/>
            <a:ext cx="2633760" cy="19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жды дома я нашёл очен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ычный при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спросил бабушку: «Что это такое?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она ответила мне: «Компа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очень заинтересовало это слово, и я поставил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подробнее изучить этот прибор и выяснить значение термина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«компа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шёл очень много различной информации, которой хотел бы поделиться со своими одноклассниками, друзьями и всеми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019920" y="76320"/>
            <a:ext cx="2819160" cy="280980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я заглянул в свой учебни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кружающий мир» и прочитал 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Компа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это прибор для опред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орон горизо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компас» пришло к нам из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я решил посмотреть значение термина «компас»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ных словар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т что я из них уз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В словаре Ожег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пас -, -а (у моряков ком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, -а), м. Прибор для определения стран света (сторон горизонта). Магнитный к. (с намагниченной стрелкой, всегда указывающей на север). || прил. компасный, -ая, -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у моряков компасный, -ая, -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93212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В Большом энциклопедическом словар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(нем. Kompass) - прибор, указывающий направление географического или магнитного меридиана; служит для ориентирования относ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н горизо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В словаре Да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с -м . немецк., беломорское, магнитная стрелка на шпильке, с бумажною картушкою, на ко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чены страны с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" y="35053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6629400" y="2286000"/>
            <a:ext cx="24192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В толковом словаре Ефремов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ас – м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бор для ориентирования относительно сторон горизонта, указывающий направление географического или магнитного меридиа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ерен. разг. Тот, кто определяет направление чьей-л. жизни, деятельности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600" spc="-1" strike="noStrike" u="sng">
                <a:solidFill>
                  <a:srgbClr val="800080"/>
                </a:solidFill>
                <a:uFillTx/>
                <a:latin typeface="Arial"/>
              </a:rPr>
              <a:t>В Википед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́мпа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устройство, облегчающее ориентирование на мес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компас» происходит от старинного англий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compass, означавшего в 13-14 веках «круг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В словаре синонимов я нашёл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диокомпас, гирокомпас, астрокомпас, каламита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Морфология термина «комп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уществительное мужского рода, единственного числа, именительного падежа, неодушевле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493040" y="2743200"/>
            <a:ext cx="1650960" cy="322884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Сфера употребления термина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географи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м мире, ге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игации, геодезии, военном и морском деле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яки ставят ударение на –а : ком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омпас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– одно из величайших изобретений челове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197172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80"/>
                </a:solidFill>
                <a:uFillTx/>
                <a:latin typeface="Arial"/>
              </a:rPr>
              <a:t>Для чего же нужен компа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ибор, с помощью которого Вы можете быстро и легко сориентироваться на мес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мпасе есть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отмет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могут Вам разобраться, гд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находится сторона с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ев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 – по-русски, N – по-английск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Ю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Ю – по-русски, S – по-английск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Зап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 – по-русски, W – по-английск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ос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 – по-русски, E – по-английск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086600" y="1905120"/>
            <a:ext cx="2057400" cy="1887480"/>
          </a:xfrm>
          <a:prstGeom prst="rect">
            <a:avLst/>
          </a:prstGeom>
          <a:ln w="0">
            <a:noFill/>
          </a:ln>
        </p:spPr>
      </p:pic>
      <p:sp>
        <p:nvSpPr>
          <p:cNvPr id="72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Строение компа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fh0001"/>
          <p:cNvPicPr/>
          <p:nvPr/>
        </p:nvPicPr>
        <p:blipFill>
          <a:blip r:embed="rId1"/>
          <a:stretch/>
        </p:blipFill>
        <p:spPr>
          <a:xfrm>
            <a:off x="2484360" y="907920"/>
            <a:ext cx="4249800" cy="4086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611280" y="4076640"/>
            <a:ext cx="2448000" cy="581400"/>
            <a:chOff x="611280" y="4076640"/>
            <a:chExt cx="2448000" cy="581400"/>
          </a:xfrm>
        </p:grpSpPr>
        <p:sp>
          <p:nvSpPr>
            <p:cNvPr id="76" name="Line 6"/>
            <p:cNvSpPr/>
            <p:nvPr/>
          </p:nvSpPr>
          <p:spPr>
            <a:xfrm>
              <a:off x="611280" y="4076640"/>
              <a:ext cx="2448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7"/>
            <p:cNvSpPr/>
            <p:nvPr/>
          </p:nvSpPr>
          <p:spPr>
            <a:xfrm>
              <a:off x="754200" y="4076640"/>
              <a:ext cx="15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Корпу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395280" y="777960"/>
            <a:ext cx="3456000" cy="1138320"/>
            <a:chOff x="395280" y="777960"/>
            <a:chExt cx="3456000" cy="1138320"/>
          </a:xfrm>
        </p:grpSpPr>
        <p:sp>
          <p:nvSpPr>
            <p:cNvPr id="79" name="Line 9"/>
            <p:cNvSpPr/>
            <p:nvPr/>
          </p:nvSpPr>
          <p:spPr>
            <a:xfrm>
              <a:off x="395280" y="1916280"/>
              <a:ext cx="3456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414000" y="777960"/>
              <a:ext cx="248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Магнитна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ст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5193360" y="689040"/>
            <a:ext cx="3556440" cy="796680"/>
            <a:chOff x="5193360" y="689040"/>
            <a:chExt cx="3556440" cy="796680"/>
          </a:xfrm>
        </p:grpSpPr>
        <p:sp>
          <p:nvSpPr>
            <p:cNvPr id="82" name="Line 12"/>
            <p:cNvSpPr/>
            <p:nvPr/>
          </p:nvSpPr>
          <p:spPr>
            <a:xfrm flipH="1" flipV="1">
              <a:off x="6084360" y="1483920"/>
              <a:ext cx="2521080" cy="1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5193360" y="689040"/>
              <a:ext cx="355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Предохранит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762120" y="5181480"/>
            <a:ext cx="7010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и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о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рпус компа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изирное кольц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агнитная стрел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лимб (циферблат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жи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150px-Boussole_fantassin_rus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343400"/>
            <a:ext cx="2743200" cy="2066760"/>
          </a:xfrm>
          <a:prstGeom prst="rect">
            <a:avLst/>
          </a:prstGeom>
          <a:ln w="0">
            <a:noFill/>
          </a:ln>
        </p:spPr>
      </p:pic>
      <p:sp>
        <p:nvSpPr>
          <p:cNvPr id="86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5-01-31T15:25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