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6.wmf" ContentType="image/x-wmf"/>
  <Override PartName="/ppt/media/wind.wav" ContentType="audio/x-wav"/>
  <Override PartName="/ppt/media/image37.wmf" ContentType="image/x-wmf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4.wmf" ContentType="image/x-wmf"/>
  <Override PartName="/ppt/media/image38.wmf" ContentType="image/x-wmf"/>
  <Override PartName="/ppt/media/image40.png" ContentType="image/png"/>
  <Override PartName="/ppt/media/image52.png" ContentType="image/png"/>
  <Override PartName="/ppt/media/image35.wmf" ContentType="image/x-wmf"/>
  <Override PartName="/ppt/media/image3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278-16E5-48EB-B77A-9E161A4F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BF1-F73B-41AB-8043-F94DA127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FB1-5316-4C79-8CFA-DA91A6E4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F64-123E-43DB-8AC0-854247DF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A52F-9212-4B24-A62D-476EA332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586F-D320-47D3-871E-D1298E40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4136-6DB9-40F1-92F0-93B4C72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15C6-D2E7-42CF-878F-E941810D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E3AE-E71F-4031-8A9E-42E4668B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9722-7047-4937-854D-941FD3CA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1FC2-85DB-4B42-8290-5436BF8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C8F-B397-440B-9719-66CD5E27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43B6-C89B-4BA9-ACCB-B23BF2B6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BE52-08DA-40EF-8B19-963C003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3A03-AEFC-4D4F-8A69-9D091D9F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3C66-7A58-41DF-B7CC-82DDA6C7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2FE1-33B3-40A7-898D-FE45AD99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04D-5E74-40CC-BEC4-1F7DD0FA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8B8-29B0-4357-B6DE-5312C95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8A2-425A-4AE0-B9B5-61FAF08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AED-37B7-4A8E-93A1-A6840642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55B-17A5-461A-97C8-AE58C08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FD4-B7D4-4822-93ED-369759C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A0B-EC30-4A76-9569-65587F8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B38-A1F4-40F2-BB8A-4391226633BE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680" y="1605600"/>
                <a:ext cx="75384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720" y="1544400"/>
                <a:ext cx="57600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0320" y="1983240"/>
                <a:ext cx="41760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1920"/>
              <a:chOff x="5411880" y="1791360"/>
              <a:chExt cx="508320" cy="51192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640" y="188568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1860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336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9040" y="192564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880" y="111060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DF0D-7D84-438B-955B-EB071A7653EA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1.png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starryskies.com/solar_system/Jupiter/Tjupiter01.gif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25320" y="282744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4" descr=""/>
          <p:cNvPicPr/>
          <p:nvPr/>
        </p:nvPicPr>
        <p:blipFill>
          <a:blip r:embed="rId2"/>
          <a:stretch/>
        </p:blipFill>
        <p:spPr>
          <a:xfrm>
            <a:off x="1109520" y="628560"/>
            <a:ext cx="6924960" cy="1968480"/>
          </a:xfrm>
          <a:prstGeom prst="rect">
            <a:avLst/>
          </a:prstGeom>
          <a:ln w="0">
            <a:noFill/>
          </a:ln>
        </p:spPr>
      </p:pic>
      <p:sp>
        <p:nvSpPr>
          <p:cNvPr id="163" name="PubTriangle"/>
          <p:cNvSpPr/>
          <p:nvPr/>
        </p:nvSpPr>
        <p:spPr>
          <a:xfrm>
            <a:off x="1438200" y="2665440"/>
            <a:ext cx="2764080" cy="1973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ubL"/>
          <p:cNvSpPr/>
          <p:nvPr/>
        </p:nvSpPr>
        <p:spPr>
          <a:xfrm>
            <a:off x="2871720" y="4638600"/>
            <a:ext cx="1828800" cy="1828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desk2"/>
          <p:cNvSpPr/>
          <p:nvPr/>
        </p:nvSpPr>
        <p:spPr>
          <a:xfrm>
            <a:off x="533520" y="4670280"/>
            <a:ext cx="1809720" cy="18097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411280" y="33256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5+3=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TextBox 9" descr=""/>
          <p:cNvPicPr/>
          <p:nvPr/>
        </p:nvPicPr>
        <p:blipFill>
          <a:blip r:embed="rId3"/>
          <a:stretch/>
        </p:blipFill>
        <p:spPr>
          <a:xfrm>
            <a:off x="1762200" y="4230720"/>
            <a:ext cx="4145040" cy="30178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19240" y="536904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1+2=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1687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0+4=4</a:t>
            </a:r>
            <a:br>
              <a:rPr sz="4800"/>
            </a:b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2+4=6</a:t>
            </a:r>
            <a:br>
              <a:rPr sz="4800"/>
            </a:b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3+4=7</a:t>
            </a:r>
            <a:br>
              <a:rPr sz="4800"/>
            </a:b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916360" y="1773000"/>
            <a:ext cx="302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5+4=9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4+4=8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6+4=10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940000" y="115920"/>
            <a:ext cx="3110040" cy="45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9+4=13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7+4=11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8+4=12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2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3760" y="3500280"/>
            <a:ext cx="22064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8360" y="380880"/>
            <a:ext cx="856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На планете Математика проживали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4        , столько же       , а      столько, сколько       и       вместе.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   Сколько проживало на планете: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1)        и        2)         3)       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32000" y="3573360"/>
            <a:ext cx="35575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Verdana"/>
              </a:rPr>
              <a:t>Решение: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Verdana"/>
              </a:rPr>
              <a:t>4+4 =8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Verdana"/>
              </a:rPr>
              <a:t>Ответ: 8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339640" y="260280"/>
            <a:ext cx="4554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Verdana"/>
              </a:rPr>
              <a:t>Задача:</a:t>
            </a:r>
            <a:endParaRPr b="0" lang="en-US" sz="31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627440" y="1130400"/>
            <a:ext cx="69876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042920" y="1228680"/>
            <a:ext cx="576360" cy="503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Oval 2"/>
          <p:cNvSpPr/>
          <p:nvPr/>
        </p:nvSpPr>
        <p:spPr>
          <a:xfrm>
            <a:off x="6149880" y="1163520"/>
            <a:ext cx="515880" cy="503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195640" y="1730520"/>
            <a:ext cx="576000" cy="50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3492360" y="1697040"/>
            <a:ext cx="69876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87280" y="2708280"/>
            <a:ext cx="576360" cy="50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2484360" y="2708280"/>
            <a:ext cx="69840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Oval 2"/>
          <p:cNvSpPr/>
          <p:nvPr/>
        </p:nvSpPr>
        <p:spPr>
          <a:xfrm>
            <a:off x="4067280" y="2725560"/>
            <a:ext cx="517320" cy="503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5680080" y="2676600"/>
            <a:ext cx="69840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093080" y="2779560"/>
            <a:ext cx="574560" cy="503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35213249"/>
          <p:cNvPicPr/>
          <p:nvPr/>
        </p:nvPicPr>
        <p:blipFill>
          <a:blip r:embed="rId1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"/>
          <p:cNvSpPr/>
          <p:nvPr/>
        </p:nvSpPr>
        <p:spPr>
          <a:xfrm>
            <a:off x="1403280" y="6524640"/>
            <a:ext cx="5616720" cy="647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2" descr="079513_337"/>
          <p:cNvPicPr/>
          <p:nvPr/>
        </p:nvPicPr>
        <p:blipFill>
          <a:blip r:embed="rId3">
            <a:lum bright="-6000"/>
          </a:blip>
          <a:stretch/>
        </p:blipFill>
        <p:spPr>
          <a:xfrm rot="1960200">
            <a:off x="4429080" y="63828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079513_337"/>
          <p:cNvPicPr/>
          <p:nvPr/>
        </p:nvPicPr>
        <p:blipFill>
          <a:blip r:embed="rId4">
            <a:lum bright="-6000"/>
          </a:blip>
          <a:stretch/>
        </p:blipFill>
        <p:spPr>
          <a:xfrm rot="1960200">
            <a:off x="1476360" y="23652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079513_337"/>
          <p:cNvPicPr/>
          <p:nvPr/>
        </p:nvPicPr>
        <p:blipFill>
          <a:blip r:embed="rId5">
            <a:lum bright="-6000"/>
          </a:blip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079513_337"/>
          <p:cNvPicPr/>
          <p:nvPr/>
        </p:nvPicPr>
        <p:blipFill>
          <a:blip r:embed="rId6">
            <a:lum bright="-6000"/>
          </a:blip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079513_337"/>
          <p:cNvPicPr/>
          <p:nvPr/>
        </p:nvPicPr>
        <p:blipFill>
          <a:blip r:embed="rId7">
            <a:lum bright="-6000"/>
          </a:blip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17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c1ec76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c1ec76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0" descr="079513_337"/>
          <p:cNvPicPr/>
          <p:nvPr/>
        </p:nvPicPr>
        <p:blipFill>
          <a:blip r:embed="rId8">
            <a:lum bright="-6000"/>
          </a:blip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" descr="079513_337"/>
          <p:cNvPicPr/>
          <p:nvPr/>
        </p:nvPicPr>
        <p:blipFill>
          <a:blip r:embed="rId9">
            <a:lum bright="-6000"/>
          </a:blip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Ёжик1"/>
          <p:cNvPicPr/>
          <p:nvPr/>
        </p:nvPicPr>
        <p:blipFill>
          <a:blip r:embed="rId10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079513_337"/>
          <p:cNvPicPr/>
          <p:nvPr/>
        </p:nvPicPr>
        <p:blipFill>
          <a:blip r:embed="rId11">
            <a:lum bright="-6000"/>
          </a:blip>
          <a:stretch/>
        </p:blipFill>
        <p:spPr>
          <a:xfrm rot="1222800">
            <a:off x="4875120" y="194580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079513_337"/>
          <p:cNvPicPr/>
          <p:nvPr/>
        </p:nvPicPr>
        <p:blipFill>
          <a:blip r:embed="rId12">
            <a:lum bright="-6000"/>
          </a:blip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079513_337"/>
          <p:cNvPicPr/>
          <p:nvPr/>
        </p:nvPicPr>
        <p:blipFill>
          <a:blip r:embed="rId13">
            <a:lum bright="-6000"/>
          </a:blip>
          <a:stretch/>
        </p:blipFill>
        <p:spPr>
          <a:xfrm rot="1614600">
            <a:off x="2771640" y="256500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11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1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18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21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124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136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14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4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168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6000"/>
                            </p:stCondLst>
                            <p:childTnLst>
                              <p:par>
                                <p:cTn id="17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18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1000"/>
                            </p:stCondLst>
                            <p:childTnLst>
                              <p:par>
                                <p:cTn id="18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187" dur="3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9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440" y="404640"/>
            <a:ext cx="78102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Тетрадь</a:t>
            </a: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страница 39. № 2, 3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2" name="Picture 6" descr="C:\Program Files\Microsoft Office\MEDIA\CAGCAT10\j0215086.wmf"/>
          <p:cNvPicPr/>
          <p:nvPr/>
        </p:nvPicPr>
        <p:blipFill>
          <a:blip r:embed="rId1"/>
          <a:stretch/>
        </p:blipFill>
        <p:spPr>
          <a:xfrm rot="7633200">
            <a:off x="2717640" y="1831680"/>
            <a:ext cx="225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Продолжить предложения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95440" y="2133720"/>
            <a:ext cx="8208720" cy="37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я узнал (а)…….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я смог (ла)……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мне было интересно…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мне было трудно….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То, что я узнал(а) сегодня на уроке мне пригодится….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9960" y="333000"/>
            <a:ext cx="77342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Попадет на мою планету лишь тот, кто знает </a:t>
            </a:r>
            <a:br>
              <a:rPr sz="3600"/>
            </a:b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состав числа 4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0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292720" y="2703600"/>
            <a:ext cx="2779560" cy="30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GA0"/>
          <p:cNvPicPr/>
          <p:nvPr/>
        </p:nvPicPr>
        <p:blipFill>
          <a:blip r:embed="rId2"/>
          <a:stretch/>
        </p:blipFill>
        <p:spPr>
          <a:xfrm rot="2401200">
            <a:off x="815760" y="2752560"/>
            <a:ext cx="1295280" cy="1333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GA1"/>
          <p:cNvPicPr/>
          <p:nvPr/>
        </p:nvPicPr>
        <p:blipFill>
          <a:blip r:embed="rId3"/>
          <a:stretch/>
        </p:blipFill>
        <p:spPr>
          <a:xfrm rot="8023800">
            <a:off x="3307680" y="2781000"/>
            <a:ext cx="1800360" cy="127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d01103_"/>
          <p:cNvPicPr/>
          <p:nvPr/>
        </p:nvPicPr>
        <p:blipFill>
          <a:blip r:embed="rId4"/>
          <a:stretch/>
        </p:blipFill>
        <p:spPr>
          <a:xfrm rot="9329400">
            <a:off x="2387160" y="5035320"/>
            <a:ext cx="1409760" cy="119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d01103_"/>
          <p:cNvPicPr/>
          <p:nvPr/>
        </p:nvPicPr>
        <p:blipFill>
          <a:blip r:embed="rId5"/>
          <a:stretch/>
        </p:blipFill>
        <p:spPr>
          <a:xfrm rot="10800000">
            <a:off x="399960" y="5481720"/>
            <a:ext cx="1409760" cy="1193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fd01103_"/>
          <p:cNvPicPr/>
          <p:nvPr/>
        </p:nvPicPr>
        <p:blipFill>
          <a:blip r:embed="rId6"/>
          <a:stretch/>
        </p:blipFill>
        <p:spPr>
          <a:xfrm rot="9810600">
            <a:off x="7513200" y="5694120"/>
            <a:ext cx="1409760" cy="11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j0356163"/>
          <p:cNvPicPr/>
          <p:nvPr/>
        </p:nvPicPr>
        <p:blipFill>
          <a:blip r:embed="rId7"/>
          <a:stretch/>
        </p:blipFill>
        <p:spPr>
          <a:xfrm>
            <a:off x="4071960" y="5000760"/>
            <a:ext cx="182880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47145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4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3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1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107964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76000" y="5300640"/>
            <a:ext cx="9349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76360" y="3357720"/>
            <a:ext cx="1008000" cy="13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47280" y="-360"/>
            <a:ext cx="1008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0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2" name="Picture 6" descr="C:\Program Files\Microsoft Office\MEDIA\CAGCAT10\j0215086.wmf"/>
          <p:cNvPicPr/>
          <p:nvPr/>
        </p:nvPicPr>
        <p:blipFill>
          <a:blip r:embed="rId1"/>
          <a:stretch/>
        </p:blipFill>
        <p:spPr>
          <a:xfrm rot="18760800">
            <a:off x="5490720" y="1213200"/>
            <a:ext cx="1833480" cy="3301920"/>
          </a:xfrm>
          <a:prstGeom prst="rect">
            <a:avLst/>
          </a:prstGeom>
          <a:ln w="0">
            <a:noFill/>
          </a:ln>
        </p:spPr>
      </p:pic>
      <p:pic>
        <p:nvPicPr>
          <p:cNvPr id="183" name="zaryadka__-_solnyshko_luchistoe_lyubit_skakat_s_oblachka_na_oblachko_pereletat.mp3" descr=""/>
          <p:cNvPicPr/>
          <p:nvPr/>
        </p:nvPicPr>
        <p:blipFill>
          <a:blip r:embed="rId2"/>
          <a:stretch/>
        </p:blipFill>
        <p:spPr>
          <a:xfrm>
            <a:off x="5796000" y="5886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9868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8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1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3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2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33800" y="1773360"/>
            <a:ext cx="314352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4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7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9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8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rcRect l="2901" t="0" r="7096" b="0"/>
          <a:stretch/>
        </p:blipFill>
        <p:spPr>
          <a:xfrm>
            <a:off x="250920" y="2816280"/>
            <a:ext cx="3429000" cy="3809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j0356163"/>
          <p:cNvPicPr/>
          <p:nvPr/>
        </p:nvPicPr>
        <p:blipFill>
          <a:blip r:embed="rId2"/>
          <a:stretch/>
        </p:blipFill>
        <p:spPr>
          <a:xfrm>
            <a:off x="5508720" y="4076640"/>
            <a:ext cx="3166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95640" y="5660640"/>
            <a:ext cx="612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6+4=      3+4=</a:t>
            </a: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5+4=      2+4=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9" name="Picture 2" descr="F:\Scan-130310-0001.jpg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9036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Сколько надо прибавить к каждому из чисел7,8,9, чтобы получилось 10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33440" y="4005360"/>
            <a:ext cx="314640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476360" y="4365720"/>
            <a:ext cx="665784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6000"/>
          </a:bodyPr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7 +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[]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=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8+[]=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9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+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[]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=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3" name="Picture 2" descr="F:\Scan-130311-0001.jpg"/>
          <p:cNvPicPr/>
          <p:nvPr/>
        </p:nvPicPr>
        <p:blipFill>
          <a:blip r:embed="rId1"/>
          <a:stretch/>
        </p:blipFill>
        <p:spPr>
          <a:xfrm>
            <a:off x="611280" y="1844640"/>
            <a:ext cx="799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4920" y="2637000"/>
            <a:ext cx="64818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8+4=</a:t>
            </a:r>
            <a:br>
              <a:rPr sz="4400"/>
            </a:b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9+4=</a:t>
            </a:r>
            <a:br>
              <a:rPr sz="4400"/>
            </a:b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4+7=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240000" cy="76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fe28a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7+4 =?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940000" y="1628280"/>
            <a:ext cx="2808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+1=11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4360" y="1628280"/>
            <a:ext cx="1655640" cy="76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fe28a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7+3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0" y="981000"/>
            <a:ext cx="1512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9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3280" y="2708280"/>
            <a:ext cx="2519640" cy="27925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1" descr=""/>
          <p:cNvPicPr/>
          <p:nvPr/>
        </p:nvPicPr>
        <p:blipFill>
          <a:blip r:embed="rId2"/>
          <a:stretch/>
        </p:blipFill>
        <p:spPr>
          <a:xfrm>
            <a:off x="-6480" y="-96840"/>
            <a:ext cx="915696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38685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Verdana"/>
              </a:rPr>
              <a:t>9+4</a:t>
            </a: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=</a:t>
            </a:r>
            <a:r>
              <a:rPr b="1" lang="en-US" sz="6000" spc="-1" strike="noStrike">
                <a:solidFill>
                  <a:srgbClr val="404040"/>
                </a:solidFill>
                <a:latin typeface="Verdana"/>
              </a:rPr>
              <a:t>13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88000" y="404640"/>
            <a:ext cx="3960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8+4=12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3" name="Picture 2" descr="http://i038.radikal.ru/0803/93/234a997a3b42t.jpg"/>
          <p:cNvPicPr/>
          <p:nvPr/>
        </p:nvPicPr>
        <p:blipFill>
          <a:blip r:embed="rId1"/>
          <a:stretch/>
        </p:blipFill>
        <p:spPr>
          <a:xfrm>
            <a:off x="1571760" y="2276640"/>
            <a:ext cx="2855880" cy="32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upload.wikimedia.org/wikipedia/ru/d/d7/Лунтик_игрушка.jp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773600" y="2060640"/>
            <a:ext cx="34066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23640" y="1915920"/>
            <a:ext cx="655164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4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6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9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           11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32000" y="691920"/>
            <a:ext cx="475272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0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2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3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5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4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6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9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7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8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8000" y="475920"/>
            <a:ext cx="63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8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3760" y="2357280"/>
            <a:ext cx="1928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6:28:08Z</dcterms:created>
  <dc:creator>user</dc:creator>
  <dc:description/>
  <dc:language>en-US</dc:language>
  <cp:lastModifiedBy>Admin</cp:lastModifiedBy>
  <dcterms:modified xsi:type="dcterms:W3CDTF">2015-02-08T14:52:09Z</dcterms:modified>
  <cp:revision>44</cp:revision>
  <dc:subject/>
  <dc:title>Презентация PowerPoint</dc:title>
</cp:coreProperties>
</file>