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24.jpeg" ContentType="image/jpe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8430-036B-4824-AD71-C302BB14FE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152-9F7E-43E2-A71D-0C53C0DD98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9FF-49AD-43F9-9F5E-99A771FA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524-86E2-4D91-936F-90E1723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7AC-B445-4516-81E1-9779D36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FC-79D5-4712-890C-CBF4329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C5CD-6F56-42B7-8C74-0241D6FF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F55AE-74D7-4990-8559-7E93475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9A48-2D92-40A7-8F6E-66ACA64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E53E-A3B7-42CD-823E-982F342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13F9-C669-4918-9A7C-A970C7F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B422A-9229-45BF-9717-7024086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9E24-AD07-4871-8721-F4FFE0C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AE9-FF56-442B-8EB7-01D8ED7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0DA4A-E81A-4FB5-9D65-FA122EC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C454-06CE-495A-9C2F-11348EE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8500-FC80-4A19-A869-63A316E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9792A-22A5-45E1-835B-84A1F7EC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6BFBC-06E4-4FA6-8118-49B760F3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894E-E7C0-40E8-8C9C-B45E5C40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30A8-1A6E-4635-BBC0-63E1D0B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44B7-1FDB-453C-97FB-0D12BAA2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89B6-75AE-4503-860A-1D30BBDE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A889-2CDB-496E-B4DB-B7E2D64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441-A531-4CB3-A224-D710EB2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6466-499D-43C1-B091-1862982F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39CF-2769-48D9-95CF-99B3DA2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8F93-61E4-441A-A3C7-9522C7D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95AA-5785-42EE-B4F1-C6AE94E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57F5-C66A-4ECC-B198-DCBE9ED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8422-B439-4B2A-A893-092C9AB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BEB5-FD73-48CF-9CD9-43F6F249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10C3F-C1AC-4D21-BB41-5D7A40C2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0395D-8D90-464E-93CB-F1C904E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844E9-A5E3-46AA-90EE-BAD761F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418-88E7-416D-B809-1B2849E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15E86-36C5-468F-B4A4-E0599DF7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C3D25-AE03-4FF1-8695-CDF0C95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63833-010D-417D-9AC2-62A70CC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98404-F858-4244-B017-7C18932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C0518-78CA-429A-BC4B-215EBEA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FBDCA-2162-4021-83E6-8EB7CB3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0716A-379D-4ED2-A9A0-49C097F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113DF-83E7-43DB-85B7-A26C683F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46C48-0B3D-459B-81BF-F97211B4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227-F5F6-4A13-A8D2-0A20FDEF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204-218E-47FB-9D0E-755B78F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646-DA3A-4B75-B5E1-2D129A6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D9E-81DE-4448-9967-7B5C436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E3A-CADF-47C3-9CC1-00D777A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936-18C4-4167-81D3-D613D7D69CE5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57B-FC0B-47D2-BD2F-A284E619E8A6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7155-2BD7-454A-B7A5-346533246833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4B2-4C24-4EA4-8457-C3E65CD6EBB8}" type="slidenum">
              <a:rPr b="0" lang="en-US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Работу делала: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Скворцова Анастасия Максимовна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Ученица 9 класса «А»</a:t>
            </a: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ГБОУ СОШ №809 ЗА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Учитель: Беликова Анастасия Александров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-360" y="-3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1744 году сформулировал основные положения молекулярно-кинетической теории теплоты.</a:t>
            </a:r>
            <a:r>
              <a:rPr b="0" lang="en-US" sz="2600" spc="-1" strike="noStrike">
                <a:solidFill>
                  <a:srgbClr val="232d47"/>
                </a:solidFill>
                <a:latin typeface="Sylfaen"/>
              </a:rPr>
              <a:t>[1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Содержимое 2"/>
          <p:cNvSpPr/>
          <p:nvPr/>
        </p:nvSpPr>
        <p:spPr>
          <a:xfrm>
            <a:off x="4267080" y="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В 1763 году М.В. Ломоносов изложил основы горного дела и пробирного искусства, описал способы получения металлов из руд. </a:t>
            </a:r>
            <a:r>
              <a:rPr b="0" lang="en-US" sz="3000" spc="-1" strike="noStrike">
                <a:solidFill>
                  <a:srgbClr val="232d47"/>
                </a:solidFill>
                <a:latin typeface="Sylfaen"/>
              </a:rPr>
              <a:t>[3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7" descr="180px-Rus_Stamp-Lomonosov-1961_10.jpg"/>
          <p:cNvPicPr/>
          <p:nvPr/>
        </p:nvPicPr>
        <p:blipFill>
          <a:blip r:embed="rId1"/>
          <a:stretch/>
        </p:blipFill>
        <p:spPr>
          <a:xfrm>
            <a:off x="2209680" y="3505320"/>
            <a:ext cx="4192560" cy="29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35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Ломоносов оставил замечательн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     </a:t>
            </a: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дневник «Химические и оптические запис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Где он раскрывает огромную экспериментальную работу, охватывающую разнообразные научные задачи</a:t>
            </a:r>
            <a:r>
              <a:rPr b="0" lang="ru-RU" sz="2400" spc="-1" strike="noStrike">
                <a:solidFill>
                  <a:srgbClr val="232d47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232d47"/>
                </a:solidFill>
                <a:latin typeface="Constantia"/>
              </a:rPr>
              <a:t>[2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8"/>
          <p:cNvSpPr/>
          <p:nvPr/>
        </p:nvSpPr>
        <p:spPr>
          <a:xfrm>
            <a:off x="2286000" y="1981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32d47"/>
                </a:solidFill>
                <a:latin typeface="Sylfaen"/>
              </a:rPr>
              <a:t>В своем дневнике Ломоносов писал «Из наблюдений устанавливать теорию, через теорию исправлять наблюдения - есть лучший всех способ к изысканию правды»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32d47"/>
                </a:solidFill>
                <a:latin typeface="Sylfaen"/>
              </a:rPr>
              <a:t>«Истинный химик должен быть теоретиком и практиком», - говорил Ломоносов. Точные опыты с чистыми веществами, с применением «меры и весов», должны сопровождаться теоретическим анализом результат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108576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images (1).jpg"/>
          <p:cNvPicPr/>
          <p:nvPr/>
        </p:nvPicPr>
        <p:blipFill>
          <a:blip r:embed="rId2"/>
          <a:stretch/>
        </p:blipFill>
        <p:spPr>
          <a:xfrm>
            <a:off x="541008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Tube2portailchimie.jpg"/>
          <p:cNvPicPr/>
          <p:nvPr/>
        </p:nvPicPr>
        <p:blipFill>
          <a:blip r:embed="rId3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882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32d47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К сожалению потомки не смогли сохранить лабораторию располагавшуюся в доме на Мойке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А так же многочисленные приборы изготовленные Ломоносовым в ручную</a:t>
            </a:r>
            <a:r>
              <a:rPr b="0" lang="ru-RU" sz="2600" spc="-1" strike="noStrike">
                <a:solidFill>
                  <a:srgbClr val="232d47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232d47"/>
                </a:solidFill>
                <a:latin typeface="Constantia"/>
              </a:rPr>
              <a:t>[3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2-1.jpg"/>
          <p:cNvPicPr/>
          <p:nvPr/>
        </p:nvPicPr>
        <p:blipFill>
          <a:blip r:embed="rId2"/>
          <a:stretch/>
        </p:blipFill>
        <p:spPr>
          <a:xfrm>
            <a:off x="4724280" y="2286000"/>
            <a:ext cx="441972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4" descr=""/>
          <p:cNvPicPr/>
          <p:nvPr/>
        </p:nvPicPr>
        <p:blipFill>
          <a:blip r:embed="rId3"/>
          <a:stretch/>
        </p:blipFill>
        <p:spPr>
          <a:xfrm>
            <a:off x="1908000" y="536400"/>
            <a:ext cx="5169240" cy="93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ожно долго рассказывать о достижения Ломоносова в химии и других науках, но это займет большое количество времен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77800" indent="-51444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ихаил Васильевич сделал множество открытий, что перечислить их все к сожалению невозможн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d47"/>
                </a:solidFill>
                <a:latin typeface="Sylfaen"/>
              </a:rPr>
              <a:t>Ломоносов принадлежит к числу тех редких, исключительно одаренных натур, научные идеи которых на многие десятилетия опережают свою эпоху. «Только теперь, спустя два века, можно с достаточной полнотой охватить и должным образом оценить все сделанное этим удивительным богатырем науки. Достигнутое им одним в областях физики, химии, астрономии, геологии, приборостроения, географии, языкознания, истории достойно было бы целой Академии»</a:t>
            </a:r>
            <a:r>
              <a:rPr b="0" lang="en-US" sz="2400" spc="-1" strike="noStrike">
                <a:solidFill>
                  <a:srgbClr val="232d47"/>
                </a:solidFill>
                <a:latin typeface="Sylfaen"/>
              </a:rPr>
              <a:t>[5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613720" cy="176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Ломоносов глубоко верил в могущество человеческого знания и все годы своего пребывания на посту академика неутомимо боролся за распространение просвещения в России, за процветание русской нау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По проекту Ломоносова и его настояниям в 1755г. Был открыт первый в России Московский университет, ставший затем одним из центров русского просвещения и нау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Рисунок 3" descr="мгу.jpg"/>
          <p:cNvPicPr/>
          <p:nvPr/>
        </p:nvPicPr>
        <p:blipFill>
          <a:blip r:embed="rId2"/>
          <a:stretch/>
        </p:blipFill>
        <p:spPr>
          <a:xfrm>
            <a:off x="304920" y="129528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Михаил Васильевич родился 21 ноября 1711 года в Архангельской губернии в д. Денисовке близ Холмогор в семье крестьянина-помора.</a:t>
            </a:r>
            <a:r>
              <a:rPr b="0" lang="en-US" sz="3000" spc="-1" strike="noStrike">
                <a:solidFill>
                  <a:srgbClr val="232d47"/>
                </a:solidFill>
                <a:latin typeface="Sylfaen"/>
              </a:rPr>
              <a:t>[1]</a:t>
            </a:r>
            <a:r>
              <a:rPr b="1" lang="ru-RU" sz="30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229600" cy="140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ломоносов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838080" y="1981080"/>
            <a:ext cx="4038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Грамоте обучил Михаила дьячок местной церкви. Страсть к знаниям, тяжёлая обстановка в семье заставили Ломоносова принять решение - оставить родной дом и отправиться в Москву.</a:t>
            </a:r>
            <a:r>
              <a:rPr b="0" lang="en-US" sz="2800" spc="-1" strike="noStrike">
                <a:solidFill>
                  <a:srgbClr val="232d47"/>
                </a:solidFill>
                <a:latin typeface="Sylfaen"/>
              </a:rPr>
              <a:t>[2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путь в москву"/>
          <p:cNvPicPr/>
          <p:nvPr/>
        </p:nvPicPr>
        <p:blipFill>
          <a:blip r:embed="rId2"/>
          <a:stretch/>
        </p:blipFill>
        <p:spPr>
          <a:xfrm>
            <a:off x="5040360" y="0"/>
            <a:ext cx="410364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6" name="AutoShape 10"/>
          <p:cNvSpPr/>
          <p:nvPr/>
        </p:nvSpPr>
        <p:spPr>
          <a:xfrm rot="21102000">
            <a:off x="8467560" y="1644120"/>
            <a:ext cx="649440" cy="432000"/>
          </a:xfrm>
          <a:prstGeom prst="leftArrow">
            <a:avLst>
              <a:gd name="adj1" fmla="val 50000"/>
              <a:gd name="adj2" fmla="val 3758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6399720" y="16002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Times New Roman"/>
              </a:rPr>
              <a:t>Холмог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5033160" y="4572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2d47"/>
                </a:solidFill>
                <a:latin typeface="Times New Roman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1" descr="в москву"/>
          <p:cNvPicPr/>
          <p:nvPr/>
        </p:nvPicPr>
        <p:blipFill>
          <a:blip r:embed="rId3"/>
          <a:srcRect l="2953" t="2362" r="2953" b="2362"/>
          <a:stretch/>
        </p:blipFill>
        <p:spPr>
          <a:xfrm>
            <a:off x="7023240" y="4191120"/>
            <a:ext cx="212076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19 0.01133 C -0.0934 0.01988 -0.09236 0.02474 -0.09879 0.02728 C -0.10018 0.0326 -0.10139 0.03792 -0.10278 0.04324 C -0.1033 0.05342 -0.10573 0.07076 -0.10278 0.08233 C -0.10191 0.0858 -0.09636 0.09158 -0.09479 0.09481 C -0.09323 0.10499 -0.09236 0.11725 -0.08681 0.12511 C -0.0849 0.13274 -0.08351 0.13968 -0.08021 0.14639 C -0.08073 0.16235 -0.07986 0.1975 -0.08941 0.21392 C -0.09132 0.21716 -0.09445 0.21924 -0.09618 0.22271 C -0.1007 0.23196 -0.10174 0.2345 -0.10816 0.24051 C -0.11181 0.24791 -0.11545 0.25555 -0.12014 0.26179 C -0.12396 0.2722 -0.13559 0.29555 -0.1441 0.29902 C -0.15504 0.31359 -0.15972 0.3314 -0.16406 0.3506 C -0.16458 0.36725 -0.15764 0.39754 -0.17083 0.40911 C -0.17639 0.42067 -0.18472 0.42876 -0.19219 0.43755 C -0.19462 0.44033 -0.19705 0.4431 -0.19879 0.44657 C -0.19965 0.44842 -0.20035 0.4505 -0.20139 0.45189 C -0.20521 0.45698 -0.20972 0.46091 -0.21354 0.466 C -0.22083 0.47548 -0.22622 0.4845 -0.23611 0.48913 C -0.24028 0.49468 -0.24254 0.4956 -0.24809 0.49791 C -0.24774 0.4956 -0.24688 0.49098 -0.24688 0.49098 E">
                                      <p:cBhvr>
                                        <p:cTn id="5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-360" y="16002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В 1730 году поступил в Славяно-греко-латинскую академию в Моск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В начале 1736 как один из лучших студентов Ломоносов был направлен в университет при Петербургской академии наук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Осенью 1736 г. Ломоносов, отправлен Академией Наук в Германию, для обучения математике, физике, химии, философии и металлургии</a:t>
            </a:r>
            <a:r>
              <a:rPr b="1" lang="ru-RU" sz="2000" spc="-1" strike="noStrike">
                <a:solidFill>
                  <a:srgbClr val="232d47"/>
                </a:solidFill>
                <a:latin typeface="Sylfaen"/>
              </a:rPr>
              <a:t>.</a:t>
            </a:r>
            <a:r>
              <a:rPr b="0" lang="ru-RU" sz="2000" spc="-1" strike="noStrike">
                <a:solidFill>
                  <a:srgbClr val="232d47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232d47"/>
                </a:solidFill>
                <a:latin typeface="Sylfaen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40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Рисунок1"/>
          <p:cNvPicPr/>
          <p:nvPr/>
        </p:nvPicPr>
        <p:blipFill>
          <a:blip r:embed="rId2"/>
          <a:stretch/>
        </p:blipFill>
        <p:spPr>
          <a:xfrm>
            <a:off x="3886200" y="2819520"/>
            <a:ext cx="2666880" cy="403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Рисунок5"/>
          <p:cNvPicPr/>
          <p:nvPr/>
        </p:nvPicPr>
        <p:blipFill>
          <a:blip r:embed="rId4"/>
          <a:stretch/>
        </p:blipFill>
        <p:spPr>
          <a:xfrm>
            <a:off x="6477120" y="274320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882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ru-RU" sz="2800" spc="-1" strike="noStrike">
                <a:solidFill>
                  <a:srgbClr val="232d47"/>
                </a:solidFill>
                <a:latin typeface="Sylfaen"/>
              </a:rPr>
              <a:t>Михаилу Васильевичу принадлежат работы в области физики, химии, астрономии, географии, филолог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1420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lomonosov"/>
          <p:cNvPicPr/>
          <p:nvPr/>
        </p:nvPicPr>
        <p:blipFill>
          <a:blip r:embed="rId2"/>
          <a:stretch/>
        </p:blipFill>
        <p:spPr>
          <a:xfrm rot="1156200">
            <a:off x="5562720" y="2706840"/>
            <a:ext cx="3046320" cy="375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Picture 9" descr="Рисунок6"/>
          <p:cNvPicPr/>
          <p:nvPr/>
        </p:nvPicPr>
        <p:blipFill>
          <a:blip r:embed="rId3"/>
          <a:srcRect l="2377" t="2535" r="2377" b="0"/>
          <a:stretch/>
        </p:blipFill>
        <p:spPr>
          <a:xfrm>
            <a:off x="5167440" y="457200"/>
            <a:ext cx="3976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99" name="Rectangle 3"/>
          <p:cNvGrpSpPr/>
          <p:nvPr/>
        </p:nvGrpSpPr>
        <p:grpSpPr>
          <a:xfrm>
            <a:off x="4896000" y="0"/>
            <a:ext cx="4248000" cy="463680"/>
            <a:chOff x="4896000" y="0"/>
            <a:chExt cx="4248000" cy="463680"/>
          </a:xfrm>
        </p:grpSpPr>
        <p:pic>
          <p:nvPicPr>
            <p:cNvPr id="200" name="Rectangle 3" descr=""/>
            <p:cNvPicPr/>
            <p:nvPr/>
          </p:nvPicPr>
          <p:blipFill>
            <a:blip r:embed="rId4"/>
            <a:stretch/>
          </p:blipFill>
          <p:spPr>
            <a:xfrm>
              <a:off x="4896000" y="0"/>
              <a:ext cx="42480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96000" y="0"/>
              <a:ext cx="42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232d47"/>
                  </a:solidFill>
                  <a:latin typeface="Times New Roman"/>
                </a:rPr>
                <a:t>Диплом профессора химии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8828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Михаил Васильевич считал своей «главной профессией» хим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Михаил Ломоносов первый Российский академик - хими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Sylfaen"/>
              </a:rPr>
              <a:t>По Ломоносову, «химия - наука об изменениях, происходящих в смешанном теле…»</a:t>
            </a:r>
            <a:r>
              <a:rPr b="0" lang="en-US" sz="2400" spc="-1" strike="noStrike">
                <a:solidFill>
                  <a:srgbClr val="000066"/>
                </a:solidFill>
                <a:latin typeface="Sylfaen"/>
              </a:rPr>
              <a:t>[5]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454960" cy="12189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3" descr="romanov98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76212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32d47"/>
                </a:solidFill>
                <a:latin typeface="Sylfaen"/>
              </a:rPr>
              <a:t>В 1748 он создал химическую лабораторию, в которой проводил научные исследования, в том числе разрабатывал состав стекла, фарфора и смальты, которую использовал для своих мозаик, созданных в 1751 году.</a:t>
            </a:r>
            <a:r>
              <a:rPr b="0" lang="ru-RU" sz="3300" spc="-1" strike="noStrike">
                <a:solidFill>
                  <a:srgbClr val="232d47"/>
                </a:solidFill>
                <a:latin typeface="Sylfaen"/>
              </a:rPr>
              <a:t> </a:t>
            </a:r>
            <a:r>
              <a:rPr b="0" lang="en-US" sz="3300" spc="-1" strike="noStrike">
                <a:solidFill>
                  <a:srgbClr val="232d47"/>
                </a:solidFill>
                <a:latin typeface="Sylfaen"/>
              </a:rPr>
              <a:t>[3]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350x280"/>
          <p:cNvPicPr/>
          <p:nvPr/>
        </p:nvPicPr>
        <p:blipFill>
          <a:blip r:embed="rId2"/>
          <a:stretch/>
        </p:blipFill>
        <p:spPr>
          <a:xfrm>
            <a:off x="4606920" y="304920"/>
            <a:ext cx="4537080" cy="36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8828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основе всех теорий Михаила Васильевича лежал закон постоянства материи и дви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Свое мнение он доказывал и подтверждал опыт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a3584d36.jpg"/>
          <p:cNvPicPr/>
          <p:nvPr/>
        </p:nvPicPr>
        <p:blipFill>
          <a:blip r:embed="rId2"/>
          <a:stretch/>
        </p:blipFill>
        <p:spPr>
          <a:xfrm>
            <a:off x="4667400" y="1371600"/>
            <a:ext cx="4476600" cy="548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6840" y="1523520"/>
            <a:ext cx="396252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В 1741 году М.В. Ломоносов дал определение элемента (атома), корпускулы (молекулы), простых и смешанных веществ и начал разработку своей корпускулярной теории. </a:t>
            </a:r>
            <a:r>
              <a:rPr b="0" lang="en-US" sz="2600" spc="-1" strike="noStrike">
                <a:solidFill>
                  <a:srgbClr val="232d47"/>
                </a:solidFill>
                <a:latin typeface="Sylfaen"/>
              </a:rPr>
              <a:t>[2]</a:t>
            </a: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232d47"/>
                </a:solidFill>
                <a:latin typeface="Sylfae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3" descr="images.jpg"/>
          <p:cNvPicPr/>
          <p:nvPr/>
        </p:nvPicPr>
        <p:blipFill>
          <a:blip r:embed="rId2"/>
          <a:stretch/>
        </p:blipFill>
        <p:spPr>
          <a:xfrm>
            <a:off x="4343400" y="0"/>
            <a:ext cx="4191120" cy="39625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images (1).jpg"/>
          <p:cNvPicPr/>
          <p:nvPr/>
        </p:nvPicPr>
        <p:blipFill>
          <a:blip r:embed="rId3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048120" y="6488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3581280" y="6019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Constantia"/>
              </a:rPr>
              <a:t>Молекула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2-08T11:29:38Z</dcterms:modified>
  <cp:revision>54</cp:revision>
  <dc:subject/>
  <dc:title>Слайд 1</dc:title>
</cp:coreProperties>
</file>