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24.jpeg" ContentType="image/jpe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23BD-0898-4E4E-BA5B-92874CEF7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6BB-2FAF-4F1B-BC0F-8C8DDA649E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48B-0690-4145-834E-25871FFB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CC6-69B5-4402-B4AD-2B98BC07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792-3563-4679-9894-536A21A9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35C-C6C5-4C7F-AEB4-B7B8CDA9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EEE1C-1538-4896-8EBB-C2A61C99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FD69A-9C1E-4E88-BBD6-52768C6A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F49BD-E6D5-4D7A-B241-0CC1193A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B5DB-DA5B-46D2-8AC0-7B90185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31B90-3784-4E45-8BE4-25B439F9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852BF-75B2-44B3-BD97-157AC2C6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A4A93-4E58-4746-B5DA-1ED3BDC6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125-4535-4397-A901-3DC63DBC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56E3D-BBA1-4061-A1D7-D0536FB8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8AE09-E884-4728-9F0C-8F6C5AD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781B5-FBBE-4BD8-A77F-F6C0E3D2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8EF6-E2FA-4969-9539-5D1E9CD7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002F2-BCD4-488A-B9B7-E3AE3C7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CBEF-647A-45BE-8458-EB80B7AD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9DE1-73CD-480D-8531-97C0FF89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1BC4-83D3-4D32-9FB8-B152251B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1F6C-C8FE-45B9-92C0-A2E77DE5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731D-AD9A-413F-850A-CC5A53C4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E9B-E5F9-4B32-9BA9-8BA5BFC2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CB4B-B209-42EC-98D7-D72B10F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CAAD-7A3C-4935-82BD-CB582ACA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96A7-148C-4B82-B4BE-DB76B0F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15C4-AF6A-4B04-9796-433D9F1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5931-A73D-443C-A770-CE782DE6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8FA1-9755-4152-8CCC-4DB6CC81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3ECF-5094-41A2-962C-D5D6565A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B1097-68A2-4F78-AD72-55045400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69351-69A2-4ED1-8214-781CD936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B46BD-B5F2-498A-9808-92F06E59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BE4-651F-49EC-ABAD-74813940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E96AE-D836-4648-B800-40ADEB23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55F7B-75FC-4694-9A28-F7471587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A8366-E1A7-4A48-AD99-6A8703A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3D45F-26E9-480B-BE9E-F1BFB97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CEC94-7AF3-4AAB-AD8C-3A6BE95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7DEAF-E92B-4A7D-9C9F-2A483C7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8ED3B-2549-41E3-8E21-137C778E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49193-0827-4394-BB11-286E6870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52AC3-FA88-4511-B6AF-00EBE4E6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9C8-C56F-43F0-A2EE-1F83513E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7A3-297B-4280-89D9-3C25882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DD1-3C64-47D4-A3F0-2D58BD77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484-5688-432F-8173-7E50C9B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7AA-1F6B-40D5-A44F-8F95721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DA5C-CB65-4343-AF78-92E54CB674BE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81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BC42-5A38-412F-8994-5B40A4E05484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9D2A-F6B4-40F3-AD44-DE46F10E5B8C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626-A3F4-41A2-94B8-1DA9A71F21BE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Работу делала:</a:t>
            </a: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Скворцова Анастасия Максимовна</a:t>
            </a: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Ученица 9 класса «А»</a:t>
            </a: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ГБОУ СОШ №809 ЗА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Учитель: Беликова Анастасия Александров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-360" y="-360"/>
            <a:ext cx="4267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В 1744 году сформулировал основные положения молекулярно-кинетической теории теплоты.</a:t>
            </a:r>
            <a:r>
              <a:rPr b="0" lang="en-US" sz="2600" spc="-1" strike="noStrike">
                <a:solidFill>
                  <a:srgbClr val="232d47"/>
                </a:solidFill>
                <a:latin typeface="Sylfaen"/>
              </a:rPr>
              <a:t>[1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4267080" y="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В 1763 году М.В. Ломоносов изложил основы горного дела и пробирного искусства, описал способы получения металлов из руд. </a:t>
            </a:r>
            <a:r>
              <a:rPr b="0" lang="en-US" sz="3000" spc="-1" strike="noStrike">
                <a:solidFill>
                  <a:srgbClr val="232d47"/>
                </a:solidFill>
                <a:latin typeface="Sylfaen"/>
              </a:rPr>
              <a:t>[3]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7" descr="180px-Rus_Stamp-Lomonosov-1961_10.jpg"/>
          <p:cNvPicPr/>
          <p:nvPr/>
        </p:nvPicPr>
        <p:blipFill>
          <a:blip r:embed="rId1"/>
          <a:stretch/>
        </p:blipFill>
        <p:spPr>
          <a:xfrm>
            <a:off x="2209680" y="3505320"/>
            <a:ext cx="4192560" cy="29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33520" y="15235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Ломоносов оставил замечательны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     </a:t>
            </a: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дневник «Химические и оптические запис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Где он раскрывает огромную экспериментальную работу, охватывающую разнообразные научные задачи</a:t>
            </a:r>
            <a:r>
              <a:rPr b="0" lang="ru-RU" sz="2400" spc="-1" strike="noStrike">
                <a:solidFill>
                  <a:srgbClr val="232d47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232d47"/>
                </a:solidFill>
                <a:latin typeface="Constantia"/>
              </a:rPr>
              <a:t>[2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8"/>
          <p:cNvSpPr/>
          <p:nvPr/>
        </p:nvSpPr>
        <p:spPr>
          <a:xfrm>
            <a:off x="2286000" y="1981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32d47"/>
                </a:solidFill>
                <a:latin typeface="Sylfaen"/>
              </a:rPr>
              <a:t>В своем дневнике Ломоносов писал «Из наблюдений устанавливать теорию, через теорию исправлять наблюдения - есть лучший всех способ к изысканию правды»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32d47"/>
                </a:solidFill>
                <a:latin typeface="Sylfaen"/>
              </a:rPr>
              <a:t>«Истинный химик должен быть теоретиком и практиком», - говорил Ломоносов. Точные опыты с чистыми веществами, с применением «меры и весов», должны сопровождаться теоретическим анализом результато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108576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images (1).jpg"/>
          <p:cNvPicPr/>
          <p:nvPr/>
        </p:nvPicPr>
        <p:blipFill>
          <a:blip r:embed="rId2"/>
          <a:stretch/>
        </p:blipFill>
        <p:spPr>
          <a:xfrm>
            <a:off x="541008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Tube2portailchimie.jpg"/>
          <p:cNvPicPr/>
          <p:nvPr/>
        </p:nvPicPr>
        <p:blipFill>
          <a:blip r:embed="rId3"/>
          <a:stretch/>
        </p:blipFill>
        <p:spPr>
          <a:xfrm>
            <a:off x="4419720" y="3733920"/>
            <a:ext cx="472428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8828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К сожалению потомки не смогли сохранить лабораторию располагавшуюся в доме на Мойке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А так же многочисленные приборы изготовленные Ломоносовым в ручную</a:t>
            </a:r>
            <a:r>
              <a:rPr b="0" lang="ru-RU" sz="2600" spc="-1" strike="noStrike">
                <a:solidFill>
                  <a:srgbClr val="232d47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232d47"/>
                </a:solidFill>
                <a:latin typeface="Constantia"/>
              </a:rPr>
              <a:t>[3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2-1.jpg"/>
          <p:cNvPicPr/>
          <p:nvPr/>
        </p:nvPicPr>
        <p:blipFill>
          <a:blip r:embed="rId2"/>
          <a:stretch/>
        </p:blipFill>
        <p:spPr>
          <a:xfrm>
            <a:off x="4724280" y="2286000"/>
            <a:ext cx="441972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4" descr=""/>
          <p:cNvPicPr/>
          <p:nvPr/>
        </p:nvPicPr>
        <p:blipFill>
          <a:blip r:embed="rId3"/>
          <a:stretch/>
        </p:blipFill>
        <p:spPr>
          <a:xfrm>
            <a:off x="1908000" y="536400"/>
            <a:ext cx="5169240" cy="93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Можно долго рассказывать о достижения Ломоносова в химии и других науках, но это займет большое количество времени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Михаил Васильевич сделал множество открытий, что перечислить их все к сожалению невозможн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d47"/>
                </a:solidFill>
                <a:latin typeface="Sylfaen"/>
              </a:rPr>
              <a:t>Ломоносов принадлежит к числу тех редких, исключительно одаренных натур, научные идеи которых на многие десятилетия опережают свою эпоху. «Только теперь, спустя два века, можно с достаточной полнотой охватить и должным образом оценить все сделанное этим удивительным богатырем науки. Достигнутое им одним в областях физики, химии, астрономии, геологии, приборостроения, географии, языкознания, истории достойно было бы целой Академии»</a:t>
            </a:r>
            <a:r>
              <a:rPr b="0" lang="en-US" sz="2400" spc="-1" strike="noStrike">
                <a:solidFill>
                  <a:srgbClr val="232d47"/>
                </a:solidFill>
                <a:latin typeface="Sylfaen"/>
              </a:rPr>
              <a:t>[5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613720" cy="176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Ломоносов глубоко верил в могущество человеческого знания и все годы своего пребывания на посту академика неутомимо боролся за распространение просвещения в России, за процветание русской наук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По проекту Ломоносова и его настояниям в 1755г. Был открыт первый в России Московский университет, ставший затем одним из центров русского просвещения и наук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Рисунок 3" descr="мгу.jpg"/>
          <p:cNvPicPr/>
          <p:nvPr/>
        </p:nvPicPr>
        <p:blipFill>
          <a:blip r:embed="rId2"/>
          <a:stretch/>
        </p:blipFill>
        <p:spPr>
          <a:xfrm>
            <a:off x="304920" y="1295280"/>
            <a:ext cx="845820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2133720"/>
            <a:ext cx="411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Михаил Васильевич родился 21 ноября 1711 года в Архангельской губернии в д. Денисовке близ Холмогор в семье крестьянина-помора.</a:t>
            </a:r>
            <a:r>
              <a:rPr b="0" lang="en-US" sz="3000" spc="-1" strike="noStrike">
                <a:solidFill>
                  <a:srgbClr val="232d47"/>
                </a:solidFill>
                <a:latin typeface="Sylfaen"/>
              </a:rPr>
              <a:t>[1]</a:t>
            </a:r>
            <a:r>
              <a:rPr b="1" lang="ru-RU" sz="30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229600" cy="1408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ломоносов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838080" y="1981080"/>
            <a:ext cx="4038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Грамоте обучил Михаила дьячок местной церкви. Страсть к знаниям, тяжёлая обстановка в семье заставили Ломоносова принять решение - оставить родной дом и отправиться в Москву.</a:t>
            </a:r>
            <a:r>
              <a:rPr b="0" lang="en-US" sz="2800" spc="-1" strike="noStrike">
                <a:solidFill>
                  <a:srgbClr val="232d47"/>
                </a:solidFill>
                <a:latin typeface="Sylfaen"/>
              </a:rPr>
              <a:t>[2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путь в москву"/>
          <p:cNvPicPr/>
          <p:nvPr/>
        </p:nvPicPr>
        <p:blipFill>
          <a:blip r:embed="rId2"/>
          <a:stretch/>
        </p:blipFill>
        <p:spPr>
          <a:xfrm>
            <a:off x="5040360" y="0"/>
            <a:ext cx="410364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6" name="AutoShape 10"/>
          <p:cNvSpPr/>
          <p:nvPr/>
        </p:nvSpPr>
        <p:spPr>
          <a:xfrm rot="21102000">
            <a:off x="8467560" y="1644120"/>
            <a:ext cx="649440" cy="432000"/>
          </a:xfrm>
          <a:prstGeom prst="leftArrow">
            <a:avLst>
              <a:gd name="adj1" fmla="val 50000"/>
              <a:gd name="adj2" fmla="val 3758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6399720" y="16002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Times New Roman"/>
              </a:rPr>
              <a:t>Холмог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5033160" y="45720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Times New Roman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1" descr="в москву"/>
          <p:cNvPicPr/>
          <p:nvPr/>
        </p:nvPicPr>
        <p:blipFill>
          <a:blip r:embed="rId3"/>
          <a:srcRect l="2953" t="2362" r="2953" b="2362"/>
          <a:stretch/>
        </p:blipFill>
        <p:spPr>
          <a:xfrm>
            <a:off x="7023240" y="4191120"/>
            <a:ext cx="212076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19 0.01133 C -0.0934 0.01988 -0.09236 0.02474 -0.09879 0.02728 C -0.10018 0.0326 -0.10139 0.03792 -0.10278 0.04324 C -0.1033 0.05342 -0.10573 0.07076 -0.10278 0.08233 C -0.10191 0.0858 -0.09636 0.09158 -0.09479 0.09481 C -0.09323 0.10499 -0.09236 0.11725 -0.08681 0.12511 C -0.0849 0.13274 -0.08351 0.13968 -0.08021 0.14639 C -0.08073 0.16235 -0.07986 0.1975 -0.08941 0.21392 C -0.09132 0.21716 -0.09445 0.21924 -0.09618 0.22271 C -0.1007 0.23196 -0.10174 0.2345 -0.10816 0.24051 C -0.11181 0.24791 -0.11545 0.25555 -0.12014 0.26179 C -0.12396 0.2722 -0.13559 0.29555 -0.1441 0.29902 C -0.15504 0.31359 -0.15972 0.3314 -0.16406 0.3506 C -0.16458 0.36725 -0.15764 0.39754 -0.17083 0.40911 C -0.17639 0.42067 -0.18472 0.42876 -0.19219 0.43755 C -0.19462 0.44033 -0.19705 0.4431 -0.19879 0.44657 C -0.19965 0.44842 -0.20035 0.4505 -0.20139 0.45189 C -0.20521 0.45698 -0.20972 0.46091 -0.21354 0.466 C -0.22083 0.47548 -0.22622 0.4845 -0.23611 0.48913 C -0.24028 0.49468 -0.24254 0.4956 -0.24809 0.49791 C -0.24774 0.4956 -0.24688 0.49098 -0.24688 0.49098 E">
                                      <p:cBhvr>
                                        <p:cTn id="5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-360" y="160020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В 1730 году поступил в Славяно-греко-латинскую академию в Москв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В начале 1736 как один из лучших студентов Ломоносов был направлен в университет при Петербургской академии наук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Осенью 1736 г. Ломоносов, отправлен Академией Наук в Германию, для обучения математике, физике, химии, философии и металлургии</a:t>
            </a:r>
            <a:r>
              <a:rPr b="1" lang="ru-RU" sz="2000" spc="-1" strike="noStrike">
                <a:solidFill>
                  <a:srgbClr val="232d47"/>
                </a:solidFill>
                <a:latin typeface="Sylfaen"/>
              </a:rPr>
              <a:t>.</a:t>
            </a: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232d47"/>
                </a:solidFill>
                <a:latin typeface="Sylfaen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140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Рисунок1"/>
          <p:cNvPicPr/>
          <p:nvPr/>
        </p:nvPicPr>
        <p:blipFill>
          <a:blip r:embed="rId2"/>
          <a:stretch/>
        </p:blipFill>
        <p:spPr>
          <a:xfrm>
            <a:off x="3886200" y="2819520"/>
            <a:ext cx="2666880" cy="403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Рисунок5"/>
          <p:cNvPicPr/>
          <p:nvPr/>
        </p:nvPicPr>
        <p:blipFill>
          <a:blip r:embed="rId4"/>
          <a:stretch/>
        </p:blipFill>
        <p:spPr>
          <a:xfrm>
            <a:off x="6477120" y="2743200"/>
            <a:ext cx="26668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882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Михаилу Васильевичу принадлежат работы в области физики, химии, астрономии, географии, филолог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1420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lomonosov"/>
          <p:cNvPicPr/>
          <p:nvPr/>
        </p:nvPicPr>
        <p:blipFill>
          <a:blip r:embed="rId2"/>
          <a:stretch/>
        </p:blipFill>
        <p:spPr>
          <a:xfrm rot="1156200">
            <a:off x="5562720" y="2706840"/>
            <a:ext cx="3046320" cy="375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8" name="Picture 9" descr="Рисунок6"/>
          <p:cNvPicPr/>
          <p:nvPr/>
        </p:nvPicPr>
        <p:blipFill>
          <a:blip r:embed="rId3"/>
          <a:srcRect l="2377" t="2535" r="2377" b="0"/>
          <a:stretch/>
        </p:blipFill>
        <p:spPr>
          <a:xfrm>
            <a:off x="5167440" y="457200"/>
            <a:ext cx="3976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99" name="Rectangle 3"/>
          <p:cNvGrpSpPr/>
          <p:nvPr/>
        </p:nvGrpSpPr>
        <p:grpSpPr>
          <a:xfrm>
            <a:off x="4896000" y="0"/>
            <a:ext cx="4248000" cy="463680"/>
            <a:chOff x="4896000" y="0"/>
            <a:chExt cx="4248000" cy="463680"/>
          </a:xfrm>
        </p:grpSpPr>
        <p:pic>
          <p:nvPicPr>
            <p:cNvPr id="200" name="Rectangle 3" descr=""/>
            <p:cNvPicPr/>
            <p:nvPr/>
          </p:nvPicPr>
          <p:blipFill>
            <a:blip r:embed="rId4"/>
            <a:stretch/>
          </p:blipFill>
          <p:spPr>
            <a:xfrm>
              <a:off x="4896000" y="0"/>
              <a:ext cx="42480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96000" y="0"/>
              <a:ext cx="42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232d47"/>
                  </a:solidFill>
                  <a:latin typeface="Times New Roman"/>
                </a:rPr>
                <a:t>Диплом профессора химии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8828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ylfaen"/>
              </a:rPr>
              <a:t>Михаил Васильевич считал своей «главной профессией» хим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ylfaen"/>
              </a:rPr>
              <a:t>Михаил Ломоносов первый Российский академик - хими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ylfaen"/>
              </a:rPr>
              <a:t>По Ломоносову, «химия - наука об изменениях, происходящих в смешанном теле…»</a:t>
            </a:r>
            <a:r>
              <a:rPr b="0" lang="en-US" sz="2400" spc="-1" strike="noStrike">
                <a:solidFill>
                  <a:srgbClr val="000066"/>
                </a:solidFill>
                <a:latin typeface="Sylfaen"/>
              </a:rPr>
              <a:t>[5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454960" cy="12189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3" descr="romanov98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В 1748 он создал химическую лабораторию, в которой проводил научные исследования, в том числе разрабатывал состав стекла, фарфора и смальты, которую использовал для своих мозаик, созданных в 1751 году.</a:t>
            </a:r>
            <a:r>
              <a:rPr b="0" lang="ru-RU" sz="3300" spc="-1" strike="noStrike">
                <a:solidFill>
                  <a:srgbClr val="232d47"/>
                </a:solidFill>
                <a:latin typeface="Sylfaen"/>
              </a:rPr>
              <a:t> </a:t>
            </a:r>
            <a:r>
              <a:rPr b="0" lang="en-US" sz="3300" spc="-1" strike="noStrike">
                <a:solidFill>
                  <a:srgbClr val="232d47"/>
                </a:solidFill>
                <a:latin typeface="Sylfaen"/>
              </a:rPr>
              <a:t>[3]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350x280"/>
          <p:cNvPicPr/>
          <p:nvPr/>
        </p:nvPicPr>
        <p:blipFill>
          <a:blip r:embed="rId2"/>
          <a:stretch/>
        </p:blipFill>
        <p:spPr>
          <a:xfrm>
            <a:off x="4606920" y="304920"/>
            <a:ext cx="4537080" cy="36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8828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В основе всех теорий Михаила Васильевича лежал закон постоянства материи и движ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Свое мнение он доказывал и подтверждал опыта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a3584d36.jpg"/>
          <p:cNvPicPr/>
          <p:nvPr/>
        </p:nvPicPr>
        <p:blipFill>
          <a:blip r:embed="rId2"/>
          <a:stretch/>
        </p:blipFill>
        <p:spPr>
          <a:xfrm>
            <a:off x="4667400" y="1371600"/>
            <a:ext cx="4476600" cy="548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6840" y="1523520"/>
            <a:ext cx="396252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В 1741 году М.В. Ломоносов дал определение элемента (атома), корпускулы (молекулы), простых и смешанных веществ и начал разработку своей корпускулярной теории. </a:t>
            </a:r>
            <a:r>
              <a:rPr b="0" lang="en-US" sz="2600" spc="-1" strike="noStrike">
                <a:solidFill>
                  <a:srgbClr val="232d47"/>
                </a:solidFill>
                <a:latin typeface="Sylfaen"/>
              </a:rPr>
              <a:t>[2]</a:t>
            </a: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3" descr="images.jpg"/>
          <p:cNvPicPr/>
          <p:nvPr/>
        </p:nvPicPr>
        <p:blipFill>
          <a:blip r:embed="rId2"/>
          <a:stretch/>
        </p:blipFill>
        <p:spPr>
          <a:xfrm>
            <a:off x="4343400" y="0"/>
            <a:ext cx="4191120" cy="39625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images (1).jpg"/>
          <p:cNvPicPr/>
          <p:nvPr/>
        </p:nvPicPr>
        <p:blipFill>
          <a:blip r:embed="rId3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048120" y="6488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3581280" y="6019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nstantia"/>
              </a:rPr>
              <a:t>Молекула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2-08T11:29:38Z</dcterms:modified>
  <cp:revision>54</cp:revision>
  <dc:subject/>
  <dc:title>Слайд 1</dc:title>
</cp:coreProperties>
</file>