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1988-2E81-4624-9B01-144E6410F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B358-7B77-4B6D-BB78-9D2483E83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49E1-8CCC-46B3-8220-177BE0BCE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CF27-6966-4469-B338-D8E2D5990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D421-D695-403A-89EB-4D3A16EC1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86F6-EC94-422F-BE23-C613722FA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C6AA-D397-4F10-8872-0B44FAE2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0A1F-7B5C-41E4-831A-67EEB162A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185E-E6FC-4893-843D-9A7776BFF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58A9-4454-400F-B1EE-585351ED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EE72-024D-4F05-BD9A-8C9225C4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7669-8754-45EB-A164-C8886A96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CA459-C03F-4EE6-8046-074ED040FC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ма 1. Металлы и сплав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4" descr="i (3).jpg"/>
          <p:cNvPicPr/>
          <p:nvPr/>
        </p:nvPicPr>
        <p:blipFill>
          <a:blip r:embed="rId1"/>
          <a:stretch/>
        </p:blipFill>
        <p:spPr>
          <a:xfrm>
            <a:off x="1066680" y="1828800"/>
            <a:ext cx="5410440" cy="39625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 назначению легированные стали подразделяют н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426708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струкцио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струмента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ли с особ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ойств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6" descr="i (3).jpg"/>
          <p:cNvPicPr/>
          <p:nvPr/>
        </p:nvPicPr>
        <p:blipFill>
          <a:blip r:embed="rId1"/>
          <a:stretch/>
        </p:blipFill>
        <p:spPr>
          <a:xfrm>
            <a:off x="5105520" y="2666880"/>
            <a:ext cx="3657600" cy="3124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лавы на основе ме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28195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ату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мп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льхи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йзильб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ронз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5" descr="i.jpg"/>
          <p:cNvPicPr/>
          <p:nvPr/>
        </p:nvPicPr>
        <p:blipFill>
          <a:blip r:embed="rId1"/>
          <a:stretch/>
        </p:blipFill>
        <p:spPr>
          <a:xfrm>
            <a:off x="4343400" y="2286000"/>
            <a:ext cx="4038480" cy="3276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изводство металлохозяйственных товаров включает следующие стади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учение заготов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ботка заготов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делка металлических издел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борка сложных издел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етоды изготовления заготов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т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ка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тампо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би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ло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ссо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5" descr="i (1).jpg"/>
          <p:cNvPicPr/>
          <p:nvPr/>
        </p:nvPicPr>
        <p:blipFill>
          <a:blip r:embed="rId1"/>
          <a:stretch/>
        </p:blipFill>
        <p:spPr>
          <a:xfrm>
            <a:off x="4572000" y="2057400"/>
            <a:ext cx="3886200" cy="3657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рмическая обработка металл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26665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ал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пу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рмализ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жи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имико-термическая обработка металл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516040"/>
            <a:ext cx="8229600" cy="36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мент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зот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иан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ффузионная металлиз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бработка металлов резани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ер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резе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ог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убонарез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делка металлических издел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ско- и дробеструйная обрабо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лиф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ти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ацо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алтов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особы соединения детал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а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еп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ши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й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ррозия – это разрушение металла вследствие его химического или электрохимического взаимодействия с окружающей средой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механизму взаимодействия металла со средой различаю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42670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имическую корроз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лектрохимическую корроз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599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еталлы -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химические элементы, характеризующиеся внутренним кристаллическим строением в твердом состоянии (ртуть – в жидком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пособы защиты металлических изделий от коррози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менение состава окружающей сре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менение состава метал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рмическая и термохимическая обработка метал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циональное конструирование издел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ектрохимическая защ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несение защитных покрыт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пособы декорирование металлических издел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оло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ебр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удожественное эмал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авиро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ка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лигра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рн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изические свойства металл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т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мпература пл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плопровод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лектропровод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гнитная проницаем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еханические свойства металл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вер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язк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тя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жа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у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ги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имические свойства металл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ойчивость к действию химических веществ – воды (пресной, морской), органических и минеральных кислот, щелочей, солей, газ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таллы классифицируют н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рные – железо, сталь, чугу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ветные – медь и ее сплавы, алюминий и его сплавы, никель, хром, никель, хром, цинк, олово, титан, вольфрам, серебро, золот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угуны классифицируют по назначени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де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тей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сокопроч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в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гированны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тали по химическому составы делят н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2514240"/>
            <a:ext cx="3429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глеродист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гирован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5" descr="i (1).jpg"/>
          <p:cNvPicPr/>
          <p:nvPr/>
        </p:nvPicPr>
        <p:blipFill>
          <a:blip r:embed="rId1"/>
          <a:stretch/>
        </p:blipFill>
        <p:spPr>
          <a:xfrm>
            <a:off x="4724280" y="2286000"/>
            <a:ext cx="3733920" cy="3276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 содержанию углерода и назначению углеродистые стали классифицируют н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струкцион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струменталь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01:52:59Z</dcterms:created>
  <dc:creator>xudikovask</dc:creator>
  <dc:description/>
  <dc:language>en-US</dc:language>
  <cp:lastModifiedBy>Пользователь Windows</cp:lastModifiedBy>
  <dcterms:modified xsi:type="dcterms:W3CDTF">2015-02-08T12:14:49Z</dcterms:modified>
  <cp:revision>6</cp:revision>
  <dc:subject/>
  <dc:title>Тема 1. Металлы и сплавы </dc:title>
</cp:coreProperties>
</file>