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3553-F3D7-476E-86A3-A946C38B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F941-07A4-4379-9B05-35FA2645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7E73-6B8D-4B71-9F70-71A7F3FF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1C30-153F-4A1F-A01E-44BBC263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FCEF-F005-45D6-B19C-16DB8EC0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69E9-62E1-4498-BC3B-31A762FD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59C-BEBC-41FC-B85B-2808EB02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78A1-52A4-4A67-BE0E-F02B4AEA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CE6E-CC45-4E54-BF4E-C71073B6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D3B2-571B-4A2D-AD06-7CFA799C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7D2C-E707-4F72-8EB0-B97F3647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55E3-097D-4207-B31F-1D1D3A64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EEE4-4C23-416E-83F2-917C028928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 1. Металлы и сплав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4" descr="i (3).jpg"/>
          <p:cNvPicPr/>
          <p:nvPr/>
        </p:nvPicPr>
        <p:blipFill>
          <a:blip r:embed="rId1"/>
          <a:stretch/>
        </p:blipFill>
        <p:spPr>
          <a:xfrm>
            <a:off x="1066680" y="1828800"/>
            <a:ext cx="5410440" cy="3962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назначению легированные стали подразделяют 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42670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струкцио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струмент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ли с особ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6" descr="i (3).jpg"/>
          <p:cNvPicPr/>
          <p:nvPr/>
        </p:nvPicPr>
        <p:blipFill>
          <a:blip r:embed="rId1"/>
          <a:stretch/>
        </p:blipFill>
        <p:spPr>
          <a:xfrm>
            <a:off x="5105520" y="2666880"/>
            <a:ext cx="3657600" cy="3124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лавы на основе ме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28195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ту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мп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льхи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йзильб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он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5" descr="i.jpg"/>
          <p:cNvPicPr/>
          <p:nvPr/>
        </p:nvPicPr>
        <p:blipFill>
          <a:blip r:embed="rId1"/>
          <a:stretch/>
        </p:blipFill>
        <p:spPr>
          <a:xfrm>
            <a:off x="4343400" y="22860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изводство металлохозяйственных товаров включает следующие стад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ение заготов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ботка заготов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делка металлических издел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ка сложных издел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тоды изготовления заготов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к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тамп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и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о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сс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5" descr="i (1).jpg"/>
          <p:cNvPicPr/>
          <p:nvPr/>
        </p:nvPicPr>
        <p:blipFill>
          <a:blip r:embed="rId1"/>
          <a:stretch/>
        </p:blipFill>
        <p:spPr>
          <a:xfrm>
            <a:off x="4572000" y="2057400"/>
            <a:ext cx="3886200" cy="3657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рмическая обработка метал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а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жи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имико-термическая обработка метал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516040"/>
            <a:ext cx="8229600" cy="36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м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зо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ан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ффузионная метал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работка металлов резан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ер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езе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ог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убонарез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делка металлических издел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ско- и дробеструйная обрабо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лиф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ти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ц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лтов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особы соединения дета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а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еп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ши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й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розия – это разрушение металла вследствие его химического или электрохимического взаимодействия с окружающей средой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механизму взаимодействия металла со средой различа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42670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мическую корроз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химическую корроз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таллы -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химические элементы, характеризующиеся внутренним кристаллическим строением в твердом состоянии (ртуть – в жидко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особы защиты металлических изделий от корроз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ение состава окружающей 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ение состава мет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мическая и термохимическая обработка мет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циональное конструирование издел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химическая защ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несение защитных покры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особы декорирование металлических издел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оло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еб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удожественное эмал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вир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ка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лигр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зические свойства метал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пература пл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лопровод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провод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гнитная проницае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ханические свойства метал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ер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яз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тя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жа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ги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имические свойства метал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ойчивость к действию химических веществ – воды (пресной, морской), органических и минеральных кислот, щелочей, солей, газ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аллы классифицируют 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ные – железо, сталь, чуг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ные – медь и ее сплавы, алюминий и его сплавы, никель, хром, никель, хром, цинк, олово, титан, вольфрам, серебро, золо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угуны классифицируют по назнач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й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опр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в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гированны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али по химическому составы делят 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2514240"/>
            <a:ext cx="3429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лероди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гирова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5" descr="i (1).jpg"/>
          <p:cNvPicPr/>
          <p:nvPr/>
        </p:nvPicPr>
        <p:blipFill>
          <a:blip r:embed="rId1"/>
          <a:stretch/>
        </p:blipFill>
        <p:spPr>
          <a:xfrm>
            <a:off x="4724280" y="2286000"/>
            <a:ext cx="3733920" cy="3276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содержанию углерода и назначению углеродистые стали классифицируют 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струкцио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струменталь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1:52:59Z</dcterms:created>
  <dc:creator>xudikovask</dc:creator>
  <dc:description/>
  <dc:language>en-US</dc:language>
  <cp:lastModifiedBy>Пользователь Windows</cp:lastModifiedBy>
  <dcterms:modified xsi:type="dcterms:W3CDTF">2015-02-08T12:14:49Z</dcterms:modified>
  <cp:revision>6</cp:revision>
  <dc:subject/>
  <dc:title>Тема 1. Металлы и сплавы </dc:title>
</cp:coreProperties>
</file>