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10.jpeg" ContentType="image/jpeg"/>
  <Override PartName="/ppt/media/image3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4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B84-F23A-4F62-94A5-6BCE5683BA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91E0-D1FA-48DD-B866-A1EDCE1A6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6DC4-B4FC-468B-B400-1327885EF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4BA-27FF-4029-98C6-E46A87D2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ED5-AED4-4150-972C-1C2EFD0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985-0006-4147-8EB6-EE924DFF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53E-D49E-40C1-89AB-73C87FC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9815-8694-4DED-BBA6-1D493D54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3275-8C16-4BA6-B044-45FB9C42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7C55-D00B-41B0-AFB4-F916617B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CC00-9F98-4608-9E76-4F40A806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E4C5-9328-414A-BBAC-337A326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1F3E-F41F-449A-A43B-0D0BAF28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5AE-5C82-472C-90DD-A27F7E0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BB1-4A64-4020-A316-BC09E80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DA48-D213-414E-8F36-CAB408F1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6D5D-CC49-4D3D-A9A8-6DC4DD8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844-E2EA-4B79-A03F-913E140C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8396-7EED-4DC1-BBF3-4F0AF83F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82EC-77AF-480F-A6B9-7C9C273F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8854-6AB1-45CC-B703-90FBA4CF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04B7-1E0A-4F35-8163-BE85FC95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0D7A-B604-4FB6-AFB2-C3CDE5F1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419F-10CA-4E4F-9877-0291D76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52CF-7AE6-43F1-A5F7-B8408FD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765-1852-409A-8B4A-ADF731DD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DFFF-08AA-4105-A256-D8F52852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7628-E4FB-411A-9444-2D68834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5D5A-2639-4619-8517-7B70110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B321-8037-4D0D-A47F-80DF772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AB58-A4AC-48D4-837E-14BBCBB3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4932-D94B-47EF-A56A-9AC29F00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C34D-08FA-4934-851D-99EA51B3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D0D-4F26-41F2-B99F-A679A0B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569-C9B0-4EF8-867D-DD0E3791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C56-C16D-4C2A-B0EA-C53FC701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877-545A-41B1-8D18-AB0D3D0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D37-BC7C-49A6-A7DC-6F2B1C2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306-5735-4095-B5C2-E653270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ABE-6D7F-454A-B5DE-2F00FEF3C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2F6-8786-4BDD-B3C1-67FF71555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9E96-B274-43AA-B4BF-A10DFA62F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Азбука дорожного дви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131640" y="5229360"/>
            <a:ext cx="507204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готовил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лотникова Ири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6144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рганизационно – методическая деятельность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ГИБДД ОВД Серышевского района Амурской област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с социальными институтами и общественностью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с педагогическими кадрам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совместная деятельность с детьми и родителям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распространение передового педагогического опыта по обучению детей навыкам безопасного поведения на дор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площадк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60880" y="2421000"/>
            <a:ext cx="30016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городок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042920" y="3606840"/>
            <a:ext cx="2089080" cy="150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2411280" y="1457280"/>
            <a:ext cx="2244960" cy="1684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5740560" y="1844640"/>
            <a:ext cx="18666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8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KodchiangUPC"/>
              </a:rPr>
              <a:t>Уголки без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771640" y="1397160"/>
            <a:ext cx="1152720" cy="1168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146640" y="1301760"/>
            <a:ext cx="1089360" cy="1263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4241880" y="3294000"/>
            <a:ext cx="133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44840" y="549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2994120" y="2637000"/>
            <a:ext cx="3089160" cy="23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5148360" y="1474920"/>
            <a:ext cx="14396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-6589800" y="-5500800"/>
            <a:ext cx="1386000" cy="92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050920" y="1015920"/>
            <a:ext cx="1557360" cy="128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2411280" y="3645000"/>
            <a:ext cx="1603440" cy="1125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6222960" y="765000"/>
            <a:ext cx="144792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5"/>
          <a:stretch/>
        </p:blipFill>
        <p:spPr>
          <a:xfrm>
            <a:off x="3851280" y="1916280"/>
            <a:ext cx="1681200" cy="140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1933560" cy="117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41708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Игры на макете</a:t>
            </a:r>
            <a:br>
              <a:rPr sz="3600"/>
            </a:b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Наша улиц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- расширить знания детей о правилах поведения пешеходов и водителя в условиях улицы, научить детей различать дорожные знаки, предназначенные для водителей и пешеходов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Улица город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уточнить и закрепить знания детей о правилах поведения на улице, о правилах дорожного движения, о различных видах транспортных средст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900000" y="50562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6156360" y="273384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6419880" y="5056200"/>
            <a:ext cx="1671480" cy="1252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ети моей группы — это будущие первоклассники, которым придется вскоре самостоятельно переходить улицу. Чтобы знания, полученные на занятиях, прогулках и экскурсиях, стали прочными и успешно применялись будущими школьниками, они должны органически сочетаться с реальным окружением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71640" y="4508640"/>
            <a:ext cx="1971720" cy="172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6156360" y="4659480"/>
            <a:ext cx="200988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835280" y="549360"/>
            <a:ext cx="4321080" cy="164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49016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И в заключении хочу сказать, что каждому педагогу, которому доверено воспитание наших детей, необходимо овладеть современными научно – педагогическими знаниями, основанными на практическом опыте и рекомендациях работников ГИБДД. Только тогда число дорожно – транспортных происшествий с участием детей значительно уменьшится что и является основной целью моей работы по БДД  в ДО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50800" y="4154400"/>
            <a:ext cx="1167120" cy="93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3851280" y="4879800"/>
            <a:ext cx="1015920" cy="1001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6156360" y="415764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1801800" cy="1298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2139840" cy="147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5508720" y="4148280"/>
            <a:ext cx="1800000" cy="1374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599840"/>
            <a:ext cx="8291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школьного возрас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собая категория пешеходов и пассажиров. К ним нельзя подходить с той же меркой, как и к взрослым, ведь для них дословная трактовка ПДД неприемлема, а нормативное изложение обязанностей пешеходов и пассажиров на недоступной для них дорожной лексике, требует от дошкольников абстрактного мышления, затрудняет процесс обучения и воспита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2707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ranklin Gothic Medium Cond"/>
              </a:rPr>
              <a:t>Спасибо за внимание!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987640" y="836640"/>
            <a:ext cx="3168720" cy="2116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41036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3516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ривычка – это поведение человека  , закреплённое многократным  повторени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Страница 3 группы"/>
          <p:cNvPicPr/>
          <p:nvPr/>
        </p:nvPicPr>
        <p:blipFill>
          <a:blip r:embed="rId1"/>
          <a:stretch/>
        </p:blipFill>
        <p:spPr>
          <a:xfrm>
            <a:off x="1476360" y="4538520"/>
            <a:ext cx="1496880" cy="1670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im3-tub-ru.yandex.net/i?id=f9118bb56934fc63c784de0981e30faf-121-144&amp;n=24"/>
          <p:cNvPicPr/>
          <p:nvPr/>
        </p:nvPicPr>
        <p:blipFill>
          <a:blip r:embed="rId2"/>
          <a:stretch/>
        </p:blipFill>
        <p:spPr>
          <a:xfrm>
            <a:off x="5783400" y="3176640"/>
            <a:ext cx="1822320" cy="136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4544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лавная задача воспитателей доступно разъяснить правила ребенку, а при выборе формы обучения донести до детей смысл, опасности несоблюдения правил, при этом не исказить их содержание. Детей необходимо обучать не только правилам дорожного движения, но и безопасному поведению на улицах, дорогах, в транспор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m0-tub-ru.yandex.net/i?id=f204df9bf5c6c8ab6024bdd4af904e29-114-144&amp;n=24"/>
          <p:cNvPicPr/>
          <p:nvPr/>
        </p:nvPicPr>
        <p:blipFill>
          <a:blip r:embed="rId1"/>
          <a:stretch/>
        </p:blipFill>
        <p:spPr>
          <a:xfrm>
            <a:off x="1147680" y="5016600"/>
            <a:ext cx="1192320" cy="124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im1-tub-ru.yandex.net/i?id=6600092b866558f4102b56f34f3075e0-22-144&amp;n=24"/>
          <p:cNvPicPr/>
          <p:nvPr/>
        </p:nvPicPr>
        <p:blipFill>
          <a:blip r:embed="rId2"/>
          <a:stretch/>
        </p:blipFill>
        <p:spPr>
          <a:xfrm>
            <a:off x="6438960" y="4797360"/>
            <a:ext cx="1589040" cy="146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12600"/>
            <a:ext cx="7488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Три аспекта взаимодействия с транспортной системой города при построении системы работы по изучению ПДД с дошкольникам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 Ребёнок – пешеход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Ребёнок – пассажир городского транспорта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.Ребёнок – водитель детских транспортных средст (велосипед, самокат, санки , ролики и т.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im0-tub-ru.yandex.net/i?id=3e2dc8408e666bd15b943f75207b0229-78-144&amp;n=24"/>
          <p:cNvPicPr/>
          <p:nvPr/>
        </p:nvPicPr>
        <p:blipFill>
          <a:blip r:embed="rId1"/>
          <a:stretch/>
        </p:blipFill>
        <p:spPr>
          <a:xfrm>
            <a:off x="1841400" y="4665600"/>
            <a:ext cx="930240" cy="92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im0-tub-ru.yandex.net/i?id=e4004d62342530da0524dcd5c7c156c0-04-144&amp;n=24"/>
          <p:cNvPicPr/>
          <p:nvPr/>
        </p:nvPicPr>
        <p:blipFill>
          <a:blip r:embed="rId2"/>
          <a:stretch/>
        </p:blipFill>
        <p:spPr>
          <a:xfrm>
            <a:off x="6156360" y="508464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im0-tub-ru.yandex.net/i?id=fe5bbd2e008c2038e3cac5dbcf70a207-128-144&amp;n=24"/>
          <p:cNvPicPr/>
          <p:nvPr/>
        </p:nvPicPr>
        <p:blipFill>
          <a:blip r:embed="rId3"/>
          <a:stretch/>
        </p:blipFill>
        <p:spPr>
          <a:xfrm>
            <a:off x="3564000" y="619200"/>
            <a:ext cx="1809720" cy="1238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9311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анную работу можно реализовывать через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организованные формы обучения на занятиях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совместную деятельность взрослого и ребенка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самостоятельную деятельность ребенка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воспитание навыков поведения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ознакомление с окружающим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развитие речи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художественную литературу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онструирование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изобразительное искусство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иг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900000" y="549360"/>
            <a:ext cx="741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нтральной задачей обучения Правилам дорожного движения в соответствии с областной образовательной программой для дошкольников     «Ребёнок и дорога», которую планировалось реализовать во всех дошкольных образовательных организациях области с  1 сентября 2014год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ю которой является  обучение  детей жить в динамичном, быстро меняющемся мире глобальной автомобилизации, сформировать у них сознательное и ответственное отношение к личной безопасности окружающих , готовность к эффективным, обоснованным действиям в любой дорожной ситу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im2-tub-ru.yandex.net/i?id=c766fe6baae796bf664ecf2c1ea0e163-71-144&amp;n=24"/>
          <p:cNvPicPr/>
          <p:nvPr/>
        </p:nvPicPr>
        <p:blipFill>
          <a:blip r:embed="rId1"/>
          <a:stretch/>
        </p:blipFill>
        <p:spPr>
          <a:xfrm>
            <a:off x="1666800" y="4243320"/>
            <a:ext cx="1897200" cy="14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im3-tub-ru.yandex.net/i?id=3771c09c4d94cf870f43f0bf6dab8cbb-15-144&amp;n=24"/>
          <p:cNvPicPr/>
          <p:nvPr/>
        </p:nvPicPr>
        <p:blipFill>
          <a:blip r:embed="rId2"/>
          <a:stretch/>
        </p:blipFill>
        <p:spPr>
          <a:xfrm>
            <a:off x="6012000" y="4221000"/>
            <a:ext cx="18000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41708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Calibri"/>
              </a:rPr>
              <a:t>«</a:t>
            </a: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Центр Безопасности дорожного движения по профилактике ДТП». 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Главная педагогическая иде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бучение дошкольников дорожной безопасности , включающее многоуровневую подготовку детей разного возраста от теоретического уровня до практических навыков в специализированных игровых и обучающих пространствах, специально созданных моделях реального города, посёл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Основная цель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осуществление сетевого  взаимодействия  с другими образовательными организациями Серышевского района , семьями воспитанников , сотрудниками ГИБДД ОВД Серышевского района , представителями общественных организаций по профилактике детского дорожно- транспортного травматиз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76360" y="4176720"/>
            <a:ext cx="4248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Ira</cp:lastModifiedBy>
  <dcterms:modified xsi:type="dcterms:W3CDTF">2015-02-07T21:24:04Z</dcterms:modified>
  <cp:revision>29</cp:revision>
  <dc:subject/>
  <dc:title>Слайд 1</dc:title>
</cp:coreProperties>
</file>