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10.jpeg" ContentType="image/jpe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4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183-2163-402F-B946-108AB8F08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F1DC-142D-405F-9337-EFD4A989A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F7F-4DD4-4085-AD5A-A03E56FE9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3BC-74C3-4EEA-A0A2-32621707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3D2-589C-4E9B-8B93-B7828AB8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14D-9B22-4EA7-BA4E-063584B1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F73-81BA-4E77-A418-513549A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D79-239E-4DAD-B80E-BA4C9AC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BEB1-9972-4B25-9B4D-87CBFCB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8D22-6BE9-47C8-B2EB-8F1FDBC9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04D0-D695-4C86-ADA5-D2767FD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4C0-9132-4D28-9C3D-B0636C9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61D-150B-418B-B3C5-996EA719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940-C1C9-4E86-B44D-0F206CC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AC3-64AA-4AFA-963D-9CF77C1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FBD1-7E3C-41DD-8064-8D3790F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81D-4BAD-4BEF-87CE-0B24505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A313-4773-43C5-BFF0-F426E743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7EB0-EDA7-4F8B-84CC-60B003FE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B3F-1852-4B64-8F27-CD800219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B2FA-5AB3-4AC1-8A07-25507DC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522C-F6F5-4BA2-8D2C-BBC17188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94A4-CB9B-45F1-8C66-CBC39FA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B58C-0E32-4152-B8C2-4AEAC08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BF37-B5FD-4A58-9517-03F099D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CB5-D87C-428A-BCA0-E221BF2E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F8A9-E6F9-4651-A48F-C284BC0E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016B-0F7E-475C-8672-F2D96D6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FAAD-7A86-49B8-9218-70E26F8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A84B-772D-4CD1-8EE2-69C5C06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FAF2-C331-49CC-99DA-2981379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8C4F-E93E-49DE-A9D8-BC1B9DEB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1E22-3752-4F7E-94D8-72A9DD6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DBF-F03B-4747-9012-DF79309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3E2-8917-4588-816C-3F05C45D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444-07CD-4DEC-9F5D-10A4214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F0A-7590-483E-A021-0FEAB93C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C70-3BEB-4C23-B536-6996F38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F69-A195-48E4-8915-298F6BE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3A61-04E9-4F21-8E46-051653648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7D7-9A6F-4061-9901-E7DCFE271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615-3956-4165-80D5-FBC9421FA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Азбука дорожного дви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131640" y="5229360"/>
            <a:ext cx="507204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отовил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лотникова Ири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6144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рганизационно – методическая деятельность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ГИБДД ОВД Серышевского района Амурской обла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социальными институтами и общественностью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педагогическими кадрам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детьми и родителям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распространение передового педагогического опыта по обучению детей навыкам безопасного поведения на дор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площадк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60880" y="2421000"/>
            <a:ext cx="30016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городок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042920" y="3606840"/>
            <a:ext cx="2089080" cy="150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2411280" y="1457280"/>
            <a:ext cx="2244960" cy="1684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5740560" y="1844640"/>
            <a:ext cx="18666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8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KodchiangUPC"/>
              </a:rPr>
              <a:t>Уголки без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771640" y="1397160"/>
            <a:ext cx="1152720" cy="1168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146640" y="1301760"/>
            <a:ext cx="1089360" cy="1263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4241880" y="3294000"/>
            <a:ext cx="133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44840" y="549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2994120" y="2637000"/>
            <a:ext cx="3089160" cy="23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5148360" y="1474920"/>
            <a:ext cx="14396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-6589800" y="-5500800"/>
            <a:ext cx="1386000" cy="92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050920" y="1015920"/>
            <a:ext cx="1557360" cy="128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2411280" y="3645000"/>
            <a:ext cx="1603440" cy="1125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6222960" y="765000"/>
            <a:ext cx="144792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5"/>
          <a:stretch/>
        </p:blipFill>
        <p:spPr>
          <a:xfrm>
            <a:off x="3851280" y="1916280"/>
            <a:ext cx="1681200" cy="14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1933560" cy="117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41708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Игры на макете</a:t>
            </a:r>
            <a:br>
              <a:rPr sz="3600"/>
            </a:b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Наша улиц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- расширить знания детей о правилах поведения пешеходов и водителя в условиях улицы, научить детей различать дорожные знаки, предназначенные для водителей и пешеход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Улица город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уточнить и закрепить знания детей о правилах поведения на улице, о правилах дорожного движения, о различных видах транспортных средст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900000" y="50562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6156360" y="273384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6419880" y="5056200"/>
            <a:ext cx="167148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ти моей группы — это будущие первоклассники, которым придется вскоре самостоятельно переходить улицу. Чтобы знания, полученные на занятиях, прогулках и экскурсиях, стали прочными и успешно применялись будущими школьниками, они должны органически сочетаться с реальным окружением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71640" y="4508640"/>
            <a:ext cx="1971720" cy="172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6156360" y="4659480"/>
            <a:ext cx="200988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4321080" cy="164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49016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 в заключении хочу сказать, что каждому педагогу, которому доверено воспитание наших детей, необходимо овладеть современными научно – педагогическими знаниями, основанными на практическом опыте и рекомендациях работников ГИБДД. Только тогда число дорожно – транспортных происшествий с участием детей значительно уменьшится что и является основной целью моей работы по БДД  в ДО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50800" y="4154400"/>
            <a:ext cx="1167120" cy="93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3851280" y="4879800"/>
            <a:ext cx="1015920" cy="1001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6156360" y="415764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1801800" cy="1298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2139840" cy="147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508720" y="4148280"/>
            <a:ext cx="1800000" cy="1374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599840"/>
            <a:ext cx="8291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школьного возрас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собая категория пешеходов и пассажиров. К ним нельзя подходить с той же меркой, как и к взрослым, ведь для них дословная трактовка ПДД неприемлема, а нормативное изложение обязанностей пешеходов и пассажиров на недоступной для них дорожной лексике, требует от дошкольников абстрактного мышления, затрудняет процесс обучения и воспита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2707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ranklin Gothic Medium Cond"/>
              </a:rPr>
              <a:t>Спасибо за внимание!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987640" y="836640"/>
            <a:ext cx="3168720" cy="2116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41036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3516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ривычка – это поведение человека  , закреплённое многократным  повторени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Страница 3 группы"/>
          <p:cNvPicPr/>
          <p:nvPr/>
        </p:nvPicPr>
        <p:blipFill>
          <a:blip r:embed="rId1"/>
          <a:stretch/>
        </p:blipFill>
        <p:spPr>
          <a:xfrm>
            <a:off x="1476360" y="4538520"/>
            <a:ext cx="1496880" cy="1670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im3-tub-ru.yandex.net/i?id=f9118bb56934fc63c784de0981e30faf-121-144&amp;n=24"/>
          <p:cNvPicPr/>
          <p:nvPr/>
        </p:nvPicPr>
        <p:blipFill>
          <a:blip r:embed="rId2"/>
          <a:stretch/>
        </p:blipFill>
        <p:spPr>
          <a:xfrm>
            <a:off x="5783400" y="3176640"/>
            <a:ext cx="1822320" cy="136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4544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лавная задача воспитателей доступно разъяснить правила ребенку, а при выборе формы обучения донести до детей смысл, опасности несоблюдения правил, при этом не исказить их содержание. Детей необходимо обучать не только правилам дорожного движения, но и безопасному поведению на улицах, дорогах, в транспор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m0-tub-ru.yandex.net/i?id=f204df9bf5c6c8ab6024bdd4af904e29-114-144&amp;n=24"/>
          <p:cNvPicPr/>
          <p:nvPr/>
        </p:nvPicPr>
        <p:blipFill>
          <a:blip r:embed="rId1"/>
          <a:stretch/>
        </p:blipFill>
        <p:spPr>
          <a:xfrm>
            <a:off x="1147680" y="5016600"/>
            <a:ext cx="1192320" cy="124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m1-tub-ru.yandex.net/i?id=6600092b866558f4102b56f34f3075e0-22-144&amp;n=24"/>
          <p:cNvPicPr/>
          <p:nvPr/>
        </p:nvPicPr>
        <p:blipFill>
          <a:blip r:embed="rId2"/>
          <a:stretch/>
        </p:blipFill>
        <p:spPr>
          <a:xfrm>
            <a:off x="6438960" y="4797360"/>
            <a:ext cx="158904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12600"/>
            <a:ext cx="7488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Три аспекта взаимодействия с транспортной системой города при построении системы работы по изучению ПДД с дошкольникам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 Ребёнок – пешеход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Ребёнок – пассажир городского транспорта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Ребёнок – водитель детских транспортных средст (велосипед, самокат, санки , ролики и т.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im0-tub-ru.yandex.net/i?id=3e2dc8408e666bd15b943f75207b0229-78-144&amp;n=24"/>
          <p:cNvPicPr/>
          <p:nvPr/>
        </p:nvPicPr>
        <p:blipFill>
          <a:blip r:embed="rId1"/>
          <a:stretch/>
        </p:blipFill>
        <p:spPr>
          <a:xfrm>
            <a:off x="1841400" y="4665600"/>
            <a:ext cx="930240" cy="92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im0-tub-ru.yandex.net/i?id=e4004d62342530da0524dcd5c7c156c0-04-144&amp;n=24"/>
          <p:cNvPicPr/>
          <p:nvPr/>
        </p:nvPicPr>
        <p:blipFill>
          <a:blip r:embed="rId2"/>
          <a:stretch/>
        </p:blipFill>
        <p:spPr>
          <a:xfrm>
            <a:off x="6156360" y="508464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0-tub-ru.yandex.net/i?id=fe5bbd2e008c2038e3cac5dbcf70a207-128-144&amp;n=24"/>
          <p:cNvPicPr/>
          <p:nvPr/>
        </p:nvPicPr>
        <p:blipFill>
          <a:blip r:embed="rId3"/>
          <a:stretch/>
        </p:blipFill>
        <p:spPr>
          <a:xfrm>
            <a:off x="3564000" y="619200"/>
            <a:ext cx="1809720" cy="1238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9311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нную работу можно реализовывать через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организованные формы обучения на занятиях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совместную деятельность взрослого и ребенк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самостоятельную деятельность ребенк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воспитание навыков поведения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ознакомление с окружающим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развитие речи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художественную литературу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онструирование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изобразительное искусство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иг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900000" y="549360"/>
            <a:ext cx="741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нтральной задачей обучения Правилам дорожного движения в соответствии с областной образовательной программой для дошкольников     «Ребёнок и дорога», которую планировалось реализовать во всех дошкольных образовательных организациях области с  1 сентября 2014год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ю которой является  обучение  детей жить в динамичном, быстро меняющемся мире глобальной автомобилизации, сформировать у них сознательное и ответственное отношение к личной безопасности окружающих , готовность к эффективным, обоснованным действиям в любой дорожной ситу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im2-tub-ru.yandex.net/i?id=c766fe6baae796bf664ecf2c1ea0e163-71-144&amp;n=24"/>
          <p:cNvPicPr/>
          <p:nvPr/>
        </p:nvPicPr>
        <p:blipFill>
          <a:blip r:embed="rId1"/>
          <a:stretch/>
        </p:blipFill>
        <p:spPr>
          <a:xfrm>
            <a:off x="1666800" y="4243320"/>
            <a:ext cx="1897200" cy="14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im3-tub-ru.yandex.net/i?id=3771c09c4d94cf870f43f0bf6dab8cbb-15-144&amp;n=24"/>
          <p:cNvPicPr/>
          <p:nvPr/>
        </p:nvPicPr>
        <p:blipFill>
          <a:blip r:embed="rId2"/>
          <a:stretch/>
        </p:blipFill>
        <p:spPr>
          <a:xfrm>
            <a:off x="6012000" y="4221000"/>
            <a:ext cx="18000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41708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Центр Безопасности дорожного движения по профилактике ДТП». 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Главная педагогическая иде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бучение дошкольников дорожной безопасности , включающее многоуровневую подготовку детей разного возраста от теоретического уровня до практических навыков в специализированных игровых и обучающих пространствах, специально созданных моделях реального города, посёл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сновная цель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осуществление сетевого  взаимодействия  с другими образовательными организациями Серышевского района , семьями воспитанников , сотрудниками ГИБДД ОВД Серышевского района , представителями общественных организаций по профилактике детского дорожно- транспортного травматиз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76360" y="4176720"/>
            <a:ext cx="424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Ira</cp:lastModifiedBy>
  <dcterms:modified xsi:type="dcterms:W3CDTF">2015-02-07T21:24:04Z</dcterms:modified>
  <cp:revision>29</cp:revision>
  <dc:subject/>
  <dc:title>Слайд 1</dc:title>
</cp:coreProperties>
</file>